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516-0D3E-4315-9AEA-C5676A70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C24-F571-49B2-B00A-DB48D456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47E9-F178-412A-BC77-33710E37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56B-9687-4031-8919-ABB6D6E1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EC50-965E-4E10-9B11-1F6F866A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29C-54EB-4737-B31B-423A6EFB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FD8-0D5B-4F0A-AADA-D139BED2E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EF7-AC5D-4446-83BB-5A77C003F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836-0584-45BD-8189-788A0C46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5D9-1B56-48F4-919A-026C1E5C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F538-1AE9-4B9C-B629-E8D68A7C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952-EFCE-4FA8-B701-C43FCA57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886D-D742-4876-8EEF-7706B9D66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hydraulisch%20schema%20maaidorser" descr=""/>
          <p:cNvPicPr/>
          <p:nvPr/>
        </p:nvPicPr>
        <p:blipFill>
          <a:blip r:embed="rId1"/>
          <a:stretch/>
        </p:blipFill>
        <p:spPr>
          <a:xfrm>
            <a:off x="0" y="318960"/>
            <a:ext cx="891540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3:26:15Z</dcterms:created>
  <dc:creator>MBO Boxtel</dc:creator>
  <dc:description/>
  <dc:language>en-US</dc:language>
  <cp:lastModifiedBy>MBO Boxtel</cp:lastModifiedBy>
  <dcterms:modified xsi:type="dcterms:W3CDTF">2003-12-04T13:26:34Z</dcterms:modified>
  <cp:revision>1</cp:revision>
  <dc:subject/>
  <dc:title>PowerPoint-presentatie</dc:title>
</cp:coreProperties>
</file>