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1DB-369F-4DB9-BD33-2D09A0A9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A3D-B38B-480A-8352-FDB9AF48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C34-758C-4434-AE2E-103A59D9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9D4-A3D4-4CED-BAF5-A0B50B71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F420-769A-422B-AB29-DFB3D714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49C-80F5-49D1-B091-904F581D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E64C-8DA8-41EC-8CBD-E6CD33EC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3E2-C743-4995-848A-9B849888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8F8-E3BC-4E88-B481-AB1F868D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02F-36A4-402A-B066-02D1D2E2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C8A-1E5C-461B-9D57-9F896172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405-D6F1-4F10-8E9E-71074F9F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A191-D929-4548-B367-2318B7760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ydraulisch%20schema%20maaidorser" descr=""/>
          <p:cNvPicPr/>
          <p:nvPr/>
        </p:nvPicPr>
        <p:blipFill>
          <a:blip r:embed="rId1"/>
          <a:stretch/>
        </p:blipFill>
        <p:spPr>
          <a:xfrm>
            <a:off x="0" y="31896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3:26:15Z</dcterms:created>
  <dc:creator>MBO Boxtel</dc:creator>
  <dc:description/>
  <dc:language>en-US</dc:language>
  <cp:lastModifiedBy>MBO Boxtel</cp:lastModifiedBy>
  <dcterms:modified xsi:type="dcterms:W3CDTF">2003-12-04T13:26:34Z</dcterms:modified>
  <cp:revision>1</cp:revision>
  <dc:subject/>
  <dc:title>PowerPoint-presentatie</dc:title>
</cp:coreProperties>
</file>