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22F4-7196-40B7-8572-D00E8A71C2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7B30-14D1-4097-9100-96579F4A1A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D705-91E1-4426-8E2B-4E9A27B57E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844A-3593-4BEF-96B4-6EF83300AB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F057-3B32-470C-A98A-E68CF63F0F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1F6D-2558-47E4-ABCB-019852DD1B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D498-F8BF-4BFC-A765-CF35A838CF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7DDA-4F71-41ED-8438-0E6FB0E5D9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9D03-4E56-47C4-B903-720C61D008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D516-3D3A-440D-8BD2-D8C933AB37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18BFE5-0381-4C10-90B0-B9D9886EEB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BFEDBDC-4AF8-4A0F-8B51-B493FABF0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0B87784F-81A6-4DFC-92EB-4A109043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D9EFA125-2290-4820-B934-1F662860661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081B93-186D-4098-A010-B43B8ED954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5D1C0D1-5AF9-4517-8B1F-C8F31D9DE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54847FFB-A671-459B-8A04-40251E6FE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3BE5F57-09C3-43A0-B5ED-6A43892D9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C1D5A48F-59D3-4D65-9B45-1682F0941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1492C6A9-1033-414F-9ECE-8A7BB7FE1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276455D-0D57-48E4-8939-4E8772FF9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FB94D29-C799-4951-BA27-2457AEA5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D51CA724-BFB9-45FB-947D-7BEAC1F69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85A9BE7-6890-4C79-978B-8585288D3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A87387F2-63B4-4E59-A5B9-C5FFBCFA2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C889B53D-E9D9-4BCA-BD72-FAC718E9C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0D162D3B-19F1-420A-A4DE-DA721A2577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9456EBD-F167-4401-A12B-DABF986EF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CB58718-C500-4C0C-890B-B01EAE5B8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9BD106A7-112E-45FD-B611-CAF215AB7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24447411-E4B9-47B3-8EB1-363395500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9DB0908-E38B-4907-B418-90B37CDD7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2C4B723-38FE-4C30-944C-A950E055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52052C5-2412-4D46-A556-B909A6DBE49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7C4C-D147-449B-ADF8-5F7DD34690F8}"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3B63-0D81-4A27-8985-E775A01258A1}"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5120-986E-4D03-8F1E-58C2C12EE51A}" type="datetime3">
              <a:rPr b="0" lang="nl-NL" sz="1400" spc="-1" strike="noStrike">
                <a:solidFill>
                  <a:srgbClr val="3b130a"/>
                </a:solidFill>
                <a:latin typeface="Times New Roman"/>
              </a:rPr>
              <a:t>30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0C51-9D12-4736-AEB4-6143D5D655F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B657-B2C2-401F-BFB2-838E71B2E4B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5903-2CC8-46ED-AFCC-FE319771A429}"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3816-7DD9-4CD3-8F39-0C6A96FFCF6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E6DA-DBE9-475F-9713-223D0472C22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2100-2848-40C0-8427-E84EBCA8D94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D08A-6B92-4E2F-8D4D-0FF6CF2060D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D7B8-1AF5-42D7-9E2B-41BE56E3DE5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E38A-2E55-4DBD-9D8F-297E35CEA234}"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109C-576E-412D-9809-A80CE1061F4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F211-CD78-4D2F-8ABD-D59FE829E95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059C-0065-4472-A0B3-6B2B147D33A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400B-C83D-459B-A82F-00E44A2B16EB}"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623C-0CD6-4333-8056-4165A0F28EA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1374-88A8-48AA-8249-BBDEC3C8F9D7}"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FAA1-7A33-40F5-A20C-C52529B6E07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FF78-91F0-40D8-B142-C38C05ABECFD}"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05F1-C29F-4613-AD36-8F5C2306E76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4395-B2AF-47C7-9343-E738C6067038}" type="datetime3">
              <a:rPr b="0" lang="nl-NL" sz="1400" spc="-1" strike="noStrike">
                <a:solidFill>
                  <a:srgbClr val="3b130a"/>
                </a:solidFill>
                <a:latin typeface="Arial"/>
              </a:rPr>
              <a:t>30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B158-68A2-4612-8718-2873012B710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