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33A1-65EA-40EF-941C-F2FF9A7B07A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039B-68B0-471B-8A5E-8D6E3C8D52B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4FEF-DFD8-49F6-BC38-8F30388B61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9DCEC-FA3B-4976-BF47-B1D4A87A632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8AD7-2F2A-4F59-B5F8-716B0CD2BFF9}"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7CC7-5A5F-41FE-BE66-5E170B69391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777B-BB96-4857-86C7-B30A890E8A50}"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063C-9D9B-4106-9C31-444DDB31B8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9462-7B7C-41C8-A9EA-F75B6197492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6D0FD-C4C4-4CDA-B6DC-D067BFABD5E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8C5F6E-E3F0-4D07-AA02-6D8F36443FB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EE31E742-2AEA-4915-90DF-D273EB0A8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1535CEDE-30D4-46B6-9407-02EA56B78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71037032-F12F-4C3E-9EEE-271EF5DFF32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92D312-1C92-435B-B405-C44519DB65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CBF11C7B-16CC-416A-91C8-7EAA28C1C2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4FA61375-AF3B-43A9-A552-655417F3A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366AC9C0-2D31-4E17-9214-06E33A2437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DEB00710-FBA6-408D-AA8C-3DBF9B4BA2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3B5D9A6A-B8C4-4E42-AEEE-3B0ECD1522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480E35BE-BC12-467B-96E1-2C04F8FBB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59D6F1C7-4E22-4CE9-9FB2-FD86D572B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8D085B86-6249-4EBE-BDC1-B0930B8A4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5439F7EC-C9B8-43A5-A798-2AC532D168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C1C7324C-4760-49ED-A555-C5DD3A05DE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284EB0D4-050B-4E9B-9A42-38531F292D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34FA76D5-0B5D-439A-A648-423EC3E3C5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F69C52DF-4E72-44B8-B8A0-1351E75C6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B711BB01-B480-45FA-857D-A127550B3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91D87FD5-65DE-4DD2-9021-7D8E9C2AC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48ABE58E-68A7-4ABE-AB00-1F886C40C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1B1D0A13-3B42-48D0-9D5F-05B9268D0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BF6504CE-D4C5-4A5D-AEEE-E072202B1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873267FD-2F1A-4B9E-AC12-CF1D38CF7A9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93C8-96B9-4531-ABBB-77AE20DDD144}" type="datetime3">
              <a:rPr b="0" lang="nl-NL" sz="1400" spc="-1" strike="noStrike">
                <a:solidFill>
                  <a:srgbClr val="3b130a"/>
                </a:solidFill>
                <a:latin typeface="Times New Roman"/>
              </a:rPr>
              <a:t>28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2D33-38BA-41DE-B067-3682283CE820}"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D2460-7F3B-40A7-8E83-745577FA1432}" type="datetime3">
              <a:rPr b="0" lang="nl-NL" sz="1400" spc="-1" strike="noStrike">
                <a:solidFill>
                  <a:srgbClr val="3b130a"/>
                </a:solidFill>
                <a:latin typeface="Times New Roman"/>
              </a:rPr>
              <a:t>28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670D0-8582-4F4F-83AE-6FD84913E9D8}"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6E4A7-831E-4D17-B4EA-237D776B4D3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4FF44-B8F3-4A93-A5B9-F7FED9C5068B}"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418D-28BE-4209-8423-816E2D1E9DB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F5F2-B05E-48BE-8FF6-A34B75922F77}"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27B7-441B-48F4-8542-5546242E37C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2A1B-E5EE-41FE-8F38-EEE0654428EE}"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F554-9C18-4073-84B4-DF115E9704D6}"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4AAF-913C-472E-BE87-BE58B2057551}"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FC8F-2CEA-4F4A-9057-C3167198C17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9F12-8027-4CA9-B2DF-F3375B89D40A}"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23F17-AF2E-49D7-9FEC-2937D167DBC2}"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48C1-2993-4F38-8EDC-B4B55008A12D}"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EAC0-79F1-47F0-81A9-927DA9BA724E}"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FA0D-4BE7-4301-A4A2-9AC5BDE47B30}"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464B-AE64-455F-97BF-2FA4EAD7864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19E4A-F46F-4D61-9ACB-B12968178FDD}"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F040-6807-4DC0-AB00-7D0436B3A92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FCEFB-42AE-46EA-ABED-7B492AE91518}"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2100-91F6-483E-A09E-4051937F994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