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512E-52EB-43F7-AF5A-54096A9F416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CF90-1C0E-48C7-8623-9657066342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976A-8D73-4DBE-B249-426E8093FE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EE21-689E-46DE-9DB2-1790FF4FA83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90BF-3822-44E5-ACFE-A96CDF740E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8538-06C7-4AA4-9D02-BD7D762935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A4A8-AB25-4710-80BE-DCA745EC45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3789-BFF0-4785-894B-9265786E19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0E49-2A11-4C92-9A33-206B90A00B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04C3-C1B9-40A0-8D05-80DAA33BC5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1C0FA8-CEA5-41F6-8B48-20CEFE69D0C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6FCA252E-28C2-46AF-8001-C64077AF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4539BA42-0941-46C3-B83C-925DB771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613C0EC2-D5AF-42DC-8DDF-E1FD7DE40B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9A6B18-E52F-454F-BA6C-C659805BA3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2BF00346-3659-4BE9-BF3C-5E20A1DC5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E9482FF6-AED0-4F87-B617-A4F87EE96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36912B5B-94E1-4EBB-A56D-660A3369C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C9228CCD-FA1C-47B7-B231-898E1958D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0E0EB6FA-FEEA-4A73-B3E5-4281B8A94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79271FE5-CE0B-42C8-846D-D4E17862B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85C2C61C-642F-4104-9E58-1F3CBCC79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BE5FC4C7-F7F5-4B27-AE22-DE58B472F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7FE5B214-B238-493C-968A-42CE78A0E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604D8AAA-BAC1-4ACF-A16F-5603B0C0A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3DC0ADA7-B608-4C82-85D1-9FDFC17B1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06DA48F4-94E7-44FF-9E34-DBE0570C72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572AA00E-05ED-410A-B1DB-59A120A66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CB672FF7-B8D1-4F00-9E2D-F8C96169E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C939A22C-1F70-4D9F-8290-54B43AFC1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94CE29CD-7C68-4F07-BEFA-B11940B7F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94960697-8D0F-4FC9-A35B-972DE002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4C03E960-EA0E-4EA3-9B77-6D33FDD0A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9F57736-538D-4E49-AF2C-C3E393A3D7C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2486-92F8-468F-8C36-1B061EC18877}"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DA3C-F84E-4370-A29E-131D44AFA23A}"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B071-904E-4EBA-BB05-24FC99066E1C}" type="datetime3">
              <a:rPr b="0" lang="nl-NL" sz="1400" spc="-1" strike="noStrike">
                <a:solidFill>
                  <a:srgbClr val="3b130a"/>
                </a:solidFill>
                <a:latin typeface="Times New Roman"/>
              </a:rPr>
              <a:t>31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1D71-30E2-44EE-BEDC-A976F4570F8D}"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D0BF-B4DC-4E17-9B1B-017D98E904F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DB33-B159-4191-AFB6-6F8347125545}"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7E41-047D-4443-9F4A-741598E12A2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9E1E-31ED-477B-8C4D-C85E3E9D2587}"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66CA-AC81-4FAF-97DE-479951B55DE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9910-878C-4E49-B03B-4A1710DE91BA}"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0CD4-7C83-456B-8BA9-290BA11C106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3DA1-560D-42E2-996A-91FB47FA4946}"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511C-154D-466B-A257-160305DD2DB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809B-D65B-45F8-9DDB-71E265626E83}"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795D-0A6D-4089-8CBF-DC82F98C5B7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D29D-0B01-4910-93A0-79032797CE8A}"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238F-7A0A-4ABF-93DF-5ADCA7DEEC3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5668-40F7-44E6-9F5B-E57BA1ADE605}"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B22C-E77F-4B0A-9D12-4D876515B40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B1B4-62D7-4A54-95B9-806C1EDE0FB5}"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BE67-211A-434B-8303-8443D45F25D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C9E0-10D8-4681-8CF5-4C9882369719}" type="datetime3">
              <a:rPr b="0" lang="nl-NL" sz="1400" spc="-1" strike="noStrike">
                <a:solidFill>
                  <a:srgbClr val="3b130a"/>
                </a:solidFill>
                <a:latin typeface="Arial"/>
              </a:rPr>
              <a:t>31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F5DD-110E-47A3-8EC1-00063B10BA0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