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F023E-DAB4-4955-9995-9AA8204A71EB}"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8CE8-F17B-45D4-ADB9-BD5F34A539E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62F9-574B-4D44-B538-8B233161D84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A75C-B3A6-4211-9D2D-FA43939B3A1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9203-BA63-4CD4-AD79-5A6153A7C68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2885-A822-423C-AA60-6A0CED22E6E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07CC-01AD-4799-B0EC-91E7309D27F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2294-1226-42A3-9405-0413E5E670D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118E-8120-4C61-A952-DCCF5650183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DF26-0513-4E56-90AA-E3646380A96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4949-4A09-453B-819C-B4EF88BABA2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5E64-68EA-4F38-A8EF-033D3600DEC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5AF2-2A9F-42AF-8FE5-74C30F863EF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5D38-2FC5-4FC1-8D00-8D82A473780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1124-3F9F-4D7A-B221-B0EE34BC4B2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A0F95-5747-47CC-A6B2-926D0E909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5A3D6-E18C-493C-8C63-99027D4CB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BB7012-DA04-49FE-A772-609773ED71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2A1FE5-3BB3-4235-B37A-AFA2BC79D8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D664A1-D573-4D6C-8771-A0623926DB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148FF2-485D-45FD-962A-D6E2134796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7A13E2-2D4B-4CD8-AABC-629BDD9CEA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936ECB-40BE-497D-861C-479E551012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937631-4FAD-47AC-A046-00B5615303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5F19EE-10E8-4411-B158-546C690CC1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D74290-953D-4015-8D76-C27ABDF0A0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6CC8576-4747-495A-9ABF-52B70B8038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189DB-FC62-4E8C-A7C2-CD2758EF3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B3AFC2-7221-4684-8B21-4CC3E84FE2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D1C0A1-5FBE-4DDC-8451-7F1EF4AA5D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6DB43D-0B6B-49AB-9158-7E352FF836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1E76CB-CDB7-4511-88E0-2D002A0D1A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572394-401C-459D-B8A9-2216146277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AA8BE2-6951-40CE-9913-72370A627A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A76AAA-CB63-4D44-AE1F-407803B47F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E1535F-EF8A-4A51-9316-1140B4F9FD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0D1278-DE65-464A-B8B3-5640A5BE86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92D074C-7854-43E9-BAC0-00F7FEA64B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F82D5-9A86-4F6E-809B-051670CF6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DEE8C1F-BE41-4702-831A-3CD99F42BA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4538D3-662E-4035-83A2-5B9FDD89D3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997E4E-2D32-4EA0-9D34-F9CAE2E4FF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16F2E3-E2F6-4108-A63C-C1F675E645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DA0CD9-B785-49A2-AA83-4E57C914FD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2F561A-83DE-46B4-8855-280C798EF3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C4565C-75ED-4DFD-AF73-DEA077A3CA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263EB4-7182-4F28-B35A-C5425461A0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7C1B41-185F-4A55-B9F2-7C43FA9FB3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A81455-2019-4972-96B9-8BC7FE48FE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4C317-69D1-40D5-8D75-8B2A27098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8BD232-8BDB-457B-9DFC-8F7998CA9C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49CC1B-98D7-4358-A3E6-BABC9F78E7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6EEA27-6571-4EB0-90A5-481B528984A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407B87B-C294-4D80-8BCC-74C0C10E282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B5383B-A701-4067-9D25-C18E633790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3441B0-F6B8-45EB-9E88-418C720192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3DF89A-7F24-4193-A2DF-173A3E1432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C67D56-9E79-478A-9643-315EA14E56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22CEBC-53CE-4F1A-8DED-F45074855C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E11FC7-7712-48DD-9A67-C8316339F8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56DF1-910F-4AB1-B3D4-A69093DC4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16844D-2090-467F-A4EE-95C78909D3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92648E-07C1-42A8-AD97-9084250E4D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EB1A2A-4E67-461C-AF4E-ED7968E9BE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069D502-D5E9-43A4-A9A8-FF1A0FABE00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09F765F-1F8C-42C1-B614-DBBA2FE6BB5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B7A3F-3335-4E79-8C70-0650E4ED3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191EA-760B-4CF1-AA4C-E6D0A073F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4CE49-0F49-43BE-95C3-AFA917EDF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FEE03-7CAD-48AC-9904-C9AB8B93D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B8321-0B1D-4FEC-AEB1-FAA44AD3F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F162D-FFE4-453A-96B9-DC7334763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38B50-C133-4E78-AD7C-AE10AF9C7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ACB7A-D051-4954-9227-0521A4DC8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1AA4B-B3FB-4AC3-B377-2EA0A07A6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C0590-B167-4252-9E8B-627678A1C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6C8FC-A782-4AB3-B566-ACC3F6ACF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B07877-AA13-4C58-93DA-488DC8A21A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45FD53-AEA9-40E1-9178-EF084994D7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DE0B68-8E0E-417B-828E-C81687307C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1CD03-2B49-442C-8C4B-73FD85B260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0F54A3-5A9B-468E-B98D-82E19F0AD2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C43B2-262E-4A02-B7A7-9344BCE41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252C66-A7D5-4327-8670-B0EEACF590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97BE73-DAF7-4E0F-B901-B9EAA69D00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96ADB-EA75-4E76-9E01-8E541CAE2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B6FB3-30B1-47B0-BE07-B461045FD3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E94E01-DC48-4B33-A2CC-8F7CD4241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3C1220-DBB8-44DE-9625-803B2737C3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3035BF-4E8A-4523-BBD2-622C9BD807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E2FBB3-9221-4FCE-A2BE-0D9F708F16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F5AA6A-AC08-43C6-90D9-20059256CF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4ACF14-BEEE-44BD-85C7-AF440F8253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1E331-CF46-43C5-AADC-6DF6E9117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2D9EB7-F9DE-4B2D-A649-4A30139150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8C5485-35D9-4A99-968B-1244C91FFA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1D2A10-78B4-4580-9681-BCF6422463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7A5C84-EBB9-4225-9C17-A0FB047AC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0AAA12-EB49-4904-AE26-488C2B5E7C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DE43C-6BC3-463C-B5C3-DDA6B46D7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C412DA-1EE6-46E0-ACF9-B125FCD308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C6678E-138A-45E3-91B2-2923A4F394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765137-DEE2-49EB-A091-E062E5459A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9DD4F3-4E78-44F8-834F-0FF7FDB8E5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37A8F-AD85-44D9-AB41-41E67AA65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CB9239-2D2D-466F-BECE-4E59EAF407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8E2EDE-F447-475A-B16F-B676A21A16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BFC1BB-2CBC-4938-9F1A-B2D9AA9B14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D9A2A5-C216-4514-A3FB-10852C0811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A8C550-80A2-4DE3-BB74-29C7E52A54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F4D332-041C-4D56-A45E-B2732491F2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750705-72D3-4C7B-B571-930D1FDC37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01F199-9886-4B86-A375-B820084B46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E96D86-14AF-4B5E-B652-09DC8EDC1E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4EBB1B-42F8-4264-AA09-F69CD9F865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40745-1840-4E02-9135-C4DEA33D3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95DBFA-536E-4298-9BD1-A0B6E8E6B2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5B6635-9167-4A60-9BAC-8A1CB91016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35FE14-8C0D-4A09-94EC-84FB6635F3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663B51-8457-4362-95FF-5A54FBFEFA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23368C-007E-4080-9C01-140C285D39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FAA2E2-ED4C-4248-BF58-21835F0382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0F018F-AA0C-41B5-9A15-84C95D1AF5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D65DB-0958-4A75-8422-F2D6B6D8F3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4B0185-6807-4850-83B3-AC690B8275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D32CE1-0FCD-4261-B466-D492F6B2D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40AB1-9094-4C68-82E5-78E140497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83E0BE-DDD1-4E49-9342-044B8052B7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C353D8-CAF9-414D-80D6-AF6B087057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9B7944-04B2-4EFD-9C1D-E5BC95B4EA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9F671C-4ABE-475D-9192-D819688C6B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1B4FA1-CA09-4C5B-9386-7C8D8129C7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639342-46A7-4148-B300-13EE209161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66FF53-BB02-440E-B313-9B2A8900EF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975886-92A1-4671-89E1-AE5CC50021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F3F8B0-69DA-491F-99FC-8E14E7B3F3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0F56B3-86E6-48E3-93C4-8D79C61107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BEFEA-AFFD-4693-BA80-194FF5556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4624C6-703E-4F55-B68B-DB4786DEFF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6BFDE6-5747-44C8-B52B-53505DAC7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60762A-37AB-4549-8099-C017B73BC6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ED038D-0980-42C8-AB77-A288A80A8D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64876D-14BB-4B4C-B069-48DF92576F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C18303-8766-498B-BF5F-6172EC71C9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70578C-4EC6-43FD-B822-984DC7A050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576851-02BC-477A-BB3A-9F242C4F86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A6BA94-4990-4553-B51B-359CA6846B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8246CF-2DF9-4CA8-A8DF-CD2F8F84C5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69FEE-C9F7-474E-AF68-2A54085F9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D2A9F3-6E31-4BC3-991E-D07B1D32C0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BE64A1-368D-409E-9DC7-18B8396909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E39955-0635-442B-BF19-6F22BF4C76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31984C-EBC8-4D91-B0AC-060A6F1BB3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51E4B9-A4AB-472F-8E53-6FAE38AE5E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56ACB4-F9F6-42DC-9165-BFBCBC4735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271A9F-6809-42DF-B0F3-AFD7F30542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225D8A-2A1A-494F-8D52-A4AEA7C469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4A7D48-70C3-4926-984B-AAFBCFBE1F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73D9EF-B416-4D9F-B1F2-2B7F45D5F5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ED48-7FFC-4954-852A-2E54DF6C3EB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5F31-A5E6-4BB4-8F9A-D9E3FE19921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D0FE-1293-49D1-8D19-C0DD1B72C93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A812-463E-40AC-A227-34422B63690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4396-2C58-4843-8AC1-A216A05E85B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6F9A-A56D-479B-8F90-FB7D51795AA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2B6E-91BB-4B4B-ACEB-C184C580427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11EE-4D07-4963-BDE1-2602D80446A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84DC-0618-4185-9C2D-4849349181C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C383-95DA-4952-A139-2F508D3627E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813BF-05EE-40FB-97AF-29ACD5469C2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B51E-62DE-4033-A122-167F6EB6CE0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aarten Rossum, van</cp:lastModifiedBy>
  <cp:lastPrinted>2012-02-03T12:52:21Z</cp:lastPrinted>
  <dcterms:modified xsi:type="dcterms:W3CDTF">2018-09-23T18:51:18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