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DF26-412A-4214-B9A7-52264B82217C}"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25A3-F611-47E0-95F1-C6BA454BC33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08F9-2E3E-4F05-BF57-A4B9532E784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68AC-E3A2-4D49-816F-C206BE66AA5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1F56-CBAA-4CEC-AEDA-8025F2C7BE4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51EC-EB9B-4751-976E-9DF3C9E50A6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7FB5-C7FA-4ABB-86CF-461B7000C60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6B9F-1085-4920-BEDB-6D54F2EF67D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C20E-E7C5-437A-8BD9-7BE5FC3416E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2662-9738-419A-9F1D-FD63D8D4E77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7B4C-A9E5-43C7-BBDE-1ED8EE22545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5AD9-1A13-4836-8683-E5474DD81E1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3045-E550-4F4F-8E5E-917F2B32B68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9F1B-8A0C-4F32-8AFD-A8620CDF0F8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A150-AF45-4F93-8465-D0A52230FFB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B980E-3743-4BA9-8B3B-1B00ABC16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AD110-02EB-4B4A-81C8-3A99ADA50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7208F2-0721-4D91-801F-CD0820A242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D2DCD2-F375-47D3-9797-0A4C9E2E7A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2DFD21-BF00-4734-ADF6-462216FAE6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2C8632-D5AD-4146-B427-7D7FBE3B94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7A8997-DD13-433A-8E60-853DF538ED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2F2281-7B3D-4961-87E9-D0DD92D9C3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42447D-C4E8-4287-87C5-09F75D07C3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D27007-106B-4326-BA1B-458CD8550D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8B7543-51BF-4A0E-BB99-C2EA45D8BC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86A02C-75F3-4B01-80DD-CAF50571E5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15F6A-F4B5-4300-B0D4-082DF8209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AD2950-F90B-4FE5-B130-B538DD2C02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D33B51-DFDE-44B3-8491-02506ADF47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FD1EBB-6659-476F-B2ED-71EEDA5530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F05EDD-4100-48A6-AF3C-4633192AB9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5F7072-DC05-4243-BADD-9167B42BE8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D2AAED-B704-4599-9220-20D974A162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3D2503-B614-429C-8959-7A6DBADC1D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3C9A31-937B-4204-9268-E647334053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525D99-324C-4104-8812-545D636F83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49DB8EA-6D5C-4F4E-9D94-001D8E1990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69240-8DEB-4D60-B46D-ADBB89229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6C28CF-967D-4D03-BDA5-AF52BD02FC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4165E4-FDE7-4E04-9BA9-9AF64E7C49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A13CA2-A4F8-452F-B176-D17BD89CA6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E751FF-6D10-4E73-926D-B9D81B8C87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29A774-F9F9-460F-A1ED-3CA4306F6B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5DFC51-23E8-480B-9398-081AA54BE0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BB6E3D-96EF-4BF8-82EF-270F5D8FE7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68C89B-F21C-4FCE-9E15-206A3566E0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8EDDD2-9CB5-4051-BAA5-F0F2FFB735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007EB2-E6B4-4EF8-9B08-16BECDE3AB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76B2B-4F0F-40FD-8CA8-D03C5127E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82B9CB-F6CB-44C4-824B-5720C93720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E0AE26F-C297-4F2B-85C1-2B9AF09FFE3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44C702-28DF-481E-B14D-208E5E7BFF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780197-D3F3-47B0-8DBB-C94C5EC5F6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192C6F-8F89-4452-A55D-9E3F1D1F26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DB1768-2FBE-4A77-A02A-6833A58543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1BF53A-BBD9-4E40-AEFB-6A93137BB6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D94653-753D-4441-89A9-33BE5B8402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0E13E7-A481-4EA4-8EDD-5454C99731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6EEFF4-24E1-4B3A-B4D8-7F257D1164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C24DA-9746-42E1-806E-CD5BBAAF7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6424DF-9E1B-493A-B105-44209F4712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2FFA2F-3DD1-4831-AFB8-5B3DB0633D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43F791-0151-4411-947E-91CC0596A0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07CE60A-87BA-4FA4-B0D2-E0DC327FDB2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A3C3968-ED81-44CD-8BA6-B65F37B1FBD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8BB2A-7367-4D4B-9FBD-8C35076AB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F3C67-7F1D-43CD-87FF-1E77EE5CB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C5654-0B36-45F6-9A9B-74FFC44B7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7E185-2CD2-42FD-80E5-D83E335C5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9AAB5-3983-4FD8-B249-6A0A3E9DA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F9E07-9DD2-4330-9D7D-DE18173F9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69464-7D4F-4FDF-94FB-2AECB1D23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6ECC7-4D88-483D-96BB-76CFA37FE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1A90C-BB8F-4C50-8D52-15A9BB727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6ADE8-9F58-466A-9250-21A6647A1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1331B-9284-4BF7-A50F-FFAAA8AF2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BEB5A4-77AB-476E-B315-FCC4C5C182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47D313-0037-4E9D-8331-EB1A17F09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05371-D514-4AAA-88B4-744ACE926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579D1F-80BE-4595-B48A-EF6D9E6B6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35464-4692-4447-80BB-10C74E5363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36D56-8C14-4AFF-BD62-0D49531AE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4CD192-F521-44DF-A0AA-08CFF26DC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B9B21-E0F1-430A-878A-259CB1537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D5F75-857B-457F-B0F6-4FFB687FB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BF03A-5D0B-4925-83D0-E9CA82C73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BC61ED-6015-4075-8560-AF557C83C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9592D3-DA6E-40A6-B394-1383E1EA4C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5BBD4B-C2A7-4EF5-A7DF-63E64B1397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F9B0D5-26E8-4020-840F-FBADC116B4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A8753D-EB82-44C1-8589-59BC45537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5C281A-A5DB-4169-936B-4A9563F49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B3960-DD32-42BF-A51E-E2F89DC6F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EF03AE-01B4-4919-8F0D-0DA3E34AD1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6DF06-F2F2-49B1-B0F0-3093481034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E2CC3-BDB1-4C4C-ACA8-11CAE464E7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EC86A-E540-48D8-8B6B-DA4E82F68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0938B-C96D-4AB8-A017-CE8F92CF76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FBB27-E841-4E18-A8C1-D6594C0C0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E58891-04C1-42FC-BAE5-4AF30F6DD9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1BD32B-96B4-441D-897A-C522F24470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FA6575-C9CB-4EE4-BFE3-C75DB0768E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478DE0-7DB6-41FB-8EBE-FF93DEA239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854B3-13EE-4661-9193-D9F0542AD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FA3C9D-278F-4208-979A-E27F525E0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33AECB-63F2-41A9-9D67-027CD12C3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7E0994-DC7A-448E-95FF-5E084384A0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96DF14-E918-4899-8BCE-5535F98770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75C7E6-1705-493E-82C6-31FF7AF028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150759-7863-40F3-87FB-3D3698E7C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295F74-D994-4653-BEDC-F7EBF71A14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383D0-298F-47F9-902D-4A97C350F6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0988DC-5D1E-42CB-B74E-2AEF4D3E6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3889BA-E546-4401-88C7-5B9E945BB0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C980B-5BC3-4709-A9D0-1420EBF11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35708D-29B1-46A2-A086-E2F089936E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389523-583E-471B-9F1A-347F424174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90541A-F050-48EA-8605-B60E1F00F9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8C501B-EAFE-4346-A9CA-D5C46C02D6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A9FB1B-6BFF-4EE8-926A-802BCB4390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1609F3-7E4E-41CB-AD56-11AAABAC8D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3FA924-E10F-4842-B6B9-062C765969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32EA4-572D-4423-9E4B-C4CB77D1C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9930C-0621-4BCC-A409-C6D1442C34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B87E1-682A-412C-9F13-9AB66F9ABD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0ACC9-8192-41AD-A624-66009A500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9B0900-738D-4DE6-8FD4-2382B3F430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2959E3-7FC5-4025-8E11-8D57BE23C1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A6F118-C68E-4CA0-83CE-E68B142482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FF24A0-20B4-45AE-A638-F66A30E963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32A7AA-8A7C-4910-BDD3-535F54FDF0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605968-F01C-46A6-B8A8-429483988B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BF83AB-C8BE-40A5-842B-AF00F4B1DE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C5D510-F442-44D2-85A2-AF1760E3B9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F84914-9198-4F75-B995-5401DB1F66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593062-F636-4B2A-8E32-43DD630635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97213-7878-4C42-8DEF-545A26FAC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1426A6-ACF6-445E-A0F6-89759A39F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B74ECF-87CE-44C2-95C6-3FE7C3656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A4AD5B-9EDF-4F41-9213-3601A26C84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D9DD75-E9D1-4813-ADFD-5AFBCF96F0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139F77-2433-4DF8-8E0B-2AB9D547A1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3B431D-80C9-4ACC-BD23-6BE9900062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63E1A8-BB5D-48FF-B456-7EC60E1BA3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1A60F4-0770-43B0-AADE-D30B305375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9EA708-BCF3-4CF4-B273-5F13950A54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01E833-1DDB-4B7B-8D2B-9D6619C295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BC48F-0622-4F74-8A94-00C849413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452A0A-33EB-4DF6-81E6-CF4F9F30E4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CA8D0-F042-4F5C-9785-DEC2B6F49E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FC6E6D-556C-47E2-83B5-78B7CD1002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72A58-EF9C-4176-800E-1F34F0A88C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A1B359-F0A3-4ADF-9705-05406CEE62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07A88C-06A2-44A6-9CEE-44DD974B3B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07EDCE-49C8-4CB9-ABED-302E7AB8F4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208391-C673-4001-93B4-AAF768A85B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3C88C1-0B79-4411-841A-F3A12A7E0A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857FCD-6435-4FD9-B2C9-3A5D44BFC7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7C7F-4781-41F6-B1C0-0FB2568AEE5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556F-B0C1-4315-9F09-E8A45CAE23C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ABF4-8B08-4957-9625-DE7EAB05BA0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88C2-CAD4-4D6A-B15D-4BF0FE43A5D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21AD-C218-4EA0-898D-CC115242DE9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1889-F8FD-42A8-9737-B26D56B9910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4CF1-E0E8-4AE7-8346-D9CBE925EB2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6A17-A74A-4BE3-BAF9-A18630055EB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34CB-BB98-4FAC-8058-D1188993DA8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2CCC-4E62-482F-9379-212FDA9D1EC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FAD5-3E8B-4A1C-B34F-83B811B43CE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8771-8D88-49A6-A788-7C6742A7424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aarten Rossum, van</cp:lastModifiedBy>
  <cp:lastPrinted>2012-02-03T12:52:21Z</cp:lastPrinted>
  <dcterms:modified xsi:type="dcterms:W3CDTF">2018-09-23T18:51:18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