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15.png" ContentType="image/png"/>
  <Override PartName="/ppt/media/image3.jpeg" ContentType="image/jpeg"/>
  <Override PartName="/ppt/media/image6.jpeg" ContentType="image/jpeg"/>
  <Override PartName="/ppt/media/image11.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EFDA-D677-471C-A6ED-364577B6C567}"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853920" y="744480"/>
            <a:ext cx="4961160" cy="3722760"/>
          </a:xfrm>
          <a:prstGeom prst="rect">
            <a:avLst/>
          </a:prstGeom>
          <a:ln w="0">
            <a:noFill/>
          </a:ln>
        </p:spPr>
      </p:sp>
      <p:sp>
        <p:nvSpPr>
          <p:cNvPr id="57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23D4A-DD53-4F22-8E7A-ABDEDE54952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53920" y="744480"/>
            <a:ext cx="4961160" cy="3722760"/>
          </a:xfrm>
          <a:prstGeom prst="rect">
            <a:avLst/>
          </a:prstGeom>
          <a:ln w="0">
            <a:noFill/>
          </a:ln>
        </p:spPr>
      </p:sp>
      <p:sp>
        <p:nvSpPr>
          <p:cNvPr id="59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853920" y="744480"/>
            <a:ext cx="4961160" cy="3722760"/>
          </a:xfrm>
          <a:prstGeom prst="rect">
            <a:avLst/>
          </a:prstGeom>
          <a:ln w="0">
            <a:noFill/>
          </a:ln>
        </p:spPr>
      </p:sp>
      <p:sp>
        <p:nvSpPr>
          <p:cNvPr id="59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C84F5-A338-4EB8-A146-39DFF00B15A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853920" y="744480"/>
            <a:ext cx="4961160" cy="3722760"/>
          </a:xfrm>
          <a:prstGeom prst="rect">
            <a:avLst/>
          </a:prstGeom>
          <a:ln w="0">
            <a:noFill/>
          </a:ln>
        </p:spPr>
      </p:sp>
      <p:sp>
        <p:nvSpPr>
          <p:cNvPr id="59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2C7CF-847A-4A72-A117-8D59575B3DE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853920" y="744480"/>
            <a:ext cx="4961160" cy="3722760"/>
          </a:xfrm>
          <a:prstGeom prst="rect">
            <a:avLst/>
          </a:prstGeom>
          <a:ln w="0">
            <a:noFill/>
          </a:ln>
        </p:spPr>
      </p:sp>
      <p:sp>
        <p:nvSpPr>
          <p:cNvPr id="5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 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853920" y="744480"/>
            <a:ext cx="4961160" cy="3722760"/>
          </a:xfrm>
          <a:prstGeom prst="rect">
            <a:avLst/>
          </a:prstGeom>
          <a:ln w="0">
            <a:noFill/>
          </a:ln>
        </p:spPr>
      </p:sp>
      <p:sp>
        <p:nvSpPr>
          <p:cNvPr id="60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853920" y="744480"/>
            <a:ext cx="4961160" cy="3722760"/>
          </a:xfrm>
          <a:prstGeom prst="rect">
            <a:avLst/>
          </a:prstGeom>
          <a:ln w="0">
            <a:noFill/>
          </a:ln>
        </p:spPr>
      </p:sp>
      <p:sp>
        <p:nvSpPr>
          <p:cNvPr id="60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853920" y="744480"/>
            <a:ext cx="4961160" cy="3722760"/>
          </a:xfrm>
          <a:prstGeom prst="rect">
            <a:avLst/>
          </a:prstGeom>
          <a:ln w="0">
            <a:noFill/>
          </a:ln>
        </p:spPr>
      </p:sp>
      <p:sp>
        <p:nvSpPr>
          <p:cNvPr id="60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ADH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853920" y="744480"/>
            <a:ext cx="4961160" cy="3722760"/>
          </a:xfrm>
          <a:prstGeom prst="rect">
            <a:avLst/>
          </a:prstGeom>
          <a:ln w="0">
            <a:noFill/>
          </a:ln>
        </p:spPr>
      </p:sp>
      <p:sp>
        <p:nvSpPr>
          <p:cNvPr id="60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853920" y="744480"/>
            <a:ext cx="4961160" cy="3722760"/>
          </a:xfrm>
          <a:prstGeom prst="rect">
            <a:avLst/>
          </a:prstGeom>
          <a:ln w="0">
            <a:noFill/>
          </a:ln>
        </p:spPr>
      </p:sp>
      <p:sp>
        <p:nvSpPr>
          <p:cNvPr id="60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853920" y="744480"/>
            <a:ext cx="4961160" cy="3722760"/>
          </a:xfrm>
          <a:prstGeom prst="rect">
            <a:avLst/>
          </a:prstGeom>
          <a:ln w="0">
            <a:noFill/>
          </a:ln>
        </p:spPr>
      </p:sp>
      <p:sp>
        <p:nvSpPr>
          <p:cNvPr id="57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9F665-AF98-4219-9C53-1BCFAB1F2FA2}"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3920" y="744480"/>
            <a:ext cx="4961160" cy="3722760"/>
          </a:xfrm>
          <a:prstGeom prst="rect">
            <a:avLst/>
          </a:prstGeom>
          <a:ln w="0">
            <a:noFill/>
          </a:ln>
        </p:spPr>
      </p:sp>
      <p:sp>
        <p:nvSpPr>
          <p:cNvPr id="61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974D-5925-4293-B2B2-F4BF52FC853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853920" y="744480"/>
            <a:ext cx="4961160" cy="3722760"/>
          </a:xfrm>
          <a:prstGeom prst="rect">
            <a:avLst/>
          </a:prstGeom>
          <a:ln w="0">
            <a:noFill/>
          </a:ln>
        </p:spPr>
      </p:sp>
      <p:sp>
        <p:nvSpPr>
          <p:cNvPr id="6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BF072-F66A-4392-8207-A7C21AB32F72}"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853920" y="744480"/>
            <a:ext cx="4961160" cy="3722760"/>
          </a:xfrm>
          <a:prstGeom prst="rect">
            <a:avLst/>
          </a:prstGeom>
          <a:ln w="0">
            <a:noFill/>
          </a:ln>
        </p:spPr>
      </p:sp>
      <p:sp>
        <p:nvSpPr>
          <p:cNvPr id="61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E02FB-CD2E-457F-8430-CDDAC4FDF28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853920" y="744480"/>
            <a:ext cx="4961160" cy="3722760"/>
          </a:xfrm>
          <a:prstGeom prst="rect">
            <a:avLst/>
          </a:prstGeom>
          <a:ln w="0">
            <a:noFill/>
          </a:ln>
        </p:spPr>
      </p:sp>
      <p:sp>
        <p:nvSpPr>
          <p:cNvPr id="62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06EEF-E5F0-4A60-83A4-20E987B68B1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853920" y="744480"/>
            <a:ext cx="4961160" cy="3722760"/>
          </a:xfrm>
          <a:prstGeom prst="rect">
            <a:avLst/>
          </a:prstGeom>
          <a:ln w="0">
            <a:noFill/>
          </a:ln>
        </p:spPr>
      </p:sp>
      <p:sp>
        <p:nvSpPr>
          <p:cNvPr id="62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830EE-2BE6-4E6B-8AF2-19A97C07ACA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853920" y="744480"/>
            <a:ext cx="4961160" cy="3722760"/>
          </a:xfrm>
          <a:prstGeom prst="rect">
            <a:avLst/>
          </a:prstGeom>
          <a:ln w="0">
            <a:noFill/>
          </a:ln>
        </p:spPr>
      </p:sp>
      <p:sp>
        <p:nvSpPr>
          <p:cNvPr id="62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F7FAC-D2A7-45CA-B2AE-490CF86D5B1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853920" y="744480"/>
            <a:ext cx="4961160" cy="3722760"/>
          </a:xfrm>
          <a:prstGeom prst="rect">
            <a:avLst/>
          </a:prstGeom>
          <a:ln w="0">
            <a:noFill/>
          </a:ln>
        </p:spPr>
      </p:sp>
      <p:sp>
        <p:nvSpPr>
          <p:cNvPr id="62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A41C4-D07C-43FE-9C2C-4A4AD417956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53920" y="744480"/>
            <a:ext cx="4961160" cy="3722760"/>
          </a:xfrm>
          <a:prstGeom prst="rect">
            <a:avLst/>
          </a:prstGeom>
          <a:ln w="0">
            <a:noFill/>
          </a:ln>
        </p:spPr>
      </p:sp>
      <p:sp>
        <p:nvSpPr>
          <p:cNvPr id="63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CF02D-12D3-4FCD-BD3E-046E668A7DC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853920" y="744480"/>
            <a:ext cx="4961160" cy="3722760"/>
          </a:xfrm>
          <a:prstGeom prst="rect">
            <a:avLst/>
          </a:prstGeom>
          <a:ln w="0">
            <a:noFill/>
          </a:ln>
        </p:spPr>
      </p:sp>
      <p:sp>
        <p:nvSpPr>
          <p:cNvPr id="63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BE" sz="1200" spc="-1" strike="noStrike">
              <a:solidFill>
                <a:srgbClr val="000000"/>
              </a:solidFill>
              <a:latin typeface="Calibri"/>
            </a:endParaRPr>
          </a:p>
        </p:txBody>
      </p:sp>
      <p:sp>
        <p:nvSpPr>
          <p:cNvPr id="63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DAB1E-F054-4ABE-8E1C-3ED049F4D340}"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853920" y="744480"/>
            <a:ext cx="4961160" cy="3722760"/>
          </a:xfrm>
          <a:prstGeom prst="rect">
            <a:avLst/>
          </a:prstGeom>
          <a:ln w="0">
            <a:noFill/>
          </a:ln>
        </p:spPr>
      </p:sp>
      <p:sp>
        <p:nvSpPr>
          <p:cNvPr id="58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9FA17-C94E-4E51-9D03-3BFFF6620DA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853920" y="744480"/>
            <a:ext cx="4961160" cy="3722760"/>
          </a:xfrm>
          <a:prstGeom prst="rect">
            <a:avLst/>
          </a:prstGeom>
          <a:ln w="0">
            <a:noFill/>
          </a:ln>
        </p:spPr>
      </p:sp>
      <p:sp>
        <p:nvSpPr>
          <p:cNvPr id="58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53920" y="744480"/>
            <a:ext cx="4961160" cy="3722760"/>
          </a:xfrm>
          <a:prstGeom prst="rect">
            <a:avLst/>
          </a:prstGeom>
          <a:ln w="0">
            <a:noFill/>
          </a:ln>
        </p:spPr>
      </p:sp>
      <p:sp>
        <p:nvSpPr>
          <p:cNvPr id="58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853920" y="744480"/>
            <a:ext cx="4961160" cy="3722760"/>
          </a:xfrm>
          <a:prstGeom prst="rect">
            <a:avLst/>
          </a:prstGeom>
          <a:ln w="0">
            <a:noFill/>
          </a:ln>
        </p:spPr>
      </p:sp>
      <p:sp>
        <p:nvSpPr>
          <p:cNvPr id="58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853920" y="744480"/>
            <a:ext cx="4961160" cy="3722760"/>
          </a:xfrm>
          <a:prstGeom prst="rect">
            <a:avLst/>
          </a:prstGeom>
          <a:ln w="0">
            <a:noFill/>
          </a:ln>
        </p:spPr>
      </p:sp>
      <p:sp>
        <p:nvSpPr>
          <p:cNvPr id="58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98015-B90F-41AE-8FEF-F024ED961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A0C66-19E1-4B14-AC55-4A5D6248D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9629FE-6108-4BA7-A3B4-1FF9271BF2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D5EDD2-8B73-4A61-BDE4-46F2699050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50E607-4C8E-47DB-A352-1410880B47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4521A1-E986-432D-8F0D-DE86150C9F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637B1D-A43B-429F-A954-78EC06D4B8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460BAA-49D3-4855-BDF7-759F3AF8E9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04F25C-A469-4955-BDD4-695B16DEAB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63CF85-2F27-4FD0-B91A-ECE6FCFCBD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BDC7F09-451B-4CA2-9415-0A9F907E31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64C740F-5944-4104-817D-C628D58CEE0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88698-6E2B-4E35-8033-1FE845C9B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6F6C93A-10CC-45E2-9146-1F2B25D4A95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C95E2DE-38EF-4B26-9DAC-428EE380AF1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EE8814E-547B-42AD-A1B2-047C0D41C9F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41623C-C8DD-459D-9603-AF378B5343B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4343A63-30C4-406E-8B4F-9DC8C94981F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4E13AA-B0BF-43B8-9C96-BA29C6D2A5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C1BF2C3-02DD-470C-9367-5297207CC7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F7CB01-1BA6-4C7C-99E8-908D29821E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1E1E245-F12C-4D66-A000-269B6E3855A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C29B47A-074D-45A5-9F8C-A1570F1B4CC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42054-4B1B-4FFF-BC37-97D6EEAD7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44382D5-4195-4666-9DF3-16814DCB00F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A73FECB-FBD2-44C5-B44E-090190FC2EE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12020A-4B47-46AB-97DA-C2AE07D4A79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0F5D7C-4916-4BD3-8BD5-D654D15386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CBCEE3D-081E-444F-9DA5-E2D8E4F7851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4EF933-B8DC-44F4-8144-19B96A3771F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11708E-CC28-45AC-9889-EAC9FFD508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D151DF-F105-45DA-BDF1-D149BAE517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D1606A-C4D4-42E5-A05B-B1AB04C689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620D89-6845-42F7-8890-5A425579A1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9B4312-2526-4AF1-916F-6331CDDF8D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7E468B-E77F-494F-B396-DDA793EBF5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E83973E-1410-4DC3-AC03-49E72967457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2A333AF-413F-4F4A-8E94-CEBB8367EAE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02F2443-BDDF-4721-847A-5CCE22CB92F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5C51AE2-2E7E-4C05-B6DA-7BE0729138C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F98291-46AD-4FAC-BB7D-542AB57A379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4D35091-EEBC-4712-AA00-DE7E6A4CE3E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8737546-D180-46A0-AF92-4A7D1A20E98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7E83289-F4C1-4543-8D5D-7CD834B7C8B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ADC63A-E8D3-4C8B-8EA8-7A93681E87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665BEB-5CFA-4B7B-AC88-D566BE3C2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676A82-AD57-42B4-A3EF-61DC559519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4290FE-C7B2-479D-B0A3-78B4911405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CAD7B9F-487B-40FC-9CDC-6ACBB6542A3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C278006-0453-437A-AD26-0E10FBBFE9A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CDE2B86-E9FD-4F65-A5ED-6599CB474BA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E4F22-EBF7-4245-AD8B-29E5B06281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322CC-672A-4FCF-A19B-208C944B9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3F21F-9101-46D4-B2D0-B5A154CA4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47DBB-683B-42AE-9FDD-F41734FA7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87E33-E425-45B5-85A8-10C3D0921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53FBD-46F3-4D69-9ABE-EEF2D484A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1E52C-87D8-4F59-A997-21631D1B4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84B53-6840-4511-80A4-E3F9B4DD8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E92A5-97D8-454E-B1DC-DD08A3B9D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AD0EA1-F06E-4F1E-A4E5-27E5F37E7A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E7E369-057D-4584-BCC8-5BE9A2C566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F65DD7-BC6D-4145-AE34-19463E929F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6191F5-D442-4193-A762-DEE4D9AA08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980E4C-99D3-4224-83F2-16637A784C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8C0F86-0163-4B99-8B53-2E028FACDD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8ABC05-B57C-4EE8-8703-10B51CF627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4D357-CC92-49D3-B1E6-9FB9C6DF0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329A89-0547-47DC-919A-5D9C132013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B91734-4646-4353-A232-B2D6C4A8E4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3D1306-4302-4595-B1BC-1D723CC756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5D40FC-07EA-4741-BBC4-391BBF2739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620585-7DA5-4C93-BD45-C184556676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A3C0AD-B430-43CC-A0D7-32F5F75B8D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A9DE9F-365A-4179-A90A-DCA367F916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0B24C8-9B02-4534-B08E-F0905F6E46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8BF640-D18B-46AF-B40F-70E496BC9B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E3858D-6D4E-4CD6-9FE1-A634803DDF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FB33F-D28B-415F-927E-391785478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459A7B-B551-4C10-BC11-B6CB51F49A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E042C5-ABDF-4974-8533-7AA0872538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6A4CFC-A545-43BB-A1F2-CA0ED83E1E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2616FA-41C5-4A8A-A363-0736237980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611451-1E9A-4178-9673-A6FB2DFC82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F1C3DA-0890-4193-8331-7368C75B0D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C6B5F8-BD6A-40BD-90DA-914EA94A9A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D210EF-3190-4EBF-A4B0-778EF425D1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5B62B0-91EF-4BFA-BE5B-FAAD51FC7F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926CE0-7E78-4F04-94F9-FC299B1992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3937B-B3BA-48E8-984E-36371F224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3FCE94-1FEA-4B01-813E-203471D7E9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B3C2E0-9735-40E2-A878-6513A18404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DE17CB-F420-4A64-BE6F-BBDEB216FD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992444-FB95-413C-B631-ECB05D1E05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4D7982-AA36-4BA1-A812-8E6FC53FF8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1B45D7-340A-460C-AEED-15BDD515D4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CB0AFD-FC2A-4AB3-8DE6-6E97E0D46F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A339BC-3775-42F9-94F9-14C54E6468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CA3824-B551-4606-8997-B86C54884B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112CF0-2097-4E30-86F9-F9555950DB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B14B2-BD98-4C1A-9C7D-2667C5A0F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1A0BFE-B11E-469D-BB5B-2A468D4F78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1E729F-B28F-4329-BF0C-6AE18DD187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5C8A3B-0B19-49A3-99ED-5279E2CB22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2E116C-62F9-492B-810C-5F926D9A27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529C41-0874-4C5B-BF0F-C95BF43B80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ADC8EB-AD9C-43B5-9DEB-8C459E971C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444977-3B7B-49BA-96C8-F440DED588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580B16-3ED2-4826-A514-A30B92A3E7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52E49F-AC76-46D5-A684-269C41A4CB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CC2AC8-F6C4-4F1F-9F3D-83CE4FDC1C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67763-9E48-4174-AA69-F3A84A94D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B7DFAC-6B38-4193-BDD6-992FD71233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96F457-8834-45CA-BC4F-1BE53B8DAD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788219-7D31-44FF-9CA4-D1896AAA75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0A8DFC-2B90-4D87-9B26-3F3DC34B6D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142F2E-ECA7-4BAB-9860-D352C0EAFE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B5AAF5-AF14-45E6-9ECC-5CAD3471A6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E65F3F-35CF-488D-8A6B-29CE418BE4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430CC1-CB8F-4682-AECB-C7053B4491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1ADF0B-A7BF-4515-B6E2-2EFB60A42C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46D1D4-0B1F-4B72-9881-3B79ED9E2F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7B02B-5238-48D9-ADC1-EECC7048F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F6560A-38EC-498C-84CC-3164E41AD7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6BC95A-BE88-4C43-A287-2A7C8C96F1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BE51B9-0AF9-4ABE-9377-65EB9A6233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638D79-2894-41E1-BB5D-6A379C1653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AD79E7-6B19-43C7-AD85-69690A04B5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AD21C4-6ADE-420A-8818-1445A88216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7CF4BE-6F58-4998-9834-4F02D80C6D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01BFED-9C09-4C89-9103-0CB5E4D3E7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DD758B-00B0-4613-A01B-5EEB780F7B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D5393B-E56B-41A7-9C30-AAA8F98F96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8E8EF-2EE7-45F4-9FCF-95C2234EA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957B84-9FDB-490F-A623-04F4D02461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1076C2-671E-40BC-ABB1-8AC360E6B2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11CEA4-2914-4161-8D8C-E5AC932A39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81FFD3-635C-4235-A486-A99B6B4559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6EDB0F-9E52-441B-A28E-2B63DC07B4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DF0BF8-AE9F-4A2C-99B2-5790362F88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D10B3E-9C62-42E1-B42E-02B5C562A7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407445-82FE-4E94-8005-07ED09FEF3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45D3E2-170A-4AFE-BDA0-C8146B3A1E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6951C1-C6E4-4ECD-8F2B-852AB30EAE7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6A444-F910-4732-B071-27282C94E2A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5D3E2-BD77-4069-A181-BBA42E0925D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41C44-4B80-4AA0-8009-321FE1C4119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F6945-7803-470A-B4F6-3CAE87E1E4D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54CDE-2457-449F-AFFF-B804A202164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8992C-CAE6-453F-A2FD-0F87071E3AA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4663F-4C2F-4D10-A28A-75721CF4478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330E0-707E-4C0B-9699-0E26B070671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1E44-EF34-487A-BBAB-EC64DFF8A44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38A84-BDB5-4D66-B151-577F836BA61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2007E-8C5D-448A-BF0D-BE71E7AA777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E9899-40DA-4918-9EE6-45A3DB6369E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Afbeelding 1" descr=""/>
          <p:cNvPicPr/>
          <p:nvPr/>
        </p:nvPicPr>
        <p:blipFill>
          <a:blip r:embed="rId1"/>
          <a:stretch/>
        </p:blipFill>
        <p:spPr>
          <a:xfrm>
            <a:off x="1719360" y="1870200"/>
            <a:ext cx="5229000" cy="3430440"/>
          </a:xfrm>
          <a:prstGeom prst="rect">
            <a:avLst/>
          </a:prstGeom>
          <a:ln w="0">
            <a:noFill/>
          </a:ln>
        </p:spPr>
      </p:pic>
      <p:pic>
        <p:nvPicPr>
          <p:cNvPr id="534" name="Afbeelding 2" descr=""/>
          <p:cNvPicPr/>
          <p:nvPr/>
        </p:nvPicPr>
        <p:blipFill>
          <a:blip r:embed="rId2"/>
          <a:stretch/>
        </p:blipFill>
        <p:spPr>
          <a:xfrm>
            <a:off x="1857240" y="1600200"/>
            <a:ext cx="5429520" cy="36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3"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4" name="Picture 2" descr=""/>
          <p:cNvPicPr/>
          <p:nvPr/>
        </p:nvPicPr>
        <p:blipFill>
          <a:blip r:embed="rId1"/>
          <a:stretch/>
        </p:blipFill>
        <p:spPr>
          <a:xfrm>
            <a:off x="4500720" y="2781360"/>
            <a:ext cx="1268280" cy="2027160"/>
          </a:xfrm>
          <a:prstGeom prst="rect">
            <a:avLst/>
          </a:prstGeom>
          <a:ln w="0">
            <a:noFill/>
          </a:ln>
        </p:spPr>
      </p:pic>
      <p:pic>
        <p:nvPicPr>
          <p:cNvPr id="555"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8"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1" name="Picture 6" descr="logo vig"/>
          <p:cNvPicPr/>
          <p:nvPr/>
        </p:nvPicPr>
        <p:blipFill>
          <a:blip r:embed="rId1"/>
          <a:stretch/>
        </p:blipFill>
        <p:spPr>
          <a:xfrm>
            <a:off x="8172360" y="5300640"/>
            <a:ext cx="863640" cy="1434960"/>
          </a:xfrm>
          <a:prstGeom prst="rect">
            <a:avLst/>
          </a:prstGeom>
          <a:ln w="0">
            <a:noFill/>
          </a:ln>
        </p:spPr>
      </p:pic>
      <p:pic>
        <p:nvPicPr>
          <p:cNvPr id="562"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70"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2"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6480" y="2811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4920" y="3333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72428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Maarten Rossum, van</cp:lastModifiedBy>
  <cp:lastPrinted>2012-02-03T12:52:21Z</cp:lastPrinted>
  <dcterms:modified xsi:type="dcterms:W3CDTF">2018-09-23T18:51:18Z</dcterms:modified>
  <cp:revision>58</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