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49D9-792A-497E-932E-4B01DF9C357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Peilen wat de reacties zijn en deze op bord schrijv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volgens foto en filmpje laten zien. Let op: meestal lange reclame voor het filmpj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Eventueel kan nog deze film (4 min.) bekeken worden: vooroordelen over homo’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schooltv.nl/video/help-een-homo-in-de-klas-vooroordelen-over-homoseksualiteit/#q=vooroordel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8A7B-3C72-4BD2-A73F-A9D8A776EB4D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ierbij de vraag stellen: oordeel jij wel ee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6451-2170-4181-86E9-8E434C53AA57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4FA5-9E31-4546-B86E-97637467711D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8DDF-7361-487A-A6E9-F4A9A9B20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C9FE-29CD-4C65-9ECF-B2099D6D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46A5-C4F2-45AC-BFDA-113F5AB62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62D5-9ABA-4F97-993F-F394E8D37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8CBE-9327-454B-9F3D-6D24305E2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732C-B7DB-4E1B-A123-921F9D4D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9407-B0B1-492F-9B5D-9F1FDBF2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B2B6F-B226-4AA3-8D54-827107DD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236A-0A6E-4CDC-98A4-78827449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5A09-8226-4C73-9A24-3C6F2A5A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7B59-FD5A-4467-8EA0-5A69DBA3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7BBC-7562-481A-8FCD-4F3D80BF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108B-393B-40D6-84A4-BCC9FEE1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41F7-F7E3-43D5-9C5B-848CD34E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35BB-110C-4676-BC5F-F935F031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9C4F-7861-41DC-B5B5-657C174CF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7E73-4A45-47BD-BC48-733D5223B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1A558-077F-43CF-875F-A7A0D5E69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82A18-9776-4C1E-BF5A-E277009D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C9B72-7D35-4FF4-930E-9EA0EC4C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B4CE4-72E4-4B73-81F5-F16C6EBD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1CA5A-A533-4BA6-B41D-9A971BF1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B22F-BCCF-4C6C-9F65-A67B9C54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B4266-961F-4D50-BC20-EC6E3AFC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106BE-178A-4007-A991-77C5C8DB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A0DEB-4AFC-4CA0-A951-58C4E742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B0045-EAF0-4051-9C2E-105F60C1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D4103-82A6-4B85-BE30-7B281058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E8C81-4AAB-498F-80BF-4933F23C8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196EF-04CF-4DC3-919E-BB9C0650C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5EB7F-9D14-4A73-956C-3D172E9D6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F2E37-7DE8-4076-ABF2-BC61B503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FB16B-F030-4A70-8922-5B22D308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81A0-92FE-47A2-8814-C0E10F63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BE903-0D45-4439-BCCE-87A7E93E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A24E8-1DB7-4D9D-8020-24F9A3A8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7E439-4F6D-4D0A-9BFC-3559726B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DC922-B0E4-4689-A5DE-E7937434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7D4D9-BF38-4519-B8B1-9B3F56A4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22D03-5231-488F-B715-885B0BBF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42CB4-E9C7-464D-8F6E-D7604B3A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AAC39-F365-4151-BFFC-3151EF2B8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164DC-898A-444A-9297-5569F291D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D0310-010A-437B-8377-4C693D8E7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ADBE-D8A4-469D-8F00-A121CC9D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17B17-20B9-42EE-A309-899303DE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F0CC8-0C91-4F89-A2BF-6F892154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9B87E-4F7E-47C2-BEC5-E36D8A65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B10D3-5BBD-409B-94A5-C615972C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178F4-68AE-4EC6-B1AC-5B60AAB6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4DB79-34FD-43D6-88B3-1034D176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FA954-FEFC-497B-8271-509F0A9A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87890-E0A9-451D-8C9F-35A5D505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1D2A5-5939-4C04-9C7C-2F322959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A6551-5655-43B7-B29D-0C9671952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8DF3-3016-4D1F-B284-C093AECC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063DB-1002-4C08-B92A-3F162AFE1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73B96-C359-40CE-AD92-40CC58ACC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FB376-F7C1-4A0F-85EE-E7EFBC28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3542F-4644-40A9-B036-B7DEE060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D463C-707D-4DC1-B477-CF0A1A3D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CB9D8-05B0-4156-B95F-41387278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88170-48BD-4DA3-84F2-9AEE465F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1A455-12F8-43F9-AD03-7A68DDFB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5D587-9B78-4E51-811A-E31F4942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53916-CC6C-4D48-9A64-BD892B00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D714-72D0-474E-ABE8-24B58EAD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E95AC-DAE8-436D-8F55-70F88995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B3112-BF67-484F-97FB-0A34B61A8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135DD-D4F8-45F2-AE5D-6159AFC14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956C6-5235-4584-BBCC-791D7D0D0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AF322-419C-41C6-B075-30D98A7B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9FB2D-CE62-4899-B28D-66E9C399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FABE0-0802-4A52-97E0-4F11EC3D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323C1-271F-4120-8EEF-FB70101C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36D1B-5682-45DE-AB51-00E662F4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5933F-2B24-4E91-98B3-C9720112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6475-D2D7-4CC6-820C-2746EA9A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60542-B473-4FB5-8141-AEC3E05E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5FC90-1A99-48E3-91FB-1CFBA3FB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7636E-8B57-4FB2-A001-BEE00B84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F657A-BE14-4739-8B2D-D55A5BAF0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A8E77-8CDE-44FA-934E-D23C4A5EC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126E6-3402-45CF-8CCF-E4851C8CE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2207A-12B8-42EE-9489-831D9357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D82A6-7AE6-4DFD-90FC-868F7E78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8B388-261F-4F02-90F2-438AAF37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F52F4-D551-4A7D-8BA0-301E7DBC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37BA-46A7-4D44-B9C1-133C64FE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009EC-B11B-4D42-BBA2-3B3B53E2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00251-4BA5-4168-BD54-FF163E6E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7377A-0617-409B-A633-F3F021A6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38C60-DBF7-4D74-B27F-BE8397F7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3A1E3-7C5F-4D63-A82F-85CF2A50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56257-1583-4004-9CBE-0D28500D7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F67BA-9465-4C6C-9EFA-7CCD88496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59AE-24A2-4023-AB49-3FCEAFB6595F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4640" y="5237640"/>
              <a:ext cx="9093240" cy="788400"/>
            </a:xfrm>
            <a:custGeom>
              <a:avLst/>
              <a:gdLst>
                <a:gd name="textAreaLeft" fmla="*/ 0 w 9093240"/>
                <a:gd name="textAreaRight" fmla="*/ 9093600 w 909324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2D07-E028-4158-95FA-03E1975F5DEF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6573-6A9B-469D-9BC3-777A49C028E7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9984-6B2E-499B-BFB5-EEFA24548527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8205-82C9-41F1-9FA0-516938E06A6C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FCA8-E253-4D3E-8D79-9B126F80CE12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E326-78EF-4E48-8E52-17FA62E07DB0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20A2-431D-429E-B3A4-42768D35FA29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how.nl/video/clips/2015/fatima-moreira-de-melo-stuit-op-vooroordelen/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nos.nl/artikel/2028879-kwetsende-spreekkoren-bij-fc-utrecht-ajax.html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ze period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e Bijbel: Esther: reader en film Esther kijken (toets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e geschiedenis: WOII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Joden in Elburg: huizen en Joodse begraafplaat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PO (presentatie) over Joodse Elburger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t een vooroordeel i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t een stereotype i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t antisemitisme i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t discriminatie is (niet besprok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17320"/>
            <a:ext cx="8229600" cy="12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6000"/>
          </a:bodyPr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raag: hoe ziet Fatima Moreira de Melo eruit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show.nl/video/clips/2015/fatima-moreira-de-melo-stuit-op-vooroordelen/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http://www.bndestem.nl/polopoly_fs/1.3574163.1356073978!/image/image.jpg_gen/derivatives/portrait_600_800/image-3574163.jpg"/>
          <p:cNvPicPr/>
          <p:nvPr/>
        </p:nvPicPr>
        <p:blipFill>
          <a:blip r:embed="rId3"/>
          <a:stretch/>
        </p:blipFill>
        <p:spPr>
          <a:xfrm>
            <a:off x="5580000" y="2041560"/>
            <a:ext cx="2886120" cy="38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1976040" y="5475240"/>
            <a:ext cx="6883560" cy="37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6" name="Picture 2" descr="https://pbs.twimg.com/media/B0mxEBSIMAAv_TD.jpg"/>
          <p:cNvPicPr/>
          <p:nvPr/>
        </p:nvPicPr>
        <p:blipFill>
          <a:blip r:embed="rId1"/>
          <a:stretch/>
        </p:blipFill>
        <p:spPr>
          <a:xfrm>
            <a:off x="0" y="-316080"/>
            <a:ext cx="5184720" cy="731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en 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stereotype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 is een overdreven beeld van een groep mensen dat vaak niet (volledig) overeenkomt met de werkelijkheid.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89" name="Afbeelding 3" descr=""/>
          <p:cNvPicPr/>
          <p:nvPr/>
        </p:nvPicPr>
        <p:blipFill>
          <a:blip r:embed="rId2"/>
          <a:stretch/>
        </p:blipFill>
        <p:spPr>
          <a:xfrm>
            <a:off x="1042920" y="2924280"/>
            <a:ext cx="4969080" cy="3000240"/>
          </a:xfrm>
          <a:prstGeom prst="rect">
            <a:avLst/>
          </a:prstGeom>
          <a:ln w="0">
            <a:noFill/>
          </a:ln>
        </p:spPr>
      </p:pic>
      <p:pic>
        <p:nvPicPr>
          <p:cNvPr id="390" name="Afbeelding 4" descr=""/>
          <p:cNvPicPr/>
          <p:nvPr/>
        </p:nvPicPr>
        <p:blipFill>
          <a:blip r:embed="rId3"/>
          <a:stretch/>
        </p:blipFill>
        <p:spPr>
          <a:xfrm>
            <a:off x="663480" y="1641600"/>
            <a:ext cx="532764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Lucida Sans Unicode"/>
              </a:rPr>
              <a:t>Wat is antisemitisme?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nos.nl/artikel/2028879-kwetsende-spreekkoren-bij-fc-utrecht-ajax.htm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el 2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Lucida Sans Unicode"/>
              </a:rPr>
              <a:t>Wat betekent antisemitisme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Anti = tege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Semitisme = Semieten = Jode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Dus: tegen de Jode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Lucida Sans Unicode"/>
              </a:rPr>
              <a:t>Ken je voorbeelden van antisemitisme uit de geschiedenis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………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Lucida Sans Unicode"/>
              </a:rPr>
              <a:t>Ken je een voorbeeld uit de Bijbel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……………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Daniël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Esther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8T10:57:49Z</dcterms:created>
  <dc:creator>Nuborgh College</dc:creator>
  <dc:description/>
  <dc:language>en-US</dc:language>
  <cp:lastModifiedBy>Windows-gebruiker</cp:lastModifiedBy>
  <dcterms:modified xsi:type="dcterms:W3CDTF">2016-04-06T08:27:14Z</dcterms:modified>
  <cp:revision>14</cp:revision>
  <dc:subject/>
  <dc:title>Antisemitisme</dc:title>
</cp:coreProperties>
</file>