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2.png" ContentType="image/png"/>
  <Override PartName="/ppt/media/image15.png" ContentType="image/png"/>
  <Override PartName="/ppt/media/image5.jpeg" ContentType="image/jpeg"/>
  <Override PartName="/ppt/media/image10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B91A0-5FDB-47C6-A01D-5BF36E228981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Peilen wat de reacties zijn en deze op bord schrijve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Vervolgens foto en filmpje laten zien. Let op: meestal lange reclame voor het filmpj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Eventueel kan nog deze film (4 min.) bekeken worden: vooroordelen over homo’s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ttp://schooltv.nl/video/help-een-homo-in-de-klas-vooroordelen-over-homoseksualiteit/#q=vooroordel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Tijdelijke aanduiding voor dianumm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C633B-308C-48C7-8B56-E32B54D04781}" type="slidenum">
              <a:rPr b="0" lang="nl-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ierbij de vraag stellen: oordeel jij wel een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Tijdelijke aanduiding voor dianumm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C9E90-2942-4DBD-8519-84F96FDF8C23}" type="slidenum">
              <a:rPr b="0" lang="nl-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Tijdelijke aanduiding voor dianumm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4DD81-2A1F-4F47-B5C3-59F263AE704D}" type="slidenum">
              <a:rPr b="0" lang="nl-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C474-0159-4DFF-9C56-5503A047F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6C75-98AA-4466-832C-38F25F4A6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C8EE-9003-4268-BF21-E34E571EC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BC49-31FC-4B7B-A16C-A53DDED06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0F4E8-8E78-4F16-95B8-960825EA3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63125-FD52-44C7-AC6F-0161CDC78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D8019-2F04-448F-94B0-73B28A1B4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F3464-12EE-4DB8-ACCC-FC72B1AF6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AB65E-A014-44EE-B2E8-7A6A70058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29B74-BE8A-43F2-BD15-D124D7442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9E926-44DD-416C-8805-4E0FFEEA2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DA37-65C9-4509-A967-89315D3B8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39298-6F3C-453F-ADBF-491050C68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808BB-AFD9-40C7-9BA9-14AE7B6DE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592DC-05C1-42C4-A720-5A78CD81B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4A855-C64F-4A34-A730-F05D012B5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B9B3C-14CF-4E96-AA22-1AFD6ECA3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19C0C7-1DAB-43E6-A8AA-BE4AF8E56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883DFB-7FD6-451B-A5B5-9C255CC6D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CD7ED1-CE6C-43F3-9103-64B899F24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CC65E1-5322-466C-A145-085DA50B9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C050C0-16FD-4921-9AB5-5FF31DDA0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AD07-984D-4940-A977-0B1C4BA4D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29A0E8-F612-4F52-824F-CDCB7DA53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4B4197-8889-47D0-BC1A-0EFF88E1D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2D5288-38EE-4962-8A05-F2D7C92FA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4F760F-2773-4DF3-92BB-368789E4A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DF6CBD-F8FC-4E94-926F-D09479F70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EDD33A-764D-41EE-83C6-A1F8BF672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475055-2F3A-4B26-936D-B8BFC6B7A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A142D4-9B54-48F6-9CB3-2F047D2CA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126C86-0C7C-42B4-A4BC-C5DECB009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873FAA-73E5-4001-A2B6-1A5DE0DBD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AB4C-3DC0-40F5-93DD-35F101A1E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5921FF-C339-41FD-BF16-584F2803B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136466-35D3-40CC-92FA-35175C4F9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7C6A6A-FDCF-468C-AC73-8F15AA6F7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E62FDB-F4EE-4B41-93FF-BA9C7D02E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FE2D79-0C18-4AFF-8DD7-04C73B5ED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0B6CA0-64B9-4F8D-AC46-C73B8A735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C9752F-8181-4EF4-9938-6708BA7B4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F6E743-4E42-4740-B706-0284FCDEB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79377F-E5C3-4F5E-8C58-9FF22C08D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81BA7F-ACEB-4206-83F7-82B9661B6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1B15-FDF2-4FB2-9D45-A6B0496F2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1BA6BF-7F8D-4A28-B0A9-5E0986386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00E3C8-28EE-4FF3-A46A-32D3A1C12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29891D-91D2-4618-AE64-7F3F52318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592224-EF45-499B-A8BC-A3ACA9848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12E19B-9B48-4F0C-A2AD-B74830DA4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8E41C5-D5FD-4AA2-91B1-4DBBC025F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90EB61-A3CC-4E54-821B-F30D4187F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1249F7-5BD0-48BF-B43A-0C5D936CF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9C3778-7134-4AB8-A859-E1C57CD4C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1DACE6-88F2-4FFE-B2F7-716689B13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C7E7-960D-437A-AC8A-F47D7256C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CC99B8-CACB-498E-BD47-32ACF9915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61D809-3100-44A5-8F22-C9BC3E747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8F5A9C-3CAD-4FB4-951A-B6E0DD792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E7AACC-CD51-40D8-82E9-CA8B16534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CD01A9-7D32-45B1-9F74-42E34E085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B90497-6DDF-41F6-979B-585379DF7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3FFCF4-68D5-451F-9C39-905C28048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6DE0B4-11B1-4743-9D26-2EEF5C4C6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F37805-A8D0-4F18-AF3E-652BFD0DE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DD2C2B-A6C5-4894-88A8-7A2FD699E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5A05-F336-4C14-B577-D277E25CD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BBF318-673A-4359-9B32-24C74EB97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58A5DD-7A81-4B8D-B2C2-E4F64E544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9542A8-AE62-499E-86CB-67547BEE4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CBF2C9-2F62-4DD3-88E0-DF5CADFA2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B46187-7326-4644-A60C-8012E807E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5304DD-3325-416F-8352-38CEE2827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1E72EE-0287-4B63-B946-5F0C76649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A3335A-9268-469C-9509-DE8CBF9A0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1A8F48-155C-438F-99AA-8CF3B787D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E026EE-4024-4FB8-A9FA-A7527B07E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A9F1-66D1-4F25-BB27-102DC8C4C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1437A4-F37E-40F3-BDA6-E9595E629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93BD43-D0FA-4013-886F-6BE8B9B07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7E5F74-4FDA-4570-A681-21F774460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55B983-3FD0-4292-86F3-F5E36D0A2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BF1C59-40B2-4E8D-9F1B-3E89A25F9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0649C0-208C-4F2A-A088-A105A1247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6F3F20-6C45-4E37-A08E-1D7D03522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17D3D1-1C38-4F90-81F7-CA4476D8F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373017-9B19-492A-BED9-2EE57443A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E4973A-2A86-409D-BECE-6DFFDF727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083A-FF83-4754-B6F2-B1B7AF0E0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6EF2DA-DD74-450D-BDB6-D24E48CB8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EE0BFA-F581-49AC-A85C-74E3C4E89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FF6747-0AE6-41E9-8503-767C405D6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924F58-9636-47F8-B229-DE8639970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7C027B-CB41-45D2-BF1F-574C1FE4C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1B5F5D-A6D5-4DBE-9126-3811938E8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B7A420-A79D-4930-B1FB-DB2AEA86A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BE54A-8197-4D0D-A4A0-7C24C284F2DE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5"/>
            <p:cNvSpPr/>
            <p:nvPr/>
          </p:nvSpPr>
          <p:spPr>
            <a:xfrm>
              <a:off x="1693440" y="4952880"/>
              <a:ext cx="7444440" cy="48744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4640" y="5237640"/>
              <a:ext cx="9093240" cy="788400"/>
            </a:xfrm>
            <a:custGeom>
              <a:avLst/>
              <a:gdLst>
                <a:gd name="textAreaLeft" fmla="*/ 0 w 9093240"/>
                <a:gd name="textAreaRight" fmla="*/ 9093600 w 9093240"/>
                <a:gd name="textAreaTop" fmla="*/ 0 h 788400"/>
                <a:gd name="textAreaBottom" fmla="*/ 788760 h 7884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1" name="Vrije vorm 18"/>
            <p:cNvGrpSpPr/>
            <p:nvPr/>
          </p:nvGrpSpPr>
          <p:grpSpPr>
            <a:xfrm>
              <a:off x="8640" y="4998600"/>
              <a:ext cx="9129240" cy="1865880"/>
              <a:chOff x="8640" y="4998600"/>
              <a:chExt cx="9129240" cy="1865880"/>
            </a:xfrm>
          </p:grpSpPr>
          <p:pic>
            <p:nvPicPr>
              <p:cNvPr id="52" name="Vrije v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2924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pic>
          <p:nvPicPr>
            <p:cNvPr id="54" name="Rechte verbindingslijn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18F72-3043-431B-9033-FAC3AE3C91CC}" type="slidenum">
              <a:rPr b="0" lang="nl-NL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unthaak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8E660-C26C-4252-8E86-03847C6D6009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21006-4629-4F26-9EAF-5799D4792CA6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95174-FFDE-478D-B4A6-C9927AAE4B61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ED321-8642-4D22-BF4C-6DCE8B78C74D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D4F6B-25E7-4A6D-820A-FE3503F8F05A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23" name="Rechthoekige driehoek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26" name="Rechte verbindingslijn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Punthaak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B5C4B-D2BB-4EC4-A601-DBA8A5E6B16E}" type="slidenum">
              <a:rPr b="0" lang="nl-NL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show.nl/video/clips/2015/fatima-moreira-de-melo-stuit-op-vooroordelen/" TargetMode="External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nos.nl/artikel/2028879-kwetsende-spreekkoren-bij-fc-utrecht-ajax.html" TargetMode="External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Rectangle 2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7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Deze periode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De Bijbel: Esther: reader en film Esther kijken (toets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De geschiedenis: WOII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Joden in Elburg: huizen en Joodse begraafplaats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PO (presentatie) over Joodse Elburgers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0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Wat een vooroordeel i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Wat een stereotype i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Wat antisemitisme i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Wat discriminatie is (niet besproken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Titel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57200" y="1417320"/>
            <a:ext cx="8229600" cy="129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6000"/>
          </a:bodyPr>
          <a:p>
            <a:pPr marL="94680" indent="-662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raag: hoe ziet Fatima Moreira de Melo eruit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94680" indent="-662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94680" indent="-662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94680" indent="-662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94680" indent="-662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94680" indent="-662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94680" indent="-662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94680" indent="-662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94680" indent="-662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94680" indent="-662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 u="sng">
                <a:solidFill>
                  <a:srgbClr val="ff8119"/>
                </a:solidFill>
                <a:uFillTx/>
                <a:latin typeface="Lucida Sans Unicode"/>
                <a:hlinkClick r:id="rId1"/>
              </a:rPr>
              <a:t>http://www.show.nl/video/clips/2015/fatima-moreira-de-melo-stuit-op-vooroordelen/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94680" indent="-662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94680" indent="-662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2" name="Titel 2" descr=""/>
          <p:cNvPicPr/>
          <p:nvPr/>
        </p:nvPicPr>
        <p:blipFill>
          <a:blip r:embed="rId2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2" descr="http://www.bndestem.nl/polopoly_fs/1.3574163.1356073978!/image/image.jpg_gen/derivatives/portrait_600_800/image-3574163.jpg"/>
          <p:cNvPicPr/>
          <p:nvPr/>
        </p:nvPicPr>
        <p:blipFill>
          <a:blip r:embed="rId3"/>
          <a:stretch/>
        </p:blipFill>
        <p:spPr>
          <a:xfrm>
            <a:off x="5580000" y="2041560"/>
            <a:ext cx="2886120" cy="38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1976040" y="5475240"/>
            <a:ext cx="6883560" cy="371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86" name="Picture 2" descr="https://pbs.twimg.com/media/B0mxEBSIMAAv_TD.jpg"/>
          <p:cNvPicPr/>
          <p:nvPr/>
        </p:nvPicPr>
        <p:blipFill>
          <a:blip r:embed="rId1"/>
          <a:stretch/>
        </p:blipFill>
        <p:spPr>
          <a:xfrm>
            <a:off x="0" y="-316080"/>
            <a:ext cx="5184720" cy="731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Een </a:t>
            </a:r>
            <a:r>
              <a:rPr b="1" lang="nl-NL" sz="2700" spc="-1" strike="noStrike">
                <a:solidFill>
                  <a:srgbClr val="000000"/>
                </a:solidFill>
                <a:latin typeface="Lucida Sans Unicode"/>
              </a:rPr>
              <a:t>stereotype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 is een overdreven beeld van een groep mensen dat vaak niet (volledig) overeenkomt met de werkelijkheid. 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8" name="Titel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389" name="Afbeelding 3" descr=""/>
          <p:cNvPicPr/>
          <p:nvPr/>
        </p:nvPicPr>
        <p:blipFill>
          <a:blip r:embed="rId2"/>
          <a:stretch/>
        </p:blipFill>
        <p:spPr>
          <a:xfrm>
            <a:off x="1042920" y="2924280"/>
            <a:ext cx="4969080" cy="3000240"/>
          </a:xfrm>
          <a:prstGeom prst="rect">
            <a:avLst/>
          </a:prstGeom>
          <a:ln w="0">
            <a:noFill/>
          </a:ln>
        </p:spPr>
      </p:pic>
      <p:pic>
        <p:nvPicPr>
          <p:cNvPr id="390" name="Afbeelding 4" descr=""/>
          <p:cNvPicPr/>
          <p:nvPr/>
        </p:nvPicPr>
        <p:blipFill>
          <a:blip r:embed="rId3"/>
          <a:stretch/>
        </p:blipFill>
        <p:spPr>
          <a:xfrm>
            <a:off x="663480" y="1641600"/>
            <a:ext cx="5327640" cy="52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Lucida Sans Unicode"/>
              </a:rPr>
              <a:t>Wat is antisemitisme?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 u="sng">
                <a:solidFill>
                  <a:srgbClr val="ff8119"/>
                </a:solidFill>
                <a:uFillTx/>
                <a:latin typeface="Lucida Sans Unicode"/>
                <a:hlinkClick r:id="rId1"/>
              </a:rPr>
              <a:t>http://nos.nl/artikel/2028879-kwetsende-spreekkoren-bij-fc-utrecht-ajax.htm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2" name="Titel 2" descr=""/>
          <p:cNvPicPr/>
          <p:nvPr/>
        </p:nvPicPr>
        <p:blipFill>
          <a:blip r:embed="rId2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Lucida Sans Unicode"/>
              </a:rPr>
              <a:t>Wat betekent antisemitisme?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Lucida Sans Unicode"/>
              </a:rPr>
              <a:t>Anti = tegen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Lucida Sans Unicode"/>
              </a:rPr>
              <a:t>Semitisme = Semieten = Joden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Lucida Sans Unicode"/>
              </a:rPr>
              <a:t>Dus: tegen de Joden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4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Lucida Sans Unicode"/>
              </a:rPr>
              <a:t>Ken je voorbeelden van antisemitisme uit de geschiedenis?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Lucida Sans Unicode"/>
              </a:rPr>
              <a:t>………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6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Lucida Sans Unicode"/>
              </a:rPr>
              <a:t>Ken je een voorbeeld uit de Bijbel?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Lucida Sans Unicode"/>
              </a:rPr>
              <a:t>……………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Lucida Sans Unicode"/>
              </a:rPr>
              <a:t>Daniël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Lucida Sans Unicode"/>
              </a:rPr>
              <a:t>Esther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8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8T10:57:49Z</dcterms:created>
  <dc:creator>Nuborgh College</dc:creator>
  <dc:description/>
  <dc:language>en-US</dc:language>
  <cp:lastModifiedBy>Windows-gebruiker</cp:lastModifiedBy>
  <dcterms:modified xsi:type="dcterms:W3CDTF">2016-04-06T08:27:14Z</dcterms:modified>
  <cp:revision>14</cp:revision>
  <dc:subject/>
  <dc:title>Antisemitisme</dc:title>
</cp:coreProperties>
</file>