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FA405-D525-4641-AA14-2EBC3D964A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Peilen wat de reacties zijn en deze op bord schrijv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ervolgens foto en filmpje laten zien. Let op: meestal lange reclame voor het filmpj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ventueel kan nog deze film (4 min.) bekeken worden: vooroordelen over homo’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schooltv.nl/video/help-een-homo-in-de-klas-vooroordelen-over-homoseksualiteit/#q=vooroordel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D35-AA5A-46EA-AB51-E1C74402A174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ierbij de vraag stellen: oordeel jij wel ee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9C77-D04F-403B-BF37-42DC9986D27B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ijdelijke aanduiding voor dianumm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72DC-0637-4CFD-B791-D4BAEFB959C3}" type="slidenum">
              <a:rPr b="0" lang="nl-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C324-51A8-4A12-B8A2-10BFBFA7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40D-8813-4E42-A9F4-20E01676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71B0-7553-49E6-A4D2-2A62AF6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4DC6-685C-45FC-8271-6A4CE61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F3D7D-1DB6-4273-A9D6-B8B71F73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E160-E721-4681-9684-268E4191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B9AE-2EDE-4551-87C4-8C5C371D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ED73-87BD-4511-BFA0-55B9B967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07F8-36BE-4F57-8EA1-74CD1A0A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A76A8-82E1-4286-863C-03113A84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1F53-5CB1-481C-B8D6-49AE566A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0E7C-3381-4D89-92B6-67D66A40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988E9-D31C-4729-83C5-3FA0C90F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606C-8607-45A8-AD9B-5B6ACF59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32F7-9EAB-4AE0-BB84-CC41A41EA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737C7-A398-403C-A666-840ECC7BE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9085-0B11-48E4-9F00-002AB5D1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A3C9-EB51-4B33-94BC-7B2429144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11893-8C6C-4C5E-877E-10F27BF9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52AE1-DD3B-466D-9F63-3415D2EA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AAFDE-12AC-4300-A4D9-4A63422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8378C-E51F-4C8A-84F4-6C04B16E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AA06-6E9F-48AF-AF69-EB53C2F2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A688A-8E8B-472F-87B4-4B6AF643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DFF46-2531-45D4-8B08-6401A3F3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88E3-65D5-4130-99C4-6336A22A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68124-6888-4B8D-BE4C-6CCFF3EC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EC1C9-96B6-4A4E-93DC-72F85781E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462F-E091-46CC-A0B8-0107CAFA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F1F1-EDF3-4863-9BD3-AAD70006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E4A4B-0CB4-4BED-A4AB-561E6469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0B32-9EBB-4527-A54E-53A103714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5DFA6-6CDB-493B-8B56-E0EC85AA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A26-62AD-40BD-9FEA-96C1E132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C5C43-170C-4233-B572-3611E355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AE518-9066-4EE3-AFCF-4BAC69B7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CFBE0-1185-489E-9849-C3BC1E8F8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1DE0-322C-4EB6-8C4D-41F9207C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4DCA6-3E21-48EF-8DFA-E1DC50C4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2EEC2B-D93F-4ED7-BB7F-6254EA12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52E63-F453-42FF-B536-9B5BB574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0737-4646-48E4-8946-8F6AD193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290BE-BEBD-4AC2-9FE2-C3B4DF844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F01DD-A62E-4461-9C60-EEBCCF4D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8372-8EC4-4245-9297-14D101D9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A549A-002F-4B0B-B80B-3CF7CE6B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653F6-5F9D-43D9-BD27-16786AB8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F8ADC-D406-443F-BCDD-184D2A3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5AB99-BE6E-43E9-9A14-3D6CA0E6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CFD3E-8F2B-4561-A29A-2E3DECF18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DD2FB-44A9-4EF5-8463-DB7575F5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E48BF-C1E2-4868-8DDD-7ABCDB31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6BE417-025D-43BE-AE85-1E24D1EA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F8859-525B-4FCA-AF97-ED06068D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14A8F-454D-421F-929B-C5F46362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346D-600C-4B96-9568-D28DF457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70BB8-852F-442C-BE47-8662B5D2C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70E6FE-7B6E-429A-83C7-5F44D83AD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40E6C-F071-49A4-825D-562DB398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AA057-BDEF-4B89-9C40-7A1355BC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17373-7CF2-4CC4-87F7-018AD5BD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1D1E9-B3A8-42F0-98E7-B25EB443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0052D-4D6C-475B-AA48-9BD36668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7379A-BF37-4E97-BB56-FE5998D1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1D26-B6B0-4A66-B1B0-061EABA2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0223-9D0E-4CD5-976E-9674D2F2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572-5994-4232-82FB-6229BFB2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D2C5-26ED-4ACA-A099-3E45CDBA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96D2-CFE5-4AFA-AA88-39BACDAA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BAD04-D360-4918-9C2F-1A6E8A40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7DB82-6E25-4078-B88C-0DED1A7E1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214E8-D0E8-4A81-BF45-EA0EC6AB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431A0-524E-4A91-8AEA-E4626EF7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F7FFE3-9F87-4A14-94CF-B347E830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F31B3-6A94-4E7C-9135-715ABE929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483A-D49D-4A9F-8868-D2975E8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4ED8C-3B90-4322-9FC6-A07F3230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5A9-CA76-47F3-87B9-60FAADF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2949-53B1-4861-BEF5-2C5FF6D7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8A7E5-A772-4A8D-B852-6BD0BB33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CF8F5-DAA5-47F6-888E-2BA4B201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37B8E-49CB-4F91-8280-0E162C4E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A5B4A-1A0F-4941-87D4-8384F612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5D9EE-8740-4B2B-9531-BD11E841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227298-497F-4DFB-804C-2AD054FC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C24A05-D6E5-4701-B20C-C21CF76B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764B2-1E6F-4C41-9EC0-114D3F4F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CC952-0A17-4B71-9581-8AD74AFB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0D80-1C61-489D-AA92-BEE538EA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D8C65-DB0D-4E09-88CA-EC0F5F09E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B0471-D65C-4166-B06D-5C0A5474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DB9B8-358C-4B9B-A80E-F55CCA7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28536-DDCD-4D36-87E3-312CC072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E1ACE7-792E-4F42-A6FC-D709BBA5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5C179E-C79D-478B-9D4D-D7C11994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1D73C-A6B1-44E8-A913-ED09C09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5A3-ED10-4DC7-B950-AB3319E7C02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4640" y="5237640"/>
              <a:ext cx="9093240" cy="788400"/>
            </a:xfrm>
            <a:custGeom>
              <a:avLst/>
              <a:gdLst>
                <a:gd name="textAreaLeft" fmla="*/ 0 w 9093240"/>
                <a:gd name="textAreaRight" fmla="*/ 9093600 w 9093240"/>
                <a:gd name="textAreaTop" fmla="*/ 0 h 788400"/>
                <a:gd name="textAreaBottom" fmla="*/ 788760 h 7884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7CF-D98C-4A95-81C1-AF270B95EC82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5403-9C04-4B84-81D1-FCC76E48A2F9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5C2-DD48-4500-B2DD-E0C502F10087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FBBBF-B275-4F75-9465-EB6C49607750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A54B-31E4-4DB6-80DA-A4B9904F2395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B7CA-A110-4145-81E9-BA096613988F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D995-4E65-42BD-9BF7-A2C341CD866E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how.nl/video/clips/2015/fatima-moreira-de-melo-stuit-op-vooroordelen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nos.nl/artikel/2028879-kwetsende-spreekkoren-bij-fc-utrecht-ajax.html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Deze period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Bijbel: Esther: reader en film Esther kijken (toet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De geschiedenis: WOI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Joden in Elburg: huizen en Joodse begraafplaat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00000"/>
                </a:solidFill>
                <a:latin typeface="Lucida Sans Unicode"/>
              </a:rPr>
              <a:t>PO (presentatie) over Joodse Elburger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vooroordeel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een stereotyp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antisemitisme i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Wat discriminatie is (niet bespro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17320"/>
            <a:ext cx="822960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Vraag: hoe ziet Fatima Moreira de Melo erui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www.show.nl/video/clips/2015/fatima-moreira-de-melo-stuit-op-vooroordelen/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94680" indent="-662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http://www.bndestem.nl/polopoly_fs/1.3574163.1356073978!/image/image.jpg_gen/derivatives/portrait_600_800/image-3574163.jpg"/>
          <p:cNvPicPr/>
          <p:nvPr/>
        </p:nvPicPr>
        <p:blipFill>
          <a:blip r:embed="rId3"/>
          <a:stretch/>
        </p:blipFill>
        <p:spPr>
          <a:xfrm>
            <a:off x="5580000" y="2041560"/>
            <a:ext cx="2886120" cy="38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1976040" y="5475240"/>
            <a:ext cx="6883560" cy="37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86" name="Picture 2" descr="https://pbs.twimg.com/media/B0mxEBSIMAAv_TD.jpg"/>
          <p:cNvPicPr/>
          <p:nvPr/>
        </p:nvPicPr>
        <p:blipFill>
          <a:blip r:embed="rId1"/>
          <a:stretch/>
        </p:blipFill>
        <p:spPr>
          <a:xfrm>
            <a:off x="0" y="-316080"/>
            <a:ext cx="5184720" cy="731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Een </a:t>
            </a:r>
            <a:r>
              <a:rPr b="1" lang="nl-NL" sz="2700" spc="-1" strike="noStrike">
                <a:solidFill>
                  <a:srgbClr val="000000"/>
                </a:solidFill>
                <a:latin typeface="Lucida Sans Unicode"/>
              </a:rPr>
              <a:t>stereotype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 is een overdreven beeld van een groep mensen dat vaak niet (volledig) overeenkomt met de werkelijkheid.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Titel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Afbeelding 3" descr=""/>
          <p:cNvPicPr/>
          <p:nvPr/>
        </p:nvPicPr>
        <p:blipFill>
          <a:blip r:embed="rId2"/>
          <a:stretch/>
        </p:blipFill>
        <p:spPr>
          <a:xfrm>
            <a:off x="1042920" y="2924280"/>
            <a:ext cx="4969080" cy="3000240"/>
          </a:xfrm>
          <a:prstGeom prst="rect">
            <a:avLst/>
          </a:prstGeom>
          <a:ln w="0">
            <a:noFill/>
          </a:ln>
        </p:spPr>
      </p:pic>
      <p:pic>
        <p:nvPicPr>
          <p:cNvPr id="390" name="Afbeelding 4" descr=""/>
          <p:cNvPicPr/>
          <p:nvPr/>
        </p:nvPicPr>
        <p:blipFill>
          <a:blip r:embed="rId3"/>
          <a:stretch/>
        </p:blipFill>
        <p:spPr>
          <a:xfrm>
            <a:off x="663480" y="1641600"/>
            <a:ext cx="532764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Lucida Sans Unicode"/>
              </a:rPr>
              <a:t>Wat is antisemitisme?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://nos.nl/artikel/2028879-kwetsende-spreekkoren-bij-fc-utrecht-ajax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el 2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Wat betekent antisemitisme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Anti = teg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Semitisme = Semieten =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us: tegen de Jode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voorbeelden van antisemitisme uit de geschiedenis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Lucida Sans Unicode"/>
              </a:rPr>
              <a:t>Ken je een voorbeeld uit de Bijbel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……………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Daniël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Lucida Sans Unicode"/>
              </a:rPr>
              <a:t>Esther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Rectang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8T10:57:49Z</dcterms:created>
  <dc:creator>Nuborgh College</dc:creator>
  <dc:description/>
  <dc:language>en-US</dc:language>
  <cp:lastModifiedBy>Windows-gebruiker</cp:lastModifiedBy>
  <dcterms:modified xsi:type="dcterms:W3CDTF">2016-04-06T08:27:14Z</dcterms:modified>
  <cp:revision>14</cp:revision>
  <dc:subject/>
  <dc:title>Antisemitisme</dc:title>
</cp:coreProperties>
</file>