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5595-44AE-43B7-A67C-2D73250C17B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eilen wat de reacties zijn en deze op bord schrijv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volgens foto en filmpje laten zien. Let op: meestal lange reclame voor het filmpj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ventueel kan nog deze film (4 min.) bekeken worden: vooroordelen over homo’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schooltv.nl/video/help-een-homo-in-de-klas-vooroordelen-over-homoseksualiteit/#q=vooroor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26A6-33A2-4D3C-AFCC-18C864AE0BBF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ierbij de vraag stellen: oordeel jij wel ee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ED1A-9C67-4BE5-B978-4E6C5BD027B7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1BA6-D2DC-4951-824B-957D552F9030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CC3-6FA8-49A2-B386-025FBBE1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3A4-C9E5-4585-A9BF-F916E8D5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AEE-062C-4391-9DFB-717ECEF5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2466-C714-4432-914F-30B97FD7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051F-8E62-4E84-9124-90091780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644E-2C5B-400B-9335-6C558169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DD8D-2934-4940-971B-D188AA08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EDEB-1466-4CB5-B0DD-F360550F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C552-D63D-448E-A9C6-579DDC5E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9E30-C5B2-473D-8C8F-9EA263BD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5211-780C-4C9B-9140-0BBEE446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760-B3F4-41A2-91B8-E9D74DD1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086E-B921-4F23-8139-67F7762A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DA5F-98EE-4D0B-8A24-26594B88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B874-56BD-40C4-A30E-F4FAE694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D2DA-ABAE-4A43-8206-A7B755FC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8DC5-74C3-4D77-A35E-7F507AFB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32A3E-D7CC-4528-AF56-67C31B34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0A4F8-5783-4935-8B5D-9F7AC492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22A7F-6473-4214-92AF-7950A68E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77101-B24C-4975-AA4C-1336B38C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CF4A-189A-472B-9CBF-25A7BFA2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044-FC5F-4F1D-8813-1CF01297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89133-FF1C-4AC5-BD64-F53815C8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6F8D0-0138-46BD-AF70-9AEAC754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43452-A58A-48A5-A0BD-7BA6FDC6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12361-0269-4D83-AF89-8DC4FD40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0AAE9-579D-4555-A619-AE8A30B9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80194-5519-4B5D-BB38-D58CFD66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7F38-7A9B-46BD-90D2-6DA5E2BE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6A2C5-ACFC-4D37-9D41-152888CA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A2CB2-3151-4E30-AC23-975D3E76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BECD5-6AE2-464F-9808-3B0A3013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725-91BE-4165-9DE7-5EB91900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A4F19-A10A-492C-8021-5EF866EB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08BA9-7A56-4853-BEEE-C1DBBC43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99F8C-7CDF-4488-A293-827FFB1F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AB8D4-C367-4AE0-B448-EF26469C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962A2-6DFA-4BE3-8ABA-4D890244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8B7F6-7FB0-444D-981F-8068D5C2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B3076-8AC3-4E86-B280-BA91FA9A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6F24C-CE8A-4BB6-BDF7-02C535BA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90D8F-3DC9-470B-911D-C156B97F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A0155-F5DD-42A0-A604-EEC23629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408-7287-490E-AFA0-BE8DC5D2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F3A1D-A56A-47A7-AB62-E151DD07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E6AAE-0007-4C2D-AE8B-563FADDA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3F67B-6693-4028-A620-A3EB168E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64410-91D9-4F93-B16D-209511A6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B959C-A4FA-4A15-A63D-F8548D0D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3CB22-25A5-4FBE-B48F-94E06B21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9CA55-4071-4209-801B-2D8EE854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6BE22-4AC2-4AE0-82C1-AD2A01BA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32128-7778-4CE4-8302-4194BA99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D4E91-5737-489D-BF6E-BC6C58D3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A5A-2135-4A36-B67C-0BFADCC9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4AFD9-2EB7-4BBD-BC83-8952985F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5D088-865C-438C-A029-3605ADBF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B0F67-59CB-43D0-BE28-B9745BA5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4886D-907F-4CC2-B73B-465060F6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37809-D00C-44E5-AFEC-D60C6F6F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EDA28-7D66-4A90-A908-2EAC3606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9330D-7136-4F86-AA66-6577F550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DDFF3-BC1C-47A6-BEE4-8ECE4979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EDD7B-23FF-4435-8486-2C4AC49B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1B0B9-25E3-4D8B-9DA4-A02C970A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9B2-477D-424F-B42C-A79F0D64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9404D-7851-4817-9137-D3E81AC2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94CD7-C5EC-46F9-B53B-FA215F5E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D2187-4F2F-4A34-9E19-EF85DA9B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D98D9-ED17-4209-A0A3-B8EBE257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AC788-5A73-41CD-967E-D947E27D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7BA06-B2FB-4735-A775-314266A1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ECF33-A9FB-4C8D-B69E-F8BCAC8C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98B8A-8005-4C7C-96FB-A966168C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CB9CA-AAF4-4BE5-A8D2-6F1D67B2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6210A-C2FF-43EC-8140-DA188D94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496-C972-4F43-B4ED-5A620B19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5A58A-C8CF-4A40-A59D-F983FD30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8B3E8-FA27-486A-9A5F-7EB78B6D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80BE2-84DF-4CE7-A4CF-71013CF2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F3B8B-15E7-4F65-97DB-AE8F1FAD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5202F-F705-454F-9E8A-4C82A906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49E16-9307-487B-BA84-D50FE469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0A4E3-466A-4F22-B038-ED0D1A2C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30699-9B19-41FA-A8CA-9067C756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F4802-81EF-43B8-80F6-F2E49521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E8DD7-C056-4E00-AFC7-7C39288F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7526-3C61-4483-906D-0CB22FBE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7CECA-649D-47DC-9573-82BE79DC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E33A1-380B-4769-A758-2E3EAED6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365B1-73DF-4914-8BBC-6835A5FD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EBB0D-7A73-4580-8760-AFF1C95B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6E566-B829-4A24-BAD8-090E7C4D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789F6-3DE1-4016-AF8B-A7F09517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3EA99-2FAB-4CB8-8EFE-1A0F1096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3056-DF04-4CD3-82AB-3A8E62D04FD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DB6E-6257-44D8-99DA-B8CB608FF125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B96D-25F7-4E34-8E1D-4B63D2088E4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AEFC-828D-42FB-AD64-E8BADD7A3C4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9BB5-F1DD-4EA5-ADAF-C7A3EB434A7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6D6F-8BF7-42C8-B52C-32FBA340887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D184-5A37-47B2-9DA7-73178623DA8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E41F-1685-4E29-8DCD-55EA8DD5CE5C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how.nl/video/clips/2015/fatima-moreira-de-melo-stuit-op-vooroordelen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os.nl/artikel/2028879-kwetsende-spreekkoren-bij-fc-utrecht-ajax.html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ze perio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Bijbel: Esther: reader en film Esther kijken (toet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geschiedenis: WOI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Joden in Elburg: huizen en Joodse begraafplaat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 (presentatie) over Joodse Elburger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vooroordeel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stereotyp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antisemitism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discriminatie is (niet bespro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1732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: hoe ziet Fatima Moreira de Melo erui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how.nl/video/clips/2015/fatima-moreira-de-melo-stuit-op-vooroordelen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://www.bndestem.nl/polopoly_fs/1.3574163.1356073978!/image/image.jpg_gen/derivatives/portrait_600_800/image-3574163.jpg"/>
          <p:cNvPicPr/>
          <p:nvPr/>
        </p:nvPicPr>
        <p:blipFill>
          <a:blip r:embed="rId3"/>
          <a:stretch/>
        </p:blipFill>
        <p:spPr>
          <a:xfrm>
            <a:off x="5580000" y="2041560"/>
            <a:ext cx="288612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976040" y="5475240"/>
            <a:ext cx="688356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2" descr="https://pbs.twimg.com/media/B0mxEBSIMAAv_TD.jpg"/>
          <p:cNvPicPr/>
          <p:nvPr/>
        </p:nvPicPr>
        <p:blipFill>
          <a:blip r:embed="rId1"/>
          <a:stretch/>
        </p:blipFill>
        <p:spPr>
          <a:xfrm>
            <a:off x="0" y="-316080"/>
            <a:ext cx="5184720" cy="73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 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tereotyp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 is een overdreven beeld van een groep mensen dat vaak niet (volledig) overeenkomt met de werkelijkheid.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9" name="Afbeelding 3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4969080" cy="3000240"/>
          </a:xfrm>
          <a:prstGeom prst="rect">
            <a:avLst/>
          </a:prstGeom>
          <a:ln w="0">
            <a:noFill/>
          </a:ln>
        </p:spPr>
      </p:pic>
      <p:pic>
        <p:nvPicPr>
          <p:cNvPr id="390" name="Afbeelding 4" descr=""/>
          <p:cNvPicPr/>
          <p:nvPr/>
        </p:nvPicPr>
        <p:blipFill>
          <a:blip r:embed="rId3"/>
          <a:stretch/>
        </p:blipFill>
        <p:spPr>
          <a:xfrm>
            <a:off x="663480" y="1641600"/>
            <a:ext cx="53276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Lucida Sans Unicode"/>
              </a:rPr>
              <a:t>Wat is antisemitisme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nos.nl/artikel/2028879-kwetsende-spreekkoren-bij-fc-utrecht-ajax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Wat betekent antisemitisme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Anti = teg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Semitisme = Semieten =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us: tegen de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voorbeelden van antisemitisme uit de geschiedeni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een voorbeeld uit de Bijbel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anië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Esth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0:57:49Z</dcterms:created>
  <dc:creator>Nuborgh College</dc:creator>
  <dc:description/>
  <dc:language>en-US</dc:language>
  <cp:lastModifiedBy>Windows-gebruiker</cp:lastModifiedBy>
  <dcterms:modified xsi:type="dcterms:W3CDTF">2016-04-06T08:27:14Z</dcterms:modified>
  <cp:revision>14</cp:revision>
  <dc:subject/>
  <dc:title>Antisemitisme</dc:title>
</cp:coreProperties>
</file>