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E2E7-922A-4C64-A7AD-97F14E9BD3E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eilen wat de reacties zijn en deze op bord schrij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volgens foto en filmpje laten zien. Let op: meestal lange reclame voor het filmp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ventueel kan nog deze film (4 min.) bekeken worden: vooroordelen over homo’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schooltv.nl/video/help-een-homo-in-de-klas-vooroordelen-over-homoseksualiteit/#q=vooroor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6870-A51F-4B30-9B7F-98BAB399DA8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ierbij de vraag stellen: oordeel jij wel ee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E811-26A6-459B-B9A4-A7E8C8DA1D0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8B5B-E600-4670-AEA6-2150270D6C1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44A-D97D-4903-BB41-85B05E1E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261-B689-4B4D-9C05-60AB1BC1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07C-4A36-4A9C-B00D-229D3254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459-6367-4926-90B8-9EC2243A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4C3F-0476-4EFB-8F33-3597F2F1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DC82-3A65-46D4-ABC2-27C887BE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92D4-E88D-44B3-A2BD-A6B02BB8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4BD4-7744-47B6-A2F5-051A55BD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47FF-F630-407F-A36C-E3AB97A7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69DA-9871-4EA8-AD90-D9DF27B1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2667-4410-4BD8-B60A-2ADFF7E2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D64-E450-4DC3-AC70-F9C4B355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2410-CDBC-46E1-941A-0A840288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ECAE-6172-4B0E-87BB-41505952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7EC9-15DA-454F-9BF5-46A49046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D772-BB0D-49BF-957B-E168467D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00ED-07F1-4CE2-BCE9-17AC9B84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A816-4CF4-4872-8496-325C42F4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BBFE-A6E8-4728-82EC-A670D826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D7A9-EE45-4B3A-9CF2-FEED02A8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8D839-E7D7-46D8-AA14-B0462E3A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0CF8-C9FD-491B-9638-2C3EBBBE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15C-0284-4B62-923B-C24F6188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7C7C2-ED80-4C2D-A259-BC7BF9E9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7275-4791-4182-9ABC-FDBED41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A930-6D02-41CD-A421-FFAEAC5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6E0F-45BA-4158-B847-59E88B96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EAF3-1D88-4210-AC10-33AB588C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0A97-6708-4019-ADCB-AF572FE2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7BCA-8CD0-4AEA-954D-84475328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D45A2-7601-45E6-88C3-83F4829E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D9DD-FDF2-4F25-B2D8-1CBD4F66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DE4C-D9C8-4C12-A2B9-17931ABF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4AD-177F-4195-9228-A35DBE31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1B81-F147-437C-9152-EEEC8246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565E-2A59-411D-8B8B-25AB4207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F01ED-B2D5-4C45-AE0D-F893EDFF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2E54-0202-40FB-8DCC-9FD5751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1C30-677E-415F-B518-23681E59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A44C-97DD-40CC-B2DF-A6233CFE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5C3B-8F4E-4E5E-9A8A-F75F6A91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18E8-1DC1-4A99-AB98-EE82ED0A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36A2-8926-4180-9F71-ED0AB07C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5AE69-6165-4C5B-9DA3-F1772422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709-CDC5-4916-A7B7-8E46B418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7EDAB-FC88-43AD-BDE2-1B384BFD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D4B5F-AA15-4CCA-B05C-3B590367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1773-98EF-41A5-93E7-E1C06A7D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5E71B-61DA-41AF-9311-CA5041D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28A54-55EA-4A77-8964-0F5F0E7D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D27EA-0B59-4081-9723-BC1C91F7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1480-35F2-4C9F-96D1-44EEBFE9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64A3B-7A31-4A7F-BECC-7B1B165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09FA7-573A-4B89-872D-A7E96EC9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02043-C875-40E7-91A0-B640D393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233-CFFD-4FE8-8445-498C9579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8D3D8-FD81-473B-BDC3-BA18100A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428D2-8A31-48EB-823D-D1AFA155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A7101-70E0-418B-8AE2-298CBB1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E2F5-58F1-4C66-8AD1-5E60A070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C171C-BC6E-42BD-86F4-93CDCA42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3DE63-6B29-43CF-88AF-9B4BA808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728EB-28D3-473A-9218-92346EA4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C9D6A-C10F-4592-8BE1-92DD377B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B084C-AE3F-4396-84B2-026DF9B9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40F15-6CDB-419B-9177-867FCEDC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C2E-D502-4CCB-8D35-D6336276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CDE3D-AD62-4F3B-9B2B-D2E7246E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7B253-2412-497F-91B0-546C31A6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67923-61B8-43DC-97BB-63F5657F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0CC71-A6AF-477E-A453-92EAFD13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DE73F-9045-4549-AC13-9AF4A19B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512FC-B2FD-42C5-BBD4-B4EA5819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3FA18-B91A-4636-977A-34AD332A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71525-C71C-404F-AE86-3411F00A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8CB2-06B1-433B-8D1C-BAEEA1DB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F6AE5-0BCF-4233-A300-CC9DCCD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CE2-8BEA-4DE5-B0D2-0F97DAD8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66D39-D5D1-4712-A9CC-B6EE42BB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C3B8-E1BA-46E2-860A-6D53FDE7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FB71E-8355-499E-9B7A-B4394A70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B38F-1CCF-4D33-98DD-1FC3E2D2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E6720-1B2B-4DF5-B2E8-C3DCAAFB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EA7A1-6E77-4783-8163-5FC4B745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2AD24-F380-46CD-BEBB-17A5BF38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F44F7-F691-4ACC-B65E-8DA4E328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735E5-2585-498E-9487-25FE2F08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E0FB6-B599-43FF-B661-5AF68BD5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2AD-53AA-4FEA-8A63-7567CE6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D73E9-A42A-4715-89FF-6732574F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BE498-E97D-48C4-B8E5-AD2C242F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ACD2D-B2A2-4BF5-AE33-51EE8B7A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6F825-181B-45ED-911D-F26E9DD1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712BD-4872-4D37-8B99-CFB5D12B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189B7-12EC-471F-B02B-4DB6A21F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E9B10-740C-44AF-96AB-606413F6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FC37-72F8-4B79-8E9E-A023BD5EECC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2357-343C-4A72-988A-6E75A5F1BA8D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A940-93BF-482B-8F51-9E7FAB37A86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9737-D1A3-4818-AB1C-B93CDA54D63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A3C6-AE7D-49F0-ACB7-22F9CF320A5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78C3-707B-40E5-A4F8-72DD60592C4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D378-220A-40C6-929D-E4D0144A9B4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DE77-48ED-44E0-9183-E119F1F8BC3F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ow.nl/video/clips/2015/fatima-moreira-de-melo-stuit-op-vooroordelen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s.nl/artikel/2028879-kwetsende-spreekkoren-bij-fc-utrecht-ajax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perio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Bijbel: Esther: reader en film Esther kijken (toe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geschiedenis: WO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Joden in Elburg: huizen en Joodse begraafplaa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 (presentatie) over Joodse Elburge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vooroordeel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stereotyp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antisemitism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discriminatie is (niet bespro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17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: hoe ziet Fatima Moreira de Melo erui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how.nl/video/clips/2015/fatima-moreira-de-melo-stuit-op-vooroordelen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bndestem.nl/polopoly_fs/1.3574163.1356073978!/image/image.jpg_gen/derivatives/portrait_600_800/image-3574163.jpg"/>
          <p:cNvPicPr/>
          <p:nvPr/>
        </p:nvPicPr>
        <p:blipFill>
          <a:blip r:embed="rId3"/>
          <a:stretch/>
        </p:blipFill>
        <p:spPr>
          <a:xfrm>
            <a:off x="5580000" y="2041560"/>
            <a:ext cx="28861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76040" y="5475240"/>
            <a:ext cx="68835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https://pbs.twimg.com/media/B0mxEBSIMAAv_TD.jpg"/>
          <p:cNvPicPr/>
          <p:nvPr/>
        </p:nvPicPr>
        <p:blipFill>
          <a:blip r:embed="rId1"/>
          <a:stretch/>
        </p:blipFill>
        <p:spPr>
          <a:xfrm>
            <a:off x="0" y="-316080"/>
            <a:ext cx="518472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 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tereotyp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 is een overdreven beeld van een groep mensen dat vaak niet (volledig) overeenkomt met de werkelijkheid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Afbeelding 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4969080" cy="3000240"/>
          </a:xfrm>
          <a:prstGeom prst="rect">
            <a:avLst/>
          </a:prstGeom>
          <a:ln w="0">
            <a:noFill/>
          </a:ln>
        </p:spPr>
      </p:pic>
      <p:pic>
        <p:nvPicPr>
          <p:cNvPr id="390" name="Afbeelding 4" descr=""/>
          <p:cNvPicPr/>
          <p:nvPr/>
        </p:nvPicPr>
        <p:blipFill>
          <a:blip r:embed="rId3"/>
          <a:stretch/>
        </p:blipFill>
        <p:spPr>
          <a:xfrm>
            <a:off x="663480" y="1641600"/>
            <a:ext cx="5327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Wat is antisemitism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nos.nl/artikel/2028879-kwetsende-spreekkoren-bij-fc-utrecht-aja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Wat betekent antisemitism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Anti = teg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Semitisme = Semieten =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us: tegen de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voorbeelden van antisemitisme uit de geschiedeni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een voorbeeld uit de Bijbel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anië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sth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0:57:49Z</dcterms:created>
  <dc:creator>Nuborgh College</dc:creator>
  <dc:description/>
  <dc:language>en-US</dc:language>
  <cp:lastModifiedBy>Windows-gebruiker</cp:lastModifiedBy>
  <dcterms:modified xsi:type="dcterms:W3CDTF">2016-04-06T08:27:14Z</dcterms:modified>
  <cp:revision>14</cp:revision>
  <dc:subject/>
  <dc:title>Antisemitisme</dc:title>
</cp:coreProperties>
</file>