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A819F-1AB9-4CB2-9534-7B08234DF66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Peilen wat de reacties zijn en deze op bord schrijve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ervolgens foto en filmpje laten zien. Let op: meestal lange reclame voor het filmpj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Eventueel kan nog deze film (4 min.) bekeken worden: vooroordelen over homo’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schooltv.nl/video/help-een-homo-in-de-klas-vooroordelen-over-homoseksualiteit/#q=vooroordel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480F0-F53C-4EE1-92E4-B9A6FDB96DBF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ierbij de vraag stellen: oordeel jij wel een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424D9-43AA-4717-958F-E65427E86A41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59803-89DB-4B92-9275-F6AEA13B79F8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BEEF-EBC6-4894-A6E8-4FE01AE77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9C15-3B46-479E-ABA1-529C1E617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0DE3-6E0F-4F9C-9D89-D38FDC757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8F7B-2419-462D-A35A-0C825C012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D478B-679F-4491-A5D4-E77CBEE4C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EC860-B80D-4A6F-ADAC-DCD8471E9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CAA62-6B6F-4620-94CC-CF00210E1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6FC8E-EA83-4B9C-B38D-1377EE154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0B194-76A1-42CC-ABEA-EA2027A20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5BB9F-D193-4FBD-BCC7-F6D275D5F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C52F7-D8CF-4E97-BB90-64056921B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626A-A0FA-4E97-81B1-20FF6B553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A0505-8BC2-4BE2-9731-590DA129C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17716-A65C-4F49-8E0D-B3AF1989B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7D3FC-3C14-497F-9064-7837A4BC2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F590B-5CEA-4B9F-ADD7-BB7C60446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DDF7D-B2EE-4207-9F83-FA9AD0535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AA1E2-6921-4FDE-82E4-C027D91A3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36CAD-CA15-40EE-8ECE-3A9DE74BE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A64C6-86AB-42E7-B421-A43539DEE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7B616-D94D-41A3-8BCD-E916393C6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498CF-C074-48C7-BF44-236A43468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B30F-DA9E-4051-BCDE-E08AAD918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F5345-E322-4139-86B3-C5CE1A1F2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27A34-6378-4A00-A30D-6D47CC143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45F28-BF33-4EE8-9FAD-065390336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A6C1C-A9F5-4C33-AA40-6CC3645B2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317FD-C03D-4888-BF03-46AA7AC5D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11733-2BC1-4849-922F-C51BC4480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97E8B-EE23-4694-90D3-46396ADFE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09E6C-B182-4FD6-881E-FB5DB18EC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6D47B-0A42-4ACE-B08D-7D439D884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7E2EB-D612-439F-A97F-2C0058AD3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DAE0-3E56-4CBF-8861-068D3B5E0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08C21-A814-48B2-9FA6-A2C325839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C8C4C-6BF2-41AD-AAF2-E6B18A097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DDC68-FF74-4C9D-8F96-8577B8DAE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A0C30-4AA6-41A6-A43A-5DE5E7D4B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EA9FF-638C-47D6-A39D-632A15975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B5064-7CEF-452C-A824-B0B40FF41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55E27-2C75-4752-B63B-56B234D27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93FFD-802D-4D3B-A115-F785460D0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6E0A9-D064-496B-9CC7-2A06AB49E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F0E0E1-630C-411A-823F-B48CE9C99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7DBF-A6C0-40C8-B97C-5D5E0990C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8BFB7C-0421-45CA-A34B-A4B167823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DABEC2-A6B7-4034-877E-DD9395461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254781-522E-4193-AE4C-5EAAB2DA5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967179-B9FC-45E7-96E8-96C4629BD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77FD6C-C108-4BC9-AB44-DBE65F238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282E14-1E0F-4AE3-85D9-A2D17FAC5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667A69-9A3F-4F4F-92A4-844D2DB5C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8B8E94-1385-4441-A42D-008C7E55B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3CECCB-17F9-4026-AC25-51171FD74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7C2CED-8FE4-47B3-8894-A0928BFE8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116B-957F-4F8D-B251-E6E686C5D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DF79FD-996A-4AB3-A2E6-463ED04FF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59AE73-2C92-4F09-90FC-371467793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D71831-C5CD-4B26-833D-EC6D880E4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06A44B-5BF8-46FC-BB53-AC174F4AB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4A2DAA-A8CD-41E3-8685-E36724D22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96FD04-0AFB-4314-91B0-B80FAF959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404454-98E2-4675-970F-87704A25A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A83312-A0DE-4E6D-8B5B-22B9D7DC9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D3294E-BC36-40F2-816C-34059ECBD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66DBBF-FF23-405F-AB6B-FEA0B50A0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4F8C-475C-4334-A473-39DA5B87E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00F565-676C-4D90-8C40-10C4ABCFF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78935A-0AD4-44FA-B5AB-282EB7E0A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4DDE54-0FBA-4D09-AA31-22C44B3AD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374C84-ACC3-4944-AA9F-75F7FB0F8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23D33B-ECF4-45EC-AF04-048E9E32C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1B42C5-20D2-41C1-94CF-7778F225E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1A5C4B-E172-4288-9EF3-43D222360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E842FB-FF55-456A-B83D-EAD4E4FC9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8F296B-72DE-41EB-953F-6CB6D0761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8A4205-AEDA-46C1-A531-63BBD7942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4DA8-AE45-4349-A196-B14AB025A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4DF44A-591D-4CFE-83AD-29C18A67B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86B89A-158D-4818-B011-664C4C0AC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6003F7-981C-483B-A342-9B9727CA0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A2C751-8EA3-4A21-B0FE-46CA1890D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7658AF-8E7E-425E-B984-B64EC1723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7E9496-3284-40ED-AE29-E7C4E52E5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D8FE4B-22AF-49C3-83C3-EFF533389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D10746-4BED-4833-BD9B-D5B3805BB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942443-E331-4136-ADEC-665BA2B6F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A02031-7554-411C-BB98-6912C1451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35AE-5884-416B-91D9-E282224B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5BE55D-8E1A-485C-8BA8-17F5C2354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035450-9DF3-44CA-AC90-C32812A64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120031-C159-4D74-AF55-364D3580A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B08CA8-48A3-482A-92FB-59762A297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D5E4D5-3E39-432B-A83D-8C7C300F1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454D98-405A-450E-B49B-9AC315E38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95E471-5FA5-49DF-9BF0-49348223E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A5B27-31CD-4766-88F4-0E863DA19116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4640" y="5237640"/>
              <a:ext cx="9093240" cy="788400"/>
            </a:xfrm>
            <a:custGeom>
              <a:avLst/>
              <a:gdLst>
                <a:gd name="textAreaLeft" fmla="*/ 0 w 9093240"/>
                <a:gd name="textAreaRight" fmla="*/ 9093600 w 909324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F773E-3D96-4EEF-99EA-1B7154780080}" type="slidenum">
              <a:rPr b="0" lang="nl-N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F562A-925D-4405-9FB3-DB5ECA0C3BCF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7A098-56B6-415A-B194-2BCBCD57F791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E9ACE-E841-4A1A-90FD-050289E74F21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0CD43-F324-4F3E-84ED-1826A9EA2300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7053F-A462-4270-9D67-6746D8770295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3FC7E-9BD1-4C79-8690-47F71787E7ED}" type="slidenum">
              <a:rPr b="0" lang="nl-N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how.nl/video/clips/2015/fatima-moreira-de-melo-stuit-op-vooroordelen/" TargetMode="External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nos.nl/artikel/2028879-kwetsende-spreekkoren-bij-fc-utrecht-ajax.html" TargetMode="Externa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ze periode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De Bijbel: Esther: reader en film Esther kijken (toets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De geschiedenis: WOII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Joden in Elburg: huizen en Joodse begraafplaats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PO (presentatie) over Joodse Elburgers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at een vooroordeel i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at een stereotype i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at antisemitisme i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at discriminatie is (niet besproken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17320"/>
            <a:ext cx="8229600" cy="12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6000"/>
          </a:bodyPr>
          <a:p>
            <a:pPr marL="94680" indent="-662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raag: hoe ziet Fatima Moreira de Melo eruit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94680" indent="-662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94680" indent="-662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94680" indent="-662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94680" indent="-662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94680" indent="-662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94680" indent="-662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94680" indent="-662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94680" indent="-662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94680" indent="-662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://www.show.nl/video/clips/2015/fatima-moreira-de-melo-stuit-op-vooroordelen/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94680" indent="-662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94680" indent="-662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el 2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2" descr="http://www.bndestem.nl/polopoly_fs/1.3574163.1356073978!/image/image.jpg_gen/derivatives/portrait_600_800/image-3574163.jpg"/>
          <p:cNvPicPr/>
          <p:nvPr/>
        </p:nvPicPr>
        <p:blipFill>
          <a:blip r:embed="rId3"/>
          <a:stretch/>
        </p:blipFill>
        <p:spPr>
          <a:xfrm>
            <a:off x="5580000" y="2041560"/>
            <a:ext cx="2886120" cy="38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1976040" y="5475240"/>
            <a:ext cx="6883560" cy="37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86" name="Picture 2" descr="https://pbs.twimg.com/media/B0mxEBSIMAAv_TD.jpg"/>
          <p:cNvPicPr/>
          <p:nvPr/>
        </p:nvPicPr>
        <p:blipFill>
          <a:blip r:embed="rId1"/>
          <a:stretch/>
        </p:blipFill>
        <p:spPr>
          <a:xfrm>
            <a:off x="0" y="-316080"/>
            <a:ext cx="5184720" cy="731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Een 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stereotype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 is een overdreven beeld van een groep mensen dat vaak niet (volledig) overeenkomt met de werkelijkheid.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389" name="Afbeelding 3" descr=""/>
          <p:cNvPicPr/>
          <p:nvPr/>
        </p:nvPicPr>
        <p:blipFill>
          <a:blip r:embed="rId2"/>
          <a:stretch/>
        </p:blipFill>
        <p:spPr>
          <a:xfrm>
            <a:off x="1042920" y="2924280"/>
            <a:ext cx="4969080" cy="3000240"/>
          </a:xfrm>
          <a:prstGeom prst="rect">
            <a:avLst/>
          </a:prstGeom>
          <a:ln w="0">
            <a:noFill/>
          </a:ln>
        </p:spPr>
      </p:pic>
      <p:pic>
        <p:nvPicPr>
          <p:cNvPr id="390" name="Afbeelding 4" descr=""/>
          <p:cNvPicPr/>
          <p:nvPr/>
        </p:nvPicPr>
        <p:blipFill>
          <a:blip r:embed="rId3"/>
          <a:stretch/>
        </p:blipFill>
        <p:spPr>
          <a:xfrm>
            <a:off x="663480" y="1641600"/>
            <a:ext cx="5327640" cy="52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Lucida Sans Unicode"/>
              </a:rPr>
              <a:t>Wat is antisemitisme?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://nos.nl/artikel/2028879-kwetsende-spreekkoren-bij-fc-utrecht-ajax.htm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Titel 2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Lucida Sans Unicode"/>
              </a:rPr>
              <a:t>Wat betekent antisemitisme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Lucida Sans Unicode"/>
              </a:rPr>
              <a:t>Anti = tege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Lucida Sans Unicode"/>
              </a:rPr>
              <a:t>Semitisme = Semieten = Joden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Lucida Sans Unicode"/>
              </a:rPr>
              <a:t>Dus: tegen de Joden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Lucida Sans Unicode"/>
              </a:rPr>
              <a:t>Ken je voorbeelden van antisemitisme uit de geschiedenis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Lucida Sans Unicode"/>
              </a:rPr>
              <a:t>………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Lucida Sans Unicode"/>
              </a:rPr>
              <a:t>Ken je een voorbeeld uit de Bijbel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Lucida Sans Unicode"/>
              </a:rPr>
              <a:t>……………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Lucida Sans Unicode"/>
              </a:rPr>
              <a:t>Daniël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Lucida Sans Unicode"/>
              </a:rPr>
              <a:t>Esther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8T10:57:49Z</dcterms:created>
  <dc:creator>Nuborgh College</dc:creator>
  <dc:description/>
  <dc:language>en-US</dc:language>
  <cp:lastModifiedBy>Windows-gebruiker</cp:lastModifiedBy>
  <dcterms:modified xsi:type="dcterms:W3CDTF">2016-04-06T08:27:14Z</dcterms:modified>
  <cp:revision>14</cp:revision>
  <dc:subject/>
  <dc:title>Antisemitisme</dc:title>
</cp:coreProperties>
</file>