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D7FEB4F-06CF-4565-88F7-015F4B029B86}" type="datetime">
              <a:rPr b="0" lang="nl-NL" sz="1300" spc="-1" strike="noStrike">
                <a:solidFill>
                  <a:srgbClr val="000000"/>
                </a:solidFill>
                <a:latin typeface="Calibri"/>
                <a:ea typeface="Arial"/>
              </a:rPr>
              <a:t>30-07-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8280" rIns="98280" tIns="48960" bIns="489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19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20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6A223CB-5CCF-44B9-B71B-309572CD2A75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4283A08-A463-4F01-8299-CB51382E07AC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A306774-1AF9-4861-A320-022C7AA84E86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A0A9DA3-FB7A-46FD-837F-007A3541A093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376-4F8E-4F5D-BBBA-54E10656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DC2-8E7F-4C94-8F17-86D106A4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A95-1789-41D7-9375-354E4CC8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6C5-BFE2-4B61-8FB1-C8B153F1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4DB3-834E-4D59-BD17-B1CA469A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915C-D369-4E2E-9183-4239D9F5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DA2D-F8D9-4C93-A3F7-23BB3D23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CC0E-1C21-4A48-967D-7D96ED0B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3EDB-D8E3-4D41-81D7-B866CF72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E1D5-F9A2-4864-9288-75BCC332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2415-1CA9-405A-8E07-9D3C12C0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D7B-B77B-4FEA-8F2E-EA61ED20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CBD2-05DE-47C4-9FCE-FBB96EFD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251E-9D17-4617-BD31-F2136E15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1351-BE61-4260-8CE4-FA4E63C3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10B4-33BF-4EAB-B3FC-7B379779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EA7F-080B-410C-9271-F01C7C5A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4091-B39B-4D38-A5B4-02C00C05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CCA9-B70B-4248-9219-267F3D40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3849-D8C9-412D-B441-BEFD745D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DF2F-33D9-4179-BEA4-C778E415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485B-E3D3-47E2-B677-693C16B1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884-5FD0-4A77-9425-A0E711DA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0962-5E37-488B-BE82-0DEABD04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648C-2B54-4553-A5EC-3C8A9DC1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9910-571F-48D0-8F93-4DC9D41A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B99D-CE11-4A62-85E0-A3B4B8C8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66DA-CC0E-463F-894F-DFEF056D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CEC9-0F35-4A5C-98AB-AFCD3899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D005-6985-4702-9EE0-061804C9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B7798-B9D7-4269-B193-F73E492C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54B3A-C9BE-45C4-AC90-6FF922A8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F200-B190-4E05-B2FD-39E8192B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C73-E779-48FE-9507-B1F7B585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6429D-623F-43AB-BD8D-217ED95D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87A8-6143-4F58-B28C-22EEFA62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E620-A7B6-4626-BF5A-194E4F05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4CCDE-A3DF-4842-813F-3A48674E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4DDD-CDAF-486F-8556-4EAB5A56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BE6C-7983-4780-9B1F-30528214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BC2AC-1E3B-4D93-80EE-D21FDF33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48591-EB91-4609-B477-ADD60079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FB38-3ADD-4A72-AF45-08198A19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D6040-A234-4C76-B282-504996C4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6E8-0232-4DCF-83FA-B74AB869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C758B-8830-4CF2-A3A0-99827B91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76B07-D154-403B-BA24-D05769F8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E7FF0-6F67-4082-B7A0-2BC19D72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E2A0C-F3C8-41E8-BCC0-02724C3F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826CE-917A-45A1-8057-87869474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B68DE-5AEB-493E-9EED-A160F54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1F88E-117B-42D1-ADE3-47266DF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C0366-9C88-409A-AB2B-A959DEAB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B88C1-54C8-4C58-8BF3-B0596118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23730-581A-4FCB-9671-B971F012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8BD-A563-4C84-83C4-B30C6221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890B-A400-4837-AA2F-577604BC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5C4-1ADD-42CF-8D86-794193F8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DF4-CC73-482D-988B-91533920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B56-443C-44DA-AE8B-A5D48CF3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BC29D-2758-468C-8AAE-486042221FE7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1619280" y="187200"/>
            <a:ext cx="7346880" cy="64836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1844B-6920-496C-968C-3D5BA3ED25A2}" type="slidenum"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366CB-8F28-4BF5-AB22-0C3F9885E8CC}" type="slidenum"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45A21-EE14-4FAE-A296-D37BE5BDC7C0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8426A-494A-48E5-8A64-848D8ED661E6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226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311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7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Afbeelding 11" descr="Leeuwenborgh_ACHTER.png"/>
          <p:cNvPicPr/>
          <p:nvPr/>
        </p:nvPicPr>
        <p:blipFill>
          <a:blip r:embed="rId2"/>
          <a:stretch/>
        </p:blipFill>
        <p:spPr>
          <a:xfrm>
            <a:off x="168120" y="187200"/>
            <a:ext cx="8788680" cy="6483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09640" y="1098720"/>
            <a:ext cx="8237520" cy="43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7500"/>
            </a:br>
            <a:br>
              <a:rPr sz="7500"/>
            </a:br>
            <a:r>
              <a:rPr b="0" lang="nl-NL" sz="7500" spc="-1" strike="noStrike">
                <a:solidFill>
                  <a:srgbClr val="ff0000"/>
                </a:solidFill>
                <a:latin typeface="Tahoma"/>
                <a:ea typeface="Tahoma"/>
              </a:rPr>
              <a:t>Mondverzorging</a:t>
            </a:r>
            <a:endParaRPr b="0" lang="en-US" sz="7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660320" y="5978520"/>
            <a:ext cx="60339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1500" spc="-1" strike="noStrike">
              <a:solidFill>
                <a:srgbClr val="2a1a00"/>
              </a:solidFill>
              <a:latin typeface="Gill Sans MT"/>
            </a:endParaRPr>
          </a:p>
        </p:txBody>
      </p:sp>
      <p:pic>
        <p:nvPicPr>
          <p:cNvPr id="567" name="Afbeelding 1" descr=""/>
          <p:cNvPicPr/>
          <p:nvPr/>
        </p:nvPicPr>
        <p:blipFill>
          <a:blip r:embed="rId1"/>
          <a:stretch/>
        </p:blipFill>
        <p:spPr>
          <a:xfrm>
            <a:off x="2327400" y="1392120"/>
            <a:ext cx="4701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TERMINALE FAS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77600" y="1386000"/>
            <a:ext cx="813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Doel mondzorg 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Pijnbestrijding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Bestrijding van ongemakk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Voorkomen van een slechte laatste herinnering 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(slechte adem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7" name="Afbeelding 3" descr=""/>
          <p:cNvPicPr/>
          <p:nvPr/>
        </p:nvPicPr>
        <p:blipFill>
          <a:blip r:embed="rId1"/>
          <a:stretch/>
        </p:blipFill>
        <p:spPr>
          <a:xfrm>
            <a:off x="4357800" y="4151160"/>
            <a:ext cx="3949560" cy="2217960"/>
          </a:xfrm>
          <a:prstGeom prst="rect">
            <a:avLst/>
          </a:prstGeom>
          <a:ln w="0">
            <a:noFill/>
          </a:ln>
        </p:spPr>
      </p:pic>
      <p:pic>
        <p:nvPicPr>
          <p:cNvPr id="588" name="Afbeelding 4" descr=""/>
          <p:cNvPicPr/>
          <p:nvPr/>
        </p:nvPicPr>
        <p:blipFill>
          <a:blip r:embed="rId2"/>
          <a:stretch/>
        </p:blipFill>
        <p:spPr>
          <a:xfrm>
            <a:off x="1090440" y="4336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7480" y="288720"/>
            <a:ext cx="680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WERKWIJZ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17120" y="1212840"/>
            <a:ext cx="7947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 x dgs lippen insmeren met vaseline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2x dgs reinigen van de mond vlgs poetsprotoco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mond onderzoek, als iemand nog eet, om restjes te verwijder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x dgs of vaker mond reinigen met een gaasje of sponsje met water of nacl 0,9%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sprayen met chloorhexidine 0,12%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91" name="Afbeelding 3" descr=""/>
          <p:cNvPicPr/>
          <p:nvPr/>
        </p:nvPicPr>
        <p:blipFill>
          <a:blip r:embed="rId1"/>
          <a:stretch/>
        </p:blipFill>
        <p:spPr>
          <a:xfrm>
            <a:off x="6218280" y="5064120"/>
            <a:ext cx="2376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Afbeelding 3" descr=""/>
          <p:cNvPicPr/>
          <p:nvPr/>
        </p:nvPicPr>
        <p:blipFill>
          <a:blip r:embed="rId1"/>
          <a:stretch/>
        </p:blipFill>
        <p:spPr>
          <a:xfrm>
            <a:off x="784080" y="585720"/>
            <a:ext cx="3137040" cy="3730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24000" y="-3108240"/>
            <a:ext cx="331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4000" spc="-1" strike="noStrike">
              <a:solidFill>
                <a:srgbClr val="cd003b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2960" y="5057280"/>
            <a:ext cx="3792240" cy="11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6000" spc="-1" strike="noStrike">
                <a:solidFill>
                  <a:srgbClr val="020e25"/>
                </a:solidFill>
                <a:latin typeface="Verdana"/>
              </a:rPr>
              <a:t>oefenen</a:t>
            </a:r>
            <a:endParaRPr b="0" lang="en-US" sz="6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kstvak 1"/>
          <p:cNvSpPr/>
          <p:nvPr/>
        </p:nvSpPr>
        <p:spPr>
          <a:xfrm>
            <a:off x="914400" y="600120"/>
            <a:ext cx="7429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arom is een goede tandverzorging zo belangrijk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 behoud van het geb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daling van het aantal mondziekt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 belang voor algemene gezondheid en levenskwaliteit van kwetsbare ouder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9" name="Afbeelding 2" descr=""/>
          <p:cNvPicPr/>
          <p:nvPr/>
        </p:nvPicPr>
        <p:blipFill>
          <a:blip r:embed="rId1"/>
          <a:stretch/>
        </p:blipFill>
        <p:spPr>
          <a:xfrm>
            <a:off x="4743360" y="4570560"/>
            <a:ext cx="3011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kstvak 1"/>
          <p:cNvSpPr/>
          <p:nvPr/>
        </p:nvSpPr>
        <p:spPr>
          <a:xfrm>
            <a:off x="914400" y="600120"/>
            <a:ext cx="772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Mondproblemen herkennen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kunnen signalen zijn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r eten en drink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ichtsverlies / uitdrog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ijn aan de mo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 ade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 tegen warm, koud, zuur, hard voedsel kunn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oge mond of bloed in mo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itsprothese niet meer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oets de tanden ni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ikklacht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1" name="Afbeelding 2" descr=""/>
          <p:cNvPicPr/>
          <p:nvPr/>
        </p:nvPicPr>
        <p:blipFill>
          <a:blip r:embed="rId1"/>
          <a:stretch/>
        </p:blipFill>
        <p:spPr>
          <a:xfrm>
            <a:off x="6134040" y="415764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kstvak 1"/>
          <p:cNvSpPr/>
          <p:nvPr/>
        </p:nvSpPr>
        <p:spPr>
          <a:xfrm>
            <a:off x="914400" y="333360"/>
            <a:ext cx="7429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ouw taak als verzorgende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ondgezondheid en -verzorging van cliënt in kaart breng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gen gebit : hoe verzorgt de cliënt het gebit / wat kan de cliënt nog zelf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these : onder/boven of bei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mplant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kla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s er sprake van een vieze mond geu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vragen of wens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eer 2 x per wee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mond op afwijkingen (lippen / tandvlees / wangslijmvlies / keel / gehemel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Afbeelding 2" descr=""/>
          <p:cNvPicPr/>
          <p:nvPr/>
        </p:nvPicPr>
        <p:blipFill>
          <a:blip r:embed="rId1"/>
          <a:stretch/>
        </p:blipFill>
        <p:spPr>
          <a:xfrm>
            <a:off x="6711840" y="2611440"/>
            <a:ext cx="1962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POETS TECHNIEK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19280" y="1801800"/>
            <a:ext cx="680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eerst bovenkaak en daarna onderkaak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uit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ov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inn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voo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achte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ook tussen de kiezen; dagelijks, maar minstens één keer per week met ragers, tandenstokers of flossdraad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76" name="Afbeelding 6" descr=""/>
          <p:cNvPicPr/>
          <p:nvPr/>
        </p:nvPicPr>
        <p:blipFill>
          <a:blip r:embed="rId1"/>
          <a:stretch/>
        </p:blipFill>
        <p:spPr>
          <a:xfrm>
            <a:off x="6354720" y="2801880"/>
            <a:ext cx="2068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00200" y="878040"/>
            <a:ext cx="77706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nl-NL" sz="4600" spc="-1" strike="noStrike">
              <a:solidFill>
                <a:srgbClr val="2a1a00"/>
              </a:solidFill>
              <a:latin typeface="Verdana"/>
            </a:endParaRPr>
          </a:p>
        </p:txBody>
      </p:sp>
      <p:pic>
        <p:nvPicPr>
          <p:cNvPr id="579" name="Mondverzorging voor verzorgenden.mp4" descr=""/>
          <p:cNvPicPr/>
          <p:nvPr/>
        </p:nvPicPr>
        <p:blipFill>
          <a:blip r:embed="rId1"/>
          <a:stretch/>
        </p:blipFill>
        <p:spPr>
          <a:xfrm>
            <a:off x="865080" y="495360"/>
            <a:ext cx="72280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KUNSTGEBIT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82760" y="1344600"/>
            <a:ext cx="7170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oets de prothese 2-3x dgs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achte tanden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speciaal poetsmiddel (evt afwasmiddel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tandpasta, deze schuur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inigingstabletten max. 1x pw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2" name="Afbeelding 4" descr=""/>
          <p:cNvPicPr/>
          <p:nvPr/>
        </p:nvPicPr>
        <p:blipFill>
          <a:blip r:embed="rId1"/>
          <a:stretch/>
        </p:blipFill>
        <p:spPr>
          <a:xfrm>
            <a:off x="5700600" y="4510080"/>
            <a:ext cx="2381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127160" y="1117080"/>
            <a:ext cx="680400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 mond zonder tand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ond spoelen met water na et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x dgs tandvlees en gehemelte poetsen met tandpasta en zachte 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4" name="Afbeelding 3" descr=""/>
          <p:cNvPicPr/>
          <p:nvPr/>
        </p:nvPicPr>
        <p:blipFill>
          <a:blip r:embed="rId1"/>
          <a:srcRect l="733" t="19654" r="0" b="7077"/>
          <a:stretch/>
        </p:blipFill>
        <p:spPr>
          <a:xfrm>
            <a:off x="4695840" y="3279600"/>
            <a:ext cx="308448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3:56:42Z</dcterms:created>
  <dc:creator>Jules Peters</dc:creator>
  <dc:description/>
  <dc:language>en-US</dc:language>
  <cp:lastModifiedBy>Trudy (T.C.C.A.) Schellings</cp:lastModifiedBy>
  <cp:lastPrinted>2013-08-26T13:32:06Z</cp:lastPrinted>
  <dcterms:modified xsi:type="dcterms:W3CDTF">2020-03-24T11:37:47Z</dcterms:modified>
  <cp:revision>742</cp:revision>
  <dc:subject/>
  <dc:title>Dia 1</dc:title>
</cp:coreProperties>
</file>