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E557390-D412-4EF3-A9E2-0B62B6DBED23}" type="datetime">
              <a:rPr b="0" lang="nl-NL" sz="1300" spc="-1" strike="noStrike">
                <a:solidFill>
                  <a:srgbClr val="000000"/>
                </a:solidFill>
                <a:latin typeface="Calibri"/>
                <a:ea typeface="Arial"/>
              </a:rPr>
              <a:t>28-07-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280" rIns="98280" tIns="48960" bIns="489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5E4D5F8-C8F4-4C3D-82B4-7C7441A708A8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E7E22CD-C692-4279-9D43-B603E030DEE1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5358B9E-4132-42DB-A96B-13D86F95FFFE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D5944BE-0BF3-4058-BD09-2FADA61CC58B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50A-1779-471D-84A1-54272B96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203-5438-4AFC-BE65-CBAB6F01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749-4AFC-4294-AEF4-F5097F06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1C5-EEC0-4068-B406-C7856B6C1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38D64-B7FF-45DE-BFC5-AFD57CB82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8FA2-0BFF-4BB2-8266-BB4302C2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2D94-64A5-43BB-943A-93B27D70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5081-4927-447C-8886-3F0A6FC4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D6B3-8305-487D-95A1-837C8811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6D99-4769-4EDF-B6A9-EA334F1F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80052-8797-4114-B7F5-95711843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594B-8322-46E3-A6F6-BC8A8FAE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EC776-D477-4BFF-82CE-9FE18FC7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AD59-C1E7-4514-9796-8D01F20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A5022-6AE5-4A63-8AFA-86637C69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5800-655A-4AE0-A156-A3DF00FC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A605-AE3C-4C0C-AD45-B452CC89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6F51-FD39-4E2C-987B-C9756451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9CE2-D755-43BA-9963-5A3FFB60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112A8-6C7D-4C17-90A2-BCC72C83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7BC1-FEF8-4A2E-BBD5-27913070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8C0E6-5232-4B32-82CF-1144FE6A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8013-FE92-496D-B7DF-90EB8C25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88C6A-30BB-4A51-AB94-7D3432E7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5DD55-C365-4E66-BF94-0B29B844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D9B4D-F686-4813-96AF-521D37E4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8D3A-D1FD-4FB8-B663-62D99455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DD29E-C33A-4C3E-A769-00522FF0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4396E-2F1A-4B96-8D0E-ED8630C2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06C8-1B45-486C-94D9-93881955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C1811-8E4E-4DD2-B1D6-2B88AB18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4377B-A687-4F5F-BA90-A88B68DF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03A4E-887D-4A8C-937B-0A0812FF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C0A-5624-41F0-B888-7BEDBC3E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73C1-490C-42BF-94D0-E9C73976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961F1-1D31-4526-B5AA-EC90663D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F1725-1EE1-440D-BC6A-FAE7B6DA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2278-2B32-47FC-80E9-969A056B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4F65F-F1D0-40A4-BA60-4E54589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1A407-AA6E-4F20-9EA4-82B348F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D6306-1885-4B53-BB69-E38D215F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0E9A-5CD2-41EA-AAF9-E7D0DC929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70999-7BE6-4799-8559-5A5ABF33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C3BBC-7D6A-4B20-9382-C6083042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292-607D-4781-9170-70E15664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89053-D2DC-4596-A674-43D313E5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CEE6B-C521-4D21-9EFF-CD1D6AB7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D1605-AC17-4609-9C6D-BF2B956E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79571-55AD-413D-858A-A4655B58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607F4-C557-45A1-81B0-8E9869C1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5AEB-F32F-4BDF-AB1D-CEA20877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EF78-95D0-4B2E-8181-B33923C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AB379-24A0-4CFA-B0AC-FF0B2263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3AEC3-65D4-4735-88EB-3DBAD3F2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69546-843D-4FB1-A5BD-4B657207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39B-5C22-4BB1-90A4-367FBDA8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2F757-0329-4516-B60B-F920C60F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1DE-5805-4F9D-A1A2-75EB96D4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BC52-F7E6-48E5-B233-76AEB371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F6C-0C2C-4606-B25A-7673AB17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4F110-EC07-4728-95FE-2DA1D19D8D6A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1619280" y="187200"/>
            <a:ext cx="7346880" cy="6483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7FE682-9AE7-44DF-8745-0C4244F76706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F79EBE-96AD-4ECA-9889-C60F4E4EAD17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3BF665-EA7F-40A8-AD9E-D0D3292B8A2C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72234-C90D-4C37-99DF-1931C8A942DF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226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311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7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Afbeelding 11" descr="Leeuwenborgh_ACHTER.png"/>
          <p:cNvPicPr/>
          <p:nvPr/>
        </p:nvPicPr>
        <p:blipFill>
          <a:blip r:embed="rId2"/>
          <a:stretch/>
        </p:blipFill>
        <p:spPr>
          <a:xfrm>
            <a:off x="168120" y="187200"/>
            <a:ext cx="8788680" cy="6483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09640" y="1098720"/>
            <a:ext cx="823752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7500"/>
            </a:br>
            <a:br>
              <a:rPr sz="7500"/>
            </a:br>
            <a:r>
              <a:rPr b="0" lang="nl-NL" sz="7500" spc="-1" strike="noStrike">
                <a:solidFill>
                  <a:srgbClr val="ff0000"/>
                </a:solidFill>
                <a:latin typeface="Tahoma"/>
                <a:ea typeface="Tahoma"/>
              </a:rPr>
              <a:t>Mondverzorging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15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2327400" y="1392120"/>
            <a:ext cx="4701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TERMINALE FAS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77600" y="1386000"/>
            <a:ext cx="813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Doel mondzorg 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Pijnbestrijding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Bestrijding van ongemakk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Voorkomen van een slechte laatste herinnering 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(slechte adem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7" name="Afbeelding 3" descr=""/>
          <p:cNvPicPr/>
          <p:nvPr/>
        </p:nvPicPr>
        <p:blipFill>
          <a:blip r:embed="rId1"/>
          <a:stretch/>
        </p:blipFill>
        <p:spPr>
          <a:xfrm>
            <a:off x="4357800" y="4151160"/>
            <a:ext cx="3949560" cy="221796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4" descr=""/>
          <p:cNvPicPr/>
          <p:nvPr/>
        </p:nvPicPr>
        <p:blipFill>
          <a:blip r:embed="rId2"/>
          <a:stretch/>
        </p:blipFill>
        <p:spPr>
          <a:xfrm>
            <a:off x="1090440" y="4336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7480" y="288720"/>
            <a:ext cx="680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WERKWIJZ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7120" y="1212840"/>
            <a:ext cx="7947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 x dgs lippen insmeren met vaselin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2x dgs reinigen van de mond vlgs poetsprotoco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mond onderzoek, als iemand nog eet, om restjes te verwijder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x dgs of vaker mond reinigen met een gaasje of sponsje met water of nacl 0,9%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sprayen met chloorhexidine 0,12%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91" name="Afbeelding 3" descr=""/>
          <p:cNvPicPr/>
          <p:nvPr/>
        </p:nvPicPr>
        <p:blipFill>
          <a:blip r:embed="rId1"/>
          <a:stretch/>
        </p:blipFill>
        <p:spPr>
          <a:xfrm>
            <a:off x="6218280" y="5064120"/>
            <a:ext cx="2376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Afbeelding 3" descr=""/>
          <p:cNvPicPr/>
          <p:nvPr/>
        </p:nvPicPr>
        <p:blipFill>
          <a:blip r:embed="rId1"/>
          <a:stretch/>
        </p:blipFill>
        <p:spPr>
          <a:xfrm>
            <a:off x="784080" y="585720"/>
            <a:ext cx="3137040" cy="3730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24000" y="-3108240"/>
            <a:ext cx="331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4000" spc="-1" strike="noStrike">
              <a:solidFill>
                <a:srgbClr val="cd003b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2960" y="5057280"/>
            <a:ext cx="3792240" cy="11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6000" spc="-1" strike="noStrike">
                <a:solidFill>
                  <a:srgbClr val="020e25"/>
                </a:solidFill>
                <a:latin typeface="Verdana"/>
              </a:rPr>
              <a:t>oefenen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kstvak 1"/>
          <p:cNvSpPr/>
          <p:nvPr/>
        </p:nvSpPr>
        <p:spPr>
          <a:xfrm>
            <a:off x="914400" y="600120"/>
            <a:ext cx="7429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arom is een goede tandverzorging zo belangrijk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 behoud van het ge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daling van het aantal mondziekt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 belang voor algemene gezondheid en levenskwaliteit van kwetsbare oude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9" name="Afbeelding 2" descr=""/>
          <p:cNvPicPr/>
          <p:nvPr/>
        </p:nvPicPr>
        <p:blipFill>
          <a:blip r:embed="rId1"/>
          <a:stretch/>
        </p:blipFill>
        <p:spPr>
          <a:xfrm>
            <a:off x="4743360" y="4570560"/>
            <a:ext cx="3011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vak 1"/>
          <p:cNvSpPr/>
          <p:nvPr/>
        </p:nvSpPr>
        <p:spPr>
          <a:xfrm>
            <a:off x="914400" y="600120"/>
            <a:ext cx="772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Mondproblemen herkenne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kunnen signalen zijn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r eten en drink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ichtsverlies / uitdrog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ijn aan de mo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 ade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 tegen warm, koud, zuur, hard voedsel kunn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oge mond of bloed in mo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itsprothese niet meer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oets de tanden ni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ikklacht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" name="Afbeelding 2" descr=""/>
          <p:cNvPicPr/>
          <p:nvPr/>
        </p:nvPicPr>
        <p:blipFill>
          <a:blip r:embed="rId1"/>
          <a:stretch/>
        </p:blipFill>
        <p:spPr>
          <a:xfrm>
            <a:off x="6134040" y="41576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kstvak 1"/>
          <p:cNvSpPr/>
          <p:nvPr/>
        </p:nvSpPr>
        <p:spPr>
          <a:xfrm>
            <a:off x="914400" y="333360"/>
            <a:ext cx="7429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ouw taak als verzorgend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gezondheid en -verzorging van cliënt in kaart breng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gen gebit : hoe verzorgt de cliënt het gebit / wat kan de cliënt nog zelf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these : onder/boven of be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mplant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kla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er sprake van een vieze mond geu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vragen of wens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eer 2 x per wee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mond op afwijkingen (lippen / tandvlees / wangslijmvlies / keel / gehemel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Afbeelding 2" descr=""/>
          <p:cNvPicPr/>
          <p:nvPr/>
        </p:nvPicPr>
        <p:blipFill>
          <a:blip r:embed="rId1"/>
          <a:stretch/>
        </p:blipFill>
        <p:spPr>
          <a:xfrm>
            <a:off x="6711840" y="2611440"/>
            <a:ext cx="196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POETS TECHNIEK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19280" y="1801800"/>
            <a:ext cx="680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eerst bovenkaak en daarna onderkaak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uit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ov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inn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voo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achte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ook tussen de kiezen; dagelijks, maar minstens één keer per week met ragers, tandenstokers of flossdraad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76" name="Afbeelding 6" descr=""/>
          <p:cNvPicPr/>
          <p:nvPr/>
        </p:nvPicPr>
        <p:blipFill>
          <a:blip r:embed="rId1"/>
          <a:stretch/>
        </p:blipFill>
        <p:spPr>
          <a:xfrm>
            <a:off x="6354720" y="2801880"/>
            <a:ext cx="2068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00200" y="878040"/>
            <a:ext cx="7770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nl-NL" sz="4600" spc="-1" strike="noStrike">
              <a:solidFill>
                <a:srgbClr val="2a1a00"/>
              </a:solidFill>
              <a:latin typeface="Verdana"/>
            </a:endParaRPr>
          </a:p>
        </p:txBody>
      </p:sp>
      <p:pic>
        <p:nvPicPr>
          <p:cNvPr id="579" name="Mondverzorging voor verzorgenden.mp4" descr=""/>
          <p:cNvPicPr/>
          <p:nvPr/>
        </p:nvPicPr>
        <p:blipFill>
          <a:blip r:embed="rId1"/>
          <a:stretch/>
        </p:blipFill>
        <p:spPr>
          <a:xfrm>
            <a:off x="865080" y="495360"/>
            <a:ext cx="72280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KUNSTGEBIT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82760" y="1344600"/>
            <a:ext cx="7170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ets de prothese 2-3x dgs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achte tanden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speciaal poetsmiddel (evt afwasmiddel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tandpasta, deze schuur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inigingstabletten max. 1x pw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2" name="Afbeelding 4" descr=""/>
          <p:cNvPicPr/>
          <p:nvPr/>
        </p:nvPicPr>
        <p:blipFill>
          <a:blip r:embed="rId1"/>
          <a:stretch/>
        </p:blipFill>
        <p:spPr>
          <a:xfrm>
            <a:off x="5700600" y="4510080"/>
            <a:ext cx="2381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127160" y="1117080"/>
            <a:ext cx="68040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 mond zonder tand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ond spoelen met water na et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x dgs tandvlees en gehemelte poetsen met tandpasta en zachte 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4" name="Afbeelding 3" descr=""/>
          <p:cNvPicPr/>
          <p:nvPr/>
        </p:nvPicPr>
        <p:blipFill>
          <a:blip r:embed="rId1"/>
          <a:srcRect l="733" t="19654" r="0" b="7077"/>
          <a:stretch/>
        </p:blipFill>
        <p:spPr>
          <a:xfrm>
            <a:off x="4695840" y="3279600"/>
            <a:ext cx="30844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3:56:42Z</dcterms:created>
  <dc:creator>Jules Peters</dc:creator>
  <dc:description/>
  <dc:language>en-US</dc:language>
  <cp:lastModifiedBy>Trudy (T.C.C.A.) Schellings</cp:lastModifiedBy>
  <cp:lastPrinted>2013-08-26T13:32:06Z</cp:lastPrinted>
  <dcterms:modified xsi:type="dcterms:W3CDTF">2020-03-24T11:37:47Z</dcterms:modified>
  <cp:revision>742</cp:revision>
  <dc:subject/>
  <dc:title>Dia 1</dc:title>
</cp:coreProperties>
</file>