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nl-NL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EE56C2EB-6CF7-4754-A593-E1C4BAB6AF1A}" type="datetime">
              <a:rPr b="0" lang="nl-NL" sz="1300" spc="-1" strike="noStrike">
                <a:solidFill>
                  <a:srgbClr val="000000"/>
                </a:solidFill>
                <a:latin typeface="Calibri"/>
                <a:ea typeface="Arial"/>
              </a:rPr>
              <a:t>30-07-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8280" rIns="98280" tIns="48960" bIns="489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move the slide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19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20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nl-N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1E35B36A-F3BC-4428-8536-96A3694C3B0F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ijdelijke aanduiding voor dianumm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6CD60571-1FD3-4E4A-BC9B-9BD84A9BF184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ijdelijke aanduiding voor dianumm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0DB297BE-0709-4D65-89AE-A586334287FC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ijdelijke aanduiding voor dianumm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A997EC10-E203-4BB4-A06A-093640445295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02CE-7816-424F-A5FB-ADEF197A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97C4-A787-4EA1-B74B-62270233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F74A-B2AF-454B-B246-48A0E218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14CB-64C7-446D-BC6A-69E19FB3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E51B-CF6C-492D-BA18-F6DAB881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C1A9-763B-4FC0-9ACA-955DF9B5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8AA6-C1A0-4CF9-B505-7E3C770F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30DF-6177-4E25-A64D-47F2A7BC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FAF2-EFDB-4D31-80BC-FBE5A02B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45C2-080E-4BB9-AE28-891C0027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54AE-A20D-44CA-A21C-9312E04C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F858-F4D9-411C-BDC8-2F27EA6E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C1DB-8998-4C7F-8CBD-D6B3D100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0FD6-8003-43A3-9DD0-701B0BC7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479E-308E-4C60-9EF9-C38F0C41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06FB-4FB2-4DB7-92AB-B711A002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F485-7F1D-48BF-BE6C-1A7F059D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85B1B-2770-4A52-BA6E-28343A7D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82BC1-EC69-441C-BC4F-C38C6C56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F4A74-4505-4EA1-9BD8-67E27914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10B06-AC0B-4F5A-AC41-A40CA558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A5058-4159-430A-B16E-757360CA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5ABD-C9AD-4790-8DD7-E0052F5D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D7625-6A89-4B71-AE24-0648EC90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A975A-6AF4-4B7A-AEFF-B4DCF3BA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5CBCE-C724-44F6-BB5A-D4E8CF8B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C0DAA-E078-4A01-8EE1-42CBF41B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69E73-A90F-4E6E-BEFF-80C96933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FE641-F7E3-4507-A4C4-CF6ED266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B7884-F869-43B1-8694-CD570AA2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D772C-CECA-4A3B-833E-A0B48FCE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95DFE-CA3A-4A71-A55E-FF03410A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5DF6F-DE27-48D1-9659-998238B0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A0F1-F0BB-4C39-9F40-A60917E8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8F2DA-462C-4CBB-AA4D-1694E9DE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EFE8B-181F-4D25-A8F6-42A558B0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C4E45-2E4F-4CF1-9A7E-FDDB0AC1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73013-9220-472D-90FD-B904D7C7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E8F64-4241-4E56-87C2-88505A2B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34CC0-25E9-4642-8A4C-3B09E849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663E7-16A4-4A81-926A-872FB143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A8584-ED70-476D-9B80-9508C754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F75E2-66CB-42CD-B2D1-203F8F2E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283DD-C6E9-4AC7-9EEB-1F754050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57B6-F433-4D8B-BFBA-19A4C1F5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FD596-2E09-4723-91AD-45BEAE67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599DB-6377-458E-B709-A1B6D40B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6F232-59ED-46C1-8C74-27EE688D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F3CA2-44C1-46FE-A27F-03C13F83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A16FC-20B5-4FD6-9C5B-671F88AC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5096E-CADE-405E-9856-8BB09DF9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38992-84EB-4575-B5D4-E7C8602C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1C1FF-153E-48AB-8FBB-57686B4B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3CDF8-24D5-4E4E-BAF7-A1EB53F2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14CC6-4576-4F29-B792-B7BC0FBF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D50-DBE8-410D-8959-E31C7DB5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AA94C-F4A3-43ED-B5BC-3D74AB19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31D6-2602-456E-A170-532C8F58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1188-C813-4F79-BAE9-1FE00A7D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2FC8-7645-4A14-B5FD-125B26DB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C6F8B7-8242-4BEF-9D8D-3EB7BF8E4837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6" name="Afbeelding 8" descr="Leeuwenborgh_ACHTER.png"/>
          <p:cNvPicPr/>
          <p:nvPr/>
        </p:nvPicPr>
        <p:blipFill>
          <a:blip r:embed="rId2"/>
          <a:stretch/>
        </p:blipFill>
        <p:spPr>
          <a:xfrm>
            <a:off x="1619280" y="187200"/>
            <a:ext cx="7346880" cy="64836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2063880" y="630360"/>
            <a:ext cx="5229000" cy="522900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09280" y="6374880"/>
            <a:ext cx="17463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5e04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34880" y="6375240"/>
            <a:ext cx="30862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00400" y="6375240"/>
            <a:ext cx="174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B67884-CDA9-4FD8-AA76-25DF523FE15B}" type="slidenum">
              <a:rPr b="0" lang="en-US" sz="1000" spc="-1" strike="noStrike">
                <a:solidFill>
                  <a:srgbClr val="895e0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0" y="0"/>
            <a:ext cx="2111400" cy="68580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Freeform 11"/>
          <p:cNvSpPr/>
          <p:nvPr/>
        </p:nvSpPr>
        <p:spPr>
          <a:xfrm>
            <a:off x="655560" y="0"/>
            <a:ext cx="1235160" cy="68580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0" y="0"/>
            <a:ext cx="2111400" cy="6858000"/>
            <a:chOff x="0" y="0"/>
            <a:chExt cx="2111400" cy="6858000"/>
          </a:xfrm>
        </p:grpSpPr>
        <p:sp>
          <p:nvSpPr>
            <p:cNvPr id="91" name="Freeform 8"/>
            <p:cNvSpPr/>
            <p:nvPr/>
          </p:nvSpPr>
          <p:spPr>
            <a:xfrm>
              <a:off x="0" y="0"/>
              <a:ext cx="2111400" cy="68580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655920" y="0"/>
              <a:ext cx="1234800" cy="68580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27120" y="6374880"/>
            <a:ext cx="11210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3f3f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95928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455960" y="6375240"/>
            <a:ext cx="111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3BB584-FE8D-487C-A136-7054A11E9F46}" type="slidenum">
              <a:rPr b="0" lang="en-US" sz="1000" spc="-1" strike="noStrike">
                <a:solidFill>
                  <a:srgbClr val="f3f3f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572760" y="6374880"/>
            <a:ext cx="9255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4268880" y="6375240"/>
            <a:ext cx="923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6E2EBB-DB60-4BAF-87B9-9094D87982DB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574200" y="6374880"/>
            <a:ext cx="92412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4255560" y="6375240"/>
            <a:ext cx="9478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F72E7-2DC6-44DC-8380-2581A7001DFB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Afbeelding 8" descr="Leeuwenborgh_ACHTER.png"/>
          <p:cNvPicPr/>
          <p:nvPr/>
        </p:nvPicPr>
        <p:blipFill>
          <a:blip r:embed="rId2"/>
          <a:stretch/>
        </p:blipFill>
        <p:spPr>
          <a:xfrm>
            <a:off x="5111640" y="187200"/>
            <a:ext cx="3854520" cy="6483600"/>
          </a:xfrm>
          <a:prstGeom prst="rect">
            <a:avLst/>
          </a:prstGeom>
          <a:ln w="0">
            <a:noFill/>
          </a:ln>
        </p:spPr>
      </p:pic>
      <p:sp>
        <p:nvSpPr>
          <p:cNvPr id="226" name="Rechthoek 3"/>
          <p:cNvSpPr/>
          <p:nvPr/>
        </p:nvSpPr>
        <p:spPr>
          <a:xfrm>
            <a:off x="1619280" y="3429000"/>
            <a:ext cx="1224000" cy="179280"/>
          </a:xfrm>
          <a:prstGeom prst="rect">
            <a:avLst/>
          </a:prstGeom>
          <a:solidFill>
            <a:srgbClr val="b5dc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1618920" y="47451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0" name="Afbeelding 8" descr="Leeuwenborgh_ACHTER.png"/>
          <p:cNvPicPr/>
          <p:nvPr/>
        </p:nvPicPr>
        <p:blipFill>
          <a:blip r:embed="rId2"/>
          <a:stretch/>
        </p:blipFill>
        <p:spPr>
          <a:xfrm>
            <a:off x="5111640" y="187200"/>
            <a:ext cx="3854520" cy="6483600"/>
          </a:xfrm>
          <a:prstGeom prst="rect">
            <a:avLst/>
          </a:prstGeom>
          <a:ln w="0">
            <a:noFill/>
          </a:ln>
        </p:spPr>
      </p:pic>
      <p:sp>
        <p:nvSpPr>
          <p:cNvPr id="311" name="Rechthoek 3"/>
          <p:cNvSpPr/>
          <p:nvPr/>
        </p:nvSpPr>
        <p:spPr>
          <a:xfrm>
            <a:off x="1619280" y="3429000"/>
            <a:ext cx="1224000" cy="179280"/>
          </a:xfrm>
          <a:prstGeom prst="rect">
            <a:avLst/>
          </a:prstGeom>
          <a:solidFill>
            <a:srgbClr val="b5dc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7"/>
          </p:nvPr>
        </p:nvSpPr>
        <p:spPr>
          <a:xfrm>
            <a:off x="1618920" y="47451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Afbeelding 11" descr="Leeuwenborgh_ACHTER.png"/>
          <p:cNvPicPr/>
          <p:nvPr/>
        </p:nvPicPr>
        <p:blipFill>
          <a:blip r:embed="rId2"/>
          <a:stretch/>
        </p:blipFill>
        <p:spPr>
          <a:xfrm>
            <a:off x="168120" y="187200"/>
            <a:ext cx="8788680" cy="64836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09640" y="1098720"/>
            <a:ext cx="8237520" cy="439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7500"/>
            </a:br>
            <a:br>
              <a:rPr sz="7500"/>
            </a:br>
            <a:r>
              <a:rPr b="0" lang="nl-NL" sz="7500" spc="-1" strike="noStrike">
                <a:solidFill>
                  <a:srgbClr val="ff0000"/>
                </a:solidFill>
                <a:latin typeface="Tahoma"/>
                <a:ea typeface="Tahoma"/>
              </a:rPr>
              <a:t>Mondverzorging</a:t>
            </a:r>
            <a:endParaRPr b="0" lang="en-US" sz="75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660320" y="5978520"/>
            <a:ext cx="603396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nl-NL" sz="1500" spc="-1" strike="noStrike">
              <a:solidFill>
                <a:srgbClr val="2a1a00"/>
              </a:solidFill>
              <a:latin typeface="Gill Sans MT"/>
            </a:endParaRPr>
          </a:p>
        </p:txBody>
      </p:sp>
      <p:pic>
        <p:nvPicPr>
          <p:cNvPr id="567" name="Afbeelding 1" descr=""/>
          <p:cNvPicPr/>
          <p:nvPr/>
        </p:nvPicPr>
        <p:blipFill>
          <a:blip r:embed="rId1"/>
          <a:stretch/>
        </p:blipFill>
        <p:spPr>
          <a:xfrm>
            <a:off x="2327400" y="1392120"/>
            <a:ext cx="470196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TERMINALE FASE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777600" y="1386000"/>
            <a:ext cx="81327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Verdana"/>
              </a:rPr>
              <a:t>Doel mondzorg :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Pijnbestrijding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Bestrijding van ongemakk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Voorkomen van een slechte laatste herinnering </a:t>
            </a: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(slechte adem)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87" name="Afbeelding 3" descr=""/>
          <p:cNvPicPr/>
          <p:nvPr/>
        </p:nvPicPr>
        <p:blipFill>
          <a:blip r:embed="rId1"/>
          <a:stretch/>
        </p:blipFill>
        <p:spPr>
          <a:xfrm>
            <a:off x="4357800" y="4151160"/>
            <a:ext cx="3949560" cy="2217960"/>
          </a:xfrm>
          <a:prstGeom prst="rect">
            <a:avLst/>
          </a:prstGeom>
          <a:ln w="0">
            <a:noFill/>
          </a:ln>
        </p:spPr>
      </p:pic>
      <p:pic>
        <p:nvPicPr>
          <p:cNvPr id="588" name="Afbeelding 4" descr=""/>
          <p:cNvPicPr/>
          <p:nvPr/>
        </p:nvPicPr>
        <p:blipFill>
          <a:blip r:embed="rId2"/>
          <a:stretch/>
        </p:blipFill>
        <p:spPr>
          <a:xfrm>
            <a:off x="1090440" y="43369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17480" y="288720"/>
            <a:ext cx="6804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WERKWIJZE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17120" y="1212840"/>
            <a:ext cx="7947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3 x dgs lippen insmeren met vaseline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2x dgs reinigen van de mond vlgs poetsprotoco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Evt mond onderzoek, als iemand nog eet, om restjes te verwijder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3x dgs of vaker mond reinigen met een gaasje of sponsje met water of nacl 0,9%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Evt sprayen met chloorhexidine 0,12% 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91" name="Afbeelding 3" descr=""/>
          <p:cNvPicPr/>
          <p:nvPr/>
        </p:nvPicPr>
        <p:blipFill>
          <a:blip r:embed="rId1"/>
          <a:stretch/>
        </p:blipFill>
        <p:spPr>
          <a:xfrm>
            <a:off x="6218280" y="5064120"/>
            <a:ext cx="237636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Afbeelding 3" descr=""/>
          <p:cNvPicPr/>
          <p:nvPr/>
        </p:nvPicPr>
        <p:blipFill>
          <a:blip r:embed="rId1"/>
          <a:stretch/>
        </p:blipFill>
        <p:spPr>
          <a:xfrm>
            <a:off x="784080" y="585720"/>
            <a:ext cx="3137040" cy="373068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24000" y="-3108240"/>
            <a:ext cx="3313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nl-NL" sz="4000" spc="-1" strike="noStrike">
              <a:solidFill>
                <a:srgbClr val="cd003b"/>
              </a:solidFill>
              <a:latin typeface="Verdan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912960" y="5057280"/>
            <a:ext cx="3792240" cy="11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6000" spc="-1" strike="noStrike">
                <a:solidFill>
                  <a:srgbClr val="020e25"/>
                </a:solidFill>
                <a:latin typeface="Verdana"/>
              </a:rPr>
              <a:t>oefenen</a:t>
            </a:r>
            <a:endParaRPr b="0" lang="en-US" sz="6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kstvak 1"/>
          <p:cNvSpPr/>
          <p:nvPr/>
        </p:nvSpPr>
        <p:spPr>
          <a:xfrm>
            <a:off x="914400" y="600120"/>
            <a:ext cx="74296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Waarom is een goede tandverzorging zo belangrijk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*  behoud van het geb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* daling van het aantal mondziekt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ot belang voor algemene gezondheid en levenskwaliteit van kwetsbare ouder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9" name="Afbeelding 2" descr=""/>
          <p:cNvPicPr/>
          <p:nvPr/>
        </p:nvPicPr>
        <p:blipFill>
          <a:blip r:embed="rId1"/>
          <a:stretch/>
        </p:blipFill>
        <p:spPr>
          <a:xfrm>
            <a:off x="4743360" y="4570560"/>
            <a:ext cx="30114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kstvak 1"/>
          <p:cNvSpPr/>
          <p:nvPr/>
        </p:nvSpPr>
        <p:spPr>
          <a:xfrm>
            <a:off x="914400" y="600120"/>
            <a:ext cx="77248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Mondproblemen herkennen!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Wat kunnen signalen zijn?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echter eten en drinke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wichtsverlies / uitdrog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ijn aan de mon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echte ade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echt tegen warm, koud, zuur, hard voedsel kunn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oge mond of bloed in mo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bitsprothese niet meer 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oets de tanden ni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ikklachte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1" name="Afbeelding 2" descr=""/>
          <p:cNvPicPr/>
          <p:nvPr/>
        </p:nvPicPr>
        <p:blipFill>
          <a:blip r:embed="rId1"/>
          <a:stretch/>
        </p:blipFill>
        <p:spPr>
          <a:xfrm>
            <a:off x="6134040" y="4157640"/>
            <a:ext cx="18003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kstvak 1"/>
          <p:cNvSpPr/>
          <p:nvPr/>
        </p:nvSpPr>
        <p:spPr>
          <a:xfrm>
            <a:off x="914400" y="333360"/>
            <a:ext cx="742968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Wat is jouw taak als verzorgende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ondgezondheid en -verzorging van cliënt in kaart brenge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igen gebit : hoe verzorgt de cliënt het gebit / wat kan de cliënt nog zelf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these : onder/boven of beid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mplanta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ijn er klach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s er sprake van een vieze mond geur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ijn er vragen of wens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specteer 2 x per week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mond op afwijkingen (lippen / tandvlees / wangslijmvlies / keel / gehemelt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3" name="Afbeelding 2" descr=""/>
          <p:cNvPicPr/>
          <p:nvPr/>
        </p:nvPicPr>
        <p:blipFill>
          <a:blip r:embed="rId1"/>
          <a:stretch/>
        </p:blipFill>
        <p:spPr>
          <a:xfrm>
            <a:off x="6711840" y="2611440"/>
            <a:ext cx="19623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POETS TECHNIEK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619280" y="1801800"/>
            <a:ext cx="680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eerst bovenkaak en daarna onderkaak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buitenkant kiez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bovenkant kiez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binnenkant kiez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voorkant tand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achterkant tand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ook tussen de kiezen; dagelijks, maar minstens één keer per week met ragers, tandenstokers of flossdraad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76" name="Afbeelding 6" descr=""/>
          <p:cNvPicPr/>
          <p:nvPr/>
        </p:nvPicPr>
        <p:blipFill>
          <a:blip r:embed="rId1"/>
          <a:stretch/>
        </p:blipFill>
        <p:spPr>
          <a:xfrm>
            <a:off x="6354720" y="2801880"/>
            <a:ext cx="20685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700200" y="878040"/>
            <a:ext cx="77706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nl-NL" sz="4600" spc="-1" strike="noStrike">
              <a:solidFill>
                <a:srgbClr val="2a1a00"/>
              </a:solidFill>
              <a:latin typeface="Verdana"/>
            </a:endParaRPr>
          </a:p>
        </p:txBody>
      </p:sp>
      <p:pic>
        <p:nvPicPr>
          <p:cNvPr id="579" name="Mondverzorging voor verzorgenden.mp4" descr=""/>
          <p:cNvPicPr/>
          <p:nvPr/>
        </p:nvPicPr>
        <p:blipFill>
          <a:blip r:embed="rId1"/>
          <a:stretch/>
        </p:blipFill>
        <p:spPr>
          <a:xfrm>
            <a:off x="865080" y="495360"/>
            <a:ext cx="722808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5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KUNSTGEBIT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82760" y="1344600"/>
            <a:ext cx="71704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Verdana"/>
              </a:rPr>
              <a:t>Verzorging: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oets de prothese 2-3x dgs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achte tandenborst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speciaal poetsmiddel (evt afwasmiddel)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en tandpasta, deze schuur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inigingstabletten max. 1x pw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82" name="Afbeelding 4" descr=""/>
          <p:cNvPicPr/>
          <p:nvPr/>
        </p:nvPicPr>
        <p:blipFill>
          <a:blip r:embed="rId1"/>
          <a:stretch/>
        </p:blipFill>
        <p:spPr>
          <a:xfrm>
            <a:off x="5700600" y="4510080"/>
            <a:ext cx="23814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1127160" y="1117080"/>
            <a:ext cx="6804000" cy="43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Verdana"/>
              </a:rPr>
              <a:t>Verzorging mond zonder tand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ond spoelen met water na et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x dgs tandvlees en gehemelte poetsen met tandpasta en zachte borst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84" name="Afbeelding 3" descr=""/>
          <p:cNvPicPr/>
          <p:nvPr/>
        </p:nvPicPr>
        <p:blipFill>
          <a:blip r:embed="rId1"/>
          <a:srcRect l="733" t="19654" r="0" b="7077"/>
          <a:stretch/>
        </p:blipFill>
        <p:spPr>
          <a:xfrm>
            <a:off x="4695840" y="3279600"/>
            <a:ext cx="3084480" cy="32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3:56:42Z</dcterms:created>
  <dc:creator>Jules Peters</dc:creator>
  <dc:description/>
  <dc:language>en-US</dc:language>
  <cp:lastModifiedBy>Trudy (T.C.C.A.) Schellings</cp:lastModifiedBy>
  <cp:lastPrinted>2013-08-26T13:32:06Z</cp:lastPrinted>
  <dcterms:modified xsi:type="dcterms:W3CDTF">2020-03-24T11:37:47Z</dcterms:modified>
  <cp:revision>742</cp:revision>
  <dc:subject/>
  <dc:title>Dia 1</dc:title>
</cp:coreProperties>
</file>