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506A7FD-ECBC-46AD-BEAF-45B51F5EB2C7}" type="datetime">
              <a:rPr b="0" lang="nl-NL" sz="1300" spc="-1" strike="noStrike">
                <a:solidFill>
                  <a:srgbClr val="000000"/>
                </a:solidFill>
                <a:latin typeface="Calibri"/>
                <a:ea typeface="Arial"/>
              </a:rPr>
              <a:t>28-07-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280" rIns="98280" tIns="48960" bIns="489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19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2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1E29224-3911-4AD1-B5D5-C0D3803C6132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55FE7FAF-A913-46DC-809F-C9CAB2573322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9147A4B-21CA-4863-86DC-D3BA8D367AE8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940EBF6-EAC1-446F-9E08-DBB654129C2D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B1A-717B-46ED-B0C0-EF8E7745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E55-1E6A-48C4-88A2-ED51C442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E966-D173-424E-86D6-4CD0AE76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1BF-3AFE-4E87-9138-51D89EDC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D283-64E6-4C03-A223-F3D97B4A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6B51-8EB3-4E11-B58A-8669144C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417B-ADCA-4104-84CE-79AB313A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C64B-8547-4E2D-96FE-12AD25E8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4B6C-5070-4E38-A4BD-B4C99D3A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A2C4-FEB2-4B67-9975-C6C6EF6D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11AF-FD2C-4AB1-86EB-253423D8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D20-C6D9-4B4A-A76A-08496DF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6CC1-FA85-4F44-ACEA-1F2F77FA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3198-33A8-4DB5-8BA6-4C17587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CF72-4AFB-4833-BC86-4FEC8DBB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25B1-B5DC-4DD6-880F-BCA25071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4DA3-7918-473D-895E-4B24F8A7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1BFB5-9C01-4741-862E-81B378DC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70FC-3661-4425-97F4-C5C2D18C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E72ED-BD1F-45AF-90F3-F9A2B8D9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E6B7-36AA-4997-B67B-2C98AFB6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92F1F-25A4-40FC-AD19-4A345BBC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1E02-09F9-4AD4-AC4E-3BF3458B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B601C-811C-42EE-8DDA-05B5E49A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DCC61-DD1E-4D0E-9DBA-152DD115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8E61B-B87A-4697-B5B8-70E7BFE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E8C1-00BC-44BE-AE50-C715554D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049E-9FB9-495B-8F16-1DA87805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E012-E22C-40FA-BFC2-B46CE50F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117C-7298-44B1-BED8-C456F861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D443A-AA3B-4115-B4E9-8A36A1AA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69845-9DD9-4606-8672-B22843FA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9A0EE-C638-4239-B8A1-70F22BEF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015-F2F8-43D2-8483-A3CB1236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6279C-21EA-4C45-A21E-B198C105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0490-2442-480F-85F5-0521F66BB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1D14C-995B-4158-A66F-EFEC24B0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0DC3C-A1DA-4B5C-821B-3B09B2C7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5B8DF-684C-4424-92FD-105E443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EC060-BA2B-4C10-9BCE-696D520C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47CF0-8D3D-438F-BBE3-B0378DE4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F68F-8FAE-402B-9E23-A8DA471D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B7DD3-0550-40FC-94A7-F7416F938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C3A87-DEE2-4C2F-9B2B-393ED084D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A7BC-BAD2-4A16-8337-4AB4C015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2D0FE-0799-4C44-A865-9DA22BEF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2DB6C-E2CC-449A-ACE7-E574CB76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40C6-2E84-4A0F-94CB-A32233F0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1F5A6-E558-48A8-AACB-FEE01816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5D80F-B510-4A7D-A696-C30D056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84393-0704-455C-BB48-B9B6BC97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87758-4A56-4CB2-B3AF-C93084CD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47834-33EA-450B-B76B-B7841D97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9DEC7-74D9-4749-AF14-07A19A51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C76EE-B46B-4BA3-858B-94EE60A5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50A-98CA-4CF2-8249-774AB4B2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FACC3-62E2-4977-8D40-9ED10D54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D85-DCEC-49D5-95EA-656B96B1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6EF-4B4C-413A-939E-1C1B0E9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D56-8967-47EC-9DC9-5D9DE5C5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65118-B627-431F-873B-A4D210163206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1619280" y="187200"/>
            <a:ext cx="7346880" cy="64836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6F8F1B-D1F0-4873-921A-0549DE5F6014}" type="slidenum"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4D95F5-358B-4C05-A93E-D95E24AE5E8D}" type="slidenum"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C76AF9-7ECE-4626-B741-49B3436F8FD9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245EF-28A3-483D-A127-34E3288423AA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226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311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7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Afbeelding 11" descr="Leeuwenborgh_ACHTER.png"/>
          <p:cNvPicPr/>
          <p:nvPr/>
        </p:nvPicPr>
        <p:blipFill>
          <a:blip r:embed="rId2"/>
          <a:stretch/>
        </p:blipFill>
        <p:spPr>
          <a:xfrm>
            <a:off x="168120" y="187200"/>
            <a:ext cx="8788680" cy="6483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09640" y="1098720"/>
            <a:ext cx="8237520" cy="43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7500"/>
            </a:br>
            <a:br>
              <a:rPr sz="7500"/>
            </a:br>
            <a:r>
              <a:rPr b="0" lang="nl-NL" sz="7500" spc="-1" strike="noStrike">
                <a:solidFill>
                  <a:srgbClr val="ff0000"/>
                </a:solidFill>
                <a:latin typeface="Tahoma"/>
                <a:ea typeface="Tahoma"/>
              </a:rPr>
              <a:t>Mondverzorging</a:t>
            </a:r>
            <a:endParaRPr b="0" lang="en-US" sz="7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1500" spc="-1" strike="noStrike">
              <a:solidFill>
                <a:srgbClr val="2a1a00"/>
              </a:solidFill>
              <a:latin typeface="Gill Sans MT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2327400" y="1392120"/>
            <a:ext cx="4701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TERMINALE FAS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77600" y="1386000"/>
            <a:ext cx="813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Doel mondzorg 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Pijnbestrijding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Bestrijding van ongemakk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Voorkomen van een slechte laatste herinnering 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(slechte adem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7" name="Afbeelding 3" descr=""/>
          <p:cNvPicPr/>
          <p:nvPr/>
        </p:nvPicPr>
        <p:blipFill>
          <a:blip r:embed="rId1"/>
          <a:stretch/>
        </p:blipFill>
        <p:spPr>
          <a:xfrm>
            <a:off x="4357800" y="4151160"/>
            <a:ext cx="3949560" cy="221796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4" descr=""/>
          <p:cNvPicPr/>
          <p:nvPr/>
        </p:nvPicPr>
        <p:blipFill>
          <a:blip r:embed="rId2"/>
          <a:stretch/>
        </p:blipFill>
        <p:spPr>
          <a:xfrm>
            <a:off x="1090440" y="4336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7480" y="288720"/>
            <a:ext cx="680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WERKWIJZ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17120" y="1212840"/>
            <a:ext cx="7947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 x dgs lippen insmeren met vaselin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2x dgs reinigen van de mond vlgs poetsprotoco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mond onderzoek, als iemand nog eet, om restjes te verwijder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x dgs of vaker mond reinigen met een gaasje of sponsje met water of nacl 0,9%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sprayen met chloorhexidine 0,12%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91" name="Afbeelding 3" descr=""/>
          <p:cNvPicPr/>
          <p:nvPr/>
        </p:nvPicPr>
        <p:blipFill>
          <a:blip r:embed="rId1"/>
          <a:stretch/>
        </p:blipFill>
        <p:spPr>
          <a:xfrm>
            <a:off x="6218280" y="5064120"/>
            <a:ext cx="2376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Afbeelding 3" descr=""/>
          <p:cNvPicPr/>
          <p:nvPr/>
        </p:nvPicPr>
        <p:blipFill>
          <a:blip r:embed="rId1"/>
          <a:stretch/>
        </p:blipFill>
        <p:spPr>
          <a:xfrm>
            <a:off x="784080" y="585720"/>
            <a:ext cx="3137040" cy="3730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24000" y="-3108240"/>
            <a:ext cx="331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4000" spc="-1" strike="noStrike">
              <a:solidFill>
                <a:srgbClr val="cd003b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2960" y="5057280"/>
            <a:ext cx="3792240" cy="11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6000" spc="-1" strike="noStrike">
                <a:solidFill>
                  <a:srgbClr val="020e25"/>
                </a:solidFill>
                <a:latin typeface="Verdana"/>
              </a:rPr>
              <a:t>oefenen</a:t>
            </a:r>
            <a:endParaRPr b="0" lang="en-US" sz="6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kstvak 1"/>
          <p:cNvSpPr/>
          <p:nvPr/>
        </p:nvSpPr>
        <p:spPr>
          <a:xfrm>
            <a:off x="914400" y="600120"/>
            <a:ext cx="7429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arom is een goede tandverzorging zo belangrijk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 behoud van het ge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daling van het aantal mondziekt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 belang voor algemene gezondheid en levenskwaliteit van kwetsbare ouder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9" name="Afbeelding 2" descr=""/>
          <p:cNvPicPr/>
          <p:nvPr/>
        </p:nvPicPr>
        <p:blipFill>
          <a:blip r:embed="rId1"/>
          <a:stretch/>
        </p:blipFill>
        <p:spPr>
          <a:xfrm>
            <a:off x="4743360" y="4570560"/>
            <a:ext cx="3011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vak 1"/>
          <p:cNvSpPr/>
          <p:nvPr/>
        </p:nvSpPr>
        <p:spPr>
          <a:xfrm>
            <a:off x="914400" y="600120"/>
            <a:ext cx="772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Mondproblemen herkenne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kunnen signalen zijn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r eten en drink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ichtsverlies / uitdrog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ijn aan de mo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 ade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 tegen warm, koud, zuur, hard voedsel kunn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oge mond of bloed in mo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itsprothese niet meer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oets de tanden ni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ikklacht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1" name="Afbeelding 2" descr=""/>
          <p:cNvPicPr/>
          <p:nvPr/>
        </p:nvPicPr>
        <p:blipFill>
          <a:blip r:embed="rId1"/>
          <a:stretch/>
        </p:blipFill>
        <p:spPr>
          <a:xfrm>
            <a:off x="6134040" y="41576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kstvak 1"/>
          <p:cNvSpPr/>
          <p:nvPr/>
        </p:nvSpPr>
        <p:spPr>
          <a:xfrm>
            <a:off x="914400" y="333360"/>
            <a:ext cx="7429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ouw taak als verzorgend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gezondheid en -verzorging van cliënt in kaart breng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gen gebit : hoe verzorgt de cliënt het gebit / wat kan de cliënt nog zelf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these : onder/boven of be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mplant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kla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er sprake van een vieze mond geu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vragen of wens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eer 2 x per wee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mond op afwijkingen (lippen / tandvlees / wangslijmvlies / keel / gehemel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Afbeelding 2" descr=""/>
          <p:cNvPicPr/>
          <p:nvPr/>
        </p:nvPicPr>
        <p:blipFill>
          <a:blip r:embed="rId1"/>
          <a:stretch/>
        </p:blipFill>
        <p:spPr>
          <a:xfrm>
            <a:off x="6711840" y="2611440"/>
            <a:ext cx="196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POETS TECHNIEK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19280" y="1801800"/>
            <a:ext cx="680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eerst bovenkaak en daarna onderkaak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uit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ov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inn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voo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achte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ook tussen de kiezen; dagelijks, maar minstens één keer per week met ragers, tandenstokers of flossdraad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76" name="Afbeelding 6" descr=""/>
          <p:cNvPicPr/>
          <p:nvPr/>
        </p:nvPicPr>
        <p:blipFill>
          <a:blip r:embed="rId1"/>
          <a:stretch/>
        </p:blipFill>
        <p:spPr>
          <a:xfrm>
            <a:off x="6354720" y="2801880"/>
            <a:ext cx="2068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00200" y="878040"/>
            <a:ext cx="77706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nl-NL" sz="4600" spc="-1" strike="noStrike">
              <a:solidFill>
                <a:srgbClr val="2a1a00"/>
              </a:solidFill>
              <a:latin typeface="Verdana"/>
            </a:endParaRPr>
          </a:p>
        </p:txBody>
      </p:sp>
      <p:pic>
        <p:nvPicPr>
          <p:cNvPr id="579" name="Mondverzorging voor verzorgenden.mp4" descr=""/>
          <p:cNvPicPr/>
          <p:nvPr/>
        </p:nvPicPr>
        <p:blipFill>
          <a:blip r:embed="rId1"/>
          <a:stretch/>
        </p:blipFill>
        <p:spPr>
          <a:xfrm>
            <a:off x="865080" y="495360"/>
            <a:ext cx="72280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KUNSTGEBIT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82760" y="1344600"/>
            <a:ext cx="7170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ets de prothese 2-3x dgs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achte tanden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speciaal poetsmiddel (evt afwasmiddel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tandpasta, deze schuur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inigingstabletten max. 1x pw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2" name="Afbeelding 4" descr=""/>
          <p:cNvPicPr/>
          <p:nvPr/>
        </p:nvPicPr>
        <p:blipFill>
          <a:blip r:embed="rId1"/>
          <a:stretch/>
        </p:blipFill>
        <p:spPr>
          <a:xfrm>
            <a:off x="5700600" y="4510080"/>
            <a:ext cx="2381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127160" y="1117080"/>
            <a:ext cx="68040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 mond zonder tand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ond spoelen met water na et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x dgs tandvlees en gehemelte poetsen met tandpasta en zachte 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4" name="Afbeelding 3" descr=""/>
          <p:cNvPicPr/>
          <p:nvPr/>
        </p:nvPicPr>
        <p:blipFill>
          <a:blip r:embed="rId1"/>
          <a:srcRect l="733" t="19654" r="0" b="7077"/>
          <a:stretch/>
        </p:blipFill>
        <p:spPr>
          <a:xfrm>
            <a:off x="4695840" y="3279600"/>
            <a:ext cx="30844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3:56:42Z</dcterms:created>
  <dc:creator>Jules Peters</dc:creator>
  <dc:description/>
  <dc:language>en-US</dc:language>
  <cp:lastModifiedBy>Trudy (T.C.C.A.) Schellings</cp:lastModifiedBy>
  <cp:lastPrinted>2013-08-26T13:32:06Z</cp:lastPrinted>
  <dcterms:modified xsi:type="dcterms:W3CDTF">2020-03-24T11:37:47Z</dcterms:modified>
  <cp:revision>742</cp:revision>
  <dc:subject/>
  <dc:title>Dia 1</dc:title>
</cp:coreProperties>
</file>