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FB8AF05-9EAB-43FF-8D9D-2A27FEE16B6C}" type="datetime">
              <a:rPr b="0" lang="nl-NL" sz="1300" spc="-1" strike="noStrike">
                <a:solidFill>
                  <a:srgbClr val="000000"/>
                </a:solidFill>
                <a:latin typeface="Calibri"/>
                <a:ea typeface="Arial"/>
              </a:rPr>
              <a:t>30-07-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280" rIns="98280" tIns="48960" bIns="489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3433B15-5DF7-493F-9BFA-EBCFFE2790E5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FCFBD5D-959A-4465-9084-287A4A5A8056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9DD2A15-7CA3-444B-8C5D-008BB51E60B6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416B8E0-AA22-479D-915F-7D9FFCDF534B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30B-C80D-4FBA-A28E-087F3048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871-163F-4DA0-8A0F-F11EF951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B3D-0CD0-4D6A-A763-45E1BD00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464-F54E-4A65-BCA3-D4DF4768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F7E1-9E77-44BD-BB66-3C2DEC39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7D04-1A52-468A-A7FD-A9F7F04B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7D01-CB50-4E73-BC8C-02A87DDA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32E2-896D-4D60-A997-2B8421BA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C164-81A6-4467-97A1-284CC247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7DAA-76FA-4C51-89F8-437669B2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9D47-6A2B-4797-BE62-BD27C63E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BBD-4A76-49B9-AC62-ABCFB97F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2A6B-8A61-44D3-AA4F-9C04DD2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913D-5AE9-45BA-A5CD-107DF98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A934-4ABC-4CB8-BB22-65B5ABEA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68C4-AD0E-41B7-8179-1AA80FC1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2185-BB9F-430B-A8F8-1D99F6AA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AD3A-0909-4E78-9383-A4F462CD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1BCC-A253-4AF9-97F5-B0661E37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5DC4-9E72-46E5-B632-B8600717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108E-BC7E-4120-BE32-F190B3A2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C7F6-AEE0-4971-89A7-E29B4E25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622-A05E-4DD5-BC36-440CD7B1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F786-132A-4772-8347-72AF35CD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B5313-B0FC-4A4E-A82C-4843924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B7203-8A40-46C7-84A4-9E7F472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C9113-E23F-45FD-9B79-6CB6661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A02E-B587-43E3-9F70-70617814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1DF0-6295-4D3D-BD1D-63081489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46AF-842D-4F58-A569-69378B63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257D5-8749-427D-A4CD-72C9701E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EB44-7398-4FFD-9BF7-85790BFF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ACFFA-EE75-404B-882C-61BA0FE2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4BD-6793-474A-BA13-130F45B5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FABE1-2464-4773-ABBF-62E31BEF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66DA-3888-4533-855F-AF5291F7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A3E5-58EB-4ADB-BD1E-6A2424FF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F560-005E-425D-B4CB-C8056D6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8CCF0-8061-4AB3-B880-360C6B6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1D8D-94BA-4F2E-8EDD-AD3FB340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D682-7A15-492E-A153-28501C85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1FD4F-151B-41B1-87B9-265CFE2E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601EE-1D6A-496E-824A-BE7C8B95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F4248-2506-4083-B299-C35443EC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9E7-DF4A-4478-903A-830F3907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32CCC-5BA7-4A03-96B4-B3163C12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BE15-0B69-4464-9AE3-12B9C6C6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9554-5984-4E21-9CEE-029CAAE4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64892-F154-4D48-8E07-61A6321B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5A9A4-692C-4CB9-8E12-A8BCE7CF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3557B-E6F1-4211-8BC8-CE256DCC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5B67-A668-427E-B1BD-F884352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C81B6-AC10-44DC-9B95-6AE6AD6B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56FF6-46EA-4C56-9098-DCCB7B6B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5155D-A801-4248-A86D-C59484D9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DF3-7B0B-4F4C-B067-9A45939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7648F-392C-4F64-BDD5-03DBAC97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6B4-314A-4287-9E02-0360E33D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F6A-E053-4928-AA2D-84C24FB9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1B4-6637-4849-B80D-956B3FA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6DB6E-92B1-42F8-ADD7-F6E079051D27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1619280" y="187200"/>
            <a:ext cx="7346880" cy="6483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F7CCB-DB55-48B0-99FE-C03D0CA2545B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55903-69D6-442E-A594-8EBEB99E8D7A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35415-D2B0-4BE1-AF31-32D30C397FD6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540AA-3290-437F-BC92-850912DFC0BE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226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311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7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Afbeelding 11" descr="Leeuwenborgh_ACHTER.png"/>
          <p:cNvPicPr/>
          <p:nvPr/>
        </p:nvPicPr>
        <p:blipFill>
          <a:blip r:embed="rId2"/>
          <a:stretch/>
        </p:blipFill>
        <p:spPr>
          <a:xfrm>
            <a:off x="168120" y="187200"/>
            <a:ext cx="8788680" cy="6483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09640" y="1098720"/>
            <a:ext cx="823752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7500"/>
            </a:br>
            <a:br>
              <a:rPr sz="7500"/>
            </a:br>
            <a:r>
              <a:rPr b="0" lang="nl-NL" sz="7500" spc="-1" strike="noStrike">
                <a:solidFill>
                  <a:srgbClr val="ff0000"/>
                </a:solidFill>
                <a:latin typeface="Tahoma"/>
                <a:ea typeface="Tahoma"/>
              </a:rPr>
              <a:t>Mondverzorging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15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2327400" y="1392120"/>
            <a:ext cx="4701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TERMINALE FAS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77600" y="1386000"/>
            <a:ext cx="813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Doel mondzorg 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Pijnbestrijding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Bestrijding van ongemakk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Voorkomen van een slechte laatste herinnering 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(slechte adem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7" name="Afbeelding 3" descr=""/>
          <p:cNvPicPr/>
          <p:nvPr/>
        </p:nvPicPr>
        <p:blipFill>
          <a:blip r:embed="rId1"/>
          <a:stretch/>
        </p:blipFill>
        <p:spPr>
          <a:xfrm>
            <a:off x="4357800" y="4151160"/>
            <a:ext cx="3949560" cy="221796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4" descr=""/>
          <p:cNvPicPr/>
          <p:nvPr/>
        </p:nvPicPr>
        <p:blipFill>
          <a:blip r:embed="rId2"/>
          <a:stretch/>
        </p:blipFill>
        <p:spPr>
          <a:xfrm>
            <a:off x="1090440" y="4336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7480" y="288720"/>
            <a:ext cx="680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WERKWIJZ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7120" y="1212840"/>
            <a:ext cx="7947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 x dgs lippen insmeren met vaselin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2x dgs reinigen van de mond vlgs poetsprotoco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mond onderzoek, als iemand nog eet, om restjes te verwijder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x dgs of vaker mond reinigen met een gaasje of sponsje met water of nacl 0,9%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sprayen met chloorhexidine 0,12%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91" name="Afbeelding 3" descr=""/>
          <p:cNvPicPr/>
          <p:nvPr/>
        </p:nvPicPr>
        <p:blipFill>
          <a:blip r:embed="rId1"/>
          <a:stretch/>
        </p:blipFill>
        <p:spPr>
          <a:xfrm>
            <a:off x="6218280" y="5064120"/>
            <a:ext cx="2376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Afbeelding 3" descr=""/>
          <p:cNvPicPr/>
          <p:nvPr/>
        </p:nvPicPr>
        <p:blipFill>
          <a:blip r:embed="rId1"/>
          <a:stretch/>
        </p:blipFill>
        <p:spPr>
          <a:xfrm>
            <a:off x="784080" y="585720"/>
            <a:ext cx="3137040" cy="3730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24000" y="-3108240"/>
            <a:ext cx="331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4000" spc="-1" strike="noStrike">
              <a:solidFill>
                <a:srgbClr val="cd003b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2960" y="5057280"/>
            <a:ext cx="3792240" cy="11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6000" spc="-1" strike="noStrike">
                <a:solidFill>
                  <a:srgbClr val="020e25"/>
                </a:solidFill>
                <a:latin typeface="Verdana"/>
              </a:rPr>
              <a:t>oefenen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kstvak 1"/>
          <p:cNvSpPr/>
          <p:nvPr/>
        </p:nvSpPr>
        <p:spPr>
          <a:xfrm>
            <a:off x="914400" y="600120"/>
            <a:ext cx="7429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arom is een goede tandverzorging zo belangrijk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 behoud van het ge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daling van het aantal mondziekt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 belang voor algemene gezondheid en levenskwaliteit van kwetsbare oude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9" name="Afbeelding 2" descr=""/>
          <p:cNvPicPr/>
          <p:nvPr/>
        </p:nvPicPr>
        <p:blipFill>
          <a:blip r:embed="rId1"/>
          <a:stretch/>
        </p:blipFill>
        <p:spPr>
          <a:xfrm>
            <a:off x="4743360" y="4570560"/>
            <a:ext cx="3011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vak 1"/>
          <p:cNvSpPr/>
          <p:nvPr/>
        </p:nvSpPr>
        <p:spPr>
          <a:xfrm>
            <a:off x="914400" y="600120"/>
            <a:ext cx="772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Mondproblemen herkenne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kunnen signalen zijn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r eten en drink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ichtsverlies / uitdrog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ijn aan de mo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 ade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 tegen warm, koud, zuur, hard voedsel kunn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oge mond of bloed in mo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itsprothese niet meer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oets de tanden ni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ikklacht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" name="Afbeelding 2" descr=""/>
          <p:cNvPicPr/>
          <p:nvPr/>
        </p:nvPicPr>
        <p:blipFill>
          <a:blip r:embed="rId1"/>
          <a:stretch/>
        </p:blipFill>
        <p:spPr>
          <a:xfrm>
            <a:off x="6134040" y="41576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kstvak 1"/>
          <p:cNvSpPr/>
          <p:nvPr/>
        </p:nvSpPr>
        <p:spPr>
          <a:xfrm>
            <a:off x="914400" y="333360"/>
            <a:ext cx="7429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ouw taak als verzorgend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gezondheid en -verzorging van cliënt in kaart breng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gen gebit : hoe verzorgt de cliënt het gebit / wat kan de cliënt nog zelf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these : onder/boven of be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mplant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kla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er sprake van een vieze mond geu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vragen of wens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eer 2 x per wee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mond op afwijkingen (lippen / tandvlees / wangslijmvlies / keel / gehemel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Afbeelding 2" descr=""/>
          <p:cNvPicPr/>
          <p:nvPr/>
        </p:nvPicPr>
        <p:blipFill>
          <a:blip r:embed="rId1"/>
          <a:stretch/>
        </p:blipFill>
        <p:spPr>
          <a:xfrm>
            <a:off x="6711840" y="2611440"/>
            <a:ext cx="196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POETS TECHNIEK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19280" y="1801800"/>
            <a:ext cx="680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eerst bovenkaak en daarna onderkaak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uit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ov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inn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voo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achte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ook tussen de kiezen; dagelijks, maar minstens één keer per week met ragers, tandenstokers of flossdraad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76" name="Afbeelding 6" descr=""/>
          <p:cNvPicPr/>
          <p:nvPr/>
        </p:nvPicPr>
        <p:blipFill>
          <a:blip r:embed="rId1"/>
          <a:stretch/>
        </p:blipFill>
        <p:spPr>
          <a:xfrm>
            <a:off x="6354720" y="2801880"/>
            <a:ext cx="2068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00200" y="878040"/>
            <a:ext cx="7770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nl-NL" sz="4600" spc="-1" strike="noStrike">
              <a:solidFill>
                <a:srgbClr val="2a1a00"/>
              </a:solidFill>
              <a:latin typeface="Verdana"/>
            </a:endParaRPr>
          </a:p>
        </p:txBody>
      </p:sp>
      <p:pic>
        <p:nvPicPr>
          <p:cNvPr id="579" name="Mondverzorging voor verzorgenden.mp4" descr=""/>
          <p:cNvPicPr/>
          <p:nvPr/>
        </p:nvPicPr>
        <p:blipFill>
          <a:blip r:embed="rId1"/>
          <a:stretch/>
        </p:blipFill>
        <p:spPr>
          <a:xfrm>
            <a:off x="865080" y="495360"/>
            <a:ext cx="72280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KUNSTGEBIT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82760" y="1344600"/>
            <a:ext cx="7170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ets de prothese 2-3x dgs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achte tanden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speciaal poetsmiddel (evt afwasmiddel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tandpasta, deze schuur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inigingstabletten max. 1x pw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2" name="Afbeelding 4" descr=""/>
          <p:cNvPicPr/>
          <p:nvPr/>
        </p:nvPicPr>
        <p:blipFill>
          <a:blip r:embed="rId1"/>
          <a:stretch/>
        </p:blipFill>
        <p:spPr>
          <a:xfrm>
            <a:off x="5700600" y="4510080"/>
            <a:ext cx="2381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127160" y="1117080"/>
            <a:ext cx="68040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 mond zonder tand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ond spoelen met water na et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x dgs tandvlees en gehemelte poetsen met tandpasta en zachte 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4" name="Afbeelding 3" descr=""/>
          <p:cNvPicPr/>
          <p:nvPr/>
        </p:nvPicPr>
        <p:blipFill>
          <a:blip r:embed="rId1"/>
          <a:srcRect l="733" t="19654" r="0" b="7077"/>
          <a:stretch/>
        </p:blipFill>
        <p:spPr>
          <a:xfrm>
            <a:off x="4695840" y="3279600"/>
            <a:ext cx="30844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3:56:42Z</dcterms:created>
  <dc:creator>Jules Peters</dc:creator>
  <dc:description/>
  <dc:language>en-US</dc:language>
  <cp:lastModifiedBy>Trudy (T.C.C.A.) Schellings</cp:lastModifiedBy>
  <cp:lastPrinted>2013-08-26T13:32:06Z</cp:lastPrinted>
  <dcterms:modified xsi:type="dcterms:W3CDTF">2020-03-24T11:37:47Z</dcterms:modified>
  <cp:revision>742</cp:revision>
  <dc:subject/>
  <dc:title>Dia 1</dc:title>
</cp:coreProperties>
</file>