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53D-5C35-451D-9EC0-3A64509A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3EC-D46B-492A-9061-C2D2173F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3F7-45D1-4070-88E2-DCB79E16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F8E-5531-46B2-A1AE-9983347D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A23-C81A-4F68-A6F5-C4FB4648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827-F3F1-4DCA-92AE-E0B7F5C3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123-F540-4DA5-9C37-4CCBB8C0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757-ADF2-452A-ABFE-D9C641FF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3C5-2FAC-4D0E-A3D6-B9B9A3E9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07E-BB27-4725-80F5-39243E91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374-99D7-4752-9B4A-D0E7E3D1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709-231B-414C-9820-95F046BC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F04D-0DB3-4C69-B004-79F423DD6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Afbeeldingsresultaat voor baggeren"/>
          <p:cNvPicPr/>
          <p:nvPr/>
        </p:nvPicPr>
        <p:blipFill>
          <a:blip r:embed="rId1"/>
          <a:stretch/>
        </p:blipFill>
        <p:spPr>
          <a:xfrm>
            <a:off x="1403280" y="3213000"/>
            <a:ext cx="6118200" cy="344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Afbeeldingsresultaat voor baggeren boskalis"/>
          <p:cNvPicPr/>
          <p:nvPr/>
        </p:nvPicPr>
        <p:blipFill>
          <a:blip r:embed="rId2"/>
          <a:stretch/>
        </p:blipFill>
        <p:spPr>
          <a:xfrm>
            <a:off x="5435640" y="115920"/>
            <a:ext cx="3417840" cy="244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fbeeldingsresultaat voor baggeren"/>
          <p:cNvPicPr/>
          <p:nvPr/>
        </p:nvPicPr>
        <p:blipFill>
          <a:blip r:embed="rId3"/>
          <a:stretch/>
        </p:blipFill>
        <p:spPr>
          <a:xfrm>
            <a:off x="250920" y="260280"/>
            <a:ext cx="3205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 va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voornamelijke doel van het baggeren is het afvoeren en verwijderen van nutrienten en zuren, die onstaan zijn door verschillende manieren van bemesting en verz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fbeeldingsresultaat voor verzuring"/>
          <p:cNvPicPr/>
          <p:nvPr/>
        </p:nvPicPr>
        <p:blipFill>
          <a:blip r:embed="rId1"/>
          <a:stretch/>
        </p:blipFill>
        <p:spPr>
          <a:xfrm>
            <a:off x="2843280" y="4365720"/>
            <a:ext cx="267660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fbeeldingsresultaat voor vermesting"/>
          <p:cNvPicPr/>
          <p:nvPr/>
        </p:nvPicPr>
        <p:blipFill>
          <a:blip r:embed="rId2"/>
          <a:stretch/>
        </p:blipFill>
        <p:spPr>
          <a:xfrm>
            <a:off x="5651640" y="4149720"/>
            <a:ext cx="31176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 en nadele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delen: Het verwijderen van nutrienten en zuren. Dit zorgt in de meeste gevallen voor een betere waterkwalit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delen:Overlast door mechanisch equipement en transport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s op schade aan omgeving en watergang of vijver zoals folievij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water ziet er niet uit na het baggeren en kan sti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preiding van ex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voorbeelden 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werken op de M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schalig doormiddel van een b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en in de polder door middel van een k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fbeeldingsresultaat voor voorbeelden baggeren"/>
          <p:cNvPicPr/>
          <p:nvPr/>
        </p:nvPicPr>
        <p:blipFill>
          <a:blip r:embed="rId1"/>
          <a:stretch/>
        </p:blipFill>
        <p:spPr>
          <a:xfrm>
            <a:off x="6516720" y="2708280"/>
            <a:ext cx="215748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fbeeldingsresultaat voor voorbeelden baggeren"/>
          <p:cNvPicPr/>
          <p:nvPr/>
        </p:nvPicPr>
        <p:blipFill>
          <a:blip r:embed="rId2"/>
          <a:stretch/>
        </p:blipFill>
        <p:spPr>
          <a:xfrm>
            <a:off x="4140360" y="458136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9:14:02Z</dcterms:created>
  <dc:creator>Gebruiker</dc:creator>
  <dc:description/>
  <dc:language>en-US</dc:language>
  <cp:lastModifiedBy>Gebruiker</cp:lastModifiedBy>
  <dcterms:modified xsi:type="dcterms:W3CDTF">2017-11-20T09:25:25Z</dcterms:modified>
  <cp:revision>2</cp:revision>
  <dc:subject/>
  <dc:title>Baggeren</dc:title>
</cp:coreProperties>
</file>