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79D-CA15-4B92-8319-EFAB2B5E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158-7DC7-4854-AA0C-D415F38B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5F8-CBF9-427D-84D8-FD6A85E7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367-553B-4C64-A6B0-83E57857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BC4-9978-4206-ACE3-6B1609DF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13E-88C2-47AE-A6DA-AC36970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591-093D-457D-B490-39C07474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7CA-5427-41ED-B5CE-1BC929F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B08-EBBF-4C3C-8D9C-874AA7F5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C6D-76C6-4573-8A49-2FD29F8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815-20A6-4549-A5FF-03E1567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0C3-523C-45BF-B86F-E938349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E250-5054-4BD3-BB58-3F5684B1F7C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vilanskickprotocollen.nl/iDocument/?DocumentID=0c7cacab-9821-4f70-b212-6ead9c334e96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nimed.co.uk/Portals/10/images/Instillagel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Katheteris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280" y="3886200"/>
            <a:ext cx="50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n en vrou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324000" y="3886200"/>
            <a:ext cx="57816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Zorgverle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FECTIE GEV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ronnen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 ruimte tussen de blaaskatheter en de 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verwisselen van het drainage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onvoldoende aseptisch handelen bij het leegmaken van de urine-opvangz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andachtspun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wassen” genitale geb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zorgvrager over steriel han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bserv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4716360" y="3887640"/>
            <a:ext cx="35704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rainagesyste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neopvangzak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7" descr="14716917"/>
          <p:cNvPicPr/>
          <p:nvPr/>
        </p:nvPicPr>
        <p:blipFill>
          <a:blip r:embed="rId1"/>
          <a:stretch/>
        </p:blipFill>
        <p:spPr>
          <a:xfrm>
            <a:off x="2556000" y="3508200"/>
            <a:ext cx="1704960" cy="168624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" descr=""/>
          <p:cNvPicPr/>
          <p:nvPr/>
        </p:nvPicPr>
        <p:blipFill>
          <a:blip r:embed="rId2"/>
          <a:stretch/>
        </p:blipFill>
        <p:spPr>
          <a:xfrm>
            <a:off x="108000" y="32796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74" name="Afbeelding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55520" y="579600"/>
            <a:ext cx="9455040" cy="21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Aandachtspunten drainagesyste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Niet vloer laten r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vangzak lager dan de bla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sinfectie drainagesysteem bij losschieten 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ak vervangen volgens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Afbeelding 1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22912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2" descr=""/>
          <p:cNvPicPr/>
          <p:nvPr/>
        </p:nvPicPr>
        <p:blipFill>
          <a:blip r:embed="rId2"/>
          <a:stretch/>
        </p:blipFill>
        <p:spPr>
          <a:xfrm>
            <a:off x="4356000" y="45435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iure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Letten op hoeveelheid, kleur, geur en helder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oly-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≥ 2000ml/24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lig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≤ 500 ml/2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wijderen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Observatie na verwijd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eventuele moeite met urineren, vraag de patiënt hier nadrukkelijk n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spasmen van de bla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het plassen van kleine hoeveelheden (mogelijke residuvorming, ook wel overloopblaas genoemd; de blaas is dan gevuld en loopt via kleine hoeveelheden urine o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Koorts en andere teken van 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Aandachtspunten verwijd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continentie en 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ijnlijk branderig gev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Tijdstip verwijd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oe ziet de katheter erui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7575ff"/>
                </a:solidFill>
                <a:latin typeface="Arial"/>
              </a:rPr>
              <a:t>Eenmalige katheterisat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3414600" y="3314880"/>
            <a:ext cx="2648160" cy="172368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4" descr=""/>
          <p:cNvPicPr/>
          <p:nvPr/>
        </p:nvPicPr>
        <p:blipFill>
          <a:blip r:embed="rId2"/>
          <a:stretch/>
        </p:blipFill>
        <p:spPr>
          <a:xfrm>
            <a:off x="6443640" y="30225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Afbeelding 5" descr=""/>
          <p:cNvPicPr/>
          <p:nvPr/>
        </p:nvPicPr>
        <p:blipFill>
          <a:blip r:embed="rId3"/>
          <a:stretch/>
        </p:blipFill>
        <p:spPr>
          <a:xfrm>
            <a:off x="385920" y="335268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Eenmalige katheteris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7575ff"/>
                </a:solidFill>
                <a:uFillTx/>
                <a:latin typeface="Arial"/>
              </a:rPr>
              <a:t>Intermitterende katheteris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Arial"/>
              </a:rPr>
              <a:t>( enkele malen per da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dica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warslae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pina bif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ultiple scler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igmoïd-rectum chiru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7575ff"/>
                </a:solidFill>
                <a:latin typeface="Arial"/>
              </a:rPr>
              <a:t>Blaasspoele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Afbeelding 3" descr=""/>
          <p:cNvPicPr/>
          <p:nvPr/>
        </p:nvPicPr>
        <p:blipFill>
          <a:blip r:embed="rId1"/>
          <a:stretch/>
        </p:blipFill>
        <p:spPr>
          <a:xfrm>
            <a:off x="3151080" y="2565360"/>
            <a:ext cx="2811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72010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Open syste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et sp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riel water en steriel bak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eds nieuwe spuit bij herhalen van han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Afbeelding 1" descr=""/>
          <p:cNvPicPr/>
          <p:nvPr/>
        </p:nvPicPr>
        <p:blipFill>
          <a:blip r:embed="rId1"/>
          <a:stretch/>
        </p:blipFill>
        <p:spPr>
          <a:xfrm>
            <a:off x="6669000" y="1989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-2403720"/>
            <a:ext cx="8510400" cy="950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Gesloten systeem</a:t>
            </a:r>
            <a:br>
              <a:rPr sz="4000"/>
            </a:br>
            <a:br>
              <a:rPr sz="40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vloeistof op lichaamstemperatuur</a:t>
            </a:r>
            <a:br>
              <a:rPr sz="28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Bij herhalen van handeling nieuw zakje gebruiken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4132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ltijd op aanvraag art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vlokken i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kristallisatie va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bloedstol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95280" y="1554120"/>
          <a:ext cx="8640720" cy="42512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063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4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lopen van de spoelvloeistof. De katheter is verstop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g nieuwe katheter 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vloeistof komt niet teru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eg met ar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of acute pij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ing stoppen en arts waarschuw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Risico’s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ecties bij niet hygiënisch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s://www.vilanskickprotocollen.nl/iDocument/?DocumentID=0c7cacab-9821-4f70-b212-6ead9c334e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uprapubisch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3889440" cy="363852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826920" y="566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Arial"/>
              </a:rPr>
              <a:t>Katheter die via de buikwand rechtstreeks in de blaas zit , wordt ingebracht middels een operat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-841680"/>
            <a:ext cx="8510400" cy="764280"/>
          </a:xfrm>
          <a:prstGeom prst="rect">
            <a:avLst/>
          </a:prstGeom>
          <a:solidFill>
            <a:srgbClr val="0092d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8795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kraan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roogdeppen rondom fi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en infectie; geen splitgaas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ij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gaasjes en evt. chloorhexid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 streek per gaas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an binnen naar buiten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vt splitgaas gebrui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fbeelding 3" descr=""/>
          <p:cNvPicPr/>
          <p:nvPr/>
        </p:nvPicPr>
        <p:blipFill>
          <a:blip r:embed="rId1"/>
          <a:stretch/>
        </p:blipFill>
        <p:spPr>
          <a:xfrm>
            <a:off x="5330880" y="333360"/>
            <a:ext cx="3076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Evalu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527640" cy="44229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4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144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een diagnose te kunnen ste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Microbiologisch onderzoek (urine k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len ret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alde röntgen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therapeutische red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laasspo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Het ledigen van de 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Pre operatief of postoperat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Afwijkingen aan de urinewe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Niet meer spontaan kunnen urineren, retentie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Bij een terminale clië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mplicaties bij het inbreng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1680" y="1660680"/>
          <a:ext cx="8510400" cy="4937040"/>
        </p:xfrm>
        <a:graphic>
          <a:graphicData uri="http://schemas.openxmlformats.org/drawingml/2006/table">
            <a:tbl>
              <a:tblPr/>
              <a:tblGrid>
                <a:gridCol w="4255920"/>
                <a:gridCol w="4254480"/>
              </a:tblGrid>
              <a:tr h="6714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l de cliënt gerust, bied ondersteu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ruik extra glijmidde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brengen door sluitspier van bla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eer de cliënt te zuchten tijdens het doorschuiven van de kathet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e weerstand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opblazen ball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eter verwijderen; in overleg arts nieuwe katheter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17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uit de blaas of de urethr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dere Compl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Cystitis (blaasontste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Diameter (charriere) 12-14-16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Lengte (41 – 2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Materiaal (silicone, lat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ANd9GcRdT9QbXD0ZHI2ofsW5qVKlxsQnKEmt7nIR95ZHq_GQ7KEw-eg&amp;t=1&amp;h=167&amp;w=167&amp;usg=__ifIzhfK3iPhCnJTyz3OioTrxYHE="/>
          <p:cNvPicPr/>
          <p:nvPr/>
        </p:nvPicPr>
        <p:blipFill>
          <a:blip r:embed="rId1"/>
          <a:stretch/>
        </p:blipFill>
        <p:spPr>
          <a:xfrm>
            <a:off x="5651640" y="2276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oorten 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malige kath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blijfskatheter (max 6-10 weken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Katheters om de blaas continu te spo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uprapubisch katheter (max 6-10 wek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ID_108_18_01_2006_812114-Curistay-sillatnel"/>
          <p:cNvPicPr/>
          <p:nvPr/>
        </p:nvPicPr>
        <p:blipFill>
          <a:blip r:embed="rId1"/>
          <a:stretch/>
        </p:blipFill>
        <p:spPr>
          <a:xfrm>
            <a:off x="7164360" y="399960"/>
            <a:ext cx="17319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9991505_002"/>
          <p:cNvPicPr/>
          <p:nvPr/>
        </p:nvPicPr>
        <p:blipFill>
          <a:blip r:embed="rId1"/>
          <a:stretch/>
        </p:blipFill>
        <p:spPr>
          <a:xfrm>
            <a:off x="1547640" y="1735200"/>
            <a:ext cx="62406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Tips/aandachtspunten bij inbrengen kathet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van Z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dracht arts (uitvoeringsverzo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ygië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Afvloed urine,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max 5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ullen bal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bruik Instillag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org voor ‘n extra set, mocht er iets misg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1960" y="2930400"/>
            <a:ext cx="2702160" cy="19130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46080"/>
            <a:ext cx="990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8:41:14Z</dcterms:created>
  <dc:creator>Leeuwenborgh Opleidingen</dc:creator>
  <dc:description/>
  <dc:language>en-US</dc:language>
  <cp:lastModifiedBy>Trudy (T.C.C.A.) Schellings</cp:lastModifiedBy>
  <dcterms:modified xsi:type="dcterms:W3CDTF">2020-03-20T19:08:39Z</dcterms:modified>
  <cp:revision>48</cp:revision>
  <dc:subject/>
  <dc:title>Katheteriseren</dc:title>
</cp:coreProperties>
</file>