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E5B-C781-42B5-9312-F94F2887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EE3-42E7-4B26-8D6E-8FCBE49C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CDD-787D-44ED-AA6E-0A4FDFED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3BA-4643-48F6-9E7D-362099DA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E02-F0A1-4CF9-BFC5-3017CE52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A0D-106C-4BDF-A859-A79E62B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305-DD85-46FD-AE50-1A37EE8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C4A-4FA2-487F-A954-42CDE0AB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4E7-B213-4D4C-B480-A3212B0E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CE6-04C4-4E02-B52B-18954E0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2A5-F792-4024-9A3E-99551E3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DF9-7041-4515-BA99-BA7A8F9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928-2052-4D3A-8888-6541F2FE34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vilanskickprotocollen.nl/iDocument/?DocumentID=0c7cacab-9821-4f70-b212-6ead9c334e96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nimed.co.uk/Portals/10/images/Instillagel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Katheteris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3886200"/>
            <a:ext cx="50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n en vrou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324000" y="3886200"/>
            <a:ext cx="57816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Zorgverle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FECTIE GEV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ronnen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 ruimte tussen de blaaskatheter en de 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verwisselen van het drainage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t onvoldoende aseptisch handelen bij het leegmaken van de urine-opvangz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andachtspunt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wassen” genitale geb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zorgvrager over steriel hand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bserv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4716360" y="3887640"/>
            <a:ext cx="35704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rainagesyste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neopvangzak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7575ff"/>
                </a:solidFill>
                <a:latin typeface="Arial"/>
              </a:rPr>
              <a:t>Uri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7" descr="14716917"/>
          <p:cNvPicPr/>
          <p:nvPr/>
        </p:nvPicPr>
        <p:blipFill>
          <a:blip r:embed="rId1"/>
          <a:stretch/>
        </p:blipFill>
        <p:spPr>
          <a:xfrm>
            <a:off x="2556000" y="3508200"/>
            <a:ext cx="1704960" cy="168624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" descr=""/>
          <p:cNvPicPr/>
          <p:nvPr/>
        </p:nvPicPr>
        <p:blipFill>
          <a:blip r:embed="rId2"/>
          <a:stretch/>
        </p:blipFill>
        <p:spPr>
          <a:xfrm>
            <a:off x="108000" y="32796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55520" y="579600"/>
            <a:ext cx="9455040" cy="21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Aandachtspunten drainagesyste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Niet vloer laten 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vangzak lager dan de bla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esinfectie drainagesysteem bij losschieten sy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ak vervangen volgens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22912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2" descr=""/>
          <p:cNvPicPr/>
          <p:nvPr/>
        </p:nvPicPr>
        <p:blipFill>
          <a:blip r:embed="rId2"/>
          <a:stretch/>
        </p:blipFill>
        <p:spPr>
          <a:xfrm>
            <a:off x="4356000" y="45435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Diure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Letten op hoeveelheid, kleur, geur en helder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oly-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≥ 2000ml/24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ligurie </a:t>
            </a:r>
            <a:r>
              <a:rPr b="0" lang="nl-NL" sz="2800" spc="-1" strike="noStrike">
                <a:solidFill>
                  <a:srgbClr val="4d4d4d"/>
                </a:solidFill>
                <a:latin typeface="Arial"/>
                <a:ea typeface="Arial"/>
              </a:rPr>
              <a:t>≤ 500 ml/2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wijderen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Observatie na verwijd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eventuele moeite met urineren, vraag de patiënt hier nadrukkelijk n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spasmen van de bla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het plassen van kleine hoeveelheden (mogelijke residuvorming, ook wel overloopblaas genoemd; de blaas is dan gevuld en loopt via kleine hoeveelheden urine 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d4d4d"/>
                </a:solidFill>
                <a:latin typeface="Arial"/>
              </a:rPr>
              <a:t>Koorts en andere teken van 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Aandachtspunten verwijder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continentie en 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Pijnlijk branderig gev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Tijdstip verwij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oe ziet de katheter eru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7575ff"/>
                </a:solidFill>
                <a:latin typeface="Arial"/>
              </a:rPr>
              <a:t>Eenmalige katheterisat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3414600" y="3314880"/>
            <a:ext cx="2648160" cy="172368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4" descr=""/>
          <p:cNvPicPr/>
          <p:nvPr/>
        </p:nvPicPr>
        <p:blipFill>
          <a:blip r:embed="rId2"/>
          <a:stretch/>
        </p:blipFill>
        <p:spPr>
          <a:xfrm>
            <a:off x="6443640" y="30225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5" descr=""/>
          <p:cNvPicPr/>
          <p:nvPr/>
        </p:nvPicPr>
        <p:blipFill>
          <a:blip r:embed="rId3"/>
          <a:stretch/>
        </p:blipFill>
        <p:spPr>
          <a:xfrm>
            <a:off x="385920" y="3352680"/>
            <a:ext cx="2714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Eenmalige katheteris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7575ff"/>
                </a:solidFill>
                <a:uFillTx/>
                <a:latin typeface="Arial"/>
              </a:rPr>
              <a:t>Intermitterende kathete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Arial"/>
              </a:rPr>
              <a:t>( enkele malen per da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d4d4d"/>
                </a:solidFill>
                <a:uFillTx/>
                <a:latin typeface="Arial"/>
              </a:rPr>
              <a:t>Indica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warslae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pina bif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ultiple scler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igmoïd-rectum chiru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7575ff"/>
                </a:solidFill>
                <a:latin typeface="Arial"/>
              </a:rPr>
              <a:t>Blaasspoele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3151080" y="2565360"/>
            <a:ext cx="2811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72010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Open syste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Met sp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riel water en steriel bak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teeds nieuwe spuit bij herhalen van han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Afbeelding 1" descr=""/>
          <p:cNvPicPr/>
          <p:nvPr/>
        </p:nvPicPr>
        <p:blipFill>
          <a:blip r:embed="rId1"/>
          <a:stretch/>
        </p:blipFill>
        <p:spPr>
          <a:xfrm>
            <a:off x="6669000" y="1989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-2403720"/>
            <a:ext cx="8510400" cy="950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7575ff"/>
                </a:solidFill>
                <a:latin typeface="Arial"/>
              </a:rPr>
              <a:t>Gesloten systeem</a:t>
            </a:r>
            <a:br>
              <a:rPr sz="4000"/>
            </a:br>
            <a:br>
              <a:rPr sz="40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vloeistof op lichaamstemperatuur</a:t>
            </a:r>
            <a:br>
              <a:rPr sz="2800"/>
            </a:b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* Bij herhalen van handeling nieuw zakje gebruiken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4132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Altijd op aanvraag art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vlokken i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kristallisatie van de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Bij bloedstol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95280" y="1554120"/>
          <a:ext cx="8640720" cy="42512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0638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2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lopen van de spoelvloeistof. De katheter is verstop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g nieuwe katheter 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vloeistof komt niet ter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eg met ar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of acute pij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eling stoppen en arts waarschuw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Risico’s blaasspoel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ecties bij niet hygiënisch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s://www.vilanskickprotocollen.nl/iDocument/?DocumentID=0c7cacab-9821-4f70-b212-6ead9c334e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uprapubisch kath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3889440" cy="363852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826920" y="566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Arial"/>
              </a:rPr>
              <a:t>Katheter die via de buikwand rechtstreeks in de blaas zit , wordt ingebracht middels een operat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-841680"/>
            <a:ext cx="8510400" cy="764280"/>
          </a:xfrm>
          <a:prstGeom prst="rect">
            <a:avLst/>
          </a:prstGeom>
          <a:solidFill>
            <a:srgbClr val="0092d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8795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kraan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Droogdeppen rondom f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en infectie; geen splitgaas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ij infecti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zorgen met gaasjes en evt. chloorhexid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 streek per gaas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an binnen naar buiten wer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vt splitgaas gebrui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Afbeelding 3" descr=""/>
          <p:cNvPicPr/>
          <p:nvPr/>
        </p:nvPicPr>
        <p:blipFill>
          <a:blip r:embed="rId1"/>
          <a:stretch/>
        </p:blipFill>
        <p:spPr>
          <a:xfrm>
            <a:off x="5330880" y="333360"/>
            <a:ext cx="3076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Evaluat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7640" cy="44229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4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d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144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een diagnose te kunnen ste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Microbiologisch onderzoek (urine k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len ret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epaalde röntgen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Om therapeutische rede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Blaasspo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Het ledigen van de 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Pre operatief of postoperati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Afwijkingen aan de urinewe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d4d4d"/>
                </a:solidFill>
                <a:latin typeface="Arial"/>
                <a:ea typeface="Arial"/>
              </a:rPr>
              <a:t>Niet meer spontaan kunnen urineren, retentiebl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Bij een terminale clië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mplicaties bij het inbreng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1680" y="1660680"/>
          <a:ext cx="8510400" cy="4937040"/>
        </p:xfrm>
        <a:graphic>
          <a:graphicData uri="http://schemas.openxmlformats.org/drawingml/2006/table">
            <a:tbl>
              <a:tblPr/>
              <a:tblGrid>
                <a:gridCol w="4255920"/>
                <a:gridCol w="4254480"/>
              </a:tblGrid>
              <a:tr h="67140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ies tijdens de hande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elwij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l de cliënt gerust, bied ondersteu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uik extra glijmidde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stand tijdens inbrengen door sluitspier van bla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eer de cliënt te zuchten tijdens het doorschuiven van de kathet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e weerstand tijdens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452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 tijdens opblazen ball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eter verwijderen; in overleg arts nieuwe katheter inbren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ding uit de blaas of de urethr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ëindig de handeling; licht de arts 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Verdere Complicat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Cystitis (blaasontste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Blaaskram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7e7ff"/>
                </a:solidFill>
                <a:latin typeface="Arial"/>
              </a:rPr>
              <a:t>Blaas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Diameter (charriere) 12-14-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Lengte (41 – 2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d4d4d"/>
                </a:solidFill>
                <a:latin typeface="Arial"/>
              </a:rPr>
              <a:t>Materiaal (silicone, lat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ANd9GcRdT9QbXD0ZHI2ofsW5qVKlxsQnKEmt7nIR95ZHq_GQ7KEw-eg&amp;t=1&amp;h=167&amp;w=167&amp;usg=__ifIzhfK3iPhCnJTyz3OioTrxYHE="/>
          <p:cNvPicPr/>
          <p:nvPr/>
        </p:nvPicPr>
        <p:blipFill>
          <a:blip r:embed="rId1"/>
          <a:stretch/>
        </p:blipFill>
        <p:spPr>
          <a:xfrm>
            <a:off x="5651640" y="2276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Soorten kathet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Eenmalige kath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erblijfskatheter (max 6-10 weken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Katheters om de blaas continu te spo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Suprapubisch katheter (max 6-10 wek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4608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ID_108_18_01_2006_812114-Curistay-sillatnel"/>
          <p:cNvPicPr/>
          <p:nvPr/>
        </p:nvPicPr>
        <p:blipFill>
          <a:blip r:embed="rId1"/>
          <a:stretch/>
        </p:blipFill>
        <p:spPr>
          <a:xfrm>
            <a:off x="7164360" y="399960"/>
            <a:ext cx="1731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9991505_002"/>
          <p:cNvPicPr/>
          <p:nvPr/>
        </p:nvPicPr>
        <p:blipFill>
          <a:blip r:embed="rId1"/>
          <a:stretch/>
        </p:blipFill>
        <p:spPr>
          <a:xfrm>
            <a:off x="1547640" y="1735200"/>
            <a:ext cx="62406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7e7ff"/>
                </a:solidFill>
                <a:latin typeface="Arial"/>
              </a:rPr>
              <a:t>Tips/aandachtspunten bij inbrengen kathet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Informeren van Z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Opdracht arts (uitvoeringsverzo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ygië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Afvloed urine,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max 5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Vullen bal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Gebruik Instillag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Zorg voor ‘n extra set, mocht er iets mis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1960" y="2930400"/>
            <a:ext cx="2702160" cy="1913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155520" y="46080"/>
            <a:ext cx="990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8:41:14Z</dcterms:created>
  <dc:creator>Leeuwenborgh Opleidingen</dc:creator>
  <dc:description/>
  <dc:language>en-US</dc:language>
  <cp:lastModifiedBy>Trudy (T.C.C.A.) Schellings</cp:lastModifiedBy>
  <dcterms:modified xsi:type="dcterms:W3CDTF">2020-03-20T19:08:39Z</dcterms:modified>
  <cp:revision>48</cp:revision>
  <dc:subject/>
  <dc:title>Katheteriseren</dc:title>
</cp:coreProperties>
</file>