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F00-E765-46BC-A50F-59339891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F97-B98D-49D8-983B-8A8C07F9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51F-8744-4FF9-8201-7DB21238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F0D-9AEE-4BEC-850C-8D50BBF2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0BA-99E7-4EF6-B2EB-BA6EC37E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325-48C5-4FE5-8953-BC2F8F01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2D2-6EF0-4A92-8379-A39AFA36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74E-EDC3-43E2-A1AA-58F21266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6AC-6057-4931-AE21-58D83E61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2D2-A8C5-426E-A242-F8AA5C77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D8E-83C4-4D55-83E7-7DACDCF8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61D-54BF-4483-85A2-1B6AF614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668C-116F-484C-836B-2F44109BE46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www.vilanskickprotocollen.nl/iDocument/?DocumentID=0c7cacab-9821-4f70-b212-6ead9c334e96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nimed.co.uk/Portals/10/images/Instillagel9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Katheteriser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71280" y="3886200"/>
            <a:ext cx="500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n en vrou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Afbeelding 1" descr=""/>
          <p:cNvPicPr/>
          <p:nvPr/>
        </p:nvPicPr>
        <p:blipFill>
          <a:blip r:embed="rId1"/>
          <a:stretch/>
        </p:blipFill>
        <p:spPr>
          <a:xfrm>
            <a:off x="324000" y="3886200"/>
            <a:ext cx="57816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Zorgverlen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4d4d4d"/>
                </a:solidFill>
                <a:uFillTx/>
                <a:latin typeface="Arial"/>
              </a:rPr>
              <a:t>INFECTIE GEV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ronnen infecti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e ruimte tussen de blaaskatheter en de ureth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et verwisselen van het drainagesy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et onvoldoende aseptisch handelen bij het leegmaken van de urine-opvangz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Aandachtspunt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wassen” genitale geb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formeren zorgvrager over steriel hand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bserv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Afbeelding 1" descr=""/>
          <p:cNvPicPr/>
          <p:nvPr/>
        </p:nvPicPr>
        <p:blipFill>
          <a:blip r:embed="rId1"/>
          <a:stretch/>
        </p:blipFill>
        <p:spPr>
          <a:xfrm>
            <a:off x="4716360" y="3887640"/>
            <a:ext cx="35704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Drainagesystee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Urineopvangzak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Uri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7" descr="14716917"/>
          <p:cNvPicPr/>
          <p:nvPr/>
        </p:nvPicPr>
        <p:blipFill>
          <a:blip r:embed="rId1"/>
          <a:stretch/>
        </p:blipFill>
        <p:spPr>
          <a:xfrm>
            <a:off x="2556000" y="3508200"/>
            <a:ext cx="1704960" cy="168624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1" descr=""/>
          <p:cNvPicPr/>
          <p:nvPr/>
        </p:nvPicPr>
        <p:blipFill>
          <a:blip r:embed="rId2"/>
          <a:stretch/>
        </p:blipFill>
        <p:spPr>
          <a:xfrm>
            <a:off x="108000" y="327960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74" name="Afbeelding 2" descr=""/>
          <p:cNvPicPr/>
          <p:nvPr/>
        </p:nvPicPr>
        <p:blipFill>
          <a:blip r:embed="rId3"/>
          <a:stretch/>
        </p:blipFill>
        <p:spPr>
          <a:xfrm>
            <a:off x="5219640" y="2421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55520" y="579600"/>
            <a:ext cx="9455040" cy="21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7e7ff"/>
                </a:solidFill>
                <a:latin typeface="Arial"/>
              </a:rPr>
              <a:t>Aandachtspunten drainagesystee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Niet vloer laten ra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pvangzak lager dan de bla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esinfectie drainagesysteem bij losschieten sy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Zak vervangen volgens proto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Afbeelding 1" descr=""/>
          <p:cNvPicPr/>
          <p:nvPr/>
        </p:nvPicPr>
        <p:blipFill>
          <a:blip r:embed="rId1"/>
          <a:stretch/>
        </p:blipFill>
        <p:spPr>
          <a:xfrm>
            <a:off x="900000" y="4653000"/>
            <a:ext cx="222912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2" descr=""/>
          <p:cNvPicPr/>
          <p:nvPr/>
        </p:nvPicPr>
        <p:blipFill>
          <a:blip r:embed="rId2"/>
          <a:stretch/>
        </p:blipFill>
        <p:spPr>
          <a:xfrm>
            <a:off x="4356000" y="45435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Diures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Letten op hoeveelheid, kleur, geur en helderhe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Poly-urie </a:t>
            </a:r>
            <a:r>
              <a:rPr b="0" lang="nl-NL" sz="2800" spc="-1" strike="noStrike">
                <a:solidFill>
                  <a:srgbClr val="4d4d4d"/>
                </a:solidFill>
                <a:latin typeface="Arial"/>
                <a:ea typeface="Arial"/>
              </a:rPr>
              <a:t>≥ 2000ml/24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ligurie </a:t>
            </a:r>
            <a:r>
              <a:rPr b="0" lang="nl-NL" sz="2800" spc="-1" strike="noStrike">
                <a:solidFill>
                  <a:srgbClr val="4d4d4d"/>
                </a:solidFill>
                <a:latin typeface="Arial"/>
                <a:ea typeface="Arial"/>
              </a:rPr>
              <a:t>≤ 500 ml/2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Verwijderen kath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Observatie na verwijd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eventuele moeite met urineren, vraag de patiënt hier nadrukkelijk n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spasmen van de bla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het plassen van kleine hoeveelheden (mogelijke residuvorming, ook wel overloopblaas genoemd; de blaas is dan gevuld en loopt via kleine hoeveelheden urine o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Koorts en andere teken van 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Aandachtspunten verwijder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continentie en 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Pijnlijk branderig gevo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Tijdstip verwijd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oe ziet de katheter erui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7575ff"/>
                </a:solidFill>
                <a:latin typeface="Arial"/>
              </a:rPr>
              <a:t>Eenmalige katheterisati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Afbeelding 3" descr=""/>
          <p:cNvPicPr/>
          <p:nvPr/>
        </p:nvPicPr>
        <p:blipFill>
          <a:blip r:embed="rId1"/>
          <a:stretch/>
        </p:blipFill>
        <p:spPr>
          <a:xfrm>
            <a:off x="3414600" y="3314880"/>
            <a:ext cx="2648160" cy="1723680"/>
          </a:xfrm>
          <a:prstGeom prst="rect">
            <a:avLst/>
          </a:prstGeom>
          <a:ln w="0">
            <a:noFill/>
          </a:ln>
        </p:spPr>
      </p:pic>
      <p:pic>
        <p:nvPicPr>
          <p:cNvPr id="87" name="Afbeelding 4" descr=""/>
          <p:cNvPicPr/>
          <p:nvPr/>
        </p:nvPicPr>
        <p:blipFill>
          <a:blip r:embed="rId2"/>
          <a:stretch/>
        </p:blipFill>
        <p:spPr>
          <a:xfrm>
            <a:off x="6443640" y="302256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8" name="Afbeelding 5" descr=""/>
          <p:cNvPicPr/>
          <p:nvPr/>
        </p:nvPicPr>
        <p:blipFill>
          <a:blip r:embed="rId3"/>
          <a:stretch/>
        </p:blipFill>
        <p:spPr>
          <a:xfrm>
            <a:off x="385920" y="3352680"/>
            <a:ext cx="27144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Eenmalige katheterisat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7575ff"/>
                </a:solidFill>
                <a:uFillTx/>
                <a:latin typeface="Arial"/>
              </a:rPr>
              <a:t>Intermitterende katheteris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Arial"/>
              </a:rPr>
              <a:t>( enkele malen per dag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4d4d4d"/>
                </a:solidFill>
                <a:uFillTx/>
                <a:latin typeface="Arial"/>
              </a:rPr>
              <a:t>Indica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warslaes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pina bif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Multiple scler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igmoïd-rectum chirur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7575ff"/>
                </a:solidFill>
                <a:latin typeface="Arial"/>
              </a:rPr>
              <a:t>Blaasspoelen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Afbeelding 3" descr=""/>
          <p:cNvPicPr/>
          <p:nvPr/>
        </p:nvPicPr>
        <p:blipFill>
          <a:blip r:embed="rId1"/>
          <a:stretch/>
        </p:blipFill>
        <p:spPr>
          <a:xfrm>
            <a:off x="3151080" y="2565360"/>
            <a:ext cx="28116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26920" y="1419120"/>
            <a:ext cx="720108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Blaasspoel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nl-NL" sz="4000" spc="-1" strike="noStrike">
                <a:solidFill>
                  <a:srgbClr val="7575ff"/>
                </a:solidFill>
                <a:latin typeface="Arial"/>
              </a:rPr>
              <a:t>Open syste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Met sp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teriel water en steriel bak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teeds nieuwe spuit bij herhalen van hand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Afbeelding 1" descr=""/>
          <p:cNvPicPr/>
          <p:nvPr/>
        </p:nvPicPr>
        <p:blipFill>
          <a:blip r:embed="rId1"/>
          <a:stretch/>
        </p:blipFill>
        <p:spPr>
          <a:xfrm>
            <a:off x="6669000" y="1989000"/>
            <a:ext cx="2143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-2403720"/>
            <a:ext cx="8510400" cy="950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7575ff"/>
                </a:solidFill>
                <a:latin typeface="Arial"/>
              </a:rPr>
              <a:t>Gesloten systeem</a:t>
            </a:r>
            <a:br>
              <a:rPr sz="4000"/>
            </a:br>
            <a:br>
              <a:rPr sz="4000"/>
            </a:b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* vloeistof op lichaamstemperatuur</a:t>
            </a:r>
            <a:br>
              <a:rPr sz="2800"/>
            </a:b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* Bij herhalen van handeling nieuw zakje gebruiken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441324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dicatie blaasspoel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Altijd op aanvraag art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Bij vlokken in de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Bij kristallisatie van de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Bij bloedstols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95280" y="1554120"/>
          <a:ext cx="8640720" cy="425124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10638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caties tijdens de hande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elwij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42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rstand tijdens inlopen van de spoelvloeistof. De katheter is verstop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g nieuwe katheter 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elvloeistof komt niet teru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leg met ar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620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eding of acute pij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eling stoppen en arts waarschuw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Risico’s blaasspoel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laaskram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fecties bij niet hygiënisch wer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s://www.vilanskickprotocollen.nl/iDocument/?DocumentID=0c7cacab-9821-4f70-b212-6ead9c334e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Suprapubisch kath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3889440" cy="3638520"/>
          </a:xfrm>
          <a:prstGeom prst="rect">
            <a:avLst/>
          </a:prstGeom>
          <a:ln w="0">
            <a:noFill/>
          </a:ln>
        </p:spPr>
      </p:pic>
      <p:sp>
        <p:nvSpPr>
          <p:cNvPr id="105" name="Tekstvak 2"/>
          <p:cNvSpPr/>
          <p:nvPr/>
        </p:nvSpPr>
        <p:spPr>
          <a:xfrm>
            <a:off x="826920" y="5661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Arial"/>
              </a:rPr>
              <a:t>Katheter die via de buikwand rechtstreeks in de blaas zit , wordt ingebracht middels een operati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-841680"/>
            <a:ext cx="8510400" cy="764280"/>
          </a:xfrm>
          <a:prstGeom prst="rect">
            <a:avLst/>
          </a:prstGeom>
          <a:solidFill>
            <a:srgbClr val="0092d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879560"/>
            <a:ext cx="854064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erzorgen met kraan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roogdeppen rondom fis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Geen infectie; geen splitgaas nod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ij infecti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erzorgen met gaasjes en evt. chloorhexid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Een streek per gaas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an binnen naar buiten wer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Evt splitgaas gebrui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Afbeelding 3" descr=""/>
          <p:cNvPicPr/>
          <p:nvPr/>
        </p:nvPicPr>
        <p:blipFill>
          <a:blip r:embed="rId1"/>
          <a:stretch/>
        </p:blipFill>
        <p:spPr>
          <a:xfrm>
            <a:off x="5330880" y="333360"/>
            <a:ext cx="3076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Evaluat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527640" cy="4422960"/>
          </a:xfrm>
          <a:prstGeom prst="rect">
            <a:avLst/>
          </a:prstGeom>
          <a:ln w="0">
            <a:noFill/>
          </a:ln>
        </p:spPr>
      </p:pic>
      <p:pic>
        <p:nvPicPr>
          <p:cNvPr id="111" name="Afbeelding 4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4286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dicat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1440" y="90792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Om een diagnose te kunnen ste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Microbiologisch onderzoek (urine k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Bepalen ret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Bepaalde röntgenonderzoe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Om therapeutische rede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Blaasspo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Chemothera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Het ledigen van de bl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Pre operatief of postoperat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Afwijkingen aan de urinewe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Niet meer spontaan kunnen urineren, retentiebl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Bij een terminale clië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mplicaties bij het inbreng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1680" y="1660680"/>
          <a:ext cx="8510400" cy="4937040"/>
        </p:xfrm>
        <a:graphic>
          <a:graphicData uri="http://schemas.openxmlformats.org/drawingml/2006/table">
            <a:tbl>
              <a:tblPr/>
              <a:tblGrid>
                <a:gridCol w="4255920"/>
                <a:gridCol w="4254480"/>
              </a:tblGrid>
              <a:tr h="6714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caties tijdens de hande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elwij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452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jn tijdens inbren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l de cliënt gerust, bied ondersteunin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ruik extra glijmidde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48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rstand tijdens inbrengen door sluitspier van bla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seer de cliënt te zuchten tijdens het doorschuiven van de kathet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69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normale weerstand tijdens inbren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ëindig de handeling; licht de arts 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452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jn tijdens opblazen ball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eter verwijderen; in overleg arts nieuwe katheter inbren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17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eding uit de blaas of de urethr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ëindig de handeling; licht de arts 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Verdere Complicat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Cystitis (blaasontstek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laaskram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Blaaskathet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Diameter (charriere) 12-14-16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Lengte (41 – 20 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Materiaal (silicone, late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7" descr="ANd9GcRdT9QbXD0ZHI2ofsW5qVKlxsQnKEmt7nIR95ZHq_GQ7KEw-eg&amp;t=1&amp;h=167&amp;w=167&amp;usg=__ifIzhfK3iPhCnJTyz3OioTrxYHE="/>
          <p:cNvPicPr/>
          <p:nvPr/>
        </p:nvPicPr>
        <p:blipFill>
          <a:blip r:embed="rId1"/>
          <a:stretch/>
        </p:blipFill>
        <p:spPr>
          <a:xfrm>
            <a:off x="5651640" y="2276640"/>
            <a:ext cx="30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Soorten kathet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Eenmalige kath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erblijfskatheter (max 6-10 weken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Katheters om de blaas continu te spo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uprapubisch katheter (max 6-10 wek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5" descr="ID_108_18_01_2006_812114-Curistay-sillatnel"/>
          <p:cNvPicPr/>
          <p:nvPr/>
        </p:nvPicPr>
        <p:blipFill>
          <a:blip r:embed="rId1"/>
          <a:stretch/>
        </p:blipFill>
        <p:spPr>
          <a:xfrm>
            <a:off x="7164360" y="399960"/>
            <a:ext cx="17319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9991505_002"/>
          <p:cNvPicPr/>
          <p:nvPr/>
        </p:nvPicPr>
        <p:blipFill>
          <a:blip r:embed="rId1"/>
          <a:stretch/>
        </p:blipFill>
        <p:spPr>
          <a:xfrm>
            <a:off x="1547640" y="1735200"/>
            <a:ext cx="624060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7e7ff"/>
                </a:solidFill>
                <a:latin typeface="Arial"/>
              </a:rPr>
              <a:t>Tips/aandachtspunten bij inbrengen katheter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formeren van Z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pdracht arts (uitvoeringsverzo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ygië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Afvloed urine, 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max 500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ullen bal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Gebruik Instillag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Zorg voor ‘n extra set, mocht er iets misg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1960" y="2930400"/>
            <a:ext cx="2702160" cy="19130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/>
          <p:cNvSpPr/>
          <p:nvPr/>
        </p:nvSpPr>
        <p:spPr>
          <a:xfrm>
            <a:off x="155520" y="46080"/>
            <a:ext cx="990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8:41:14Z</dcterms:created>
  <dc:creator>Leeuwenborgh Opleidingen</dc:creator>
  <dc:description/>
  <dc:language>en-US</dc:language>
  <cp:lastModifiedBy>Trudy (T.C.C.A.) Schellings</cp:lastModifiedBy>
  <dcterms:modified xsi:type="dcterms:W3CDTF">2020-03-20T19:08:39Z</dcterms:modified>
  <cp:revision>48</cp:revision>
  <dc:subject/>
  <dc:title>Katheteriseren</dc:title>
</cp:coreProperties>
</file>