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0B4-A3D4-4CF7-8FC4-34B70141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DCD-EDDD-44D9-815F-B8DF381E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C4D-78A2-4887-8347-977231DF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D2B-A9A5-4394-BEBA-43DB2211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74F5-4809-4A34-8129-ABC08707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FF80-6C69-401D-BA2E-AC62217D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6E20-5DCD-4988-ACC9-5085506E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2F97-7A45-4856-B1B2-E4526591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1224-B4B7-4922-B960-6920ACF3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61DC-D78B-4C2A-B840-DB0DB60F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FC56-879E-4527-8069-6BE3E74E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32D-B618-4918-9D22-EC21B1F0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CBC8-51E8-4E5B-A4BE-E11ACC88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BC6B-311B-49BC-B13D-E6CA8435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0F48-47AA-4F96-9364-B4E72E75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084D-ED7E-4788-AB34-10DDEF0C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DD88-1493-4CC3-892E-26E0CDD0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DF3-9FD8-4F5F-A5DF-ADE4A150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2BD-C9B9-4E21-86F4-800F6927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0874-6C33-4A05-B660-603F6B5F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38E-13C7-486F-969E-631A0AE4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D0F-D6CB-4509-97B0-30DB7382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FFA-E378-4775-B217-1CD54069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AC3-DFEF-40B6-AB4A-064650B0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9EC7-AAB3-4BFB-8840-E67ADE5B681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C7B5-4D6B-4F89-AF58-C3D509F5095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Periode 3 – Kerk(geschiedenis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66280" y="1752480"/>
            <a:ext cx="8001000" cy="426744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3" descr=""/>
          <p:cNvPicPr/>
          <p:nvPr/>
        </p:nvPicPr>
        <p:blipFill>
          <a:blip r:embed="rId2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loos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bouw om je te richten op godsdien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oor mannen: monnik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oor vrouwen: non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7420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daag leer i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een kerk 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hoe de kerk is ontsta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de Rooms-katholieke kerk i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benoemen wat Vaticaanstad 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kloosters zij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ze periode leren/doen w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rk: overeenkomsten/verschill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schiedenis: hoe is de kerk ontstaa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zoek Grote Kerk in Elbur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resentatie over een plaatselijke ker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daag leer i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een kerk 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hoe de kerk is ontsta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de Rooms-katholieke kerk i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benoemen wat Vaticaanstad 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kloosters zij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er lid van een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om di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schiedenis van di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begin (periode 1 – Zending) tot 1500: één ke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ooms-katholieke ke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s: in Ro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teeds meer strijd om de macht tussen kerk (Paus) en staat (koning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ijk de film en beantwoord de vra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 groot is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de Paus nu preci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ie je als je in Vaticaanstad kom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veel inwoners heeft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s een verschil met de protestants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ome = Vaticaansta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l kle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ttps://www.youtube.com/watch?v=idaMwcsWduI&amp;t=22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 groot is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de Paus nu preci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ie je als je in Vaticaanstad kom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veel inwoners heeft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s een verschil met de protestants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0" y="692280"/>
            <a:ext cx="9244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20:57:11Z</dcterms:created>
  <dc:creator>Nuborgh College</dc:creator>
  <dc:description/>
  <dc:language>en-US</dc:language>
  <cp:lastModifiedBy>Windows-gebruiker</cp:lastModifiedBy>
  <dcterms:modified xsi:type="dcterms:W3CDTF">2022-01-21T10:42:08Z</dcterms:modified>
  <cp:revision>15</cp:revision>
  <dc:subject/>
  <dc:title>Periode 2 – Kerk(geschiedenis)</dc:title>
</cp:coreProperties>
</file>