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A25-D4B7-42C7-922A-598760AE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472-E13A-46E0-96A7-00DF7101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CE3-300C-49A0-B24C-3144FCE8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009-D540-4068-8014-61DEFBC7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AE11-9692-484B-9650-F9CE6523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2AEF-5979-478C-9E99-D04FB462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106C-4FB4-4286-959C-0481BB08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2EA8-1A25-4E98-BAFA-08DF53F8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41DC-E66B-4F9C-BBD5-AF9F5E57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CCAF-195A-4A5A-8EF7-2C620F8A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1665-9B34-4E30-9D58-1B5BB3EC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8DC-67AD-441E-BB66-CF83EEC7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964C-ED7F-4C29-910E-3E903A81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126E-28F4-425B-A66D-4EEF11F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5534-69E7-4182-938C-12C55881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4474-B407-472F-B470-EF773170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F56A-6CF8-4688-81F1-BCE99CF0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F24-A898-4E70-BA3F-6DB83067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EA9-B8C9-45DF-8475-34ED0315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914-129F-44BF-A317-411DDC90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995-68E9-4B4F-94C4-BF336354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8D9-C5E7-411C-934B-5FBB6F4E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24A-0B47-47B6-BA36-C56AE9E8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771-FA0C-42B2-B31D-821D899B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CE76-A184-43CC-A7E5-662C0F07EF7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A765-D565-4928-95DC-4942DE75CA3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Periode 3 – Kerk(geschiedenis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3" descr=""/>
          <p:cNvPicPr/>
          <p:nvPr/>
        </p:nvPicPr>
        <p:blipFill>
          <a:blip r:embed="rId2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loos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uw om je te richten op godsdien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mannen: monnik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vrouwen: non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742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ze periode leren/doen w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rk: overeenkomsten/verschi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schiedenis: hoe is de kerk ontsta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zoek Grote Kerk in Elbu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resentatie over een plaatselijke ker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er lid van een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om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schiedenis van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begin (periode 1 – Zending) tot 1500: één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oms-katholieke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s: in Ro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teeds meer strijd om de macht tussen kerk (Paus) en staat (koning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ijk de film en beantwoord de vra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me = Vaticaansta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l kl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ttps://www.youtube.com/watch?v=idaMwcsWduI&amp;t=22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692280"/>
            <a:ext cx="9244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20:57:11Z</dcterms:created>
  <dc:creator>Nuborgh College</dc:creator>
  <dc:description/>
  <dc:language>en-US</dc:language>
  <cp:lastModifiedBy>Windows-gebruiker</cp:lastModifiedBy>
  <dcterms:modified xsi:type="dcterms:W3CDTF">2022-01-21T10:42:08Z</dcterms:modified>
  <cp:revision>15</cp:revision>
  <dc:subject/>
  <dc:title>Periode 2 – Kerk(geschiedenis)</dc:title>
</cp:coreProperties>
</file>