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854-CF49-489A-8006-FA8D4D32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FEC-A500-4E0E-B690-AF4C81BB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74C-7F35-4156-839F-06CE4678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E13-CE3E-4C65-A85D-1DC0169A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EF23-72E6-4576-A0BF-DDB75DB9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964B-9057-4C19-A287-ED7DA237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A3D5-8891-44A5-9F4D-888541E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60BB-52FB-4C05-B5F7-C8958403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F476-BD96-419D-97B8-2416969D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984C-9C0E-4592-8D54-C406B19C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9D90-BC66-424C-AFEA-D256301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FC0-BC73-4F9E-B5EC-AE45ECF9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8001-A179-4CBC-9F04-F487D207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5C2F-CD30-4F41-895B-110FB48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A94A-6AC8-4EBF-8F2E-D6801000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7E7F-EB3E-4012-8DD9-07EC89A9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7BE4-9E51-4484-BEE8-999CCC23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EAD-BE97-474A-9725-68CC0CF9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D18-BF35-4F9B-96E5-961E1841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636-7B4A-46EF-A2CA-5B693C52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6F3-7705-4A75-B938-6EA9764A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C75-5923-4F49-A3DC-1E0A5104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BD1-16CA-4205-BEA8-331318F0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AB4-61AD-4F83-860C-4BDB458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9AF6-C304-43C4-9ADE-FAE709326A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E037-D9DD-4192-947B-F8B3C07D87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Periode 3 – Kerk(geschiedeni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3" descr=""/>
          <p:cNvPicPr/>
          <p:nvPr/>
        </p:nvPicPr>
        <p:blipFill>
          <a:blip r:embed="rId2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loos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uw om je te richten op godsdien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mannen: monnik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vrouwen: non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42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ze periode leren/doen w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rk: overeenkomsten/verschi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schiedenis: hoe is de kerk ontsta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zoek Grote Kerk in Elbu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resentatie over een plaatselijke ker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er lid van een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om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schiedenis van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begin (periode 1 – Zending) tot 1500: één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oms-katholieke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s: in R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teeds meer strijd om de macht tussen kerk (Paus) en staat (koning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ijk de film en beantwoord de vra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me = Vaticaansta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l kl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ttps://www.youtube.com/watch?v=idaMwcsWduI&amp;t=22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692280"/>
            <a:ext cx="9244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20:57:11Z</dcterms:created>
  <dc:creator>Nuborgh College</dc:creator>
  <dc:description/>
  <dc:language>en-US</dc:language>
  <cp:lastModifiedBy>Windows-gebruiker</cp:lastModifiedBy>
  <dcterms:modified xsi:type="dcterms:W3CDTF">2022-01-21T10:42:08Z</dcterms:modified>
  <cp:revision>15</cp:revision>
  <dc:subject/>
  <dc:title>Periode 2 – Kerk(geschiedenis)</dc:title>
</cp:coreProperties>
</file>