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21BA-97E9-4E7B-A6E7-940024BF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69A-8B62-4F1B-8E92-D17DF71A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65E-7310-4A3F-BD78-BB288D26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FF4-57D4-4732-B4AE-442F065E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B878-D774-4334-A565-EEF57CE6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E3C8-8058-40D4-8827-40140D12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64A1-C0BB-4A57-8416-9B633CE7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9CDD-A4BB-461D-AF59-C9F8A043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1CE3-8AAB-4D50-AD1E-681F2513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409B-B16F-4897-B697-E86E38B0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A854-E4EB-4EFB-837E-3CD619E6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5277-A616-4A62-AD75-66D02EF2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8F0F-AEED-4399-B35E-DD348738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D47F-4BDF-49D1-B152-369B1711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0DC4-0A90-413C-BC60-E6D594E5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04EE-DCB1-4048-BD5A-36901747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508F-946F-4F6C-8B0D-EB3B4433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B4BB-E08B-455E-B8C3-FFDCBC78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9B8A-8C0D-4ECA-B872-3956A07A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AB4E-3F7C-4B31-93EA-FF9C5546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0AB2-0F96-402B-B830-1F6682B8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2056-8CA5-4FA5-9776-E3D080DE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7F1-27E9-4BD2-9477-28D42482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2FA2-7D01-439A-A517-2989DE8A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D211-29E4-469E-A8DE-3D3DCBF5A76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B304-935E-46AA-983C-101B3D749A2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Periode 3 – Kerk(geschiedenis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66280" y="1752480"/>
            <a:ext cx="8001000" cy="4267440"/>
          </a:xfrm>
          <a:prstGeom prst="rect">
            <a:avLst/>
          </a:prstGeom>
          <a:ln w="0">
            <a:noFill/>
          </a:ln>
        </p:spPr>
      </p:pic>
      <p:pic>
        <p:nvPicPr>
          <p:cNvPr id="105" name="Afbeelding 3" descr=""/>
          <p:cNvPicPr/>
          <p:nvPr/>
        </p:nvPicPr>
        <p:blipFill>
          <a:blip r:embed="rId2"/>
          <a:stretch/>
        </p:blipFill>
        <p:spPr>
          <a:xfrm>
            <a:off x="31680" y="0"/>
            <a:ext cx="911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Kloos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ebouw om je te richten op godsdien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Voor mannen: monnik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Voor vrouwen: non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7420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daag leer i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een kerk 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hoe de kerk is ontstaa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de Rooms-katholieke kerk i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benoemen wat Vaticaanstad 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kloosters zij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Kerk(geschiedeni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eze periode leren/doen w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rk: overeenkomsten/verschill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eschiedenis: hoe is de kerk ontstaa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ezoek Grote Kerk in Elbur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resentatie over een plaatselijke ker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Kerk(geschieden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daag leer i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een kerk 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hoe de kerk is ontstaa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de Rooms-katholieke kerk i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benoemen wat Vaticaanstad 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kloosters zij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Kerk(geschiedeni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ie is er lid van een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om die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schiedenis van die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Kerk(geschiedeni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 begin (periode 1 – Zending) tot 1500: één ker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ooms-katholieke ker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s: in Ro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teeds meer strijd om de macht tussen kerk (Paus) en staat (koning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Kijk de film en beantwoord de vrag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oe groot is Vaticaansta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ie is de Paus nu preci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zie je als je in Vaticaanstad kom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oeveel inwoners heeft Vaticaansta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is een verschil met de protestantse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ome = Vaticaansta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l kle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ttps://www.youtube.com/watch?v=idaMwcsWduI&amp;t=22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oe groot is vaticaansta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ie is de Paus nu preci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zie je als je in Vaticaanstad kom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oeveel inwoners heeft Vaticaansta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is een verschil met de protestantse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0" y="692280"/>
            <a:ext cx="9244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20:57:11Z</dcterms:created>
  <dc:creator>Nuborgh College</dc:creator>
  <dc:description/>
  <dc:language>en-US</dc:language>
  <cp:lastModifiedBy>Windows-gebruiker</cp:lastModifiedBy>
  <dcterms:modified xsi:type="dcterms:W3CDTF">2022-01-21T10:42:08Z</dcterms:modified>
  <cp:revision>15</cp:revision>
  <dc:subject/>
  <dc:title>Periode 2 – Kerk(geschiedenis)</dc:title>
</cp:coreProperties>
</file>