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15C-00A7-4437-A787-F320AEAB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70F-713B-4EED-88EE-6C655913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C22-A3CE-45FC-9E13-6CF0DF35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DF2-4E23-4774-B713-AB1D1D4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A4DA-205F-461B-8D61-CBA21389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E0C3-72AF-4FB7-81B4-7AF9CDE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534-68AA-446C-B5B7-716FDD02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A82A-7D4B-46AE-99FB-31D81911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5A3D-C698-4FE7-A7F3-2DB0EDD1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07F5-9FAD-40F2-80C9-5EC1915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13B0-8F5B-4EB7-9A6F-D944BE5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2F0-3956-442B-9488-A5EE9357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A38-5BA9-4AC0-8E0D-8C8CE5A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371B-3CE0-4AD5-8604-79F43AED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F58C-A44D-4D46-BD7C-6675FBE7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C65-B002-4F01-A93D-A6E95031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EAC4-062C-4677-9802-872EB426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E75-F539-4217-9A78-81F9C0C4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B2C-B4CE-45C2-BF2C-78FBE4E7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42E-C333-4BF0-8547-D8FC54CD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7E5-48C4-4CC5-8B25-901788F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B57-29C2-4926-9112-C8A47B6A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041-7C50-4250-84AA-B0883CF6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B73-F230-4650-94DF-29409EED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CDB-ABAD-4CC9-BCBD-B1CC586680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74B2-DFD5-45AD-8F1A-7A21B40F44C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Periode 3 – Kerk(geschiedeni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6280" y="1752480"/>
            <a:ext cx="8001000" cy="426744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3" descr=""/>
          <p:cNvPicPr/>
          <p:nvPr/>
        </p:nvPicPr>
        <p:blipFill>
          <a:blip r:embed="rId2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loos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uw om je te richten op godsdien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mannen: monnik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oor vrouwen: non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42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ze periode leren/doen w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rk: overeenkomsten/verschi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schiedenis: hoe is de kerk ontstaa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zoek Grote Kerk in Elbur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resentatie over een plaatselijke ker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daag leer i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een kerk 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hoe de kerk is ontsta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de Rooms-katholieke kerk i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benoemen wat Vaticaanstad 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kan uitleggen wat kloosters zij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er lid van een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om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schiedenis van di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Kerk(geschiedeni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begin (periode 1 – Zending) tot 1500: één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oms-katholieke ke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s: in Ro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teeds meer strijd om de macht tussen kerk (Paus) en staat (koning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ijk de film en beantwoord de vra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ome = Vaticaansta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l kl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ttps://www.youtube.com/watch?v=idaMwcsWduI&amp;t=22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Les 1 – Rooms- katholieke K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 groot is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is de Paus nu prec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ie je als je in Vaticaanstad kom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oeveel inwoners heeft Vaticaanst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s een verschil met de protestantse ker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692280"/>
            <a:ext cx="9244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20:57:11Z</dcterms:created>
  <dc:creator>Nuborgh College</dc:creator>
  <dc:description/>
  <dc:language>en-US</dc:language>
  <cp:lastModifiedBy>Windows-gebruiker</cp:lastModifiedBy>
  <dcterms:modified xsi:type="dcterms:W3CDTF">2022-01-21T10:42:08Z</dcterms:modified>
  <cp:revision>15</cp:revision>
  <dc:subject/>
  <dc:title>Periode 2 – Kerk(geschiedenis)</dc:title>
</cp:coreProperties>
</file>