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F6D5-BE11-4395-A5F3-8CCCE8649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58B4-7707-417D-B6AF-035886FC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332C-A8B7-4A77-A56B-65DE7EBBB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C5B1-82BC-4EE1-B5F7-C1279FCE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8B09-FB71-4B02-827B-C22181CE9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0598-BFBC-4C2E-8C85-E3535711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4964-2D69-4EF7-B41A-2CE45FA6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F1C8-FA27-4E5F-BFDA-81FEDB04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4EC6-9416-408E-821D-EE1299BB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8512-C169-4770-9821-E29013F1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C67C-5297-4CA9-A5E7-9C957776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3798-5007-4456-9B3A-10432BDB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0DDB-991C-4901-B2F7-8FDFCAE3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92DF-2D5F-4663-A688-4762A992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B5C0-72EE-4259-8968-A9CDFD7C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7134-47DC-44D0-8F14-FEC7D889B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7B34-9B1C-4B58-BA93-8E8E6BF57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918F-455B-4055-887F-9CBB3F82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CD43-C779-40F0-8F5D-2996C98B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10F5-35A3-402C-B2DC-F315EAD2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405D-6BA5-40DF-9C2D-109DC6FD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27E2-06B2-47DB-B5A2-BEF69B78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23FA-2034-4952-A567-98E8CE66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3A43-C8A7-4A30-96A2-999DA775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12BF-1792-451B-A07A-C572DCD18F5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DA82-58E7-4A25-A56C-DE1BD175DE4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Periode 3 – Kerk(geschiedenis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66280" y="1752480"/>
            <a:ext cx="8001000" cy="4267440"/>
          </a:xfrm>
          <a:prstGeom prst="rect">
            <a:avLst/>
          </a:prstGeom>
          <a:ln w="0">
            <a:noFill/>
          </a:ln>
        </p:spPr>
      </p:pic>
      <p:pic>
        <p:nvPicPr>
          <p:cNvPr id="105" name="Afbeelding 3" descr=""/>
          <p:cNvPicPr/>
          <p:nvPr/>
        </p:nvPicPr>
        <p:blipFill>
          <a:blip r:embed="rId2"/>
          <a:stretch/>
        </p:blipFill>
        <p:spPr>
          <a:xfrm>
            <a:off x="31680" y="0"/>
            <a:ext cx="911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Les 1 – Rooms- katholieke Ke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Kloost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Gebouw om je te richten op godsdien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Voor mannen: monnik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Voor vrouwen: nonn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Les 1 – Rooms- katholieke Ke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7420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andaag leer ik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wat een kerk 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hoe de kerk is ontstaa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wat de Rooms-katholieke kerk i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benoemen wat Vaticaanstad i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wat kloosters zij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Kerk(geschiedeni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Deze periode leren/doen we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Kerk: overeenkomsten/verschill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Geschiedenis: hoe is de kerk ontstaa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Bezoek Grote Kerk in Elbur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resentatie over een plaatselijke ker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Kerk(geschieden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andaag leer ik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wat een kerk 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hoe de kerk is ontstaa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wat de Rooms-katholieke kerk i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benoemen wat Vaticaanstad i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wat kloosters zij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Kerk(geschiedeni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ie is er lid van een kerk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arom die kerk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schiedenis van die kerk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Kerk(geschiedeni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an begin (periode 1 – Zending) tot 1500: één ker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Rooms-katholieke ker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aus: in Ro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Steeds meer strijd om de macht tussen kerk (Paus) en staat (koning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Les 1 – Rooms- katholieke Ke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Kijk de film en beantwoord de vrag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oe groot is Vaticaansta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ie is de Paus nu precie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zie je als je in Vaticaanstad kom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oeveel inwoners heeft Vaticaansta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is een verschil met de protestantse kerk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Les 1 – Rooms- katholieke Ke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Rome = Vaticaanstad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el kle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ttps://www.youtube.com/watch?v=idaMwcsWduI&amp;t=22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Les 1 – Rooms- katholieke Ke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oe groot is vaticaansta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ie is de Paus nu precie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zie je als je in Vaticaanstad kom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oeveel inwoners heeft Vaticaansta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is een verschil met de protestantse kerk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0" y="692280"/>
            <a:ext cx="9244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20:57:11Z</dcterms:created>
  <dc:creator>Nuborgh College</dc:creator>
  <dc:description/>
  <dc:language>en-US</dc:language>
  <cp:lastModifiedBy>Windows-gebruiker</cp:lastModifiedBy>
  <dcterms:modified xsi:type="dcterms:W3CDTF">2022-01-21T10:42:08Z</dcterms:modified>
  <cp:revision>15</cp:revision>
  <dc:subject/>
  <dc:title>Periode 2 – Kerk(geschiedenis)</dc:title>
</cp:coreProperties>
</file>