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D524-77CD-4F03-BECC-AF6032C0EA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2AE3-8727-4221-AF27-A684A667B91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nl-NL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85AF-D21A-4F38-8C77-59CB8E618CC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" name="Afbeelding 2" descr=""/>
          <p:cNvPicPr/>
          <p:nvPr/>
        </p:nvPicPr>
        <p:blipFill>
          <a:blip r:embed="rId3"/>
          <a:stretch/>
        </p:blipFill>
        <p:spPr>
          <a:xfrm>
            <a:off x="1228680" y="2930400"/>
            <a:ext cx="6686640" cy="1387440"/>
          </a:xfrm>
          <a:prstGeom prst="rect">
            <a:avLst/>
          </a:prstGeom>
          <a:ln w="0">
            <a:noFill/>
          </a:ln>
        </p:spPr>
      </p:pic>
      <p:pic>
        <p:nvPicPr>
          <p:cNvPr id="38" name="Afbeelding 3" descr=""/>
          <p:cNvPicPr/>
          <p:nvPr/>
        </p:nvPicPr>
        <p:blipFill>
          <a:blip r:embed="rId4"/>
          <a:stretch/>
        </p:blipFill>
        <p:spPr>
          <a:xfrm>
            <a:off x="7596360" y="-127080"/>
            <a:ext cx="3095280" cy="309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1" descr=""/>
          <p:cNvPicPr/>
          <p:nvPr/>
        </p:nvPicPr>
        <p:blipFill>
          <a:blip r:embed="rId2"/>
          <a:stretch/>
        </p:blipFill>
        <p:spPr>
          <a:xfrm>
            <a:off x="-47520" y="6342120"/>
            <a:ext cx="9259920" cy="52380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2" descr=""/>
          <p:cNvPicPr/>
          <p:nvPr/>
        </p:nvPicPr>
        <p:blipFill>
          <a:blip r:embed="rId3"/>
          <a:stretch/>
        </p:blipFill>
        <p:spPr>
          <a:xfrm>
            <a:off x="457200" y="6437160"/>
            <a:ext cx="2643120" cy="3333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1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Afbeelding 1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55640" y="9806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zijn vrijheidsbeperkende maatregel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20B0-FDB8-4D1F-80F0-C9AA39101951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364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rijheidsbeperkende maatregelen zij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4000" y="669600"/>
            <a:ext cx="83516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</a:rPr>
              <a:t>Alle maatregelen die de vrijheid van cliënten beperke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ysieke vrijheidsbeperk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Zweedse band, tafelbla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dicati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e het gedrag beïnvloed (psychofarmac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motic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ensor, uitluistersysteem, camera, deurverklikke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ividuele afsprak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fspraken over roken, tijdsafsprak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epsafspraken 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isregel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epaalde kasten op slot, bedtijd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201A-C4F1-4E94-996B-0458724F6DAB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84360" y="90756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rijheidsbeperkende maatregelen moeten met de cliënt(vertegenwoordiger) zijn afgesproken en vastgelegd in het zorgdoss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noodsituatie evalueren na 2 weken anders binnen 3 maanden daarna iedere 6 ma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BC8C-2586-4045-BD96-70ED15FCE012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egatieve gevolgen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50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heidsbeperkende maatregelen, zoals Zweedse banden, gaan in tegen de fundamentele rechten van de mens en hebben negatieve gevolgen voor het lichamelijk en geestelijk welbevind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gelijke gevolgen zij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onrust (verze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kans op decubit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der beweging &gt; verlies van spiermassa &gt; valrisico neemt hierdoor to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3C02-88E4-43BA-901D-4C12BBB5AC0F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643280" y="3060720"/>
            <a:ext cx="38102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egatieve gevolgen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9280" y="1052640"/>
            <a:ext cx="6405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psychofarmaca: meer bijwerkin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sel. Doden door ‘ophanging’ in de Zweedse band door onjuist gebrui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ychische klachten als angst en depress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chamelijke passiviteit leidt tot achteruitgang van het denkvermogen, het slaap-waakritme en stemming van cliën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4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DBBD-5BDB-47AF-8331-385D18A86638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Afbeelding 7" descr=""/>
          <p:cNvPicPr/>
          <p:nvPr/>
        </p:nvPicPr>
        <p:blipFill>
          <a:blip r:embed="rId1"/>
          <a:stretch/>
        </p:blipFill>
        <p:spPr>
          <a:xfrm>
            <a:off x="6372360" y="1046160"/>
            <a:ext cx="26604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55640" y="9806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7EEE-5690-4E5F-9DDA-6A06363576BE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hthoek 1"/>
          <p:cNvSpPr/>
          <p:nvPr/>
        </p:nvSpPr>
        <p:spPr>
          <a:xfrm>
            <a:off x="468360" y="189000"/>
            <a:ext cx="8207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wetsvoorstel Zorg en Dwang staan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kwaliteitscriteri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gebruik van vrijheidsbeperkende 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ituatie is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analyseer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atregel/het alternatief is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gesteld na 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cliënt/omgeving/specifieke deskund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aantoonb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zocht naar alternati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s ondernom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herhaling te voorkomen; de maatregel/het alternatief wordt geëvaluee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apportage en verantwoord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gelegd in het zorg- en ondersteunings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alrisico</a:t>
            </a: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26560" y="1197000"/>
            <a:ext cx="770436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heidsbeperkende maatregelen niet toepassen bij valrisico, omd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stbinden van cliënten verhoogt het valrisico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minderen van heupgordels leidt niet tot meer valpartijen met ernstig lets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sico op ernstig letsel wordt oversch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menselijker maatregelen om vallen te voorkomen (bijv. gevaarlijke situaties in kaart brengen en deze aanpass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1A9E-4800-421B-BC76-9E8199E83F6D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6:41:20Z</dcterms:created>
  <dc:creator>Vliet, Marjolein van</dc:creator>
  <dc:description/>
  <dc:language>en-US</dc:language>
  <cp:lastModifiedBy>Audrey (A.H.T.) Stassen</cp:lastModifiedBy>
  <dcterms:modified xsi:type="dcterms:W3CDTF">2020-03-17T13:53:02Z</dcterms:modified>
  <cp:revision>63</cp:revision>
  <dc:subject/>
  <dc:title>PowerPoint-presentatie</dc:title>
</cp:coreProperties>
</file>