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1153-68A3-472F-A1E0-EEA98759AE1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0E9F-87D7-49B0-BC72-20160778FAB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nl-NL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C260-F8B0-46C6-9153-C6368C1E2D1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Afbeelding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" name="Afbeelding 2" descr=""/>
          <p:cNvPicPr/>
          <p:nvPr/>
        </p:nvPicPr>
        <p:blipFill>
          <a:blip r:embed="rId3"/>
          <a:stretch/>
        </p:blipFill>
        <p:spPr>
          <a:xfrm>
            <a:off x="1228680" y="2930400"/>
            <a:ext cx="6686640" cy="1387440"/>
          </a:xfrm>
          <a:prstGeom prst="rect">
            <a:avLst/>
          </a:prstGeom>
          <a:ln w="0">
            <a:noFill/>
          </a:ln>
        </p:spPr>
      </p:pic>
      <p:pic>
        <p:nvPicPr>
          <p:cNvPr id="38" name="Afbeelding 3" descr=""/>
          <p:cNvPicPr/>
          <p:nvPr/>
        </p:nvPicPr>
        <p:blipFill>
          <a:blip r:embed="rId4"/>
          <a:stretch/>
        </p:blipFill>
        <p:spPr>
          <a:xfrm>
            <a:off x="7596360" y="-127080"/>
            <a:ext cx="3095280" cy="309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Afbeelding 1" descr=""/>
          <p:cNvPicPr/>
          <p:nvPr/>
        </p:nvPicPr>
        <p:blipFill>
          <a:blip r:embed="rId2"/>
          <a:stretch/>
        </p:blipFill>
        <p:spPr>
          <a:xfrm>
            <a:off x="-47520" y="6342120"/>
            <a:ext cx="9259920" cy="523800"/>
          </a:xfrm>
          <a:prstGeom prst="rect">
            <a:avLst/>
          </a:prstGeom>
          <a:ln w="0">
            <a:noFill/>
          </a:ln>
        </p:spPr>
      </p:pic>
      <p:pic>
        <p:nvPicPr>
          <p:cNvPr id="76" name="Afbeelding 2" descr=""/>
          <p:cNvPicPr/>
          <p:nvPr/>
        </p:nvPicPr>
        <p:blipFill>
          <a:blip r:embed="rId3"/>
          <a:stretch/>
        </p:blipFill>
        <p:spPr>
          <a:xfrm>
            <a:off x="457200" y="6437160"/>
            <a:ext cx="2643120" cy="3333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Afbeelding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1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Afbeelding 1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Afbeelding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755640" y="980640"/>
            <a:ext cx="8229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t zijn vrijheidsbeperkende maatregel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ijdelijke aanduiding voor dianummer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2A08-2226-4C0B-850E-664844FB5C0D}" type="slidenum">
              <a:rPr b="0" lang="nl-NL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364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Vrijheidsbeperkende maatregelen zijn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4000" y="669600"/>
            <a:ext cx="835164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nl-NL" sz="2400" spc="-1" strike="noStrike">
                <a:solidFill>
                  <a:srgbClr val="000000"/>
                </a:solidFill>
                <a:latin typeface="Calibri"/>
              </a:rPr>
              <a:t>Alle maatregelen die de vrijheid van cliënten beperken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ysieke vrijheidsbeperkin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Zweedse band, tafelblad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dicati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ie het gedrag beïnvloed (psychofarmac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omotic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sensor, uitluistersysteem, camera, deurverklikker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dividuele afsprake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fspraken over roken, tijdsafspraken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epsafspraken e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uisregel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bepaalde kasten op slot, bedtijden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ijdelijke aanduiding voor dianummer 1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9653-CD44-46DA-AB18-D85FAF88AB55}" type="slidenum">
              <a:rPr b="0" lang="nl-NL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84360" y="907560"/>
            <a:ext cx="8229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rijheidsbeperkende maatregelen moeten met de cliënt(vertegenwoordiger) zijn afgesproken en vastgelegd in het zorgdossi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 noodsituatie evalueren na 2 weken anders binnen 3 maanden daarna iedere 6 maa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FD7E-2D09-4C18-ACA3-88F5E5A2C28A}" type="slidenum">
              <a:rPr b="0" lang="nl-NL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Negatieve gevolgen (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995040"/>
            <a:ext cx="8229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rijheidsbeperkende maatregelen, zoals Zweedse banden, gaan in tegen de fundamentele rechten van de mens en hebben negatieve gevolgen voor het lichamelijk en geestelijk welbevinde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gelijke gevolgen zij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er onrust (verzet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er kans op decubit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der beweging &gt; verlies van spiermassa &gt; valrisico neemt hierdoor to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ijdelijke aanduiding voor dianummer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AA6A-C99E-4769-AD16-CE1EE95747D3}" type="slidenum">
              <a:rPr b="0" lang="nl-NL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4643280" y="3060720"/>
            <a:ext cx="38102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Negatieve gevolgen (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79280" y="1052640"/>
            <a:ext cx="6405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er psychofarmaca: meer bijwerking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sel. Doden door ‘ophanging’ in de Zweedse band door onjuist gebrui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sychische klachten als angst en depressi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chamelijke passiviteit leidt tot achteruitgang van het denkvermogen, het slaap-waakritme en stemming van cliënt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ijdelijke aanduiding voor dianummer 4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1D54-91BB-4FB3-A019-2B95768BBE0F}" type="slidenum">
              <a:rPr b="0" lang="nl-NL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Afbeelding 7" descr=""/>
          <p:cNvPicPr/>
          <p:nvPr/>
        </p:nvPicPr>
        <p:blipFill>
          <a:blip r:embed="rId1"/>
          <a:stretch/>
        </p:blipFill>
        <p:spPr>
          <a:xfrm>
            <a:off x="6372360" y="1046160"/>
            <a:ext cx="266040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755640" y="980640"/>
            <a:ext cx="82296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8737-95D6-4CED-89DB-A84C1776AD76}" type="slidenum">
              <a:rPr b="0" lang="nl-NL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hthoek 1"/>
          <p:cNvSpPr/>
          <p:nvPr/>
        </p:nvSpPr>
        <p:spPr>
          <a:xfrm>
            <a:off x="468360" y="189000"/>
            <a:ext cx="8207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het wetsvoorstel Zorg en Dwang staan </a:t>
            </a: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kwaliteitscriteri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oor gebruik van vrijheidsbeperkende maatreg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ituatie is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analyseer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atregel/het alternatief is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astgesteld na overle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cliënt/omgeving/specifieke deskundi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aantoonbaa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zocht naar alternatiev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zij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cties ondernom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herhaling te voorkomen; de maatregel/het alternatief wordt geëvaluee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 is ee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apportage en verantwoordin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stgelegd in het zorg- en ondersteunings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Valrisico</a:t>
            </a:r>
            <a:br>
              <a:rPr sz="29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826560" y="1197000"/>
            <a:ext cx="7704360" cy="41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rijheidsbeperkende maatregelen niet toepassen bij valrisico, omd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astbinden van cliënten verhoogt het valrisico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minderen van heupgordels leidt niet tot meer valpartijen met ernstig lets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isico op ernstig letsel wordt oversch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zijn menselijker maatregelen om vallen te voorkomen (bijv. gevaarlijke situaties in kaart brengen en deze aanpassen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ijdelijke aanduiding voor dianummer 1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7FDC-15D2-4DAC-862F-89109CEBBCD4}" type="slidenum">
              <a:rPr b="0" lang="nl-NL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1T16:41:20Z</dcterms:created>
  <dc:creator>Vliet, Marjolein van</dc:creator>
  <dc:description/>
  <dc:language>en-US</dc:language>
  <cp:lastModifiedBy>Audrey (A.H.T.) Stassen</cp:lastModifiedBy>
  <dcterms:modified xsi:type="dcterms:W3CDTF">2020-03-17T13:53:02Z</dcterms:modified>
  <cp:revision>63</cp:revision>
  <dc:subject/>
  <dc:title>PowerPoint-presentatie</dc:title>
</cp:coreProperties>
</file>