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4BBC-987D-4144-82F8-5C48005FB5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5E4B-5E85-4234-A817-8F8B67A73B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NL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C5B7-8899-4564-BBEF-BBD25648F2F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Afbeelding 2" descr=""/>
          <p:cNvPicPr/>
          <p:nvPr/>
        </p:nvPicPr>
        <p:blipFill>
          <a:blip r:embed="rId3"/>
          <a:stretch/>
        </p:blipFill>
        <p:spPr>
          <a:xfrm>
            <a:off x="1228680" y="2930400"/>
            <a:ext cx="6686640" cy="1387440"/>
          </a:xfrm>
          <a:prstGeom prst="rect">
            <a:avLst/>
          </a:prstGeom>
          <a:ln w="0">
            <a:noFill/>
          </a:ln>
        </p:spPr>
      </p:pic>
      <p:pic>
        <p:nvPicPr>
          <p:cNvPr id="38" name="Afbeelding 3" descr=""/>
          <p:cNvPicPr/>
          <p:nvPr/>
        </p:nvPicPr>
        <p:blipFill>
          <a:blip r:embed="rId4"/>
          <a:stretch/>
        </p:blipFill>
        <p:spPr>
          <a:xfrm>
            <a:off x="7596360" y="-127080"/>
            <a:ext cx="3095280" cy="309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"/>
          <p:cNvPicPr/>
          <p:nvPr/>
        </p:nvPicPr>
        <p:blipFill>
          <a:blip r:embed="rId2"/>
          <a:stretch/>
        </p:blipFill>
        <p:spPr>
          <a:xfrm>
            <a:off x="-47520" y="6342120"/>
            <a:ext cx="925992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2" descr=""/>
          <p:cNvPicPr/>
          <p:nvPr/>
        </p:nvPicPr>
        <p:blipFill>
          <a:blip r:embed="rId3"/>
          <a:stretch/>
        </p:blipFill>
        <p:spPr>
          <a:xfrm>
            <a:off x="457200" y="6437160"/>
            <a:ext cx="264312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Afbeelding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zijn vrijheidsbeperkende maatregel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52A-4440-4034-A49F-271E3B0853A7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364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rijheidsbeperkende maatregelen zij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000" y="669600"/>
            <a:ext cx="83516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Alle maatregelen die de vrijheid van cliënten beperke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ysieke vrijheidsbeperk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weedse band, tafelbla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cat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e het gedrag beïnvloed (psychofarmac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moti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ensor, uitluistersysteem, camera, deurverklikk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ividuele afsprak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fspraken over roken, tijdsafsprak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epsafspraken 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isrege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epaalde kasten op slot, bedtijd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3A11-2E6B-4690-B964-3D8FEDD81C27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4360" y="90756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ijheidsbeperkende maatregelen moeten met de cliënt(vertegenwoordiger) zijn afgesproken en vastgelegd in het zorgdoss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noodsituatie evalueren na 2 weken anders binnen 3 maanden daarna iedere 6 ma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5689-C806-445E-98F8-F3326C39325B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50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, zoals Zweedse banden, gaan in tegen de fundamentele rechten van de mens en hebben negatieve gevolgen voor het lichamelijk en geestelijk welbevind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elijke gevolgen zij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onrust (verze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kans op decubi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er beweging &gt; verlies van spiermassa &gt; valrisico neemt hierdoor to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B0B5-1B7F-46C3-8AFB-1B78B7F4A3C7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643280" y="3060720"/>
            <a:ext cx="38102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1052640"/>
            <a:ext cx="64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psychofarmaca: meer bijwerki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el. Doden door ‘ophanging’ in de Zweedse band door onjuist gebru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ische klachten als angst en depres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hamelijke passiviteit leidt tot achteruitgang van het denkvermogen, het slaap-waakritme en stemming van cliën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F387-1721-4351-A36D-6113FDA9F672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Afbeelding 7" descr=""/>
          <p:cNvPicPr/>
          <p:nvPr/>
        </p:nvPicPr>
        <p:blipFill>
          <a:blip r:embed="rId1"/>
          <a:stretch/>
        </p:blipFill>
        <p:spPr>
          <a:xfrm>
            <a:off x="6372360" y="1046160"/>
            <a:ext cx="2660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010-CF02-41AC-B36C-9153913230B3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hthoek 1"/>
          <p:cNvSpPr/>
          <p:nvPr/>
        </p:nvSpPr>
        <p:spPr>
          <a:xfrm>
            <a:off x="468360" y="189000"/>
            <a:ext cx="820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wetsvoorstel Zorg en Dwang staa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waliteitscriteri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gebruik van vrijheidsbeperkende 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ituatie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analyseer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atregel/het alternatief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gesteld na 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cliënt/omgeving/specifieke deskund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aantoonb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zocht naar alternati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s ondernom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herhaling te voorkomen; de maatregel/het alternatief wordt geëvaluee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apportage en verantwoord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gelegd in het zorg- en ondersteunings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risico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1197000"/>
            <a:ext cx="770436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 niet toepassen bij valrisico, om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stbinden van cliënten verhoogt het valrisico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minderen van heupgordels leidt niet tot meer valpartijen met ernstig lets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sico op ernstig letsel wordt oversch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menselijker maatregelen om vallen te voorkomen (bijv. gevaarlijke situaties in kaart brengen en deze aanpass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FE4E-F6D3-4C24-BB1C-C664CBA05591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41:20Z</dcterms:created>
  <dc:creator>Vliet, Marjolein van</dc:creator>
  <dc:description/>
  <dc:language>en-US</dc:language>
  <cp:lastModifiedBy>Audrey (A.H.T.) Stassen</cp:lastModifiedBy>
  <dcterms:modified xsi:type="dcterms:W3CDTF">2020-03-17T13:53:02Z</dcterms:modified>
  <cp:revision>63</cp:revision>
  <dc:subject/>
  <dc:title>PowerPoint-presentatie</dc:title>
</cp:coreProperties>
</file>