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D394-4C0F-4118-8DB1-29C45D4BD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A37D-7B45-4F4C-8ECA-AF91C6D03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72F3-3E24-4EC1-847C-F08108624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FE59-F3EA-40AC-936B-B79BBCE87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7FB9-06A2-4E60-B541-F9C0C06E5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0F8E-8F67-4C83-A1E7-8840F59AE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D28A-A4F9-4D8A-AC76-006E8BB52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ED90-E6FD-4075-93D3-456156B23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1817-C86A-47EE-920E-3EE446EFF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92D5-EE20-4F29-A51C-76394269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9F13-BF5E-4EF0-BA9B-5E69218F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52A2-3EF9-4B3C-AD9F-BF07AB20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12A8A-E1C2-4D9C-8213-2F849D450CA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kolonis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5.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olitionele acties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1947 en 194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iet politie werd gestuurd, maar het leg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L noemt het politionele acties, omdat zij Indonesië als deel van NL zien, en bij binnenlandse problemen de politie de orde moet herstel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leger is er om het land tegen buitenlandse vijanden te bescher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elfstandig Indonesi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oekarno president 1945-1966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litaire staatsgreep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oeharto president   1966-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iden willen Indonesische eenheid bevorderen 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erden soms agressieve buitenlandse politiek om aandacht van binnenlandse problemen af te lei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kolonisatie Azi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45/49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donesië (NL) na bloedige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or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47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dia  (GB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54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etnam  (F) na bloedige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or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kolonisatie Afr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2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gypte (G-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ord-Afrika met als laatste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6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gerije (F) na bloedige oor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.a. Soedan/Ghana/Nigeria (G-B)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ngo (B)                           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gola/Mozambique (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rde Wer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ieuwe landen sluiten zich niet aan bij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apitalisten olv V.S.  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mmunisten olv S.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 vormen Derde Wereld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         begrip krijgt al snel slechte naam door armoede en onderontwikkeling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nden in Afrika, Azië en Latijns-Amerik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roblemen Derde Wer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verbevol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lechte wegen en voorzie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ge grondstofprijzen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dus weinig opbreng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lecht bes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el burgeroorl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te economische invloed van het We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China onder Mao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1949-197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49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mmunistische revolutie olv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o Zedong   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tegenstanders werden uitgeroeid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emeenschappelijke boerderijen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5-jarenplannen voor indust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annen van Ma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58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ote Sprong Voorwaarts 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upergrote boerderijen  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slukking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hongersn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66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ulturele Revolutie 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hina wordt totalitaire staat door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zet van jongeren en het Rode Boekj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China onder Deng Xiaoping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1976 - 199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olitiek van De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r privéondernem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oeren mogen leven van eigen opbrengs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uitenlandse bedrijven in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sultaat = economische groei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hina wordt in jaren 90 economische supermacht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wel grote verschillen arm en rij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conomie mengvorm van communisme en kapitalis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g steeds geen democratie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kel communistische partij toegestaan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89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udentenprotest voor democratie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oedig neerges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frika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el burgeroorlogen omdat bij dekolonisatie geen rekening werd gehouden met leefgebieden van stamm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us meerdere stammen in 1 land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Nigeria, Soedan, Rwanda, Ang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este landen geen democr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lechte economie: veel landen afhankelijk van 1 exportproduct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kwetsb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kolonis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finitie = onafhankelijk worden van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koloniën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begint na 2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ereldoor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nden met koloniën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ot-Brittannië, Frankrijk,Nederland, België en Portug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350px-British_Empire_1921"/>
          <p:cNvPicPr/>
          <p:nvPr/>
        </p:nvPicPr>
        <p:blipFill>
          <a:blip r:embed="rId1"/>
          <a:stretch/>
        </p:blipFill>
        <p:spPr>
          <a:xfrm>
            <a:off x="5508720" y="3068640"/>
            <a:ext cx="3333600" cy="15429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6"/>
          <p:cNvSpPr/>
          <p:nvPr/>
        </p:nvSpPr>
        <p:spPr>
          <a:xfrm>
            <a:off x="6300720" y="486900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Britse kolonië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uid-Afr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lanke minderheid tot 1990 aan de mach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olitiek = Apartheid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lank en zwart strikt gescheiden   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onen, bussen,parken,scho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verzet (ANC) en internationale protesten en boycotten einde aan apartheid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994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NC wint 1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vrije verkiezingen 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elson Mandela 1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zwarte president van Zuid-Afrika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mandela2"/>
          <p:cNvPicPr/>
          <p:nvPr/>
        </p:nvPicPr>
        <p:blipFill>
          <a:blip r:embed="rId1"/>
          <a:stretch/>
        </p:blipFill>
        <p:spPr>
          <a:xfrm>
            <a:off x="2124000" y="5373720"/>
            <a:ext cx="9810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orzaken dekolonis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scholing inheemse bevolking komen zij in contact met westerse ideeën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dit leidt tot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nationalisme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                  streven naar onafhankelijkhe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apanse veroveringen geven Aziatische volkeren zelfvertrouw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-B, F en NL komen arm en verzwakt uit 2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Wereldoor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uwe wereldmachten V.S. en S.U. zijn tegen kolonialis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ederlands-Indi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tionalisme in Nederlands-Indië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27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richting PNI door Soekarno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streeft naar onafhankelijkheid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L veroordeelt leiders PNI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          naar strafkampen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soekarno"/>
          <p:cNvPicPr/>
          <p:nvPr/>
        </p:nvPicPr>
        <p:blipFill>
          <a:blip r:embed="rId1"/>
          <a:stretch/>
        </p:blipFill>
        <p:spPr>
          <a:xfrm>
            <a:off x="6659640" y="3068640"/>
            <a:ext cx="1911240" cy="27306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7"/>
          <p:cNvSpPr/>
          <p:nvPr/>
        </p:nvSpPr>
        <p:spPr>
          <a:xfrm>
            <a:off x="6927840" y="5969160"/>
            <a:ext cx="15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Soekar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ogdijgedach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derlandse regering is tegen onafhankelijkheid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donesiërs zijn niet ontwikkeld genoeg om zelf hun land te besturen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Nederlands-Indië in de 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40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 Wereldoorlo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pan verovert Nederlands-Indië vanwege de grondstoff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derlanders gevangen gezet in Jappenkampen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NI-leiders vrijgelaten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pan hoopt zo op steun van Indonesische bevol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Rol Soekarno in 2</a:t>
            </a:r>
            <a:r>
              <a:rPr b="0" lang="nl-NL" sz="40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 Wereldoorlo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pan bevrijdt Indonesische bevolking niet, m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NI-leiders Soekarno en Hatta werken samen met Japanse bezetter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NI hoopt zo onafhankelijkheid Indonesië te verkrij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L beschouwt Soekarno en Hatta als collaborat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afhankelijk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 Japanse overgave roepen Soekarno en Hatta onafhankelijkheid uit op 17 augustus 1945 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Indonesi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ederland stuurt 100.000 dienstplichtige militairen om gezag te herstell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ederland en Indonesië onderhandelen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schillen zijn te groo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L wil Verenigde Staten van Indonesië, dat lid blijft van Koninkrijk der NL (federale sta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donesië wil Republiek als onafhankelijke eenheid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olitionele ac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tionalisten = PNI beginnen vrijheidsstrijd 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L reageert met 2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politionele acties 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    NL stuurt leger in juni 1947 en december 1948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L verovert veel gebied en leiders PNI worden gevangen, maar 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el kritiek op NL door V.S. en Verenigde  Naties 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.S. dreigt Marshall-hulp te stoppen 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ederland geeft toe en Juliana tekent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soevereiniteitsoverdrach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op 27 december 1949 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donesië is onafhankelij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8:18:47Z</dcterms:created>
  <dc:creator>OTTJ</dc:creator>
  <dc:description/>
  <dc:language>en-US</dc:language>
  <cp:lastModifiedBy>ottj</cp:lastModifiedBy>
  <cp:lastPrinted>2011-10-13T09:26:25Z</cp:lastPrinted>
  <dcterms:modified xsi:type="dcterms:W3CDTF">2012-10-16T08:30:12Z</dcterms:modified>
  <cp:revision>18</cp:revision>
  <dc:subject/>
  <dc:title>Dekolonisatie</dc:title>
</cp:coreProperties>
</file>