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C2D-D019-4E8D-AB45-9FA688AD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12B-A3A7-4AAD-822E-4665B3F7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FE4-8F42-4151-B242-26178F74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4F1-8153-41DC-BBCD-CDFBAA74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822-D97D-4A0F-A5D8-66BC0A5F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653-4E1C-4CF0-8C4B-050D023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B24-8591-4528-9D86-099E24A4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C4C-8194-452E-B250-A59A9589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93E-4B33-494A-AA82-D49819AC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54B-EA1B-41BC-A629-7D1CC081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92F-F27A-4608-9E1F-3CC8544A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6D0-712A-48D8-B325-EED48137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6B41-BCE9-48F1-AA6D-CC7A939C18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politie werd gestuurd, maar het l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noemt het politionele acties, omdat zij Indonesië als deel van NL zien, en bij binnenlandse problemen de politie de orde moet hers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leger is er om het land tegen buitenlandse vijanden te bescher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lfstandig Indones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karno president 1945-1966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staatsgreep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harto president   1966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n willen Indonesische eenheid bevordere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den soms agressieve buitenlandse politiek om aandacht van binnenlandse problemen af t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landen sluiten zich niet aan bij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ten olv V.S.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ten olv S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vormen Derde Wereld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begrip krijgt al snel slechte naam door armoede en onderontwik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in Afrika, Azië en Latijns-Amer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wegen en voorzi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grondstofprijz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us weinig opbreng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economische invloed van het 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Ma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9-19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revolutie olv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o Zedong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standers werden uitgero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meenschappelijke boerderijen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-jarenplannen voor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nen van M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Sprong Voorwaarts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grote boerderijen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sl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hongersn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lturele Revoluti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ina wordt totalitaire staat doo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zet van jongeren en het Rode Boekj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Deng Xiaoping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76 - 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De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rivé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ren mogen leven van eigen opbreng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landse bedrijven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economische groei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ina wordt in jaren 90 economische supermach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l grote verschillen arm en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e mengvorm van communisme en 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g steeds geen democra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communistische partij toegestaa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dentenprotest voor democra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ig neerges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rika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 omdat bij dekolonisatie geen rekening werd gehouden met leefgebieden van stam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meerdere stammen in 1 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Nigeria, Soedan, Rwanda, Ang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e landen geen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economie: veel landen afhankelijk van 1 exportproduc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kwets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/>
          <p:cNvPicPr/>
          <p:nvPr/>
        </p:nvPicPr>
        <p:blipFill>
          <a:blip r:embed="rId1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d-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e minderheid tot 1990 aan d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=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 en zwart strikt gescheiden  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nen, bussen,parken,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verzet (ANC) en internationale protesten en boycotten einde aan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C wint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rije verkiezing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lson Mandela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warte president van Zuid-Afrika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andela2"/>
          <p:cNvPicPr/>
          <p:nvPr/>
        </p:nvPicPr>
        <p:blipFill>
          <a:blip r:embed="rId1"/>
          <a:stretch/>
        </p:blipFill>
        <p:spPr>
          <a:xfrm>
            <a:off x="2124000" y="5373720"/>
            <a:ext cx="981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-Ind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 in Nederlands-Indië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PNI door Soekarno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streeft naar onafhankelijkhei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veroordeelt leiders PNI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naar strafkampen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oekarno"/>
          <p:cNvPicPr/>
          <p:nvPr/>
        </p:nvPicPr>
        <p:blipFill>
          <a:blip r:embed="rId1"/>
          <a:stretch/>
        </p:blipFill>
        <p:spPr>
          <a:xfrm>
            <a:off x="6659640" y="3068640"/>
            <a:ext cx="1911240" cy="2730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927840" y="5969160"/>
            <a:ext cx="15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Soe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gdijgeda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regering is tegen onafhankelijkhei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rs zijn niet ontwikkeld genoeg om zelf hun land te besturen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s-Indië i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verovert Nederlands-Indië vanwege de grond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gevangen gezet in Jappenkamp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vrijgelat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hoopt zo op steun van Indonesisch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ol Soekarno in 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bevrijdt Indonesische bevolking niet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Soekarno en Hatta werken samen met Japanse bezetter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 hoopt zo onafhankelijkheid Indonesië te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beschouwt Soekarno en Hatta als collabo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afhank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Japanse overgave roepen Soekarno en Hatta onafhankelijkheid uit op 17 augustus 1945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dones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stuurt 100.000 dienstplichtige militairen om gezag te herste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en Indonesië onderhandel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 zijn te gro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wil Verenigde Staten van Indonesië, dat lid blijft van Koninkrijk der NL (federale st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il Republiek als onafhankelijke eenheid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isten = PNI beginnen vrijheidsstrijd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reageert met 2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onele ac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NL stuurt leger in juni 1947 en december 1948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verovert veel gebied en leiders PNI worden gevangen, maar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kritiek op NL door V.S. en Verenigde  Na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.S. dreigt Marshall-hulp te stopp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geeft toe en Juliana teken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evereiniteitsoverdra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p 27 december 1949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is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18:47Z</dcterms:created>
  <dc:creator>OTTJ</dc:creator>
  <dc:description/>
  <dc:language>en-US</dc:language>
  <cp:lastModifiedBy>ottj</cp:lastModifiedBy>
  <cp:lastPrinted>2011-10-13T09:26:25Z</cp:lastPrinted>
  <dcterms:modified xsi:type="dcterms:W3CDTF">2012-10-16T08:30:12Z</dcterms:modified>
  <cp:revision>18</cp:revision>
  <dc:subject/>
  <dc:title>Dekolonisatie</dc:title>
</cp:coreProperties>
</file>