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E033B-9D10-4E06-903D-749221C55E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8D214-2FE4-4B89-88AA-537430D9735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673810-9931-4A6B-93F6-A4E313E605D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E9FB8-D3BB-4B06-ABF0-1F29A74D7617}"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3527D-9D45-4BB5-845B-708AA95EC0A3}"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47F52-5AB0-4AF6-81C3-AF157A96272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172F8-730C-4EB0-80DF-716F8CBE6BA7}"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05EFA-27B9-480F-828C-AA288BF703F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D3DFD-4E7C-463C-9CA1-832F1019569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AC87B-DEDB-4DDC-BAA5-4127B2353ED1}"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3DB5D-DD32-4A2D-AAC9-CFA40395764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3EE1E-4C58-405B-891C-C3C45A5028E3}"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44399-E250-4B58-8B23-882D66D31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F8C6F-C793-45A3-9543-B08891E43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4AA61-2F8F-4966-AFE2-7ECD96190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045F7-FEA8-492D-A3E3-37C39EF6F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120B0-F278-43EB-9B87-9AE70E854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552F8-E822-453E-97CC-C7D2DD274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B8F36-354F-4023-919F-2F993074D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BEEB9-8EBC-4152-910A-40F623844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2259E-7F01-4CE1-B245-9C494EE97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7F618-2DB0-44A6-BD54-01274C998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C826A-9CDE-4E9F-B31B-663E84C8C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4E0E2-65D2-4516-A613-471015077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0CEA4-4EE3-4403-8870-B0869A872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205F1-D1F9-4C52-8CCB-937C8847B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4B1CC-BD4C-4BB7-A655-C8F7D8AA5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99A14-E8B0-4E56-8472-C67B28E98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F62B4-337D-4D65-B546-62BD8AC2D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4A1C88-3BE2-4204-B6E2-9DA38723DD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CC39F-75D0-4D6E-824C-3ADF18900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C36D07-D5F1-4E61-B200-1EF41FFFD0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68A1A3-08C4-4D9F-849E-BB04D6F99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22B514-6941-4A9F-A19E-EEF31DB6D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3D286-5A02-4F47-9767-D8BA83B8F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33E55-D5DD-4EC0-915E-E12917668C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E2FDF-AE71-4662-8B0D-789F82DB3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A5CF0-24C6-47C4-8078-34B1791ED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EC80D-9DF8-458D-BFF5-3C8A83279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C50A2-4257-4F6A-B600-56FBA7366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B2A775-DEAF-488F-BEA7-F3824BB0F9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274F25-EE05-4B1B-8FB0-2B8EA983E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DD1521-84F8-4935-8FB2-D95FBD6D8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863DA-D14F-4C86-9E7F-6EA96C449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2AE26E-98A6-4E79-B6DD-81D2827A26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A47B6-E78A-4017-B71F-446B4449A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14288-ECF9-41EE-B4E6-E2BB22F17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8D1053-136C-46D5-820A-4F1DF81B5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471DBB-F5D3-4A37-9BCD-FDDE25DD60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223A7-2826-4986-873B-5DA405076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AD2BA-DA7F-43D0-958A-3EE523C2A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1A68E-6BA6-4C7F-ACD4-D88A55C6D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260EE8-619A-4CE4-A685-22B24EC457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9CADD4-04E3-4B53-A559-F20D64174E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3C7A9-9616-469F-9DEF-ACAC6D0CC6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FC1BFB-A6B6-4DAF-A71B-532AA6A676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DF854-93DB-4E79-B626-1ACDDE0F0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58C60-E0A8-43BF-82A5-9C4CEB3B9D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1629DE-3FEC-46E2-8B20-EF3B242D3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55843-B8E2-4E30-A12F-36BA6B560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46930D-877A-466C-AB64-A28CB09876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CD1002-6490-4503-ACB2-0B4B2C17A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8C2C0-DE2D-4941-BBF4-2DADF9644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AE42B9-5701-43FF-A369-E34DE15F1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08FE90-AC74-40EF-9437-9A06DE7BA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39DAEB-F772-4ED3-B1A3-DD0FA6AA0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B89BFC-700E-4887-A1DB-901E9A61B8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9BDA0-2552-4921-B599-B5FAB74DC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3868C1-C3EE-464B-9FE4-6DE37A0F94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4E4768-EB9A-490D-8C48-C0EC28BAB1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B131C-7345-46B6-B3DB-A8C54DC7DB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C5F4A-DFDA-448E-9847-A0100CCD58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8192B7-34A6-45F1-A883-4CA720B7A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206DDE-5E1D-4279-B77A-F5829EF677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C28340-1E5F-4FB1-A1C0-7854D4E345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0C332-359F-480F-8B27-F3B52D2FC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D95531-20E7-4D97-A90F-98F9AFF3A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D8A569-2266-499A-A86A-3964150E84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CD868-C511-4604-8626-E4134A5F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341286-875A-4093-BD52-AA8D3D452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1FC77C-10D5-4B30-912D-2AA98FAAEA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1B6DE0-5334-4B79-9D1A-5622B6E098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9B4E5D-1642-44F5-AAB5-A3C0DEFC65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662609-1865-4C45-A59C-59E576A613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65B683-ECED-46BF-B493-042914AB50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EDE085-B6D9-49C6-948E-9F0B5C5B52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D4240A-26B2-4822-810A-AB802B328A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263939-5796-4FF0-9E8F-6F9F867862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5C703-232B-4E8F-934E-B19A247D5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BC6A3-7169-4356-B762-B59C38C0D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87F7D-65C7-4E1B-832A-816EC4B83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5E906B-3428-4E82-97B7-86B61E4BC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0D0626-1501-4629-AE09-A2D48BC477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D88C92-3E57-412D-97CE-6B54B5410E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9A46ED-40B7-427D-97DE-05406DA07F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CDCE-05AA-474E-B240-EDCD86B47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BA0FC-DAE8-42C7-B134-426F0C0A138B}"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AC469-3041-4173-A377-3C27FD74B571}"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F9576-CF32-422A-B784-CC0AC5C28E99}"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1C7F5-B698-487E-9CFC-D97D57FA0793}"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812B2-299B-4CF6-A33D-B947EA571084}" type="slidenum">
              <a:rPr b="0" lang="nl-NL"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08215-C5AB-429C-903B-3F08A093863E}"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2714E-EACB-44FA-B648-C9B055869DBB}"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262626"/>
                </a:solidFill>
                <a:latin typeface="Calibri Light"/>
              </a:rPr>
              <a:t>Schrijven (Examenonderdeel)</a:t>
            </a:r>
            <a:endParaRPr b="0" lang="en-US" sz="4000" spc="-1" strike="noStrike">
              <a:solidFill>
                <a:srgbClr val="404040"/>
              </a:solidFill>
              <a:latin typeface="Calibri Light"/>
            </a:endParaRPr>
          </a:p>
        </p:txBody>
      </p:sp>
      <p:sp>
        <p:nvSpPr>
          <p:cNvPr id="312" name="PlaceHolder 2"/>
          <p:cNvSpPr>
            <a:spLocks noGrp="1"/>
          </p:cNvSpPr>
          <p:nvPr>
            <p:ph type="subTitle"/>
          </p:nvPr>
        </p:nvSpPr>
        <p:spPr>
          <a:xfrm>
            <a:off x="760320" y="4381560"/>
            <a:ext cx="640080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BLZ. 170</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8" name=""/>
          <p:cNvSpPr txBox="1"/>
          <p:nvPr/>
        </p:nvSpPr>
        <p:spPr>
          <a:xfrm>
            <a:off x="4381200" y="0"/>
            <a:ext cx="4762440" cy="4525920"/>
          </a:xfrm>
          <a:prstGeom prst="rect">
            <a:avLst/>
          </a:prstGeom>
          <a:noFill/>
          <a:ln w="0">
            <a:noFill/>
          </a:ln>
        </p:spPr>
        <p:txBody>
          <a:bodyPr lIns="0" rIns="0" anchor="t">
            <a:normAutofit fontScale="74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endParaRPr b="0" lang="en-US" sz="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04040"/>
              </a:solidFill>
              <a:latin typeface="Calibri"/>
            </a:endParaRPr>
          </a:p>
        </p:txBody>
      </p:sp>
      <p:sp>
        <p:nvSpPr>
          <p:cNvPr id="349" name="Tijdelijke aanduiding voor inhoud 11"/>
          <p:cNvSpPr/>
          <p:nvPr/>
        </p:nvSpPr>
        <p:spPr>
          <a:xfrm>
            <a:off x="457200" y="1600200"/>
            <a:ext cx="3178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Werk in twee of meer alinea’s het onderwerp van je brief uit. </a:t>
            </a:r>
            <a:endParaRPr b="0" lang="en-US" sz="2000" spc="-1" strike="noStrike">
              <a:solidFill>
                <a:srgbClr val="000000"/>
              </a:solidFill>
              <a:latin typeface="Calibri"/>
            </a:endParaRPr>
          </a:p>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Gebruik voor elk deelonderwerp een nieuwe alin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4</a:t>
            </a:r>
            <a:endParaRPr b="0" lang="en-US" sz="3600" spc="-1" strike="noStrike">
              <a:solidFill>
                <a:srgbClr val="404040"/>
              </a:solidFill>
              <a:latin typeface="Calibri Light"/>
            </a:endParaRPr>
          </a:p>
        </p:txBody>
      </p:sp>
      <p:sp>
        <p:nvSpPr>
          <p:cNvPr id="351" name="PlaceHolder 2"/>
          <p:cNvSpPr>
            <a:spLocks noGrp="1"/>
          </p:cNvSpPr>
          <p:nvPr>
            <p:ph type="subTitle"/>
          </p:nvPr>
        </p:nvSpPr>
        <p:spPr>
          <a:xfrm>
            <a:off x="789120" y="4436640"/>
            <a:ext cx="7991280" cy="10558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WAT DOE JE IN DE LAATSTE ALINEA?</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SPREEK EEN WENS OF EEN VERWACHTING UIT.</a:t>
            </a:r>
            <a:endParaRPr b="0" lang="en-US" sz="2400" spc="-1" strike="noStrike">
              <a:solidFill>
                <a:srgbClr val="404040"/>
              </a:solidFill>
              <a:latin typeface="Calibri"/>
            </a:endParaRPr>
          </a:p>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54"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55" name="Tijdelijke aanduiding voor inhoud 11"/>
          <p:cNvSpPr/>
          <p:nvPr/>
        </p:nvSpPr>
        <p:spPr>
          <a:xfrm>
            <a:off x="49320" y="1187280"/>
            <a:ext cx="3178080" cy="4526280"/>
          </a:xfrm>
          <a:prstGeom prst="rect">
            <a:avLst/>
          </a:prstGeom>
          <a:noFill/>
          <a:ln w="0">
            <a:noFill/>
          </a:ln>
        </p:spPr>
        <p:style>
          <a:lnRef idx="0"/>
          <a:fillRef idx="0"/>
          <a:effectRef idx="0"/>
          <a:fontRef idx="minor"/>
        </p:style>
        <p:txBody>
          <a:bodyPr lIns="90000" rIns="9000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Spreek je wens of verwachting uit.</a:t>
            </a: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Voor de afronding worden vaak standaardzinnen gebruikt, zoals </a:t>
            </a:r>
            <a:r>
              <a:rPr b="0" i="1" lang="nl-NL" sz="2000" spc="-1" strike="noStrike">
                <a:solidFill>
                  <a:srgbClr val="404040"/>
                </a:solidFill>
                <a:latin typeface="Calibri"/>
              </a:rPr>
              <a:t>‘Met belangstelling zie ik uw reactie tegemo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endCondLst>
                                    <p:cond evt="begin"/>
                                  </p:endCondLst>
                                  <p:childTnLst>
                                    <p:set>
                                      <p:cBhvr>
                                        <p:cTn id="6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6</a:t>
            </a:r>
            <a:endParaRPr b="0" lang="en-US" sz="3600" spc="-1" strike="noStrike">
              <a:solidFill>
                <a:srgbClr val="404040"/>
              </a:solidFill>
              <a:latin typeface="Calibri Light"/>
            </a:endParaRPr>
          </a:p>
        </p:txBody>
      </p:sp>
      <p:sp>
        <p:nvSpPr>
          <p:cNvPr id="35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CONTROLEER JE BRIEF OP TAAL- EN SPELFOUTE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PlaceHolder 1"/>
          <p:cNvSpPr>
            <a:spLocks noGrp="1"/>
          </p:cNvSpPr>
          <p:nvPr>
            <p:ph type="title"/>
          </p:nvPr>
        </p:nvSpPr>
        <p:spPr>
          <a:xfrm>
            <a:off x="457200" y="7646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Controleer!</a:t>
            </a:r>
            <a:endParaRPr b="0" lang="en-US" sz="2600" spc="-1" strike="noStrike">
              <a:solidFill>
                <a:srgbClr val="404040"/>
              </a:solidFill>
              <a:latin typeface="Calibri Light"/>
            </a:endParaRPr>
          </a:p>
        </p:txBody>
      </p:sp>
      <p:sp>
        <p:nvSpPr>
          <p:cNvPr id="360"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15840">
            <a:solidFill>
              <a:srgbClr val="a75f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1" name=""/>
          <p:cNvSpPr txBox="1"/>
          <p:nvPr/>
        </p:nvSpPr>
        <p:spPr>
          <a:xfrm>
            <a:off x="250560" y="1700280"/>
            <a:ext cx="8785080" cy="4897440"/>
          </a:xfrm>
          <a:prstGeom prst="rect">
            <a:avLst/>
          </a:prstGeom>
          <a:noFill/>
          <a:ln w="0">
            <a:noFill/>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Levi Kempers</a:t>
            </a:r>
            <a:br>
              <a:rPr sz="1200"/>
            </a:br>
            <a:r>
              <a:rPr b="0" lang="nl-NL" sz="1200" spc="-1" strike="noStrike">
                <a:solidFill>
                  <a:srgbClr val="404040"/>
                </a:solidFill>
                <a:latin typeface="Calibri"/>
              </a:rPr>
              <a:t>Sophiastraat 31</a:t>
            </a:r>
            <a:br>
              <a:rPr sz="1200"/>
            </a:br>
            <a:r>
              <a:rPr b="0" lang="nl-NL" sz="1200" spc="-1" strike="noStrike">
                <a:solidFill>
                  <a:srgbClr val="404040"/>
                </a:solidFill>
                <a:latin typeface="Calibri"/>
              </a:rPr>
              <a:t>5667 FJ Zwoll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Postorderbedrijf Brinkman Buitensport</a:t>
            </a:r>
            <a:br>
              <a:rPr sz="1200"/>
            </a:br>
            <a:r>
              <a:rPr b="0" lang="nl-NL" sz="1200" spc="-1" strike="noStrike">
                <a:solidFill>
                  <a:srgbClr val="404040"/>
                </a:solidFill>
                <a:latin typeface="Calibri"/>
              </a:rPr>
              <a:t>Postbus 27</a:t>
            </a:r>
            <a:br>
              <a:rPr sz="1200"/>
            </a:br>
            <a:r>
              <a:rPr b="0" lang="nl-NL" sz="1200" spc="-1" strike="noStrike">
                <a:solidFill>
                  <a:srgbClr val="404040"/>
                </a:solidFill>
                <a:latin typeface="Calibri"/>
              </a:rPr>
              <a:t>3443 DT Almer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Zwolle, 11 maart 2019</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etreft: klacht over tent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Geachte heer/mevrouw,</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Met vriendelijke groet,</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Levi Kempers</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ijlage: Kopie aankoopbon </a:t>
            </a:r>
            <a:br>
              <a:rPr sz="1100"/>
            </a:br>
            <a:endParaRPr b="0" lang="en-US" sz="12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Aan het einde van deze les</a:t>
            </a:r>
            <a:endParaRPr b="0" lang="en-US" sz="48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Ik kan een zakelijke brief schrijv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Examen</a:t>
            </a:r>
            <a:endParaRPr b="0" lang="en-US" sz="4800" spc="-1" strike="noStrike">
              <a:solidFill>
                <a:srgbClr val="404040"/>
              </a:solidFill>
              <a:latin typeface="Calibri Light"/>
            </a:endParaRPr>
          </a:p>
        </p:txBody>
      </p:sp>
      <p:sp>
        <p:nvSpPr>
          <p:cNvPr id="31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7" name="Afbeelding 3" descr=""/>
          <p:cNvPicPr/>
          <p:nvPr/>
        </p:nvPicPr>
        <p:blipFill>
          <a:blip r:embed="rId1"/>
          <a:stretch/>
        </p:blipFill>
        <p:spPr>
          <a:xfrm>
            <a:off x="395280" y="2103480"/>
            <a:ext cx="802944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kstvak 3"/>
          <p:cNvSpPr/>
          <p:nvPr/>
        </p:nvSpPr>
        <p:spPr>
          <a:xfrm>
            <a:off x="1332000" y="115920"/>
            <a:ext cx="5472000" cy="680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 Jouw naa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B) Naam geadresseer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C) Plaats, datu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D) Betref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 Aanhef</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 De briefteks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G) Afsluit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H) Onderteken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 Bijlag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634680"/>
            <a:ext cx="7543800" cy="3567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1</a:t>
            </a:r>
            <a:endParaRPr b="0" lang="en-US" sz="3600" spc="-1" strike="noStrike">
              <a:solidFill>
                <a:srgbClr val="404040"/>
              </a:solidFill>
              <a:latin typeface="Calibri Light"/>
            </a:endParaRPr>
          </a:p>
        </p:txBody>
      </p:sp>
      <p:sp>
        <p:nvSpPr>
          <p:cNvPr id="320" name="PlaceHolder 2"/>
          <p:cNvSpPr>
            <a:spLocks noGrp="1"/>
          </p:cNvSpPr>
          <p:nvPr>
            <p:ph type="subTitle"/>
          </p:nvPr>
        </p:nvSpPr>
        <p:spPr>
          <a:xfrm>
            <a:off x="684360" y="4219200"/>
            <a:ext cx="6984720" cy="263844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Light"/>
              </a:rPr>
              <a:t>HOUD JE AAN DE CONVENTIES DIE GELDEN VOOR EEN ZAKELIJKE BRI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DRESGEGEVENS OP DE JUISTE PLAATS</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DATUM EN PLAATS GENOTEERD</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t>
            </a:r>
            <a:r>
              <a:rPr b="0" lang="nl-NL" sz="1400" spc="-1" strike="noStrike">
                <a:solidFill>
                  <a:srgbClr val="898989"/>
                </a:solidFill>
                <a:latin typeface="Calibri Light"/>
              </a:rPr>
              <a:t>BETREFT’ AANGEGEVEN</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JUISTE AANH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CORRECTE AFSCHEIDSGROET</a:t>
            </a: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PlaceHolder 1"/>
          <p:cNvSpPr>
            <a:spLocks noGrp="1"/>
          </p:cNvSpPr>
          <p:nvPr>
            <p:ph type="title"/>
          </p:nvPr>
        </p:nvSpPr>
        <p:spPr>
          <a:xfrm>
            <a:off x="166680" y="-10368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23" name=""/>
          <p:cNvSpPr txBox="1"/>
          <p:nvPr/>
        </p:nvSpPr>
        <p:spPr>
          <a:xfrm>
            <a:off x="896400" y="1106280"/>
            <a:ext cx="3178440" cy="5143320"/>
          </a:xfrm>
          <a:prstGeom prst="rect">
            <a:avLst/>
          </a:prstGeom>
          <a:noFill/>
          <a:ln w="0">
            <a:noFill/>
          </a:ln>
        </p:spPr>
        <p:txBody>
          <a:bodyPr lIns="0" rIns="0" anchor="t">
            <a:normAutofit fontScale="93000"/>
          </a:bodyPr>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naam + adresgegevens op de juiste plaats</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datum en plaats genoteerd</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a:t>
            </a:r>
            <a:r>
              <a:rPr b="0" lang="nl-NL" sz="2800" spc="-1" strike="noStrike">
                <a:solidFill>
                  <a:srgbClr val="404040"/>
                </a:solidFill>
                <a:latin typeface="Calibri"/>
              </a:rPr>
              <a:t>betreft’ aangegeven</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juiste aanhef</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correcte afscheidsgroet</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Eventuele bijlage</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4" name=""/>
          <p:cNvSpPr txBox="1"/>
          <p:nvPr/>
        </p:nvSpPr>
        <p:spPr>
          <a:xfrm>
            <a:off x="4281120" y="0"/>
            <a:ext cx="4762440" cy="4525920"/>
          </a:xfrm>
          <a:prstGeom prst="rect">
            <a:avLst/>
          </a:prstGeom>
          <a:noFill/>
          <a:ln w="0">
            <a:noFill/>
          </a:ln>
        </p:spPr>
        <p:txBody>
          <a:bodyPr lIns="0" rIns="0" anchor="t">
            <a:normAutofit fontScale="71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Levi Kempers</a:t>
            </a:r>
            <a:br>
              <a:rPr sz="1600"/>
            </a:br>
            <a:r>
              <a:rPr b="1" lang="nl-NL" sz="1600" spc="-1" strike="noStrike">
                <a:solidFill>
                  <a:srgbClr val="404040"/>
                </a:solidFill>
                <a:latin typeface="Calibri"/>
              </a:rPr>
              <a:t>Sophiastraat 31</a:t>
            </a:r>
            <a:br>
              <a:rPr sz="1600"/>
            </a:br>
            <a:r>
              <a:rPr b="1" lang="nl-NL" sz="1600" spc="-1" strike="noStrike">
                <a:solidFill>
                  <a:srgbClr val="404040"/>
                </a:solidFill>
                <a:latin typeface="Calibri"/>
              </a:rPr>
              <a:t>5667 FJ Zwoll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Postorderbedrijf Brinkman Buitensport</a:t>
            </a:r>
            <a:br>
              <a:rPr sz="1600"/>
            </a:br>
            <a:r>
              <a:rPr b="1" lang="nl-NL" sz="1600" spc="-1" strike="noStrike">
                <a:solidFill>
                  <a:srgbClr val="404040"/>
                </a:solidFill>
                <a:latin typeface="Calibri"/>
              </a:rPr>
              <a:t>Postbus 27</a:t>
            </a:r>
            <a:br>
              <a:rPr sz="1600"/>
            </a:br>
            <a:r>
              <a:rPr b="1" lang="nl-NL" sz="1600" spc="-1" strike="noStrike">
                <a:solidFill>
                  <a:srgbClr val="404040"/>
                </a:solidFill>
                <a:latin typeface="Calibri"/>
              </a:rPr>
              <a:t>3443 DT Almer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Zwolle, 11 maart 2019</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etreft: klacht over tent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Geachte heer/mevrouw,</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0" lang="nl-NL" sz="16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1" lang="nl-NL" sz="1600" spc="-1" strike="noStrike">
                <a:solidFill>
                  <a:srgbClr val="404040"/>
                </a:solidFill>
                <a:latin typeface="Calibri"/>
              </a:rPr>
              <a:t>Met vriendelijke groet,</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 </a:t>
            </a:r>
            <a:r>
              <a:rPr b="1" lang="nl-NL" sz="1600" spc="-1" strike="noStrike">
                <a:solidFill>
                  <a:srgbClr val="404040"/>
                </a:solidFill>
                <a:latin typeface="Calibri"/>
              </a:rPr>
              <a:t>Levi Kempers</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ijlage: Kopie aankoopbon </a:t>
            </a:r>
            <a:br>
              <a:rPr sz="1400"/>
            </a:b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25" name="PIJL-RECHTS 2"/>
          <p:cNvSpPr/>
          <p:nvPr/>
        </p:nvSpPr>
        <p:spPr>
          <a:xfrm>
            <a:off x="190440" y="126684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PIJL-RECHTS 7"/>
          <p:cNvSpPr/>
          <p:nvPr/>
        </p:nvSpPr>
        <p:spPr>
          <a:xfrm rot="10800000">
            <a:off x="6973920" y="189720"/>
            <a:ext cx="689040" cy="319320"/>
          </a:xfrm>
          <a:prstGeom prst="rightArrow">
            <a:avLst>
              <a:gd name="adj1" fmla="val 50000"/>
              <a:gd name="adj2" fmla="val 49970"/>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PIJL-RECHTS 8"/>
          <p:cNvSpPr/>
          <p:nvPr/>
        </p:nvSpPr>
        <p:spPr>
          <a:xfrm rot="10800000">
            <a:off x="6910560" y="839520"/>
            <a:ext cx="576000" cy="315720"/>
          </a:xfrm>
          <a:prstGeom prst="rightArrow">
            <a:avLst>
              <a:gd name="adj1" fmla="val 50000"/>
              <a:gd name="adj2" fmla="val 50011"/>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PIJL-RECHTS 9"/>
          <p:cNvSpPr/>
          <p:nvPr/>
        </p:nvSpPr>
        <p:spPr>
          <a:xfrm>
            <a:off x="69840" y="256536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PIJL-RECHTS 10"/>
          <p:cNvSpPr/>
          <p:nvPr/>
        </p:nvSpPr>
        <p:spPr>
          <a:xfrm rot="10800000">
            <a:off x="6899040" y="1319040"/>
            <a:ext cx="626760" cy="325440"/>
          </a:xfrm>
          <a:prstGeom prst="rightArrow">
            <a:avLst>
              <a:gd name="adj1" fmla="val 50000"/>
              <a:gd name="adj2" fmla="val 49975"/>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PIJL-RECHTS 11"/>
          <p:cNvSpPr/>
          <p:nvPr/>
        </p:nvSpPr>
        <p:spPr>
          <a:xfrm>
            <a:off x="96840" y="345744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IJL-RECHTS 12"/>
          <p:cNvSpPr/>
          <p:nvPr/>
        </p:nvSpPr>
        <p:spPr>
          <a:xfrm rot="10800000">
            <a:off x="6950160" y="1716120"/>
            <a:ext cx="576000" cy="28080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PIJL-RECHTS 13"/>
          <p:cNvSpPr/>
          <p:nvPr/>
        </p:nvSpPr>
        <p:spPr>
          <a:xfrm>
            <a:off x="96840" y="418320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3" name="PIJL-RECHTS 14"/>
          <p:cNvSpPr/>
          <p:nvPr/>
        </p:nvSpPr>
        <p:spPr>
          <a:xfrm rot="10800000">
            <a:off x="6959520" y="2101680"/>
            <a:ext cx="566640" cy="244800"/>
          </a:xfrm>
          <a:prstGeom prst="rightArrow">
            <a:avLst>
              <a:gd name="adj1" fmla="val 50000"/>
              <a:gd name="adj2" fmla="val 49927"/>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PIJL-RECHTS 15"/>
          <p:cNvSpPr/>
          <p:nvPr/>
        </p:nvSpPr>
        <p:spPr>
          <a:xfrm>
            <a:off x="96840" y="48672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PIJL-RECHTS 16"/>
          <p:cNvSpPr/>
          <p:nvPr/>
        </p:nvSpPr>
        <p:spPr>
          <a:xfrm rot="10800000">
            <a:off x="6806880" y="57103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PIJL-RECHTS 15"/>
          <p:cNvSpPr/>
          <p:nvPr/>
        </p:nvSpPr>
        <p:spPr>
          <a:xfrm>
            <a:off x="61920" y="62118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PIJL-RECHTS 16"/>
          <p:cNvSpPr/>
          <p:nvPr/>
        </p:nvSpPr>
        <p:spPr>
          <a:xfrm rot="10800000">
            <a:off x="6852960" y="63565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3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2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2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3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3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5662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2</a:t>
            </a:r>
            <a:endParaRPr b="0" lang="en-US" sz="3600" spc="-1" strike="noStrike">
              <a:solidFill>
                <a:srgbClr val="404040"/>
              </a:solidFill>
              <a:latin typeface="Calibri Light"/>
            </a:endParaRPr>
          </a:p>
        </p:txBody>
      </p:sp>
      <p:sp>
        <p:nvSpPr>
          <p:cNvPr id="339" name="PlaceHolder 2"/>
          <p:cNvSpPr>
            <a:spLocks noGrp="1"/>
          </p:cNvSpPr>
          <p:nvPr>
            <p:ph type="subTitle"/>
          </p:nvPr>
        </p:nvSpPr>
        <p:spPr>
          <a:xfrm>
            <a:off x="821880" y="4202280"/>
            <a:ext cx="7991640" cy="1674720"/>
          </a:xfrm>
          <a:prstGeom prst="rect">
            <a:avLst/>
          </a:prstGeom>
          <a:noFill/>
          <a:ln w="0">
            <a:noFill/>
          </a:ln>
        </p:spPr>
        <p:txBody>
          <a:bodyPr anchor="t">
            <a:no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Calibri Light"/>
              </a:rPr>
              <a:t>WAT ZET JE IN DE EERSTE ALINEA?</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NOEM KORT HET ONDERWERP VAN JE BRIEF. GEEF OOK KORT UITLEG OVER DE REDE OF AANLEIDING VAN JE BRIEF. </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DE AANHEF EINDIGT MET EEN KOMMA, MAAR TOCH BEGIN JE DE EERSTE ALINEA MET EEN HOOFDLETTER.</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BEGIN DE ZINNEN NIET TE VAAK MET ‘IK’.</a:t>
            </a:r>
            <a:endParaRPr b="0" lang="en-US" sz="1500" spc="-1" strike="noStrike">
              <a:solidFill>
                <a:srgbClr val="404040"/>
              </a:solidFill>
              <a:latin typeface="Calibri"/>
            </a:endParaRPr>
          </a:p>
          <a:p>
            <a:pPr indent="0">
              <a:lnSpc>
                <a:spcPct val="7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2" name=""/>
          <p:cNvSpPr txBox="1"/>
          <p:nvPr/>
        </p:nvSpPr>
        <p:spPr>
          <a:xfrm>
            <a:off x="108000" y="1484280"/>
            <a:ext cx="3178080" cy="4525920"/>
          </a:xfrm>
          <a:prstGeom prst="rect">
            <a:avLst/>
          </a:prstGeom>
          <a:noFill/>
          <a:ln w="0">
            <a:noFill/>
          </a:ln>
        </p:spPr>
        <p:txBody>
          <a:bodyPr lIns="0" rIns="0" anchor="t">
            <a:normAutofit/>
          </a:bodyPr>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Noem kort het onderwerp van je brief. Geef ook kort uitleg over de reden of aanleiding van je brief. </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 aanhef eindigt met een komma, maar toch begin je de eerste alinea met een hoofdletter.</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gin de zinnen niet te vaak met ‘Ik’.</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3"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3</a:t>
            </a:r>
            <a:endParaRPr b="0" lang="en-US" sz="3600" spc="-1" strike="noStrike">
              <a:solidFill>
                <a:srgbClr val="404040"/>
              </a:solidFill>
              <a:latin typeface="Calibri Light"/>
            </a:endParaRPr>
          </a:p>
        </p:txBody>
      </p:sp>
      <p:sp>
        <p:nvSpPr>
          <p:cNvPr id="345" name="PlaceHolder 2"/>
          <p:cNvSpPr>
            <a:spLocks noGrp="1"/>
          </p:cNvSpPr>
          <p:nvPr>
            <p:ph type="subTitle"/>
          </p:nvPr>
        </p:nvSpPr>
        <p:spPr>
          <a:xfrm>
            <a:off x="821880" y="4508640"/>
            <a:ext cx="7991640" cy="1055520"/>
          </a:xfrm>
          <a:prstGeom prst="rect">
            <a:avLst/>
          </a:prstGeom>
          <a:noFill/>
          <a:ln w="0">
            <a:noFill/>
          </a:ln>
        </p:spPr>
        <p:txBody>
          <a:bodyPr anchor="t">
            <a:noAutofit/>
          </a:bodyPr>
          <a:p>
            <a:pPr indent="0">
              <a:lnSpc>
                <a:spcPct val="7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Light"/>
              </a:rPr>
              <a:t>WAT DOE JE IN DE TWEEDE EN DERDE ALINEA?</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WERK IN TWEE OF MEER ALINEA’S HET ONDERWERP VAN JE BRIEF UIT. </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GEBRUIK VOOR ELK DEELONDERWERP EEN NIEUWE ALINEA.</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Gudrun van der Kamp</cp:lastModifiedBy>
  <dcterms:modified xsi:type="dcterms:W3CDTF">2020-03-16T12:28:06Z</dcterms:modified>
  <cp:revision>243</cp:revision>
  <dc:subject/>
  <dc:title>goed of fout?</dc:title>
</cp:coreProperties>
</file>