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06A3D-543F-4F3D-9BB4-8B17D18CAF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56E85-2EDE-46AC-86EB-4FBA033DA216}"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B8AEF-1285-434B-904B-DD6CBD0B90E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9653D-4690-4E2A-805E-4AEDD7BB8C2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F9EBE-A5ED-4A36-9C0D-684EA477A75E}"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E2E44-1E82-491F-B16C-9E2BF7FEFEE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35B8F-58BE-4BF1-B355-AC428F84141A}"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8806E-9E8B-4DF6-8762-18DD9718678A}"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088A2-C50D-451D-AB3B-703E639780C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4A15D-0FE6-4529-AF98-21B36AE81215}"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6A074-5FB8-4B56-B5E7-C1BC53A5F55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0F5DF-0668-43CB-A277-5D8899A5861A}"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20BA3-9A46-432A-AA48-D4E8F3BC3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BA691-DEFF-4010-B1D9-9F5F96598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BB690-DC7C-4C1B-8335-C97F1AAD6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38AF6-5698-4204-B596-1C2645757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53745-3160-47E2-B79E-408F626DA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E02FD-7F5B-4FF4-90DC-C1A9B7089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B4E6B-109E-42EA-B669-1E95D7A88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08BDC-2DB5-4408-AC0A-AE467E72C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9D314-234A-49A6-934C-07A094863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82D26-7D29-4514-AC6D-EB7B66D60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C92CC-7448-4FD8-A5E3-C120BDC10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998C1-F6CD-477E-A7AC-0EB354875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B83A2-169A-482F-893E-9860A506B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65CE5-BDB6-4DF3-BAE3-F43DD4BD3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8E6D7-5882-4AE5-8C30-71F2AF470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92A58-6FE3-4791-98CD-8594208FB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720F8-4881-433D-A4A4-A182CBEA7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62B5E7-3ADD-471D-B9CA-198F0373D3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8C74A5-E291-40E7-92DC-F4DBC1495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D9D4B-20A5-4949-9D5A-ED6D594E6B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EE13C-A7CD-4061-83BC-D5A4A942B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3620C-854A-4644-8D21-64C2680A9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E3652-8DF6-496D-A116-4A320CFEA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963FD-26BD-41AD-B660-B318ECDCD2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9FB1B-6CA4-4BC2-B651-DE8ECC51E6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347D4-065B-40A8-B71E-DE800FCD6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FA896-47AA-4315-8E47-0AFAA8201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2971E-8CB0-42C6-96F7-143F67A63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ACF1C1-35D5-4F9C-A6EC-FC2899062F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847D41-7852-496D-9D07-9F1CC6DCA4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27162A-35C2-4D71-858A-4144C55819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C9E2D-0EC5-469C-96D2-87D49E95E8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E56520-78C6-49A9-8872-BBD21F41F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90456-3C44-4824-B082-69047E719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9E5621-CB2B-447C-97FE-D879CC34A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DBA8D-D286-4B7B-A029-4B9CD9FAE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B49FF3-D355-4F5B-8022-3F52A0A7BE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A1DA8-40B4-4357-A025-D7270949A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35519-A4B6-4FF8-B917-3E7B86E7A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8B612-95C8-4AED-BFF6-33DBF0ACB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07D1D8-EEB3-4E1F-BA15-AD0B132A12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C312D0-5BCC-4B8D-8A3B-988C2758CC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6D0E53-818D-478A-82F2-95F90DBFB2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2CEC55-AB16-4B6B-952B-AB025D7AD5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94C7D-DB46-40E3-BA75-77A2900D7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D055E3-9973-4C67-9F82-110BAE92E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6BDF2-5144-4B26-9B16-0109605130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7AE14-F9C9-424D-B5A3-610518EA9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0C443-C735-441E-911E-5DBCA074F4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7B6CE-326B-4330-AC5E-5D454F8CC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29A77B-EE5A-4399-B13F-08CD43C482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AB72D-C674-41A0-BFCB-C6779834C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A578A-A617-40FA-8A5B-E3FF4F546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47CF63-0FE4-4E4E-8216-270ADC918D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EC3885-40B3-44F3-8313-03A4C6EAA7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8B2BD-FE77-445B-8857-47C7C1422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E716D8-D34E-4D1C-8D80-C13830C2E8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019B01-56AE-4D17-A127-8E76C59917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5A3BD-0E27-4781-BEDE-7FFFAFB00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5C0C43-6D11-435D-8D63-CEDC974D0E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E5EBA7-5D9E-4C6B-9151-562CEB82DC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C888D-164B-465B-A694-A8B1E3F048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54B76C-460B-4D5A-AE60-0B58CC187E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A56D5-790D-4A17-93C2-1D0CD1BEF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20A1CE-B527-4D99-8E6F-4439123D7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C040D-04B9-410E-8B1C-74ECA4621E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CB26-3AB4-49C0-9C8F-15B5CE37F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8EAEF-64D0-4120-9EEB-4A37D24FBF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F8F7C3-C4A5-472E-95D1-9D41FAD92D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3AC31F-0383-4147-B4DF-725BA81980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D99619-5292-4343-BC60-24104CA6EE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8A4C6-6026-4A7B-8674-BE07973512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7A27A-B656-4F27-A0E3-34DF31113F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DCB111-8F7D-4F78-928E-37223A0B82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E8BE83-C029-43D6-ACC5-5B5238B813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6733CF-FB3F-4498-8BDF-5840D9DA0F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3F5DB-5A79-47C4-90A7-45B880510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2C7AD-F320-4BC9-AD88-FE3E3A930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CAFE1-818D-434C-B137-F8D6682AB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01AB5-A9F8-4CED-ABFA-A13F315E8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697A56-9C17-4155-AA5A-3C5F4ED2B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88133C-394C-4C60-8EB3-AF723B037A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640914-0899-4056-AD29-2BBC184BA1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C18F-540B-4B1E-A1D7-34A2E6A90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B9B03-244B-4D28-A8BD-C435F6DA0575}"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DC6D8-16BD-41EA-BDDA-30EDAB4C025D}"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BC6C8-F45F-46D1-B978-76290B93C620}"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E5F1F-70F4-4C4F-9080-CEDAEF224E24}"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4E1C2-112E-48DD-80D6-002E42EE5F20}" type="slidenum">
              <a:rPr b="0" lang="nl-NL"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52588-BA6C-4653-9992-7EF15EF49D00}"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1D58E-E006-4278-93CC-4B3C33F8F151}"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262626"/>
                </a:solidFill>
                <a:latin typeface="Calibri Light"/>
              </a:rPr>
              <a:t>Schrijven (Examenonderdeel)</a:t>
            </a:r>
            <a:endParaRPr b="0" lang="en-US" sz="4000" spc="-1" strike="noStrike">
              <a:solidFill>
                <a:srgbClr val="404040"/>
              </a:solidFill>
              <a:latin typeface="Calibri Light"/>
            </a:endParaRPr>
          </a:p>
        </p:txBody>
      </p:sp>
      <p:sp>
        <p:nvSpPr>
          <p:cNvPr id="312" name="PlaceHolder 2"/>
          <p:cNvSpPr>
            <a:spLocks noGrp="1"/>
          </p:cNvSpPr>
          <p:nvPr>
            <p:ph type="subTitle"/>
          </p:nvPr>
        </p:nvSpPr>
        <p:spPr>
          <a:xfrm>
            <a:off x="760320" y="4381560"/>
            <a:ext cx="640080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BLZ. 170</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8" name=""/>
          <p:cNvSpPr txBox="1"/>
          <p:nvPr/>
        </p:nvSpPr>
        <p:spPr>
          <a:xfrm>
            <a:off x="4381200" y="0"/>
            <a:ext cx="4762440" cy="4525920"/>
          </a:xfrm>
          <a:prstGeom prst="rect">
            <a:avLst/>
          </a:prstGeom>
          <a:noFill/>
          <a:ln w="0">
            <a:noFill/>
          </a:ln>
        </p:spPr>
        <p:txBody>
          <a:bodyPr lIns="0" rIns="0" anchor="t">
            <a:normAutofit fontScale="74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endParaRPr b="0" lang="en-US" sz="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04040"/>
              </a:solidFill>
              <a:latin typeface="Calibri"/>
            </a:endParaRPr>
          </a:p>
        </p:txBody>
      </p:sp>
      <p:sp>
        <p:nvSpPr>
          <p:cNvPr id="349" name="Tijdelijke aanduiding voor inhoud 11"/>
          <p:cNvSpPr/>
          <p:nvPr/>
        </p:nvSpPr>
        <p:spPr>
          <a:xfrm>
            <a:off x="457200" y="1600200"/>
            <a:ext cx="3178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Werk in twee of meer alinea’s het onderwerp van je brief uit. </a:t>
            </a:r>
            <a:endParaRPr b="0" lang="en-US" sz="2000" spc="-1" strike="noStrike">
              <a:solidFill>
                <a:srgbClr val="000000"/>
              </a:solidFill>
              <a:latin typeface="Calibri"/>
            </a:endParaRPr>
          </a:p>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Gebruik voor elk deelonderwerp een nieuwe alin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4</a:t>
            </a:r>
            <a:endParaRPr b="0" lang="en-US" sz="3600" spc="-1" strike="noStrike">
              <a:solidFill>
                <a:srgbClr val="404040"/>
              </a:solidFill>
              <a:latin typeface="Calibri Light"/>
            </a:endParaRPr>
          </a:p>
        </p:txBody>
      </p:sp>
      <p:sp>
        <p:nvSpPr>
          <p:cNvPr id="351" name="PlaceHolder 2"/>
          <p:cNvSpPr>
            <a:spLocks noGrp="1"/>
          </p:cNvSpPr>
          <p:nvPr>
            <p:ph type="subTitle"/>
          </p:nvPr>
        </p:nvSpPr>
        <p:spPr>
          <a:xfrm>
            <a:off x="789120" y="4436640"/>
            <a:ext cx="7991280" cy="10558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WAT DOE JE IN DE LAATSTE ALINEA?</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SPREEK EEN WENS OF EEN VERWACHTING UIT.</a:t>
            </a:r>
            <a:endParaRPr b="0" lang="en-US" sz="2400" spc="-1" strike="noStrike">
              <a:solidFill>
                <a:srgbClr val="404040"/>
              </a:solidFill>
              <a:latin typeface="Calibri"/>
            </a:endParaRPr>
          </a:p>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54"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55" name="Tijdelijke aanduiding voor inhoud 11"/>
          <p:cNvSpPr/>
          <p:nvPr/>
        </p:nvSpPr>
        <p:spPr>
          <a:xfrm>
            <a:off x="49320" y="1187280"/>
            <a:ext cx="3178080" cy="4526280"/>
          </a:xfrm>
          <a:prstGeom prst="rect">
            <a:avLst/>
          </a:prstGeom>
          <a:noFill/>
          <a:ln w="0">
            <a:noFill/>
          </a:ln>
        </p:spPr>
        <p:style>
          <a:lnRef idx="0"/>
          <a:fillRef idx="0"/>
          <a:effectRef idx="0"/>
          <a:fontRef idx="minor"/>
        </p:style>
        <p:txBody>
          <a:bodyPr lIns="90000" rIns="9000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Spreek je wens of verwachting uit.</a:t>
            </a: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Voor de afronding worden vaak standaardzinnen gebruikt, zoals </a:t>
            </a:r>
            <a:r>
              <a:rPr b="0" i="1" lang="nl-NL" sz="2000" spc="-1" strike="noStrike">
                <a:solidFill>
                  <a:srgbClr val="404040"/>
                </a:solidFill>
                <a:latin typeface="Calibri"/>
              </a:rPr>
              <a:t>‘Met belangstelling zie ik uw reactie tegemo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endCondLst>
                                    <p:cond evt="begin"/>
                                  </p:endCondLst>
                                  <p:childTnLst>
                                    <p:set>
                                      <p:cBhvr>
                                        <p:cTn id="6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6</a:t>
            </a:r>
            <a:endParaRPr b="0" lang="en-US" sz="3600" spc="-1" strike="noStrike">
              <a:solidFill>
                <a:srgbClr val="404040"/>
              </a:solidFill>
              <a:latin typeface="Calibri Light"/>
            </a:endParaRPr>
          </a:p>
        </p:txBody>
      </p:sp>
      <p:sp>
        <p:nvSpPr>
          <p:cNvPr id="35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CONTROLEER JE BRIEF OP TAAL- EN SPELFOUTE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PlaceHolder 1"/>
          <p:cNvSpPr>
            <a:spLocks noGrp="1"/>
          </p:cNvSpPr>
          <p:nvPr>
            <p:ph type="title"/>
          </p:nvPr>
        </p:nvSpPr>
        <p:spPr>
          <a:xfrm>
            <a:off x="457200" y="7646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Controleer!</a:t>
            </a:r>
            <a:endParaRPr b="0" lang="en-US" sz="2600" spc="-1" strike="noStrike">
              <a:solidFill>
                <a:srgbClr val="404040"/>
              </a:solidFill>
              <a:latin typeface="Calibri Light"/>
            </a:endParaRPr>
          </a:p>
        </p:txBody>
      </p:sp>
      <p:sp>
        <p:nvSpPr>
          <p:cNvPr id="360"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15840">
            <a:solidFill>
              <a:srgbClr val="a75f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1" name=""/>
          <p:cNvSpPr txBox="1"/>
          <p:nvPr/>
        </p:nvSpPr>
        <p:spPr>
          <a:xfrm>
            <a:off x="250560" y="1700280"/>
            <a:ext cx="8785080" cy="4897440"/>
          </a:xfrm>
          <a:prstGeom prst="rect">
            <a:avLst/>
          </a:prstGeom>
          <a:noFill/>
          <a:ln w="0">
            <a:noFill/>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Levi Kempers</a:t>
            </a:r>
            <a:br>
              <a:rPr sz="1200"/>
            </a:br>
            <a:r>
              <a:rPr b="0" lang="nl-NL" sz="1200" spc="-1" strike="noStrike">
                <a:solidFill>
                  <a:srgbClr val="404040"/>
                </a:solidFill>
                <a:latin typeface="Calibri"/>
              </a:rPr>
              <a:t>Sophiastraat 31</a:t>
            </a:r>
            <a:br>
              <a:rPr sz="1200"/>
            </a:br>
            <a:r>
              <a:rPr b="0" lang="nl-NL" sz="1200" spc="-1" strike="noStrike">
                <a:solidFill>
                  <a:srgbClr val="404040"/>
                </a:solidFill>
                <a:latin typeface="Calibri"/>
              </a:rPr>
              <a:t>5667 FJ Zwoll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Postorderbedrijf Brinkman Buitensport</a:t>
            </a:r>
            <a:br>
              <a:rPr sz="1200"/>
            </a:br>
            <a:r>
              <a:rPr b="0" lang="nl-NL" sz="1200" spc="-1" strike="noStrike">
                <a:solidFill>
                  <a:srgbClr val="404040"/>
                </a:solidFill>
                <a:latin typeface="Calibri"/>
              </a:rPr>
              <a:t>Postbus 27</a:t>
            </a:r>
            <a:br>
              <a:rPr sz="1200"/>
            </a:br>
            <a:r>
              <a:rPr b="0" lang="nl-NL" sz="1200" spc="-1" strike="noStrike">
                <a:solidFill>
                  <a:srgbClr val="404040"/>
                </a:solidFill>
                <a:latin typeface="Calibri"/>
              </a:rPr>
              <a:t>3443 DT Almer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Zwolle, 11 maart 2019</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etreft: klacht over tent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Geachte heer/mevrouw,</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Met vriendelijke groet,</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Levi Kempers</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ijlage: Kopie aankoopbon </a:t>
            </a:r>
            <a:br>
              <a:rPr sz="1100"/>
            </a:br>
            <a:endParaRPr b="0" lang="en-US" sz="12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Aan het einde van deze les</a:t>
            </a:r>
            <a:endParaRPr b="0" lang="en-US" sz="48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Ik kan een zakelijke brief schrijv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Examen</a:t>
            </a:r>
            <a:endParaRPr b="0" lang="en-US" sz="4800" spc="-1" strike="noStrike">
              <a:solidFill>
                <a:srgbClr val="404040"/>
              </a:solidFill>
              <a:latin typeface="Calibri Light"/>
            </a:endParaRPr>
          </a:p>
        </p:txBody>
      </p:sp>
      <p:sp>
        <p:nvSpPr>
          <p:cNvPr id="31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7" name="Afbeelding 3" descr=""/>
          <p:cNvPicPr/>
          <p:nvPr/>
        </p:nvPicPr>
        <p:blipFill>
          <a:blip r:embed="rId1"/>
          <a:stretch/>
        </p:blipFill>
        <p:spPr>
          <a:xfrm>
            <a:off x="395280" y="2103480"/>
            <a:ext cx="802944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kstvak 3"/>
          <p:cNvSpPr/>
          <p:nvPr/>
        </p:nvSpPr>
        <p:spPr>
          <a:xfrm>
            <a:off x="1332000" y="115920"/>
            <a:ext cx="5472000" cy="680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 Jouw naa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B) Naam geadresseer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C) Plaats, datu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D) Betref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 Aanhef</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 De briefteks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G) Afsluit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H) Onderteken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 Bijlag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634680"/>
            <a:ext cx="7543800" cy="3567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1</a:t>
            </a:r>
            <a:endParaRPr b="0" lang="en-US" sz="3600" spc="-1" strike="noStrike">
              <a:solidFill>
                <a:srgbClr val="404040"/>
              </a:solidFill>
              <a:latin typeface="Calibri Light"/>
            </a:endParaRPr>
          </a:p>
        </p:txBody>
      </p:sp>
      <p:sp>
        <p:nvSpPr>
          <p:cNvPr id="320" name="PlaceHolder 2"/>
          <p:cNvSpPr>
            <a:spLocks noGrp="1"/>
          </p:cNvSpPr>
          <p:nvPr>
            <p:ph type="subTitle"/>
          </p:nvPr>
        </p:nvSpPr>
        <p:spPr>
          <a:xfrm>
            <a:off x="684360" y="4219200"/>
            <a:ext cx="6984720" cy="263844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Light"/>
              </a:rPr>
              <a:t>HOUD JE AAN DE CONVENTIES DIE GELDEN VOOR EEN ZAKELIJKE BRI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DRESGEGEVENS OP DE JUISTE PLAATS</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DATUM EN PLAATS GENOTEERD</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t>
            </a:r>
            <a:r>
              <a:rPr b="0" lang="nl-NL" sz="1400" spc="-1" strike="noStrike">
                <a:solidFill>
                  <a:srgbClr val="898989"/>
                </a:solidFill>
                <a:latin typeface="Calibri Light"/>
              </a:rPr>
              <a:t>BETREFT’ AANGEGEVEN</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JUISTE AANH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CORRECTE AFSCHEIDSGROET</a:t>
            </a: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PlaceHolder 1"/>
          <p:cNvSpPr>
            <a:spLocks noGrp="1"/>
          </p:cNvSpPr>
          <p:nvPr>
            <p:ph type="title"/>
          </p:nvPr>
        </p:nvSpPr>
        <p:spPr>
          <a:xfrm>
            <a:off x="166680" y="-10368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23" name=""/>
          <p:cNvSpPr txBox="1"/>
          <p:nvPr/>
        </p:nvSpPr>
        <p:spPr>
          <a:xfrm>
            <a:off x="896400" y="1106280"/>
            <a:ext cx="3178440" cy="5143320"/>
          </a:xfrm>
          <a:prstGeom prst="rect">
            <a:avLst/>
          </a:prstGeom>
          <a:noFill/>
          <a:ln w="0">
            <a:noFill/>
          </a:ln>
        </p:spPr>
        <p:txBody>
          <a:bodyPr lIns="0" rIns="0" anchor="t">
            <a:normAutofit fontScale="93000"/>
          </a:bodyPr>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naam + adresgegevens op de juiste plaats</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datum en plaats genoteerd</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a:t>
            </a:r>
            <a:r>
              <a:rPr b="0" lang="nl-NL" sz="2800" spc="-1" strike="noStrike">
                <a:solidFill>
                  <a:srgbClr val="404040"/>
                </a:solidFill>
                <a:latin typeface="Calibri"/>
              </a:rPr>
              <a:t>betreft’ aangegeven</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juiste aanhef</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correcte afscheidsgroet</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Eventuele bijlage</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4" name=""/>
          <p:cNvSpPr txBox="1"/>
          <p:nvPr/>
        </p:nvSpPr>
        <p:spPr>
          <a:xfrm>
            <a:off x="4281120" y="0"/>
            <a:ext cx="4762440" cy="4525920"/>
          </a:xfrm>
          <a:prstGeom prst="rect">
            <a:avLst/>
          </a:prstGeom>
          <a:noFill/>
          <a:ln w="0">
            <a:noFill/>
          </a:ln>
        </p:spPr>
        <p:txBody>
          <a:bodyPr lIns="0" rIns="0" anchor="t">
            <a:normAutofit fontScale="71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Levi Kempers</a:t>
            </a:r>
            <a:br>
              <a:rPr sz="1600"/>
            </a:br>
            <a:r>
              <a:rPr b="1" lang="nl-NL" sz="1600" spc="-1" strike="noStrike">
                <a:solidFill>
                  <a:srgbClr val="404040"/>
                </a:solidFill>
                <a:latin typeface="Calibri"/>
              </a:rPr>
              <a:t>Sophiastraat 31</a:t>
            </a:r>
            <a:br>
              <a:rPr sz="1600"/>
            </a:br>
            <a:r>
              <a:rPr b="1" lang="nl-NL" sz="1600" spc="-1" strike="noStrike">
                <a:solidFill>
                  <a:srgbClr val="404040"/>
                </a:solidFill>
                <a:latin typeface="Calibri"/>
              </a:rPr>
              <a:t>5667 FJ Zwoll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Postorderbedrijf Brinkman Buitensport</a:t>
            </a:r>
            <a:br>
              <a:rPr sz="1600"/>
            </a:br>
            <a:r>
              <a:rPr b="1" lang="nl-NL" sz="1600" spc="-1" strike="noStrike">
                <a:solidFill>
                  <a:srgbClr val="404040"/>
                </a:solidFill>
                <a:latin typeface="Calibri"/>
              </a:rPr>
              <a:t>Postbus 27</a:t>
            </a:r>
            <a:br>
              <a:rPr sz="1600"/>
            </a:br>
            <a:r>
              <a:rPr b="1" lang="nl-NL" sz="1600" spc="-1" strike="noStrike">
                <a:solidFill>
                  <a:srgbClr val="404040"/>
                </a:solidFill>
                <a:latin typeface="Calibri"/>
              </a:rPr>
              <a:t>3443 DT Almer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Zwolle, 11 maart 2019</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etreft: klacht over tent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Geachte heer/mevrouw,</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0" lang="nl-NL" sz="16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1" lang="nl-NL" sz="1600" spc="-1" strike="noStrike">
                <a:solidFill>
                  <a:srgbClr val="404040"/>
                </a:solidFill>
                <a:latin typeface="Calibri"/>
              </a:rPr>
              <a:t>Met vriendelijke groet,</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 </a:t>
            </a:r>
            <a:r>
              <a:rPr b="1" lang="nl-NL" sz="1600" spc="-1" strike="noStrike">
                <a:solidFill>
                  <a:srgbClr val="404040"/>
                </a:solidFill>
                <a:latin typeface="Calibri"/>
              </a:rPr>
              <a:t>Levi Kempers</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ijlage: Kopie aankoopbon </a:t>
            </a:r>
            <a:br>
              <a:rPr sz="1400"/>
            </a:b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25" name="PIJL-RECHTS 2"/>
          <p:cNvSpPr/>
          <p:nvPr/>
        </p:nvSpPr>
        <p:spPr>
          <a:xfrm>
            <a:off x="190440" y="126684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PIJL-RECHTS 7"/>
          <p:cNvSpPr/>
          <p:nvPr/>
        </p:nvSpPr>
        <p:spPr>
          <a:xfrm rot="10800000">
            <a:off x="6973920" y="189720"/>
            <a:ext cx="689040" cy="319320"/>
          </a:xfrm>
          <a:prstGeom prst="rightArrow">
            <a:avLst>
              <a:gd name="adj1" fmla="val 50000"/>
              <a:gd name="adj2" fmla="val 49970"/>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PIJL-RECHTS 8"/>
          <p:cNvSpPr/>
          <p:nvPr/>
        </p:nvSpPr>
        <p:spPr>
          <a:xfrm rot="10800000">
            <a:off x="6910560" y="839520"/>
            <a:ext cx="576000" cy="315720"/>
          </a:xfrm>
          <a:prstGeom prst="rightArrow">
            <a:avLst>
              <a:gd name="adj1" fmla="val 50000"/>
              <a:gd name="adj2" fmla="val 50011"/>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PIJL-RECHTS 9"/>
          <p:cNvSpPr/>
          <p:nvPr/>
        </p:nvSpPr>
        <p:spPr>
          <a:xfrm>
            <a:off x="69840" y="256536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PIJL-RECHTS 10"/>
          <p:cNvSpPr/>
          <p:nvPr/>
        </p:nvSpPr>
        <p:spPr>
          <a:xfrm rot="10800000">
            <a:off x="6899040" y="1319040"/>
            <a:ext cx="626760" cy="325440"/>
          </a:xfrm>
          <a:prstGeom prst="rightArrow">
            <a:avLst>
              <a:gd name="adj1" fmla="val 50000"/>
              <a:gd name="adj2" fmla="val 49975"/>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PIJL-RECHTS 11"/>
          <p:cNvSpPr/>
          <p:nvPr/>
        </p:nvSpPr>
        <p:spPr>
          <a:xfrm>
            <a:off x="96840" y="345744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IJL-RECHTS 12"/>
          <p:cNvSpPr/>
          <p:nvPr/>
        </p:nvSpPr>
        <p:spPr>
          <a:xfrm rot="10800000">
            <a:off x="6950160" y="1716120"/>
            <a:ext cx="576000" cy="28080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PIJL-RECHTS 13"/>
          <p:cNvSpPr/>
          <p:nvPr/>
        </p:nvSpPr>
        <p:spPr>
          <a:xfrm>
            <a:off x="96840" y="418320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3" name="PIJL-RECHTS 14"/>
          <p:cNvSpPr/>
          <p:nvPr/>
        </p:nvSpPr>
        <p:spPr>
          <a:xfrm rot="10800000">
            <a:off x="6959520" y="2101680"/>
            <a:ext cx="566640" cy="244800"/>
          </a:xfrm>
          <a:prstGeom prst="rightArrow">
            <a:avLst>
              <a:gd name="adj1" fmla="val 50000"/>
              <a:gd name="adj2" fmla="val 49927"/>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PIJL-RECHTS 15"/>
          <p:cNvSpPr/>
          <p:nvPr/>
        </p:nvSpPr>
        <p:spPr>
          <a:xfrm>
            <a:off x="96840" y="48672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PIJL-RECHTS 16"/>
          <p:cNvSpPr/>
          <p:nvPr/>
        </p:nvSpPr>
        <p:spPr>
          <a:xfrm rot="10800000">
            <a:off x="6806880" y="57103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PIJL-RECHTS 15"/>
          <p:cNvSpPr/>
          <p:nvPr/>
        </p:nvSpPr>
        <p:spPr>
          <a:xfrm>
            <a:off x="61920" y="62118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PIJL-RECHTS 16"/>
          <p:cNvSpPr/>
          <p:nvPr/>
        </p:nvSpPr>
        <p:spPr>
          <a:xfrm rot="10800000">
            <a:off x="6852960" y="63565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3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2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2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3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3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5662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2</a:t>
            </a:r>
            <a:endParaRPr b="0" lang="en-US" sz="3600" spc="-1" strike="noStrike">
              <a:solidFill>
                <a:srgbClr val="404040"/>
              </a:solidFill>
              <a:latin typeface="Calibri Light"/>
            </a:endParaRPr>
          </a:p>
        </p:txBody>
      </p:sp>
      <p:sp>
        <p:nvSpPr>
          <p:cNvPr id="339" name="PlaceHolder 2"/>
          <p:cNvSpPr>
            <a:spLocks noGrp="1"/>
          </p:cNvSpPr>
          <p:nvPr>
            <p:ph type="subTitle"/>
          </p:nvPr>
        </p:nvSpPr>
        <p:spPr>
          <a:xfrm>
            <a:off x="821880" y="4202280"/>
            <a:ext cx="7991640" cy="1674720"/>
          </a:xfrm>
          <a:prstGeom prst="rect">
            <a:avLst/>
          </a:prstGeom>
          <a:noFill/>
          <a:ln w="0">
            <a:noFill/>
          </a:ln>
        </p:spPr>
        <p:txBody>
          <a:bodyPr anchor="t">
            <a:no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Calibri Light"/>
              </a:rPr>
              <a:t>WAT ZET JE IN DE EERSTE ALINEA?</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NOEM KORT HET ONDERWERP VAN JE BRIEF. GEEF OOK KORT UITLEG OVER DE REDE OF AANLEIDING VAN JE BRIEF. </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DE AANHEF EINDIGT MET EEN KOMMA, MAAR TOCH BEGIN JE DE EERSTE ALINEA MET EEN HOOFDLETTER.</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BEGIN DE ZINNEN NIET TE VAAK MET ‘IK’.</a:t>
            </a:r>
            <a:endParaRPr b="0" lang="en-US" sz="1500" spc="-1" strike="noStrike">
              <a:solidFill>
                <a:srgbClr val="404040"/>
              </a:solidFill>
              <a:latin typeface="Calibri"/>
            </a:endParaRPr>
          </a:p>
          <a:p>
            <a:pPr indent="0">
              <a:lnSpc>
                <a:spcPct val="7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2" name=""/>
          <p:cNvSpPr txBox="1"/>
          <p:nvPr/>
        </p:nvSpPr>
        <p:spPr>
          <a:xfrm>
            <a:off x="108000" y="1484280"/>
            <a:ext cx="3178080" cy="4525920"/>
          </a:xfrm>
          <a:prstGeom prst="rect">
            <a:avLst/>
          </a:prstGeom>
          <a:noFill/>
          <a:ln w="0">
            <a:noFill/>
          </a:ln>
        </p:spPr>
        <p:txBody>
          <a:bodyPr lIns="0" rIns="0" anchor="t">
            <a:normAutofit/>
          </a:bodyPr>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Noem kort het onderwerp van je brief. Geef ook kort uitleg over de reden of aanleiding van je brief. </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 aanhef eindigt met een komma, maar toch begin je de eerste alinea met een hoofdletter.</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gin de zinnen niet te vaak met ‘Ik’.</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3"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3</a:t>
            </a:r>
            <a:endParaRPr b="0" lang="en-US" sz="3600" spc="-1" strike="noStrike">
              <a:solidFill>
                <a:srgbClr val="404040"/>
              </a:solidFill>
              <a:latin typeface="Calibri Light"/>
            </a:endParaRPr>
          </a:p>
        </p:txBody>
      </p:sp>
      <p:sp>
        <p:nvSpPr>
          <p:cNvPr id="345" name="PlaceHolder 2"/>
          <p:cNvSpPr>
            <a:spLocks noGrp="1"/>
          </p:cNvSpPr>
          <p:nvPr>
            <p:ph type="subTitle"/>
          </p:nvPr>
        </p:nvSpPr>
        <p:spPr>
          <a:xfrm>
            <a:off x="821880" y="4508640"/>
            <a:ext cx="7991640" cy="1055520"/>
          </a:xfrm>
          <a:prstGeom prst="rect">
            <a:avLst/>
          </a:prstGeom>
          <a:noFill/>
          <a:ln w="0">
            <a:noFill/>
          </a:ln>
        </p:spPr>
        <p:txBody>
          <a:bodyPr anchor="t">
            <a:noAutofit/>
          </a:bodyPr>
          <a:p>
            <a:pPr indent="0">
              <a:lnSpc>
                <a:spcPct val="7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Light"/>
              </a:rPr>
              <a:t>WAT DOE JE IN DE TWEEDE EN DERDE ALINEA?</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WERK IN TWEE OF MEER ALINEA’S HET ONDERWERP VAN JE BRIEF UIT. </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GEBRUIK VOOR ELK DEELONDERWERP EEN NIEUWE ALINEA.</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Gudrun van der Kamp</cp:lastModifiedBy>
  <dcterms:modified xsi:type="dcterms:W3CDTF">2020-03-16T12:28:06Z</dcterms:modified>
  <cp:revision>243</cp:revision>
  <dc:subject/>
  <dc:title>goed of fout?</dc:title>
</cp:coreProperties>
</file>