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B30-9F46-4589-B831-8A6FB3AE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393-8F79-4801-83A3-B1FE2CCA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696-4B2C-4138-926A-7A89EAE7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3C9-ADED-4CEB-8A75-E6DCAD76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8192-5F55-4CC3-9E35-79E843E5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CA59-5C8D-4FF2-9FBB-26374244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7940-65D6-4F88-A859-E46ACEA0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D08D-66C2-452D-BF46-83DA8B3D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D258-FFD0-4567-9D83-E5F977C6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F2C5-CF11-4358-A46D-FB1B3484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31DA-35A0-48DD-A785-40BE5F88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E56-A4D8-421A-A0DF-196135C8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CF55-D9CC-41D5-B427-D571004B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61EB-93F0-4434-9407-8F116CF3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6798-BF42-427D-9321-8D87A90E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6A50-0C39-4CE2-A57B-12C624F3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821A-47CC-409E-9444-E7D81A27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28A6-0D7B-4225-AEBF-24D9A1F6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15EB1-DECD-43E0-8710-EE027024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C860-A6EA-4ADE-90C2-0BE2CF0C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2374-652C-49EB-93EC-4B0CD76E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C7487-EB59-498D-A0F3-C5AF1624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CFF-8177-4E9E-AAC7-BE2B378A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2943F-25FF-4B28-9264-045681E4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0E968-87DC-4804-8F6E-A51B2059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6CAA-E97C-471A-B457-C631DB78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5517-2FDE-4582-A741-C4F1F631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DCF2-4DF6-4D78-8551-1EFAF07D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511F-7009-46A2-9AB9-B4FAC67B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D26D0-B6FF-4BDC-82C8-1EA3D880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85DB1-9567-4BBF-83D6-B52D9BBF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2CF9A-075F-45C5-A102-349C4435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D16A4-020A-4A0A-8CA3-D17F229A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9D1-12DD-46B9-9D6D-03577E40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05FB0-0289-4CE9-9357-3B2B6859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2D34-47BF-449D-88DB-5119943E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50A7-615E-4296-BB60-09D43AF9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AE58E-19C7-42E9-BCDA-18F6754F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7FB6D-B464-454A-B1C9-E8204BF3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B616F-65F1-43DB-96B5-8C746652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441BF-F1DA-4A20-AD4C-DF149166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BF55A-2EED-41BF-B3E4-519E3BEA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6C241-C86C-4FFA-BA89-7994E98C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FFB-45AB-43DE-8E0A-1C71D0EC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E4F-C65B-4707-A09F-12A2BDE2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36AC-F388-4DCA-8F93-8EE70375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040-E5BF-4F82-91D9-A2E7F2B0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514-B533-404B-B6FE-86A8B050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35205-1652-4933-A8C4-D522845BF05B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F81DF-E726-46EC-857B-36ED7CEB752E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43568-5C98-4935-9CBA-376CD2D7257D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C4B63-CAA0-4734-8437-12B82112C138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wur.nl/nl/Dossiers/dossier/Mest-1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infomil.nl/onderwerpen/landbouw/emissiearme-stalsystemen/emissiefactoren-per/map-staltypen/hoofdcategorie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nieuweoogst.nl/nieuws/2020/09/12/opnieuw-twijfels-over-emissiearme-vloe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ALjQxaACzI" TargetMode="External"/><Relationship Id="rId2" Type="http://schemas.openxmlformats.org/officeDocument/2006/relationships/hyperlink" Target="https://www.youtube.com/watch?v=MALjQxaACzI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55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?</a:t>
            </a:r>
            <a:br>
              <a:rPr sz="3200"/>
            </a:br>
            <a:br>
              <a:rPr sz="24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Ammoniak is een sterk ruikend gas; een verbinding van waterstof en stikstof </a:t>
            </a: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(NH3)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Dit gas is aanwezig in </a:t>
            </a:r>
            <a:r>
              <a:rPr b="0" lang="nl-NL" sz="16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mest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 als afbraakproduct van de consumptie van eiwit. 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Negentig procent 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van de ammoniakemissie in Nederland komt uit de landbouw en met name uit mest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Het komt in belangrijke mate vrij in stallen en bij het uitrijden van mest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99960" y="0"/>
            <a:ext cx="83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Afbeelding 3" descr=""/>
          <p:cNvPicPr/>
          <p:nvPr/>
        </p:nvPicPr>
        <p:blipFill>
          <a:blip r:embed="rId1"/>
          <a:stretch/>
        </p:blipFill>
        <p:spPr>
          <a:xfrm>
            <a:off x="-69840" y="189000"/>
            <a:ext cx="928368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Afbeelding 3" descr=""/>
          <p:cNvPicPr/>
          <p:nvPr/>
        </p:nvPicPr>
        <p:blipFill>
          <a:blip r:embed="rId1"/>
          <a:stretch/>
        </p:blipFill>
        <p:spPr>
          <a:xfrm>
            <a:off x="0" y="836640"/>
            <a:ext cx="9279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1. Dierspoor: ras, fokkerij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Spreiding tussen koeien in mate van uitstoot van CH4 en NH3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Werk voor CRV !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84247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Tekstvak 7"/>
          <p:cNvSpPr/>
          <p:nvPr/>
        </p:nvSpPr>
        <p:spPr>
          <a:xfrm>
            <a:off x="1116000" y="900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Afbeelding 9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H3-emissie hoger bij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e dagproduc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ureum-geta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ruw-eiwit niveau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Tekstvak 3"/>
          <p:cNvSpPr/>
          <p:nvPr/>
        </p:nvSpPr>
        <p:spPr>
          <a:xfrm>
            <a:off x="530280" y="1230480"/>
            <a:ext cx="893772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3. Stal/mestspoor: stal en mest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44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infomil.nl/onderwerpen/landbouw/emissiearme-stalsystemen/emissiefactoren-per/map-staltypen/hoofdcategorie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83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Onderzoeker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rrit Stobbelaar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Ammoniakspecialist”</a:t>
            </a:r>
            <a:br>
              <a:rPr sz="1800"/>
            </a:b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eel twijfel over nut van emissie-arme vloeren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: emissie arme vloeren stoten meer NH3 uit!!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 Wageningen: 18 stallen onderzocht waaronder 6 emissie-arme stallen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traditionele stallen komen uit op 13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olgens RAV lijst is uitstoot 9,5 kg NH3 maar in werkelijkheid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middeld 12,5 kg NH3, 2 stallen zelfs &gt; 15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nieuweoogst.nl/nieuws/2020/09/12/opnieuw-twijfels-over-emissiearme-vloer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26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emissie en -depositie?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Tekstvak 3"/>
          <p:cNvSpPr/>
          <p:nvPr/>
        </p:nvSpPr>
        <p:spPr>
          <a:xfrm>
            <a:off x="395280" y="2205000"/>
            <a:ext cx="813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uitstoot van ammoniak naar de lucht noemen w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emissie.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ammoniak die in de lucht aanwezig is, komt uiteindelijk weer op het land terecht, dit hee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depositi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Ammoniak is zelf niet zuur, maar basisc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Na depositie, wordt het door bacteriën omgezet in nitraa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O3-)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(nitrificatie) of door planten opgenomen als ammonium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H4+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ide processen werken verzure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 meer winst te behalen met voeding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inder ruw eiwit geeft minder NH3 emissie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oorbeeld: 2 Koeien-en-Kansen-bedrijven met 155 gr re/kg ds scoren in traditionele stal &lt; 10 kg NH3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ok blijkt mest in beide gevallen evenveel N te bevatten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aarom: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in zetten op voermanagement en niet op roostervloeren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TMR geeft minder NH3 emissie dan krachtvoer via automaat of robot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Ureum altijd  &lt; 18 hou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Eiwitrijke rantsoenen geven schuim op put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nooit schuim op mest bij jongvee of drg mk!)</a:t>
            </a:r>
            <a:br>
              <a:rPr sz="16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Schuim zorgt voor stijging temperatuur van mest: 15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 22 C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Warmere mest geeft meer uitstoot van NH3 en ook CH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Brabant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verplichting voor emissie-arme vloeren vanaf 2024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hoge kosten 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jongvee en vleesvee??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oet de sector dit pikken??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-55440" y="189000"/>
            <a:ext cx="9199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Tekstvak 3"/>
          <p:cNvSpPr/>
          <p:nvPr/>
        </p:nvSpPr>
        <p:spPr>
          <a:xfrm>
            <a:off x="0" y="476280"/>
            <a:ext cx="9036000" cy="69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Is ammoniak schadelijk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positie van ammoniak op natuurgebieden leidt tot bodemverzuring en tot het verdwijnen van planten die van arme grond houden. Hierdoor verschraalt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biodiversiteit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ovendien vormt ammoniak bij hoge concentraties één van de oorzaken van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stank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die aan mest verbonden i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Schadelijke effecten bij mensen ontstaan pas bij het inademen van veel en hoge concentraties ammoniak, denk hierbij aa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irritatie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van de ogen en luchtweg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Verder kan ammoniak met andere deeltjes in de lucht reageren en fijnstof vormen. Hoge concentratie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fijnstof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kunnen bij mensen tot problemen met luchtwegen leid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kijk filmpje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2"/>
              </a:rPr>
              <a:t>https://www.youtube.com/watch?v=MALjQxaACz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ekstvak 3"/>
          <p:cNvSpPr/>
          <p:nvPr/>
        </p:nvSpPr>
        <p:spPr>
          <a:xfrm>
            <a:off x="0" y="82440"/>
            <a:ext cx="9144000" cy="56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Wat is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Methaan </a:t>
            </a:r>
            <a:r>
              <a:rPr b="0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is een </a:t>
            </a: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roeikasgas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Er zijn verschillende soorten broeikasgassen, waaronder koolstofdioxide (CO₂), 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methaan (CH</a:t>
            </a:r>
            <a:r>
              <a:rPr b="1" lang="nl-NL" sz="20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4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),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lachgas (N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) en waterdamp (H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 in gasfase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ene broeikasgas is sterker dan het ander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is een sterk broeikasgas: een kilo methaan heeft net zo veel effect op de opwarming van de aarde al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25 kilo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koolstofdioxide (CO₂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(</a:t>
            </a:r>
            <a:r>
              <a:rPr b="0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nieuw onderzoeksrapport: CH4 uit vee 4 a 5 maal overschat?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Van de methaanemissie in Nederland kom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twee derde uit de veehouderij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Binnen de veehouderij i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77%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van de uitstoot van methaan afkomstig uit de melkvee- en rundveehouderij e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14%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uit de mestopslagen van de varkenshouderij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Tekstvak 3"/>
          <p:cNvSpPr/>
          <p:nvPr/>
        </p:nvSpPr>
        <p:spPr>
          <a:xfrm>
            <a:off x="0" y="123840"/>
            <a:ext cx="896472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Hoe ontstaat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ontstaat bij het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A. Verteren van voer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75-80% van het methaan in de veehouderij komt vrij bij het verteren van het voer door micro-organismen in het maagdarmkanaal (pens- en darmfermentatie) van herkauwers, met name runde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De koe ademt het methaan uit of laat deze door te boeren ontsnappen: het zogenaamde enterische methaan. Ook andere dieren (en mensen) stoten methaan uit bij vertering van voedse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. Opslaan van mest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in de mestopsla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20-25% van het methaan uit de veehouderij komt door fermentatie van opgeslagen mest. Fermentatie is het omzetten van mest door aanwezige bacterië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gaat om mest uit de melkvee-, geiten-, kalver- en varkenshouderij. Het fermenteren van kippenmest veroorzaakt nauwelijks methaan omdat dit van nature een vrij droge meststof 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73120" y="0"/>
            <a:ext cx="799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Afbeelding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82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123920" y="0"/>
            <a:ext cx="689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1:32:59Z</dcterms:created>
  <dc:creator>6bru</dc:creator>
  <dc:description/>
  <dc:language>en-US</dc:language>
  <cp:lastModifiedBy>Geert Willems</cp:lastModifiedBy>
  <dcterms:modified xsi:type="dcterms:W3CDTF">2024-01-08T14:35:19Z</dcterms:modified>
  <cp:revision>85</cp:revision>
  <dc:subject/>
  <dc:title>Puur praktijk</dc:title>
</cp:coreProperties>
</file>