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D4DA-86EB-4921-9640-70793AAA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E02B-A344-4590-903C-24F4FA96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0EA9-0C90-4CB7-84B9-14BBEF17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A2FB-8AD5-46A8-9026-E954D37A4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1472-9783-4790-82A3-3434F142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F4CE-1FFC-4D2A-AE9E-4A3A46C8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9348-1105-4EFB-91B9-F8D2AAED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B0C3-6514-41BF-B1CE-4E13966D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CA30-4F70-4656-83A1-D9502A36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6828-ACDA-4204-928D-02745A15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B465-16C2-47AC-A852-57CE8491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657B-AAEF-4750-9442-2DEDEDA4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FDBC-0CC8-46D8-AD34-CF6AC416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A8A7-EA42-4FAF-83B7-BEA34389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3BC0-A6A8-4958-92CF-3CCBE87F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27F9-7379-44D6-B048-01FA7A20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76E8-3A44-464F-8AA9-4D4357A1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155A6-74BC-4625-8E95-F44EE060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646A2-D29C-483E-9AAA-8318789C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69240-3637-4485-883E-FE8A95AF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BBC0E-C42B-4F37-AFCA-F4591284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96335-63FB-4193-8F6F-A78DB99F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5480-80A2-413F-AFCD-C36FE93A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55E96-6EC8-40A3-A749-2D40DCE9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03574-0CAE-4F3F-8DCD-6B438D19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72332-4740-480E-B286-7D3AC013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30B5B-A077-4C2E-9B41-7D02276A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7510F-F8B2-42AD-BD78-B59E1954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A7C5B-372C-467F-9A85-811FB48B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E451F-08C9-4568-93F5-3E53413E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B99A4-0328-4063-8D22-59AEFC26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AF5B2-E7C5-4A0D-BA96-872E9BCB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4C5F9-66B1-4875-9B70-345239B6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EA78-4D1D-465C-9912-891F1D6B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E36AC-E9DD-4878-946A-C1302FF2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C1C97-3A1B-44B8-99D0-E19CFA68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58669-25DE-4F00-9F33-BF7C77B0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F1B07-38D1-4F0F-B178-29D4A1E7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68D7C-5C0D-4386-B1E0-D9D0C356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0DC5B-1A32-4D8D-A7F6-6E24F069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789E5-69B2-452B-A26E-2D4FF21D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1857B-AC30-4CEC-A51F-F1AE33AF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8FCC0-33C1-4A3B-82BC-484FE74C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5BF0-2835-48C2-B3F9-7E8C32D3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8FA8-3CB3-4DD8-8028-C1F475B7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FEAA-1D03-4081-B631-487B2FF2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3CEA-08B0-4F8E-8EED-05B484BF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4865-2EB1-45D5-95F6-E5D9334A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3E121-1C4B-45C6-8B9E-559D535250BE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0B760-2438-43E5-B4F4-2A49988B440B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5D06C-2549-4686-A06C-8415946165F0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7946CD-1D90-4661-A34E-9DD71BD02951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wur.nl/nl/Dossiers/dossier/Mest-1.ht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infomil.nl/onderwerpen/landbouw/emissiearme-stalsystemen/emissiefactoren-per/map-staltypen/hoofdcategorie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www.nieuweoogst.nl/nieuws/2020/09/12/opnieuw-twijfels-over-emissiearme-vloer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MALjQxaACzI" TargetMode="External"/><Relationship Id="rId2" Type="http://schemas.openxmlformats.org/officeDocument/2006/relationships/hyperlink" Target="https://www.youtube.com/watch?v=MALjQxaACzI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7772400" cy="55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</a:rPr>
              <a:t>Wat is ammoniak?</a:t>
            </a:r>
            <a:br>
              <a:rPr sz="3200"/>
            </a:br>
            <a:br>
              <a:rPr sz="2400"/>
            </a:br>
            <a:br>
              <a:rPr sz="1600"/>
            </a:b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Ammoniak is een sterk ruikend gas; een verbinding van waterstof en stikstof </a:t>
            </a:r>
            <a:r>
              <a:rPr b="1" lang="nl-NL" sz="1600" spc="-1" strike="noStrike">
                <a:solidFill>
                  <a:srgbClr val="333333"/>
                </a:solidFill>
                <a:latin typeface="verdana"/>
              </a:rPr>
              <a:t>(NH3). 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Dit gas is aanwezig in </a:t>
            </a:r>
            <a:r>
              <a:rPr b="0" lang="nl-NL" sz="1600" spc="-1" strike="noStrike" u="sng">
                <a:solidFill>
                  <a:srgbClr val="99ca3c"/>
                </a:solidFill>
                <a:uFillTx/>
                <a:latin typeface="verdana"/>
                <a:hlinkClick r:id="rId1"/>
              </a:rPr>
              <a:t>mest</a:t>
            </a: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 als afbraakproduct van de consumptie van eiwit. </a:t>
            </a: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333333"/>
                </a:solidFill>
                <a:latin typeface="verdana"/>
              </a:rPr>
              <a:t>Negentig procent </a:t>
            </a: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van de ammoniakemissie in Nederland komt uit de landbouw en met name uit mest. 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Het komt in belangrijke mate vrij in stallen en bij het uitrijden van mest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99960" y="0"/>
            <a:ext cx="834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Afbeelding 3" descr=""/>
          <p:cNvPicPr/>
          <p:nvPr/>
        </p:nvPicPr>
        <p:blipFill>
          <a:blip r:embed="rId1"/>
          <a:stretch/>
        </p:blipFill>
        <p:spPr>
          <a:xfrm>
            <a:off x="-69840" y="189000"/>
            <a:ext cx="9283680" cy="55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4" name="Afbeelding 3" descr=""/>
          <p:cNvPicPr/>
          <p:nvPr/>
        </p:nvPicPr>
        <p:blipFill>
          <a:blip r:embed="rId1"/>
          <a:stretch/>
        </p:blipFill>
        <p:spPr>
          <a:xfrm>
            <a:off x="0" y="836640"/>
            <a:ext cx="927900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210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1. Dierspoor: ras, fokkerij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Spreiding tussen koeien in mate van uitstoot van CH4 en NH3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Werk voor CRV !!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8000" y="609120"/>
            <a:ext cx="84247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Tekstvak 7"/>
          <p:cNvSpPr/>
          <p:nvPr/>
        </p:nvSpPr>
        <p:spPr>
          <a:xfrm>
            <a:off x="1116000" y="900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verdana"/>
              </a:rPr>
              <a:t>2.Voerspoor:voeding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Afbeelding 9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verdana"/>
              </a:rPr>
              <a:t>2.Voerspoor:voeding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NH3-emissie hoger bij: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- hogere dagproducti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- hoger ureum-getal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- hoger ruw-eiwit niveau</a:t>
            </a:r>
            <a:br>
              <a:rPr sz="2400"/>
            </a:b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0" y="185760"/>
            <a:ext cx="914400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Tekstvak 3"/>
          <p:cNvSpPr/>
          <p:nvPr/>
        </p:nvSpPr>
        <p:spPr>
          <a:xfrm>
            <a:off x="530280" y="1230480"/>
            <a:ext cx="893772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  <a:ea typeface="verdana"/>
              </a:rPr>
              <a:t>3. Stal/mestspoor: stal en mest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nl-NL" sz="44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https://www.infomil.nl/onderwerpen/landbouw/emissiearme-stalsystemen/emissiefactoren-per/map-staltypen/hoofdcategorie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83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Onderzoeker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Gerrit Stobbelaar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i="1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Ammoniakspecialist”</a:t>
            </a:r>
            <a:br>
              <a:rPr sz="1800"/>
            </a:b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-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veel twijfel over nut van emissie-arme vloeren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- onderzoek: emissie arme vloeren stoten meer NH3 uit!!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- onderzoek Wageningen: 18 stallen onderzocht waaronder 6 emissie-arme stallen: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traditionele stallen komen uit op 13 kg NH3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volgens RAV lijst is uitstoot 9,5 kg NH3 maar in werkelijkheid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gemiddeld 12,5 kg NH3, 2 stallen zelfs &gt; 15 kg NH3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https://www.nieuweoogst.nl/nieuws/2020/09/12/opnieuw-twijfels-over-emissiearme-vloer</a:t>
            </a:r>
            <a:br>
              <a:rPr sz="18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26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</a:rPr>
              <a:t>Wat is ammoniakemissie en -depositie?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Tekstvak 3"/>
          <p:cNvSpPr/>
          <p:nvPr/>
        </p:nvSpPr>
        <p:spPr>
          <a:xfrm>
            <a:off x="395280" y="2205000"/>
            <a:ext cx="8137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De uitstoot van ammoniak naar de lucht noemen we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emissie.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De ammoniak die in de lucht aanwezig is, komt uiteindelijk weer op het land terecht, dit heet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depositie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Ammoniak is zelf niet zuur, maar basisch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Na depositie, wordt het door bacteriën omgezet in nitraat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(NO3-)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(nitrificatie) of door planten opgenomen als ammonium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(NH4+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Beide processen werken verzuren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210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tobbelaar: meer winst te behalen met voeding: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minder ruw eiwit geeft minder NH3 emissie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voorbeeld: 2 Koeien-en-Kansen-bedrijven met 155 gr re/kg ds scoren in traditionele stal &lt; 10 kg NH3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Ook blijkt mest in beide gevallen evenveel N te bevatten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aarom: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in zetten op voermanagement en niet op roostervloeren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tobbelaar: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TMR geeft minder NH3 emissie dan krachtvoer via automaat of robot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Ureum altijd  &lt; 18 houd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Eiwitrijke rantsoenen geven schuim op put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verdana"/>
                <a:ea typeface="verdana"/>
              </a:rPr>
              <a:t>nooit schuim op mest bij jongvee of drg mk!)</a:t>
            </a:r>
            <a:br>
              <a:rPr sz="16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Schuim zorgt voor stijging temperatuur van mest: 15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 22 C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Warmere mest geeft meer uitstoot van NH3 en ook CH4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Brabant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verplichting voor emissie-arme vloeren vanaf 2024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hoge kosten !!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jongvee en vleesvee??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moet de sector dit pikken??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6" name="Afbeelding 3" descr=""/>
          <p:cNvPicPr/>
          <p:nvPr/>
        </p:nvPicPr>
        <p:blipFill>
          <a:blip r:embed="rId1"/>
          <a:stretch/>
        </p:blipFill>
        <p:spPr>
          <a:xfrm>
            <a:off x="-55440" y="189000"/>
            <a:ext cx="91994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Tekstvak 3"/>
          <p:cNvSpPr/>
          <p:nvPr/>
        </p:nvSpPr>
        <p:spPr>
          <a:xfrm>
            <a:off x="0" y="476280"/>
            <a:ext cx="9036000" cy="69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</a:rPr>
              <a:t>Is ammoniak schadelijk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Depositie van ammoniak op natuurgebieden leidt tot bodemverzuring en tot het verdwijnen van planten die van arme grond houden. Hierdoor verschraalt de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biodiversiteit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Bovendien vormt ammoniak bij hoge concentraties één van de oorzaken van de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stank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die aan mest verbonden i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Schadelijke effecten bij mensen ontstaan pas bij het inademen van veel en hoge concentraties ammoniak, denk hierbij aan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irritatie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van de ogen en luchtwege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Verder kan ammoniak met andere deeltjes in de lucht reageren en fijnstof vormen. Hoge concentraties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fijnstof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kunnen bij mensen tot problemen met luchtwegen leid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Bekijk filmpje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hlinkClick r:id="rId1"/>
              </a:rPr>
              <a:t>	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hlinkClick r:id="rId2"/>
              </a:rPr>
              <a:t>https://www.youtube.com/watch?v=MALjQxaACz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Tekstvak 3"/>
          <p:cNvSpPr/>
          <p:nvPr/>
        </p:nvSpPr>
        <p:spPr>
          <a:xfrm>
            <a:off x="0" y="82440"/>
            <a:ext cx="9144000" cy="56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  <a:ea typeface="verdana"/>
              </a:rPr>
              <a:t>Wat is methaa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Methaan </a:t>
            </a:r>
            <a:r>
              <a:rPr b="0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is een </a:t>
            </a: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broeikasgas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Er zijn verschillende soorten broeikasgassen, waaronder koolstofdioxide (CO₂), </a:t>
            </a:r>
            <a:r>
              <a:rPr b="1" lang="nl-NL" sz="2000" spc="-1" strike="noStrike">
                <a:solidFill>
                  <a:srgbClr val="333333"/>
                </a:solidFill>
                <a:latin typeface="verdana"/>
                <a:ea typeface="verdana"/>
              </a:rPr>
              <a:t>methaan (CH</a:t>
            </a:r>
            <a:r>
              <a:rPr b="1" lang="nl-NL" sz="2000" spc="-1" strike="noStrike" baseline="-25000">
                <a:solidFill>
                  <a:srgbClr val="333333"/>
                </a:solidFill>
                <a:latin typeface="verdana"/>
                <a:ea typeface="verdana"/>
              </a:rPr>
              <a:t>4</a:t>
            </a:r>
            <a:r>
              <a:rPr b="1" lang="nl-NL" sz="2000" spc="-1" strike="noStrike">
                <a:solidFill>
                  <a:srgbClr val="333333"/>
                </a:solidFill>
                <a:latin typeface="verdana"/>
                <a:ea typeface="verdana"/>
              </a:rPr>
              <a:t>),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 lachgas (N</a:t>
            </a:r>
            <a:r>
              <a:rPr b="0" lang="nl-NL" sz="1800" spc="-1" strike="noStrike" baseline="-25000">
                <a:solidFill>
                  <a:srgbClr val="333333"/>
                </a:solidFill>
                <a:latin typeface="verdana"/>
                <a:ea typeface="verdana"/>
              </a:rPr>
              <a:t>2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) en waterdamp (H</a:t>
            </a:r>
            <a:r>
              <a:rPr b="0" lang="nl-NL" sz="1800" spc="-1" strike="noStrike" baseline="-25000">
                <a:solidFill>
                  <a:srgbClr val="333333"/>
                </a:solidFill>
                <a:latin typeface="verdana"/>
                <a:ea typeface="verdana"/>
              </a:rPr>
              <a:t>2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 in gasfase)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Het ene broeikasgas is sterker dan het andere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Methaan is een sterk broeikasgas: een kilo methaan heeft net zo veel effect op de opwarming van de aarde als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25 kilo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koolstofdioxide (CO₂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nl-NL" sz="1400" spc="-1" strike="noStrike">
                <a:solidFill>
                  <a:srgbClr val="333333"/>
                </a:solidFill>
                <a:latin typeface="verdana"/>
                <a:ea typeface="verdana"/>
              </a:rPr>
              <a:t>(</a:t>
            </a:r>
            <a:r>
              <a:rPr b="0" i="1" lang="nl-NL" sz="1400" spc="-1" strike="noStrike">
                <a:solidFill>
                  <a:srgbClr val="333333"/>
                </a:solidFill>
                <a:latin typeface="verdana"/>
                <a:ea typeface="verdana"/>
              </a:rPr>
              <a:t>nieuw onderzoeksrapport: CH4 uit vee 4 a 5 maal overschat?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Van de methaanemissie in Nederland komt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twee derde uit de veehouderij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Binnen de veehouderij is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77%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 van de uitstoot van methaan afkomstig uit de melkvee- en rundveehouderij en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14%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uit de mestopslagen van de varkenshouderij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Tekstvak 3"/>
          <p:cNvSpPr/>
          <p:nvPr/>
        </p:nvSpPr>
        <p:spPr>
          <a:xfrm>
            <a:off x="0" y="123840"/>
            <a:ext cx="896472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  <a:ea typeface="verdana"/>
              </a:rPr>
              <a:t>Hoe ontstaat methaa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Methaan ontstaat bij het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A. Verteren van voer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ngeveer 75-80% van het methaan in de veehouderij komt vrij bij het verteren van het voer door micro-organismen in het maagdarmkanaal (pens- en darmfermentatie) van herkauwers, met name rundere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De koe ademt het methaan uit of laat deze door te boeren ontsnappen: het zogenaamde enterische methaan. Ook andere dieren (en mensen) stoten methaan uit bij vertering van voedsel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B. Opslaan van mest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 in de mestopslag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ngeveer 20-25% van het methaan uit de veehouderij komt door fermentatie van opgeslagen mest. Fermentatie is het omzetten van mest door aanwezige bacterië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Het gaat om mest uit de melkvee-, geiten-, kalver- en varkenshouderij. Het fermenteren van kippenmest veroorzaakt nauwelijks methaan omdat dit van nature een vrij droge meststof i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573120" y="0"/>
            <a:ext cx="799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6" name="Afbeelding 3" descr=""/>
          <p:cNvPicPr/>
          <p:nvPr/>
        </p:nvPicPr>
        <p:blipFill>
          <a:blip r:embed="rId1"/>
          <a:stretch/>
        </p:blipFill>
        <p:spPr>
          <a:xfrm>
            <a:off x="0" y="1773360"/>
            <a:ext cx="91821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123920" y="0"/>
            <a:ext cx="689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1:32:59Z</dcterms:created>
  <dc:creator>6bru</dc:creator>
  <dc:description/>
  <dc:language>en-US</dc:language>
  <cp:lastModifiedBy>Geert Willems</cp:lastModifiedBy>
  <dcterms:modified xsi:type="dcterms:W3CDTF">2024-01-08T14:35:19Z</dcterms:modified>
  <cp:revision>85</cp:revision>
  <dc:subject/>
  <dc:title>Puur praktijk</dc:title>
</cp:coreProperties>
</file>