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977-CB79-4AA1-91E8-8BF8AC39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617-5979-42F4-949D-4A014626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9A3-DD11-488B-B76A-5AAB0E7D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537-2D49-4FA0-ABC7-CBAF458E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F8CD-8439-4976-AB95-B09228A6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765E-9962-4DE8-ACF2-868CD859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EF30-6311-40C7-9D27-0DEF9DF3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1D4-51A1-4365-8760-4C2F8D3B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BDF0-2E72-43EF-ACFC-D8B58FB5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F28E-2D0A-4D5C-B954-7AFD9978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F011-7771-4342-B3DF-23F785EF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C3D-B09B-4FB0-9EBA-D3B3DFD3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9960-A0CE-4A68-B7FA-F807008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C1A9-1E8E-42A0-812C-1D19B94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5638-3C94-4B59-AA63-0A1E8DCB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D3F3-92BE-4534-9ADF-65D95DE7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2979-FFEE-428B-ABD5-0092CC21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F363-77F6-418B-8710-7A760809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CCA5-426F-4E0A-BF70-55346D74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0DE0-8972-444E-BB02-599942E2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1F59-B2EB-4683-9729-78A057B2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E8DF-BDE4-4651-A411-602AAD0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EF7-F7D9-4FD3-A4D4-A140429A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2132E-A640-4F37-A37E-B2073340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31D7-DF9E-45C9-8DC1-EB2E0D39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9A2C-2FCA-41C1-BD6A-D96E86A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933D-73AA-4C07-840C-C9905FE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16FD-2D24-4B1B-9685-A0B272C6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DE48-B881-4687-A054-2A36DDD8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1A29-4F44-4EF0-BBEF-13E83482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64E2-EFE3-4B31-81DB-12BE075A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E940-1809-48DD-B654-657FDEB4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26E5-0053-4DBC-9898-BAF458B8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6C9-8291-435F-8C01-A19F542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566B-4F87-462D-8E48-83A2E84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D6153-89BC-48FF-BF1E-497D02CA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F9A5-7523-4FA7-A87E-20D2F1F3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FDA7-9155-40C2-838B-01B0B3B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14095-B217-4ADA-B42C-2064152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4487-3773-4FBC-9C2B-08C80E83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7FF0-5AD1-490C-A928-561113A6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D609B-C739-4D31-8B43-65A676AF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17B5F-01ED-41F6-902F-7B1FB3BE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7FF-7E29-40FF-AC20-5624D662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DE9-DB57-4838-9B1E-F3F60A79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0D3-EFBD-4860-A840-BF9E974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8FB-3CA4-434F-8CF8-2E52DB2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AAD-764B-4E74-A8C9-D4ABF2E8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5C132-5897-4DEF-9EB4-14F76D5551A4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73314-FF81-4CF8-A590-20F27D31C10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7C736-76A7-4E71-9A5C-6ACDC50C19E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AEE37-0FC5-494A-9FFE-84200547895F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wur.nl/nl/Dossiers/dossier/Mest-1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infomil.nl/onderwerpen/landbouw/emissiearme-stalsystemen/emissiefactoren-per/map-staltypen/hoofdcategori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nieuweoogst.nl/nieuws/2020/09/12/opnieuw-twijfels-over-emissiearme-vloe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ALjQxaACzI" TargetMode="External"/><Relationship Id="rId2" Type="http://schemas.openxmlformats.org/officeDocument/2006/relationships/hyperlink" Target="https://www.youtube.com/watch?v=MALjQxaACz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?</a:t>
            </a:r>
            <a:br>
              <a:rPr sz="3200"/>
            </a:br>
            <a:br>
              <a:rPr sz="24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Ammoniak is een sterk ruikend gas; een verbinding van waterstof en stikstof </a:t>
            </a: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(NH3)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Dit gas is aanwezig in </a:t>
            </a:r>
            <a:r>
              <a:rPr b="0" lang="nl-NL" sz="16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mest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 als afbraakproduct van de consumptie van eiwit. 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Negentig procent 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van de ammoniakemissie in Nederland komt uit de landbouw en met name uit mest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Het komt in belangrijke mate vrij in stallen en bij het uitrijden van mes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Afbeelding 3" descr=""/>
          <p:cNvPicPr/>
          <p:nvPr/>
        </p:nvPicPr>
        <p:blipFill>
          <a:blip r:embed="rId1"/>
          <a:stretch/>
        </p:blipFill>
        <p:spPr>
          <a:xfrm>
            <a:off x="-69840" y="189000"/>
            <a:ext cx="92836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Afbeelding 3" descr=""/>
          <p:cNvPicPr/>
          <p:nvPr/>
        </p:nvPicPr>
        <p:blipFill>
          <a:blip r:embed="rId1"/>
          <a:stretch/>
        </p:blipFill>
        <p:spPr>
          <a:xfrm>
            <a:off x="0" y="836640"/>
            <a:ext cx="9279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1. Dierspoor: ras, fokkerij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Spreiding tussen koeien in mate van uitstoot van CH4 en NH3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erk voor CRV !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4247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Tekstvak 7"/>
          <p:cNvSpPr/>
          <p:nvPr/>
        </p:nvSpPr>
        <p:spPr>
          <a:xfrm>
            <a:off x="1116000" y="900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Afbeelding 9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H3-emissie hoger bij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e dagproduc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ureum-geta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ruw-eiwit niveau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kstvak 3"/>
          <p:cNvSpPr/>
          <p:nvPr/>
        </p:nvSpPr>
        <p:spPr>
          <a:xfrm>
            <a:off x="530280" y="1230480"/>
            <a:ext cx="89377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3. Stal/mestspoor: stal en mest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44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infomil.nl/onderwerpen/landbouw/emissiearme-stalsystemen/emissiefactoren-per/map-staltypen/hoofdcategorie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83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Onderzoeker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rrit Stobbelaar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Ammoniakspecialist”</a:t>
            </a:r>
            <a:br>
              <a:rPr sz="1800"/>
            </a:b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eel twijfel over nut van emissie-arme vloeren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: emissie arme vloeren stoten meer NH3 uit!!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 Wageningen: 18 stallen onderzocht waaronder 6 emissie-arme stallen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traditionele stallen komen uit op 13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olgens RAV lijst is uitstoot 9,5 kg NH3 maar in werkelijkheid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middeld 12,5 kg NH3, 2 stallen zelfs &gt; 15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nieuweoogst.nl/nieuws/2020/09/12/opnieuw-twijfels-over-emissiearme-vloer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26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emissie en -depositie?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Tekstvak 3"/>
          <p:cNvSpPr/>
          <p:nvPr/>
        </p:nvSpPr>
        <p:spPr>
          <a:xfrm>
            <a:off x="395280" y="2205000"/>
            <a:ext cx="81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uitstoot van ammoniak naar de lucht noemen w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emissie.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ammoniak die in de lucht aanwezig is, komt uiteindelijk weer op het land terecht, dit hee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depositi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Ammoniak is zelf niet zuur, maar basis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Na depositie, wordt het door bacteriën omgezet in nitraa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O3-)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(nitrificatie) of door planten opgenomen als ammonium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H4+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ide processen werken verzur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 meer winst te behalen met voeding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inder ruw eiwit geeft minder NH3 emissie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beeld: 2 Koeien-en-Kansen-bedrijven met 155 gr re/kg ds scoren in traditionele stal &lt; 10 kg NH3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ok blijkt mest in beide gevallen evenveel N te bevatt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aarom: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in zetten op voermanagement en niet op roostervloeren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MR geeft minder NH3 emissie dan krachtvoer via automaat of robot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Ureum altijd  &lt; 18 hou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Eiwitrijke rantsoenen geven schuim op put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nooit schuim op mest bij jongvee of drg mk!)</a:t>
            </a:r>
            <a:br>
              <a:rPr sz="16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Schuim zorgt voor stijging temperatuur van mest: 1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22 C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Warmere mest geeft meer uitstoot van NH3 en ook CH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ba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verplichting voor emissie-arme vloeren vanaf 2024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hoge kosten 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jongvee en vleesvee?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oet de sector dit pikken?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919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Tekstvak 3"/>
          <p:cNvSpPr/>
          <p:nvPr/>
        </p:nvSpPr>
        <p:spPr>
          <a:xfrm>
            <a:off x="0" y="476280"/>
            <a:ext cx="9036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Is ammoniak schadelijk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positie van ammoniak op natuurgebieden leidt tot bodemverzuring en tot het verdwijnen van planten die van arme grond houden. Hierdoor verschraalt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biodiversitei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ovendien vormt ammoniak bij hoge concentraties één van de oorzaken van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stank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die aan mest verbonden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Schadelijke effecten bij mensen ontstaan pas bij het inademen van veel en hoge concentraties ammoniak, denk hierbij aa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irritatie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van de ogen en luchtweg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Verder kan ammoniak met andere deeltjes in de lucht reageren en fijnstof vormen. Hoge concentratie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fijnstof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kunnen bij mensen tot problemen met luchtwegen lei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kijk filmpje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2"/>
              </a:rPr>
              <a:t>https://www.youtube.com/watch?v=MALjQxaACz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kstvak 3"/>
          <p:cNvSpPr/>
          <p:nvPr/>
        </p:nvSpPr>
        <p:spPr>
          <a:xfrm>
            <a:off x="0" y="82440"/>
            <a:ext cx="91440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Wat is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Methaan </a:t>
            </a:r>
            <a:r>
              <a:rPr b="0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is een </a:t>
            </a: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roeikasgas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Er zijn verschillende soorten broeikasgassen, waaronder koolstofdioxide (CO₂), 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methaan (CH</a:t>
            </a:r>
            <a:r>
              <a:rPr b="1" lang="nl-NL" sz="20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4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),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lachgas (N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) en waterdamp (H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 in gasfase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ene broeikasgas is sterker dan het ander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is een sterk broeikasgas: een kilo methaan heeft net zo veel effect op de opwarming van de aarde al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25 kilo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koolstofdioxide (CO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(</a:t>
            </a:r>
            <a:r>
              <a:rPr b="0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nieuw onderzoeksrapport: CH4 uit vee 4 a 5 maal overschat?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Van de methaanemissie in Nederland kom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twee derde uit de veehouderij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Binnen de veehouderij i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77%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van de uitstoot van methaan afkomstig uit de melkvee- en rundveehouderij e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14%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uit de mestopslagen van de varkenshouderi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Tekstvak 3"/>
          <p:cNvSpPr/>
          <p:nvPr/>
        </p:nvSpPr>
        <p:spPr>
          <a:xfrm>
            <a:off x="0" y="123840"/>
            <a:ext cx="89647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Hoe ontstaat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ontstaat bij he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A. Verteren van voer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75-80% van het methaan in de veehouderij komt vrij bij het verteren van het voer door micro-organismen in het maagdarmkanaal (pens- en darmfermentatie) van herkauwers, met name run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De koe ademt het methaan uit of laat deze door te boeren ontsnappen: het zogenaamde enterische methaan. Ook andere dieren (en mensen) stoten methaan uit bij vertering van voeds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. Opslaan van mest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in de mestopsla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20-25% van het methaan uit de veehouderij komt door fermentatie van opgeslagen mest. Fermentatie is het omzetten van mest door aanwezige bacterië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gaat om mest uit de melkvee-, geiten-, kalver- en varkenshouderij. Het fermenteren van kippenmest veroorzaakt nauwelijks methaan omdat dit van nature een vrij droge meststof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73120" y="0"/>
            <a:ext cx="799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Afbeelding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8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68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1:32:59Z</dcterms:created>
  <dc:creator>6bru</dc:creator>
  <dc:description/>
  <dc:language>en-US</dc:language>
  <cp:lastModifiedBy>Geert Willems</cp:lastModifiedBy>
  <dcterms:modified xsi:type="dcterms:W3CDTF">2024-01-08T14:35:19Z</dcterms:modified>
  <cp:revision>85</cp:revision>
  <dc:subject/>
  <dc:title>Puur praktijk</dc:title>
</cp:coreProperties>
</file>