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5F3-614A-4E8F-8839-3BECCA07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330-BF34-459C-8AC3-905B618A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AF7-8DE3-41C9-A1A2-3675EFA1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565-9948-4B97-A0E3-7B1A7608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1FB5-DBF1-42D4-BCC9-4C6FA766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1CFD-8C6F-4DAC-A1CA-79FE989F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EBCF-C77B-42AB-AEC4-890469D1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35F1-8EE7-47D6-A13F-713FEC1B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9909-F8EA-4BBF-AA3A-B9533205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1F57-A0BE-45FF-ADC8-27373773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B4E4-9607-4B50-AB8F-3BFEDE14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C30-BE56-436E-B0B8-6C17D95E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30A9-29D2-4BFA-8DD1-937B898D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C795-1C0B-45C2-8C40-DA99AF6F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BF4C-73F0-4471-BA10-E215EFAB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DB23-6152-46E2-84F3-95B8FC2E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CC19-2FCD-41EA-8C7B-CA1B4D25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8E476-4975-43D2-9EA7-509CEE51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E9AA1-AEDF-417B-AD2F-0015DD19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6BE2E-A073-4C25-BF1C-8A85436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E42E7-F575-40AA-9BC6-2A94F6E0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990C-A530-42D4-9CBD-8E70D727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A4C-C890-4416-BB03-8CE5F7C4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E122-5A19-4BD1-A9AF-557B6C91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452BD-6D89-41DF-AE21-FDA42F99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7FC84-4124-41F4-A9F4-97155B5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6E91-7DC6-4F38-9868-C126E3D6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D181E-3392-4BA7-B05B-586B0A71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6E9BE-86B0-4123-AD53-C86468D7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C5C03-DF06-47D0-9C55-60B45C0F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20739-CDDD-4E82-8B8C-AED110F8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03FEA-8A53-4EA6-A270-99732A23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817B7-8634-45D0-A788-2580ECEB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20C-7086-448D-B47C-DA59AF34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CD246-60D4-434B-9C7E-79231D35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A4695-B110-4C9C-BAEB-86A8E933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1695F-ABFA-41D5-98B5-5761C71D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7BC2C-509C-480D-8DC8-111D953F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EC6EA-9F21-4872-A394-48384407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E79B4-496D-45E5-AD94-B1FC8D2D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A783-62BC-4760-ADC9-0148CF80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6536C-C0C9-4F76-A1DF-9041B00A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9E477-0AE8-4930-95EE-5D910582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4BC-8BAA-4A20-964D-7397C977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CB8-F0B2-4775-81FD-6EA6F801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15E-30EE-425D-A1A8-1D45C07A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664-3722-4916-818B-1AF911F3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186-DE09-4AFC-9750-15B8E04E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5AD63-F308-48FA-AA3E-50097FA39D16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93F1D-32E5-4345-88CE-D028765698BB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25511-C265-45A8-A6C2-CE043C68CD9D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BD3C4-4349-48DE-B334-6272230BA572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wur.nl/nl/Dossiers/dossier/Mest-1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infomil.nl/onderwerpen/landbouw/emissiearme-stalsystemen/emissiefactoren-per/map-staltypen/hoofdcategorie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nieuweoogst.nl/nieuws/2020/09/12/opnieuw-twijfels-over-emissiearme-vloe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ALjQxaACzI" TargetMode="External"/><Relationship Id="rId2" Type="http://schemas.openxmlformats.org/officeDocument/2006/relationships/hyperlink" Target="https://www.youtube.com/watch?v=MALjQxaACzI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55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?</a:t>
            </a:r>
            <a:br>
              <a:rPr sz="3200"/>
            </a:br>
            <a:br>
              <a:rPr sz="24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Ammoniak is een sterk ruikend gas; een verbinding van waterstof en stikstof </a:t>
            </a: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(NH3)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Dit gas is aanwezig in </a:t>
            </a:r>
            <a:r>
              <a:rPr b="0" lang="nl-NL" sz="16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mest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 als afbraakproduct van de consumptie van eiwit. 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Negentig procent 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van de ammoniakemissie in Nederland komt uit de landbouw en met name uit mest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Het komt in belangrijke mate vrij in stallen en bij het uitrijden van mest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99960" y="0"/>
            <a:ext cx="83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Afbeelding 3" descr=""/>
          <p:cNvPicPr/>
          <p:nvPr/>
        </p:nvPicPr>
        <p:blipFill>
          <a:blip r:embed="rId1"/>
          <a:stretch/>
        </p:blipFill>
        <p:spPr>
          <a:xfrm>
            <a:off x="-69840" y="189000"/>
            <a:ext cx="928368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Afbeelding 3" descr=""/>
          <p:cNvPicPr/>
          <p:nvPr/>
        </p:nvPicPr>
        <p:blipFill>
          <a:blip r:embed="rId1"/>
          <a:stretch/>
        </p:blipFill>
        <p:spPr>
          <a:xfrm>
            <a:off x="0" y="836640"/>
            <a:ext cx="9279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1. Dierspoor: ras, fokkerij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Spreiding tussen koeien in mate van uitstoot van CH4 en NH3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Werk voor CRV !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84247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Tekstvak 7"/>
          <p:cNvSpPr/>
          <p:nvPr/>
        </p:nvSpPr>
        <p:spPr>
          <a:xfrm>
            <a:off x="1116000" y="900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Afbeelding 9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H3-emissie hoger bij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e dagproduc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ureum-geta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ruw-eiwit niveau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Tekstvak 3"/>
          <p:cNvSpPr/>
          <p:nvPr/>
        </p:nvSpPr>
        <p:spPr>
          <a:xfrm>
            <a:off x="530280" y="1230480"/>
            <a:ext cx="893772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3. Stal/mestspoor: stal en mest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44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infomil.nl/onderwerpen/landbouw/emissiearme-stalsystemen/emissiefactoren-per/map-staltypen/hoofdcategorie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83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Onderzoeker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rrit Stobbelaar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Ammoniakspecialist”</a:t>
            </a:r>
            <a:br>
              <a:rPr sz="1800"/>
            </a:b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eel twijfel over nut van emissie-arme vloeren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: emissie arme vloeren stoten meer NH3 uit!!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 Wageningen: 18 stallen onderzocht waaronder 6 emissie-arme stallen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traditionele stallen komen uit op 13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olgens RAV lijst is uitstoot 9,5 kg NH3 maar in werkelijkheid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middeld 12,5 kg NH3, 2 stallen zelfs &gt; 15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nieuweoogst.nl/nieuws/2020/09/12/opnieuw-twijfels-over-emissiearme-vloer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26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emissie en -depositie?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Tekstvak 3"/>
          <p:cNvSpPr/>
          <p:nvPr/>
        </p:nvSpPr>
        <p:spPr>
          <a:xfrm>
            <a:off x="395280" y="2205000"/>
            <a:ext cx="813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uitstoot van ammoniak naar de lucht noemen w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emissie.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ammoniak die in de lucht aanwezig is, komt uiteindelijk weer op het land terecht, dit hee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depositi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Ammoniak is zelf niet zuur, maar basisc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Na depositie, wordt het door bacteriën omgezet in nitraa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O3-)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(nitrificatie) of door planten opgenomen als ammonium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H4+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ide processen werken verzure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 meer winst te behalen met voeding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inder ruw eiwit geeft minder NH3 emissie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oorbeeld: 2 Koeien-en-Kansen-bedrijven met 155 gr re/kg ds scoren in traditionele stal &lt; 10 kg NH3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ok blijkt mest in beide gevallen evenveel N te bevatten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aarom: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in zetten op voermanagement en niet op roostervloeren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TMR geeft minder NH3 emissie dan krachtvoer via automaat of robot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Ureum altijd  &lt; 18 hou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Eiwitrijke rantsoenen geven schuim op put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nooit schuim op mest bij jongvee of drg mk!)</a:t>
            </a:r>
            <a:br>
              <a:rPr sz="16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Schuim zorgt voor stijging temperatuur van mest: 15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 22 C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Warmere mest geeft meer uitstoot van NH3 en ook CH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Brabant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verplichting voor emissie-arme vloeren vanaf 2024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hoge kosten 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jongvee en vleesvee??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oet de sector dit pikken??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-55440" y="189000"/>
            <a:ext cx="9199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Tekstvak 3"/>
          <p:cNvSpPr/>
          <p:nvPr/>
        </p:nvSpPr>
        <p:spPr>
          <a:xfrm>
            <a:off x="0" y="476280"/>
            <a:ext cx="9036000" cy="69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Is ammoniak schadelijk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positie van ammoniak op natuurgebieden leidt tot bodemverzuring en tot het verdwijnen van planten die van arme grond houden. Hierdoor verschraalt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biodiversiteit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ovendien vormt ammoniak bij hoge concentraties één van de oorzaken van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stank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die aan mest verbonden i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Schadelijke effecten bij mensen ontstaan pas bij het inademen van veel en hoge concentraties ammoniak, denk hierbij aa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irritatie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van de ogen en luchtweg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Verder kan ammoniak met andere deeltjes in de lucht reageren en fijnstof vormen. Hoge concentratie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fijnstof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kunnen bij mensen tot problemen met luchtwegen leid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kijk filmpje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2"/>
              </a:rPr>
              <a:t>https://www.youtube.com/watch?v=MALjQxaACz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ekstvak 3"/>
          <p:cNvSpPr/>
          <p:nvPr/>
        </p:nvSpPr>
        <p:spPr>
          <a:xfrm>
            <a:off x="0" y="82440"/>
            <a:ext cx="9144000" cy="56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Wat is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Methaan </a:t>
            </a:r>
            <a:r>
              <a:rPr b="0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is een </a:t>
            </a: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roeikasgas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Er zijn verschillende soorten broeikasgassen, waaronder koolstofdioxide (CO₂), 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methaan (CH</a:t>
            </a:r>
            <a:r>
              <a:rPr b="1" lang="nl-NL" sz="20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4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),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lachgas (N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) en waterdamp (H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 in gasfase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ene broeikasgas is sterker dan het ander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is een sterk broeikasgas: een kilo methaan heeft net zo veel effect op de opwarming van de aarde al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25 kilo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koolstofdioxide (CO₂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(</a:t>
            </a:r>
            <a:r>
              <a:rPr b="0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nieuw onderzoeksrapport: CH4 uit vee 4 a 5 maal overschat?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Van de methaanemissie in Nederland kom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twee derde uit de veehouderij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Binnen de veehouderij i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77%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van de uitstoot van methaan afkomstig uit de melkvee- en rundveehouderij e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14%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uit de mestopslagen van de varkenshouderij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Tekstvak 3"/>
          <p:cNvSpPr/>
          <p:nvPr/>
        </p:nvSpPr>
        <p:spPr>
          <a:xfrm>
            <a:off x="0" y="123840"/>
            <a:ext cx="896472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Hoe ontstaat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ontstaat bij het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A. Verteren van voer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75-80% van het methaan in de veehouderij komt vrij bij het verteren van het voer door micro-organismen in het maagdarmkanaal (pens- en darmfermentatie) van herkauwers, met name runde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De koe ademt het methaan uit of laat deze door te boeren ontsnappen: het zogenaamde enterische methaan. Ook andere dieren (en mensen) stoten methaan uit bij vertering van voedse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. Opslaan van mest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in de mestopsla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20-25% van het methaan uit de veehouderij komt door fermentatie van opgeslagen mest. Fermentatie is het omzetten van mest door aanwezige bacterië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gaat om mest uit de melkvee-, geiten-, kalver- en varkenshouderij. Het fermenteren van kippenmest veroorzaakt nauwelijks methaan omdat dit van nature een vrij droge meststof 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73120" y="0"/>
            <a:ext cx="799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Afbeelding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82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123920" y="0"/>
            <a:ext cx="689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1:32:59Z</dcterms:created>
  <dc:creator>6bru</dc:creator>
  <dc:description/>
  <dc:language>en-US</dc:language>
  <cp:lastModifiedBy>Geert Willems</cp:lastModifiedBy>
  <dcterms:modified xsi:type="dcterms:W3CDTF">2024-01-08T14:35:19Z</dcterms:modified>
  <cp:revision>85</cp:revision>
  <dc:subject/>
  <dc:title>Puur praktijk</dc:title>
</cp:coreProperties>
</file>