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DF78-E48E-486B-9541-7E3D27B8A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CC36-72CF-4D94-B620-5B6A173F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08EC-4081-4330-8492-75F59C15A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C12A-FCC4-4EFD-952C-18BB24136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AA81-7DF0-43EF-AC54-9C617522F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3BFD2-4038-4599-823D-F99AEAC1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B72F-5A7C-4D08-82EC-56D00CFB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911D8-739E-4F24-85B9-7D7D7543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BD970-0B7C-42E5-A49C-FFDB25F2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648B-B244-4910-A6B8-7A65F221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1E19-AFAE-4203-A430-CACA7DFA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70DB-A14F-4265-AFB7-97493D5C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0473-0E6A-4D38-B9DB-8777B837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2154C-F462-49A1-9F4A-1E18CCD5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4B436-9F0B-4BCD-A34D-1B03713E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7701-4C72-440A-AD53-48527DECF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5026B-CF40-492B-968B-6E248B652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A4789-70E3-446E-B0F0-C91BD2F0F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D3C9C-0994-4CAB-B03C-2C762881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F860B-02AE-4105-9A5A-7053B377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4FC14-5E04-47D1-B7EC-BC070B58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15292-3C72-49BA-8B68-C6E3AFC6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A03B-3DC3-4642-95BE-7B51FA25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9A3FC-4DD4-4E10-9FBE-9C4DA62B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8604E-DF53-4FE6-89C9-B2AA31EF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463B1-1EE9-4A12-B5CB-5F630D5C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0D088-9565-4645-AC2A-9BEA4770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10A3E-F90F-43EE-AEE9-EEC087A3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EBF7B-854D-4D48-9FA5-F5C8F260E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893D9-D03A-4FD6-978B-BB393A854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1421C-9EC2-4EFF-B713-746D9C8AD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10B56-374F-4E94-BD8C-97A308E5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8D995-0B36-4DA3-944E-3BD8591F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D74D-66AB-489B-A9E4-2BF939AF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7CF3B-F062-4F75-B2AF-EEAAEB54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AB2EF-8083-4697-8409-8F2384CC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BA1C5-FBD3-49EE-A00E-75B0FD6F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B5FE9-E472-4005-A092-1BFDF525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449A7-023A-465D-B931-AA463267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D7EF3-D8E2-40C6-BDFC-236EED82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44F84-B372-4113-8875-7291EC40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C6B0A-533A-4ABD-B1C9-D28F0B65F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7D3F4-8751-4EB2-BE4F-5D6C1FD4F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0481-245F-43C6-A252-2D78A7F0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C7C3-0C3E-47A6-ACBA-BE22C661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182D-C32A-4BB5-A7CC-06A7CCE7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E153-944F-4337-A2B5-10124600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458D-BCDC-416C-A080-0E74182D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82CCE0-EBA7-4C36-B940-449A2CC37CA6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63071F-6682-4366-A1BF-E6079DB81164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94F06E-BC87-4651-9AA4-E80DB3CE53DE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089CBA-3573-41D0-BD5F-09332ED63766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wur.nl/nl/Dossiers/dossier/Mest-1.htm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www.infomil.nl/onderwerpen/landbouw/emissiearme-stalsystemen/emissiefactoren-per/map-staltypen/hoofdcategorie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www.nieuweoogst.nl/nieuws/2020/09/12/opnieuw-twijfels-over-emissiearme-vloer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MALjQxaACzI" TargetMode="External"/><Relationship Id="rId2" Type="http://schemas.openxmlformats.org/officeDocument/2006/relationships/hyperlink" Target="https://www.youtube.com/watch?v=MALjQxaACzI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7772400" cy="55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333333"/>
                </a:solidFill>
                <a:latin typeface="verdana"/>
              </a:rPr>
              <a:t>Wat is ammoniak?</a:t>
            </a:r>
            <a:br>
              <a:rPr sz="3200"/>
            </a:br>
            <a:br>
              <a:rPr sz="2400"/>
            </a:br>
            <a:br>
              <a:rPr sz="1600"/>
            </a:br>
            <a:r>
              <a:rPr b="0" lang="nl-NL" sz="1600" spc="-1" strike="noStrike">
                <a:solidFill>
                  <a:srgbClr val="333333"/>
                </a:solidFill>
                <a:latin typeface="verdana"/>
              </a:rPr>
              <a:t>Ammoniak is een sterk ruikend gas; een verbinding van waterstof en stikstof </a:t>
            </a:r>
            <a:r>
              <a:rPr b="1" lang="nl-NL" sz="1600" spc="-1" strike="noStrike">
                <a:solidFill>
                  <a:srgbClr val="333333"/>
                </a:solidFill>
                <a:latin typeface="verdana"/>
              </a:rPr>
              <a:t>(NH3). </a:t>
            </a:r>
            <a:br>
              <a:rPr sz="1600"/>
            </a:br>
            <a:br>
              <a:rPr sz="1600"/>
            </a:br>
            <a:r>
              <a:rPr b="0" lang="nl-NL" sz="1600" spc="-1" strike="noStrike">
                <a:solidFill>
                  <a:srgbClr val="333333"/>
                </a:solidFill>
                <a:latin typeface="verdana"/>
              </a:rPr>
              <a:t>Dit gas is aanwezig in </a:t>
            </a:r>
            <a:r>
              <a:rPr b="0" lang="nl-NL" sz="1600" spc="-1" strike="noStrike" u="sng">
                <a:solidFill>
                  <a:srgbClr val="99ca3c"/>
                </a:solidFill>
                <a:uFillTx/>
                <a:latin typeface="verdana"/>
                <a:hlinkClick r:id="rId1"/>
              </a:rPr>
              <a:t>mest</a:t>
            </a:r>
            <a:r>
              <a:rPr b="0" lang="nl-NL" sz="1600" spc="-1" strike="noStrike">
                <a:solidFill>
                  <a:srgbClr val="333333"/>
                </a:solidFill>
                <a:latin typeface="verdana"/>
              </a:rPr>
              <a:t> als afbraakproduct van de consumptie van eiwit. </a:t>
            </a:r>
            <a:br>
              <a:rPr sz="1600"/>
            </a:br>
            <a:br>
              <a:rPr sz="1600"/>
            </a:br>
            <a:r>
              <a:rPr b="1" lang="nl-NL" sz="1600" spc="-1" strike="noStrike">
                <a:solidFill>
                  <a:srgbClr val="333333"/>
                </a:solidFill>
                <a:latin typeface="verdana"/>
              </a:rPr>
              <a:t>Negentig procent </a:t>
            </a:r>
            <a:r>
              <a:rPr b="0" lang="nl-NL" sz="1600" spc="-1" strike="noStrike">
                <a:solidFill>
                  <a:srgbClr val="333333"/>
                </a:solidFill>
                <a:latin typeface="verdana"/>
              </a:rPr>
              <a:t>van de ammoniakemissie in Nederland komt uit de landbouw en met name uit mest. </a:t>
            </a:r>
            <a:br>
              <a:rPr sz="1600"/>
            </a:br>
            <a:br>
              <a:rPr sz="1600"/>
            </a:br>
            <a:r>
              <a:rPr b="0" lang="nl-NL" sz="1600" spc="-1" strike="noStrike">
                <a:solidFill>
                  <a:srgbClr val="333333"/>
                </a:solidFill>
                <a:latin typeface="verdana"/>
              </a:rPr>
              <a:t>Het komt in belangrijke mate vrij in stallen en bij het uitrijden van mest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399960" y="0"/>
            <a:ext cx="8344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2" name="Afbeelding 3" descr=""/>
          <p:cNvPicPr/>
          <p:nvPr/>
        </p:nvPicPr>
        <p:blipFill>
          <a:blip r:embed="rId1"/>
          <a:stretch/>
        </p:blipFill>
        <p:spPr>
          <a:xfrm>
            <a:off x="-69840" y="189000"/>
            <a:ext cx="9283680" cy="55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4" name="Afbeelding 3" descr=""/>
          <p:cNvPicPr/>
          <p:nvPr/>
        </p:nvPicPr>
        <p:blipFill>
          <a:blip r:embed="rId1"/>
          <a:stretch/>
        </p:blipFill>
        <p:spPr>
          <a:xfrm>
            <a:off x="0" y="836640"/>
            <a:ext cx="927900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2105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1. Dierspoor: ras, fokkerij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Spreiding tussen koeien in mate van uitstoot van CH4 en NH3</a:t>
            </a:r>
            <a:br>
              <a:rPr sz="3200"/>
            </a:b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Werk voor CRV !!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8000" y="609120"/>
            <a:ext cx="842472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Tekstvak 7"/>
          <p:cNvSpPr/>
          <p:nvPr/>
        </p:nvSpPr>
        <p:spPr>
          <a:xfrm>
            <a:off x="1116000" y="900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  <a:ea typeface="verdana"/>
              </a:rPr>
              <a:t>2.Voerspoor:voeding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Afbeelding 9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8000" y="691920"/>
            <a:ext cx="63468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  <a:ea typeface="verdana"/>
              </a:rPr>
              <a:t>2.Voerspoor:voeding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NH3-emissie hoger bij: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- hogere dagproductie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- hoger ureum-getal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- hoger ruw-eiwit niveau</a:t>
            </a:r>
            <a:br>
              <a:rPr sz="2400"/>
            </a:br>
            <a:br>
              <a:rPr sz="2400"/>
            </a:br>
            <a:br>
              <a:rPr sz="3200"/>
            </a:b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0" y="185760"/>
            <a:ext cx="914400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Tekstvak 3"/>
          <p:cNvSpPr/>
          <p:nvPr/>
        </p:nvSpPr>
        <p:spPr>
          <a:xfrm>
            <a:off x="530280" y="1230480"/>
            <a:ext cx="8937720" cy="29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  <a:ea typeface="verdana"/>
              </a:rPr>
              <a:t>3. Stal/mestspoor: stal en mest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nl-NL" sz="4400" spc="-1" strike="noStrike" u="sng">
                <a:solidFill>
                  <a:srgbClr val="99ca3c"/>
                </a:solidFill>
                <a:uFillTx/>
                <a:latin typeface="verdana"/>
                <a:ea typeface="verdana"/>
                <a:hlinkClick r:id="rId1"/>
              </a:rPr>
              <a:t>https://www.infomil.nl/onderwerpen/landbouw/emissiearme-stalsystemen/emissiefactoren-per/map-staltypen/hoofdcategorie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0" y="587520"/>
            <a:ext cx="914400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83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Onderzoeker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Gerrit Stobbelaar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“</a:t>
            </a:r>
            <a:r>
              <a:rPr b="0" i="1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Ammoniakspecialist”</a:t>
            </a:r>
            <a:br>
              <a:rPr sz="1800"/>
            </a:b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-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veel twijfel over nut van emissie-arme vloeren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- onderzoek: emissie arme vloeren stoten meer NH3 uit!!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- onderzoek Wageningen: 18 stallen onderzocht waaronder 6 emissie-arme stallen: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traditionele stallen komen uit op 13 kg NH3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volgens RAV lijst is uitstoot 9,5 kg NH3 maar in werkelijkheid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gemiddeld 12,5 kg NH3, 2 stallen zelfs &gt; 15 kg NH3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 u="sng">
                <a:solidFill>
                  <a:srgbClr val="99ca3c"/>
                </a:solidFill>
                <a:uFillTx/>
                <a:latin typeface="verdana"/>
                <a:ea typeface="verdana"/>
                <a:hlinkClick r:id="rId1"/>
              </a:rPr>
              <a:t>https://www.nieuweoogst.nl/nieuws/2020/09/12/opnieuw-twijfels-over-emissiearme-vloer</a:t>
            </a:r>
            <a:br>
              <a:rPr sz="1800"/>
            </a:br>
            <a:endParaRPr b="0" lang="en-US" sz="18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265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333333"/>
                </a:solidFill>
                <a:latin typeface="verdana"/>
              </a:rPr>
              <a:t>Wat is ammoniakemissie en -depositie?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4" name="Tekstvak 3"/>
          <p:cNvSpPr/>
          <p:nvPr/>
        </p:nvSpPr>
        <p:spPr>
          <a:xfrm>
            <a:off x="395280" y="2205000"/>
            <a:ext cx="8137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De uitstoot van ammoniak naar de lucht noemen we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emissie.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De ammoniak die in de lucht aanwezig is, komt uiteindelijk weer op het land terecht, dit heet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depositie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Ammoniak is zelf niet zuur, maar basisch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Na depositie, wordt het door bacteriën omgezet in nitraat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(NO3-) 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(nitrificatie) of door planten opgenomen als ammonium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(NH4+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Beide processen werken verzurend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2105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Stobbelaar: meer winst te behalen met voeding: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minder ruw eiwit geeft minder NH3 emissie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voorbeeld: 2 Koeien-en-Kansen-bedrijven met 155 gr re/kg ds scoren in traditionele stal &lt; 10 kg NH3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Ook blijkt mest in beide gevallen evenveel N te bevatten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Daarom: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in zetten op voermanagement en niet op roostervloeren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Stobbelaar: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TMR geeft minder NH3 emissie dan krachtvoer via automaat of robot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Ureum altijd  &lt; 18 houden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Eiwitrijke rantsoenen geven schuim op put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(</a:t>
            </a:r>
            <a:r>
              <a:rPr b="0" i="1" lang="nl-NL" sz="1600" spc="-1" strike="noStrike">
                <a:solidFill>
                  <a:srgbClr val="000000"/>
                </a:solidFill>
                <a:latin typeface="verdana"/>
                <a:ea typeface="verdana"/>
              </a:rPr>
              <a:t>nooit schuim op mest bij jongvee of drg mk!)</a:t>
            </a:r>
            <a:br>
              <a:rPr sz="16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Schuim zorgt voor stijging temperatuur van mest: 15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 22 C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Warmere mest geeft meer uitstoot van NH3 en ook CH4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Brabant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verplichting voor emissie-arme vloeren vanaf 2024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hoge kosten !!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jongvee en vleesvee??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moet de sector dit pikken??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6" name="Afbeelding 3" descr=""/>
          <p:cNvPicPr/>
          <p:nvPr/>
        </p:nvPicPr>
        <p:blipFill>
          <a:blip r:embed="rId1"/>
          <a:stretch/>
        </p:blipFill>
        <p:spPr>
          <a:xfrm>
            <a:off x="-55440" y="189000"/>
            <a:ext cx="919944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8" name="Tekstvak 3"/>
          <p:cNvSpPr/>
          <p:nvPr/>
        </p:nvSpPr>
        <p:spPr>
          <a:xfrm>
            <a:off x="0" y="476280"/>
            <a:ext cx="9036000" cy="69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333333"/>
                </a:solidFill>
                <a:latin typeface="verdana"/>
              </a:rPr>
              <a:t>Is ammoniak schadelijk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Depositie van ammoniak op natuurgebieden leidt tot bodemverzuring en tot het verdwijnen van planten die van arme grond houden. Hierdoor verschraalt de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biodiversiteit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Bovendien vormt ammoniak bij hoge concentraties één van de oorzaken van de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stank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 die aan mest verbonden is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Schadelijke effecten bij mensen ontstaan pas bij het inademen van veel en hoge concentraties ammoniak, denk hierbij aan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irritatie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 van de ogen en luchtwegen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Verder kan ammoniak met andere deeltjes in de lucht reageren en fijnstof vormen. Hoge concentraties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fijnstof 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kunnen bij mensen tot problemen met luchtwegen leid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Bekijk filmpje</a:t>
            </a:r>
            <a:r>
              <a:rPr b="0" lang="nl-NL" sz="1800" spc="-1" strike="noStrike" u="sng">
                <a:solidFill>
                  <a:srgbClr val="99ca3c"/>
                </a:solidFill>
                <a:uFillTx/>
                <a:latin typeface="verdana"/>
                <a:hlinkClick r:id="rId1"/>
              </a:rPr>
              <a:t>	</a:t>
            </a:r>
            <a:r>
              <a:rPr b="0" lang="nl-NL" sz="1800" spc="-1" strike="noStrike" u="sng">
                <a:solidFill>
                  <a:srgbClr val="99ca3c"/>
                </a:solidFill>
                <a:uFillTx/>
                <a:latin typeface="verdana"/>
                <a:hlinkClick r:id="rId2"/>
              </a:rPr>
              <a:t>https://www.youtube.com/watch?v=MALjQxaACzI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Tekstvak 3"/>
          <p:cNvSpPr/>
          <p:nvPr/>
        </p:nvSpPr>
        <p:spPr>
          <a:xfrm>
            <a:off x="0" y="82440"/>
            <a:ext cx="9144000" cy="56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333333"/>
                </a:solidFill>
                <a:latin typeface="verdana"/>
                <a:ea typeface="verdana"/>
              </a:rPr>
              <a:t>Wat is methaan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525252"/>
                </a:solidFill>
                <a:latin typeface="verdana"/>
                <a:ea typeface="verdana"/>
              </a:rPr>
              <a:t>Methaan </a:t>
            </a:r>
            <a:r>
              <a:rPr b="0" lang="nl-NL" sz="1800" spc="-1" strike="noStrike">
                <a:solidFill>
                  <a:srgbClr val="525252"/>
                </a:solidFill>
                <a:latin typeface="verdana"/>
                <a:ea typeface="verdana"/>
              </a:rPr>
              <a:t>is een </a:t>
            </a:r>
            <a:r>
              <a:rPr b="1" lang="nl-NL" sz="1800" spc="-1" strike="noStrike">
                <a:solidFill>
                  <a:srgbClr val="525252"/>
                </a:solidFill>
                <a:latin typeface="verdana"/>
                <a:ea typeface="verdana"/>
              </a:rPr>
              <a:t>broeikasgas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Er zijn verschillende soorten broeikasgassen, waaronder koolstofdioxide (CO₂), </a:t>
            </a:r>
            <a:r>
              <a:rPr b="1" lang="nl-NL" sz="2000" spc="-1" strike="noStrike">
                <a:solidFill>
                  <a:srgbClr val="333333"/>
                </a:solidFill>
                <a:latin typeface="verdana"/>
                <a:ea typeface="verdana"/>
              </a:rPr>
              <a:t>methaan (CH</a:t>
            </a:r>
            <a:r>
              <a:rPr b="1" lang="nl-NL" sz="2000" spc="-1" strike="noStrike" baseline="-25000">
                <a:solidFill>
                  <a:srgbClr val="333333"/>
                </a:solidFill>
                <a:latin typeface="verdana"/>
                <a:ea typeface="verdana"/>
              </a:rPr>
              <a:t>4</a:t>
            </a:r>
            <a:r>
              <a:rPr b="1" lang="nl-NL" sz="2000" spc="-1" strike="noStrike">
                <a:solidFill>
                  <a:srgbClr val="333333"/>
                </a:solidFill>
                <a:latin typeface="verdana"/>
                <a:ea typeface="verdana"/>
              </a:rPr>
              <a:t>),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 lachgas (N</a:t>
            </a:r>
            <a:r>
              <a:rPr b="0" lang="nl-NL" sz="1800" spc="-1" strike="noStrike" baseline="-25000">
                <a:solidFill>
                  <a:srgbClr val="333333"/>
                </a:solidFill>
                <a:latin typeface="verdana"/>
                <a:ea typeface="verdana"/>
              </a:rPr>
              <a:t>2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O) en waterdamp (H</a:t>
            </a:r>
            <a:r>
              <a:rPr b="0" lang="nl-NL" sz="1800" spc="-1" strike="noStrike" baseline="-25000">
                <a:solidFill>
                  <a:srgbClr val="333333"/>
                </a:solidFill>
                <a:latin typeface="verdana"/>
                <a:ea typeface="verdana"/>
              </a:rPr>
              <a:t>2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O in gasfase)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Het ene broeikasgas is sterker dan het andere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Methaan is een sterk broeikasgas: een kilo methaan heeft net zo veel effect op de opwarming van de aarde als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25 kilo 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koolstofdioxide (CO₂)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nl-NL" sz="1400" spc="-1" strike="noStrike">
                <a:solidFill>
                  <a:srgbClr val="333333"/>
                </a:solidFill>
                <a:latin typeface="verdana"/>
                <a:ea typeface="verdana"/>
              </a:rPr>
              <a:t>(</a:t>
            </a:r>
            <a:r>
              <a:rPr b="0" i="1" lang="nl-NL" sz="1400" spc="-1" strike="noStrike">
                <a:solidFill>
                  <a:srgbClr val="333333"/>
                </a:solidFill>
                <a:latin typeface="verdana"/>
                <a:ea typeface="verdana"/>
              </a:rPr>
              <a:t>nieuw onderzoeksrapport: CH4 uit vee 4 a 5 maal overschat?)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Van de methaanemissie in Nederland komt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twee derde uit de veehouderij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Binnen de veehouderij is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77%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 van de uitstoot van methaan afkomstig uit de melkvee- en rundveehouderij en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14% 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uit de mestopslagen van de varkenshouderij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Tekstvak 3"/>
          <p:cNvSpPr/>
          <p:nvPr/>
        </p:nvSpPr>
        <p:spPr>
          <a:xfrm>
            <a:off x="0" y="123840"/>
            <a:ext cx="8964720" cy="66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333333"/>
                </a:solidFill>
                <a:latin typeface="verdana"/>
                <a:ea typeface="verdana"/>
              </a:rPr>
              <a:t>Hoe ontstaat methaan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Methaan ontstaat bij het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525252"/>
                </a:solidFill>
                <a:latin typeface="verdana"/>
                <a:ea typeface="verdana"/>
              </a:rPr>
              <a:t>A. Verteren van voer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Ongeveer 75-80% van het methaan in de veehouderij komt vrij bij het verteren van het voer door micro-organismen in het maagdarmkanaal (pens- en darmfermentatie) van herkauwers, met name runderen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De koe ademt het methaan uit of laat deze door te boeren ontsnappen: het zogenaamde enterische methaan. Ook andere dieren (en mensen) stoten methaan uit bij vertering van voedsel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525252"/>
                </a:solidFill>
                <a:latin typeface="verdana"/>
                <a:ea typeface="verdana"/>
              </a:rPr>
              <a:t>B. Opslaan van mest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 in de mestopslag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Ongeveer 20-25% van het methaan uit de veehouderij komt door fermentatie van opgeslagen mest. Fermentatie is het omzetten van mest door aanwezige bacteriën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Het gaat om mest uit de melkvee-, geiten-, kalver- en varkenshouderij. Het fermenteren van kippenmest veroorzaakt nauwelijks methaan omdat dit van nature een vrij droge meststof is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573120" y="0"/>
            <a:ext cx="7996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6" name="Afbeelding 3" descr=""/>
          <p:cNvPicPr/>
          <p:nvPr/>
        </p:nvPicPr>
        <p:blipFill>
          <a:blip r:embed="rId1"/>
          <a:stretch/>
        </p:blipFill>
        <p:spPr>
          <a:xfrm>
            <a:off x="0" y="1773360"/>
            <a:ext cx="91821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1123920" y="0"/>
            <a:ext cx="689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1:32:59Z</dcterms:created>
  <dc:creator>6bru</dc:creator>
  <dc:description/>
  <dc:language>en-US</dc:language>
  <cp:lastModifiedBy>Geert Willems</cp:lastModifiedBy>
  <dcterms:modified xsi:type="dcterms:W3CDTF">2024-01-08T14:35:19Z</dcterms:modified>
  <cp:revision>85</cp:revision>
  <dc:subject/>
  <dc:title>Puur praktijk</dc:title>
</cp:coreProperties>
</file>