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069-DB18-4AC0-BE2B-16ADEC28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C69-C381-468A-B71D-DDD937BB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DA27-9957-448C-AC9F-957ED359C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9115-A89D-43C3-AA66-D297B2EF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732F-2F86-4ED5-B9D7-11DD787C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81E5-5D76-4003-958E-C0CF87D8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7DD2-E238-48D8-94CE-CA857016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9AE3-EBC0-424E-B2CB-3BB938C3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48B8-2BF4-4709-9F00-B8EE0EF8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7044-8E8F-4A54-91B0-4A498512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E91D-0FD6-4ACF-A12C-88AEDF0C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4D5C-CAB4-4F38-B7EA-99A3A10F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4A7D-3B31-4AC6-81FD-B11B81FA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6B1E-56EF-4D0F-86AE-A7002421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EB59-EF8F-40E7-958A-49A926CE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3934-0232-45E4-A1D8-114D1F2C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F53D-F165-439A-AC3D-622E1185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800C0-79A3-4A36-A697-556F6754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9BCA6-4CDD-4FE7-B809-6CF2F643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2C981-B1F3-459E-9155-02039855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37919-39E4-41E5-BFF7-89D6E5E1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5E3B7-F8CE-4DEF-ADBF-27E68BC9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C14-3D85-40F0-B461-55E40E20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821A-47F4-4FE9-A36A-5067D2AA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4B96E-AFE4-433E-AA04-5243D825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BF14A-8D8F-4E07-9DA5-24FDBA7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04A1E-355A-4273-99C4-BA20F526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1A362-271C-47F2-8711-DDEF2E56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EF46-522C-4E5E-8A7D-1836F8FF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CFDF-D1A6-4E80-A9A2-EA73E735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0D554-4FFD-49A4-96E9-32F4C82D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69C30-2DA6-4811-AF6F-78B1A091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18342-1D0D-414A-BA38-362F767B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782-75BA-4912-82B7-8FF2317D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70B48-94F9-4F0F-87DA-9F8653C3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8593B-D074-4BEF-8E6D-51EAB8FB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C6525-E242-48DE-87C0-3C7E3B12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2068E-BF0E-447C-AE9E-B714F2C0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8F0F9-7C2C-427F-8324-39FCAFAB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A6906-EE05-4B7D-9AAD-09C14B72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5AD98-9F6D-44E6-8397-D8021BD0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707DD-DAEF-4753-AE9E-3C6D7627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63CA9-BF66-408F-B05E-82FC130A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B5B-1F50-4AD3-8D66-F0730FD4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B650-A1DD-4896-9630-A4EEA6DD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A7A-139B-4518-82DA-EF7894E4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DF6-443E-4454-9CB3-3B2AF5F7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506-B5CF-44DA-AD6D-488A923F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DAD9C-9914-4359-BBCF-E1156117486E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7D89DE-8750-422A-B506-F891F70517EA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1E4E58-1424-45C1-B8B1-A4A814E17A98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86021-5952-4607-BF80-629B459F97B6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wur.nl/nl/Dossiers/dossier/Mest-1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infomil.nl/onderwerpen/landbouw/emissiearme-stalsystemen/emissiefactoren-per/map-staltypen/hoofdcategorie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nieuweoogst.nl/nieuws/2020/09/12/opnieuw-twijfels-over-emissiearme-vloer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MALjQxaACzI" TargetMode="External"/><Relationship Id="rId2" Type="http://schemas.openxmlformats.org/officeDocument/2006/relationships/hyperlink" Target="https://www.youtube.com/watch?v=MALjQxaACzI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7772400" cy="55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?</a:t>
            </a:r>
            <a:br>
              <a:rPr sz="3200"/>
            </a:br>
            <a:br>
              <a:rPr sz="24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Ammoniak is een sterk ruikend gas; een verbinding van waterstof en stikstof </a:t>
            </a: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(NH3)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Dit gas is aanwezig in </a:t>
            </a:r>
            <a:r>
              <a:rPr b="0" lang="nl-NL" sz="16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mest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 als afbraakproduct van de consumptie van eiwit. </a:t>
            </a:r>
            <a:br>
              <a:rPr sz="1600"/>
            </a:br>
            <a:br>
              <a:rPr sz="1600"/>
            </a:br>
            <a:r>
              <a:rPr b="1" lang="nl-NL" sz="1600" spc="-1" strike="noStrike">
                <a:solidFill>
                  <a:srgbClr val="333333"/>
                </a:solidFill>
                <a:latin typeface="verdana"/>
              </a:rPr>
              <a:t>Negentig procent </a:t>
            </a: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van de ammoniakemissie in Nederland komt uit de landbouw en met name uit mest. </a:t>
            </a:r>
            <a:br>
              <a:rPr sz="1600"/>
            </a:br>
            <a:br>
              <a:rPr sz="1600"/>
            </a:br>
            <a:r>
              <a:rPr b="0" lang="nl-NL" sz="1600" spc="-1" strike="noStrike">
                <a:solidFill>
                  <a:srgbClr val="333333"/>
                </a:solidFill>
                <a:latin typeface="verdana"/>
              </a:rPr>
              <a:t>Het komt in belangrijke mate vrij in stallen en bij het uitrijden van mest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399960" y="0"/>
            <a:ext cx="834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2" name="Afbeelding 3" descr=""/>
          <p:cNvPicPr/>
          <p:nvPr/>
        </p:nvPicPr>
        <p:blipFill>
          <a:blip r:embed="rId1"/>
          <a:stretch/>
        </p:blipFill>
        <p:spPr>
          <a:xfrm>
            <a:off x="-69840" y="189000"/>
            <a:ext cx="9283680" cy="55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34" name="Afbeelding 3" descr=""/>
          <p:cNvPicPr/>
          <p:nvPr/>
        </p:nvPicPr>
        <p:blipFill>
          <a:blip r:embed="rId1"/>
          <a:stretch/>
        </p:blipFill>
        <p:spPr>
          <a:xfrm>
            <a:off x="0" y="836640"/>
            <a:ext cx="927900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1. Dierspoor: ras, fokkerij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Spreiding tussen koeien in mate van uitstoot van CH4 en NH3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Trebuchet MS"/>
              </a:rPr>
              <a:t>Werk voor CRV !!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84247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Tekstvak 7"/>
          <p:cNvSpPr/>
          <p:nvPr/>
        </p:nvSpPr>
        <p:spPr>
          <a:xfrm>
            <a:off x="1116000" y="900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Afbeelding 9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2.Voerspoor:voeding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NH3-emissie hoger bij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e dagproduc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ureum-geta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- hoger ruw-eiwit niveau</a:t>
            </a: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0" y="185760"/>
            <a:ext cx="91440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Tekstvak 3"/>
          <p:cNvSpPr/>
          <p:nvPr/>
        </p:nvSpPr>
        <p:spPr>
          <a:xfrm>
            <a:off x="530280" y="1230480"/>
            <a:ext cx="893772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verdana"/>
                <a:ea typeface="verdana"/>
              </a:rPr>
              <a:t>3. Stal/mestspoor: stal en mest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nl-NL" sz="44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infomil.nl/onderwerpen/landbouw/emissiearme-stalsystemen/emissiefactoren-per/map-staltypen/hoofdcategorie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0" y="587520"/>
            <a:ext cx="9144000" cy="56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83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Onderzoeker </a:t>
            </a:r>
            <a:r>
              <a:rPr b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rrit Stobbelaar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Ammoniakspecialist”</a:t>
            </a:r>
            <a:br>
              <a:rPr sz="1800"/>
            </a:br>
            <a:br>
              <a:rPr sz="1800"/>
            </a:br>
            <a:r>
              <a:rPr b="0" i="1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eel twijfel over nut van emissie-arme vloeren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: emissie arme vloeren stoten meer NH3 uit!!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- onderzoek Wageningen: 18 stallen onderzocht waaronder 6 emissie-arme stallen: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traditionele stallen komen uit op 13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volgens RAV lijst is uitstoot 9,5 kg NH3 maar in werkelijkheid 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gemiddeld 12,5 kg NH3, 2 stallen zelfs &gt; 15 kg NH3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https://www.nieuweoogst.nl/nieuws/2020/09/12/opnieuw-twijfels-over-emissiearme-vloer</a:t>
            </a: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26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Wat is ammoniakemissie en -depositie?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4" name="Tekstvak 3"/>
          <p:cNvSpPr/>
          <p:nvPr/>
        </p:nvSpPr>
        <p:spPr>
          <a:xfrm>
            <a:off x="395280" y="2205000"/>
            <a:ext cx="8137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uitstoot van ammoniak naar de lucht noemen w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emissie.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 ammoniak die in de lucht aanwezig is, komt uiteindelijk weer op het land terecht, dit hee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depositi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Ammoniak is zelf niet zuur, maar basisch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Na depositie, wordt het door bacteriën omgezet in nitraa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O3-)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(nitrificatie) of door planten opgenomen als ammonium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(NH4+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ide processen werken verzuren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210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 meer winst te behalen met voeding: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inder ruw eiwit geeft minder NH3 emissie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voorbeeld: 2 Koeien-en-Kansen-bedrijven met 155 gr re/kg ds scoren in traditionele stal &lt; 10 kg NH3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Ook blijkt mest in beide gevallen evenveel N te bevatten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Daarom: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in zetten op voermanagement en niet op roostervloeren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Stobbelaar: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TMR geeft minder NH3 emissie dan krachtvoer via automaat of robot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Ureum altijd  &lt; 18 hou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Eiwitrijke rantsoenen geven schuim op put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(</a:t>
            </a:r>
            <a:r>
              <a:rPr b="0" i="1" lang="nl-NL" sz="1600" spc="-1" strike="noStrike">
                <a:solidFill>
                  <a:srgbClr val="000000"/>
                </a:solidFill>
                <a:latin typeface="verdana"/>
                <a:ea typeface="verdana"/>
              </a:rPr>
              <a:t>nooit schuim op mest bij jongvee of drg mk!)</a:t>
            </a:r>
            <a:br>
              <a:rPr sz="16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Schuim zorgt voor stijging temperatuur van mest: 15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 22 C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verdana"/>
                <a:ea typeface="verdana"/>
              </a:rPr>
              <a:t>Warmere mest geeft meer uitstoot van NH3 en ook CH4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Brabant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verplichting voor emissie-arme vloeren vanaf 2024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hoge kosten !!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jongvee en vleesvee??</a:t>
            </a:r>
            <a:br>
              <a:rPr sz="2400"/>
            </a:b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verdana"/>
              </a:rPr>
              <a:t> moet de sector dit pikken??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-55440" y="189000"/>
            <a:ext cx="9199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Tekstvak 3"/>
          <p:cNvSpPr/>
          <p:nvPr/>
        </p:nvSpPr>
        <p:spPr>
          <a:xfrm>
            <a:off x="0" y="476280"/>
            <a:ext cx="9036000" cy="69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</a:rPr>
              <a:t>Is ammoniak schadelijk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Depositie van ammoniak op natuurgebieden leidt tot bodemverzuring en tot het verdwijnen van planten die van arme grond houden. Hierdoor verschraalt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biodiversiteit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ovendien vormt ammoniak bij hoge concentraties één van de oorzaken van de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stank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die aan mest verbonden is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Schadelijke effecten bij mensen ontstaan pas bij het inademen van veel en hoge concentraties ammoniak, denk hierbij aa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irritatie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 van de ogen en luchtweg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Verder kan ammoniak met andere deeltjes in de lucht reageren en fijnstof vormen. Hoge concentratie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</a:rPr>
              <a:t>fijnstof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kunnen bij mensen tot problemen met luchtwegen leid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</a:rPr>
              <a:t>Bekijk filmpje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1"/>
              </a:rPr>
              <a:t>	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hlinkClick r:id="rId2"/>
              </a:rPr>
              <a:t>https://www.youtube.com/watch?v=MALjQxaACz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Tekstvak 3"/>
          <p:cNvSpPr/>
          <p:nvPr/>
        </p:nvSpPr>
        <p:spPr>
          <a:xfrm>
            <a:off x="0" y="82440"/>
            <a:ext cx="9144000" cy="56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Wat is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Methaan </a:t>
            </a:r>
            <a:r>
              <a:rPr b="0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is een </a:t>
            </a: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roeikasgas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Er zijn verschillende soorten broeikasgassen, waaronder koolstofdioxide (CO₂), 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methaan (CH</a:t>
            </a:r>
            <a:r>
              <a:rPr b="1" lang="nl-NL" sz="20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4</a:t>
            </a:r>
            <a:r>
              <a:rPr b="1" lang="nl-NL" sz="2000" spc="-1" strike="noStrike">
                <a:solidFill>
                  <a:srgbClr val="333333"/>
                </a:solidFill>
                <a:latin typeface="verdana"/>
                <a:ea typeface="verdana"/>
              </a:rPr>
              <a:t>),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lachgas (N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) en waterdamp (H</a:t>
            </a:r>
            <a:r>
              <a:rPr b="0" lang="nl-NL" sz="1800" spc="-1" strike="noStrike" baseline="-25000">
                <a:solidFill>
                  <a:srgbClr val="333333"/>
                </a:solidFill>
                <a:latin typeface="verdana"/>
                <a:ea typeface="verdana"/>
              </a:rPr>
              <a:t>2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 in gasfase)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ene broeikasgas is sterker dan het andere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is een sterk broeikasgas: een kilo methaan heeft net zo veel effect op de opwarming van de aarde al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25 kilo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koolstofdioxide (CO₂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(</a:t>
            </a:r>
            <a:r>
              <a:rPr b="0" i="1" lang="nl-NL" sz="1400" spc="-1" strike="noStrike">
                <a:solidFill>
                  <a:srgbClr val="333333"/>
                </a:solidFill>
                <a:latin typeface="verdana"/>
                <a:ea typeface="verdana"/>
              </a:rPr>
              <a:t>nieuw onderzoeksrapport: CH4 uit vee 4 a 5 maal overschat?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Van de methaanemissie in Nederland komt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twee derde uit de veehouderij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Binnen de veehouderij is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77%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 van de uitstoot van methaan afkomstig uit de melkvee- en rundveehouderij en </a:t>
            </a:r>
            <a:r>
              <a:rPr b="1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14% 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uit de mestopslagen van de varkenshouderij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Tekstvak 3"/>
          <p:cNvSpPr/>
          <p:nvPr/>
        </p:nvSpPr>
        <p:spPr>
          <a:xfrm>
            <a:off x="0" y="123840"/>
            <a:ext cx="896472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333333"/>
                </a:solidFill>
                <a:latin typeface="verdana"/>
                <a:ea typeface="verdana"/>
              </a:rPr>
              <a:t>Hoe ontstaat methaan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Methaan ontstaat bij het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A. Verteren van voer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75-80% van het methaan in de veehouderij komt vrij bij het verteren van het voer door micro-organismen in het maagdarmkanaal (pens- en darmfermentatie) van herkauwers, met name rundere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De koe ademt het methaan uit of laat deze door te boeren ontsnappen: het zogenaamde enterische methaan. Ook andere dieren (en mensen) stoten methaan uit bij vertering van voedsel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525252"/>
                </a:solidFill>
                <a:latin typeface="verdana"/>
                <a:ea typeface="verdana"/>
              </a:rPr>
              <a:t>B. Opslaan van mest</a:t>
            </a: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 in de mestopsla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Ongeveer 20-25% van het methaan uit de veehouderij komt door fermentatie van opgeslagen mest. Fermentatie is het omzetten van mest door aanwezige bacteriën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333333"/>
                </a:solidFill>
                <a:latin typeface="verdana"/>
                <a:ea typeface="verdana"/>
              </a:rPr>
              <a:t>Het gaat om mest uit de melkvee-, geiten-, kalver- en varkenshouderij. Het fermenteren van kippenmest veroorzaakt nauwelijks methaan omdat dit van nature een vrij droge meststof is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1"/>
          <a:stretch/>
        </p:blipFill>
        <p:spPr>
          <a:xfrm>
            <a:off x="573120" y="0"/>
            <a:ext cx="799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6" name="Afbeelding 3" descr=""/>
          <p:cNvPicPr/>
          <p:nvPr/>
        </p:nvPicPr>
        <p:blipFill>
          <a:blip r:embed="rId1"/>
          <a:stretch/>
        </p:blipFill>
        <p:spPr>
          <a:xfrm>
            <a:off x="0" y="1773360"/>
            <a:ext cx="91821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1123920" y="0"/>
            <a:ext cx="689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1:32:59Z</dcterms:created>
  <dc:creator>6bru</dc:creator>
  <dc:description/>
  <dc:language>en-US</dc:language>
  <cp:lastModifiedBy>Geert Willems</cp:lastModifiedBy>
  <dcterms:modified xsi:type="dcterms:W3CDTF">2024-01-08T14:35:19Z</dcterms:modified>
  <cp:revision>85</cp:revision>
  <dc:subject/>
  <dc:title>Puur praktijk</dc:title>
</cp:coreProperties>
</file>