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20C-8F13-4DAD-8EA9-020FE2D5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40A-5123-400F-AE3D-36931670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672-91EE-4EE5-B4BC-F116FD48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34C-2398-44DF-A2DF-396B1627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79AE-911D-4118-94E2-B0BBECEB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8861-F7E9-4E91-80DD-70F86520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B653-642E-4AFA-8803-55153445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5BAF-7F49-47E9-8183-98853897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8775-47EC-4972-AE59-3CD8FAD1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EB92-EAE8-4AFB-A71F-F2C2CF14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7E49-43B7-4410-A44F-CBB0918E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7A5-62C2-40DE-ADA5-0B85DF5B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9F57-06DF-46FA-98D1-ED9A66FC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EF51-7AF2-45DB-BF09-EE5FD7F2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3EF9-D292-4573-8A95-54AD7A2A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FFBA-470B-4A79-AD20-C900D785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80D3-8925-4B29-83FE-2C8E706D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FFA12-FCF5-4648-8256-83A7ED93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9F0E4-29F2-4FA7-B158-BDFD413F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7A54-6266-4E6A-B5D4-EA2A2DA9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4579-8566-4FB6-8B8F-218E557F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9FD1B-E7AD-4C29-B91B-5AC7AA82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51C-CF90-4E59-884A-0F0EAA37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53AA5-28F9-43E7-A3BB-00882A6D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5BFE-26A3-4F1B-BD6B-E9A2BC7E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AFE90-4EDF-46C6-9BFE-F6EF7A5F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9F2E-257D-43AD-9C30-3499E781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D855-BDB6-4B49-95B3-201A2847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FDEE-F5E5-4084-A8A0-5E374028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4177-E03F-4B25-96F8-C056DE84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69678-BF86-4484-9FC1-0A4C29AA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0611D-BCE5-4ED9-8F64-B41D2834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B1900-5B05-4DAA-B11E-8C136D43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6BD-6A2D-4EA1-BE91-4211EE84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93EA-C8E4-4564-B391-3749A45B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2E892-19A0-4ABB-8952-483B3257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566E2-382D-4B48-9450-CF947BB0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4ADFB-23B5-4790-BE62-2A774A39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10C7-C8F6-4865-AAD7-94B6977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05FFB-D10B-4DE5-8AC7-99CF2E93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322F9-954B-46F9-B11B-4AF52A33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D80AE-FE54-4960-937E-F3E61771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1E589-0B69-4E7E-B951-1134D626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FF5-E61B-486B-A827-29AC0DBA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F90-654F-4EC5-9534-81D7049C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3C5-85FF-4788-84BB-BF4F6940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BBF-2C11-4E5E-888F-524D490B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472-0FD5-4AC5-A4EA-5EC533F8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41459-46F9-4ADD-9AD1-19BCAC3AC88A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3CF73-E611-49A6-921A-0F48D47860E4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1F7F1-BB80-4C06-8329-3E2EAEA1EE9B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9F7D0-BBB5-41DD-87AC-3ED5FBB76FF2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wur.nl/nl/Dossiers/dossier/Mest-1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infomil.nl/onderwerpen/landbouw/emissiearme-stalsystemen/emissiefactoren-per/map-staltypen/hoofdcategorie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nieuweoogst.nl/nieuws/2020/09/12/opnieuw-twijfels-over-emissiearme-vloe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ALjQxaACzI" TargetMode="External"/><Relationship Id="rId2" Type="http://schemas.openxmlformats.org/officeDocument/2006/relationships/hyperlink" Target="https://www.youtube.com/watch?v=MALjQxaACzI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55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?</a:t>
            </a:r>
            <a:br>
              <a:rPr sz="3200"/>
            </a:br>
            <a:br>
              <a:rPr sz="24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Ammoniak is een sterk ruikend gas; een verbinding van waterstof en stikstof </a:t>
            </a: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(NH3)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Dit gas is aanwezig in </a:t>
            </a:r>
            <a:r>
              <a:rPr b="0" lang="nl-NL" sz="16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mest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 als afbraakproduct van de consumptie van eiwit. 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Negentig procent 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van de ammoniakemissie in Nederland komt uit de landbouw en met name uit mest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Het komt in belangrijke mate vrij in stallen en bij het uitrijden van mest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99960" y="0"/>
            <a:ext cx="834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Afbeelding 3" descr=""/>
          <p:cNvPicPr/>
          <p:nvPr/>
        </p:nvPicPr>
        <p:blipFill>
          <a:blip r:embed="rId1"/>
          <a:stretch/>
        </p:blipFill>
        <p:spPr>
          <a:xfrm>
            <a:off x="-69840" y="189000"/>
            <a:ext cx="928368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Afbeelding 3" descr=""/>
          <p:cNvPicPr/>
          <p:nvPr/>
        </p:nvPicPr>
        <p:blipFill>
          <a:blip r:embed="rId1"/>
          <a:stretch/>
        </p:blipFill>
        <p:spPr>
          <a:xfrm>
            <a:off x="0" y="836640"/>
            <a:ext cx="9279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1. Dierspoor: ras, fokkerij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Spreiding tussen koeien in mate van uitstoot van CH4 en NH3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Werk voor CRV !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84247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Tekstvak 7"/>
          <p:cNvSpPr/>
          <p:nvPr/>
        </p:nvSpPr>
        <p:spPr>
          <a:xfrm>
            <a:off x="1116000" y="900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Afbeelding 9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H3-emissie hoger bij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e dagproduc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ureum-geta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ruw-eiwit niveau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Tekstvak 3"/>
          <p:cNvSpPr/>
          <p:nvPr/>
        </p:nvSpPr>
        <p:spPr>
          <a:xfrm>
            <a:off x="530280" y="1230480"/>
            <a:ext cx="893772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3. Stal/mestspoor: stal en mest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44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infomil.nl/onderwerpen/landbouw/emissiearme-stalsystemen/emissiefactoren-per/map-staltypen/hoofdcategorie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83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Onderzoeker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rrit Stobbelaar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Ammoniakspecialist”</a:t>
            </a:r>
            <a:br>
              <a:rPr sz="1800"/>
            </a:b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eel twijfel over nut van emissie-arme vloeren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: emissie arme vloeren stoten meer NH3 uit!!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 Wageningen: 18 stallen onderzocht waaronder 6 emissie-arme stallen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traditionele stallen komen uit op 13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olgens RAV lijst is uitstoot 9,5 kg NH3 maar in werkelijkheid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middeld 12,5 kg NH3, 2 stallen zelfs &gt; 15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nieuweoogst.nl/nieuws/2020/09/12/opnieuw-twijfels-over-emissiearme-vloer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26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emissie en -depositie?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Tekstvak 3"/>
          <p:cNvSpPr/>
          <p:nvPr/>
        </p:nvSpPr>
        <p:spPr>
          <a:xfrm>
            <a:off x="395280" y="2205000"/>
            <a:ext cx="813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uitstoot van ammoniak naar de lucht noemen w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emissie.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ammoniak die in de lucht aanwezig is, komt uiteindelijk weer op het land terecht, dit hee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depositi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Ammoniak is zelf niet zuur, maar basisc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Na depositie, wordt het door bacteriën omgezet in nitraa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O3-)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(nitrificatie) of door planten opgenomen als ammonium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H4+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ide processen werken verzure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 meer winst te behalen met voeding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inder ruw eiwit geeft minder NH3 emissie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oorbeeld: 2 Koeien-en-Kansen-bedrijven met 155 gr re/kg ds scoren in traditionele stal &lt; 10 kg NH3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ok blijkt mest in beide gevallen evenveel N te bevatten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aarom: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in zetten op voermanagement en niet op roostervloeren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TMR geeft minder NH3 emissie dan krachtvoer via automaat of robot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Ureum altijd  &lt; 18 hou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Eiwitrijke rantsoenen geven schuim op put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nooit schuim op mest bij jongvee of drg mk!)</a:t>
            </a:r>
            <a:br>
              <a:rPr sz="16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Schuim zorgt voor stijging temperatuur van mest: 15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 22 C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Warmere mest geeft meer uitstoot van NH3 en ook CH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Brabant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verplichting voor emissie-arme vloeren vanaf 2024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hoge kosten 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jongvee en vleesvee??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oet de sector dit pikken??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-55440" y="189000"/>
            <a:ext cx="9199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Tekstvak 3"/>
          <p:cNvSpPr/>
          <p:nvPr/>
        </p:nvSpPr>
        <p:spPr>
          <a:xfrm>
            <a:off x="0" y="476280"/>
            <a:ext cx="9036000" cy="69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Is ammoniak schadelijk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positie van ammoniak op natuurgebieden leidt tot bodemverzuring en tot het verdwijnen van planten die van arme grond houden. Hierdoor verschraalt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biodiversiteit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ovendien vormt ammoniak bij hoge concentraties één van de oorzaken van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stank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die aan mest verbonden i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Schadelijke effecten bij mensen ontstaan pas bij het inademen van veel en hoge concentraties ammoniak, denk hierbij aa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irritatie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van de ogen en luchtweg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Verder kan ammoniak met andere deeltjes in de lucht reageren en fijnstof vormen. Hoge concentratie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fijnstof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kunnen bij mensen tot problemen met luchtwegen leid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kijk filmpje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2"/>
              </a:rPr>
              <a:t>https://www.youtube.com/watch?v=MALjQxaACz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ekstvak 3"/>
          <p:cNvSpPr/>
          <p:nvPr/>
        </p:nvSpPr>
        <p:spPr>
          <a:xfrm>
            <a:off x="0" y="82440"/>
            <a:ext cx="9144000" cy="56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Wat is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Methaan </a:t>
            </a:r>
            <a:r>
              <a:rPr b="0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is een </a:t>
            </a: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roeikasgas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Er zijn verschillende soorten broeikasgassen, waaronder koolstofdioxide (CO₂), 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methaan (CH</a:t>
            </a:r>
            <a:r>
              <a:rPr b="1" lang="nl-NL" sz="20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4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),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lachgas (N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) en waterdamp (H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 in gasfase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ene broeikasgas is sterker dan het ander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is een sterk broeikasgas: een kilo methaan heeft net zo veel effect op de opwarming van de aarde al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25 kilo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koolstofdioxide (CO₂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(</a:t>
            </a:r>
            <a:r>
              <a:rPr b="0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nieuw onderzoeksrapport: CH4 uit vee 4 a 5 maal overschat?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Van de methaanemissie in Nederland kom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twee derde uit de veehouderij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Binnen de veehouderij i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77%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van de uitstoot van methaan afkomstig uit de melkvee- en rundveehouderij e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14%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uit de mestopslagen van de varkenshouderij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Tekstvak 3"/>
          <p:cNvSpPr/>
          <p:nvPr/>
        </p:nvSpPr>
        <p:spPr>
          <a:xfrm>
            <a:off x="0" y="123840"/>
            <a:ext cx="896472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Hoe ontstaat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ontstaat bij het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A. Verteren van voer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75-80% van het methaan in de veehouderij komt vrij bij het verteren van het voer door micro-organismen in het maagdarmkanaal (pens- en darmfermentatie) van herkauwers, met name runder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De koe ademt het methaan uit of laat deze door te boeren ontsnappen: het zogenaamde enterische methaan. Ook andere dieren (en mensen) stoten methaan uit bij vertering van voedse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. Opslaan van mest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in de mestopsla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20-25% van het methaan uit de veehouderij komt door fermentatie van opgeslagen mest. Fermentatie is het omzetten van mest door aanwezige bacterië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gaat om mest uit de melkvee-, geiten-, kalver- en varkenshouderij. Het fermenteren van kippenmest veroorzaakt nauwelijks methaan omdat dit van nature een vrij droge meststof i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573120" y="0"/>
            <a:ext cx="799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Afbeelding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82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123920" y="0"/>
            <a:ext cx="689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1:32:59Z</dcterms:created>
  <dc:creator>6bru</dc:creator>
  <dc:description/>
  <dc:language>en-US</dc:language>
  <cp:lastModifiedBy>Geert Willems</cp:lastModifiedBy>
  <dcterms:modified xsi:type="dcterms:W3CDTF">2024-01-08T14:35:19Z</dcterms:modified>
  <cp:revision>85</cp:revision>
  <dc:subject/>
  <dc:title>Puur praktijk</dc:title>
</cp:coreProperties>
</file>