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873-4C5C-46C0-B78A-54313A23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7C8-3259-4514-BD1A-60C95C1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D42-C1BA-4902-B1A7-C5E573DC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37C-1A50-439A-BBF8-D2C8B642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E31A-7168-4BC1-8473-2430E2DB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4DFF-5029-41D1-A4BE-79D330D7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6D60-26A8-4F2A-B1FD-513DE88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29DF-2EEF-4539-A4FF-1AD43F47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CF25-D1EA-45D2-B238-088435FA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888C-6189-4260-8DBE-7B7A5216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8024-49DD-4553-AD02-72B63AF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5D1-C4D0-463C-817D-7C0F14D0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294B-D646-4E40-9B8B-3AE0702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1A3F-E14D-4687-9296-781E4E82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BA76-DDB1-4EB0-97BF-7A8E6FE1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D234-74A3-42CA-B7A9-B913B52C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D8D9-CCAE-4734-83C4-495575AF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D71D-1678-4730-88E4-DC8FF3EC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1D8D-F6F4-453B-8910-EC65C48A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ECA29-763A-4E4D-8BEA-8B00CDC2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1144C-FD89-454E-9FE5-014256C9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3924-CC55-487F-86CA-2286F0B9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8DE-2A02-4F6E-BD4E-C780022F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DDD7-A9C6-4754-A9C6-1F2A8D95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0EF1-DEDE-412E-B600-92DC660C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D206-214D-424A-A73A-23F67FCA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7DC6-0B24-4E63-BB24-8DAACD77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2F7EE-2839-4535-85E4-7DB72B5C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FFDA-BB8C-47A3-97FC-638847FD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D57CF-B239-4C96-AEDA-BA2C3EC8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867A-0A60-451A-B5E0-12338D27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9C50-F4CE-4FB6-AD42-3CAA2449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5EBF-080E-4820-AC4A-B393F50C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2E9-F00C-4238-B9B7-46A08CEB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65ED5-2672-437F-81DB-C863D190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F8A5B-4469-49DA-A28A-490445C7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B87A5-50C8-44A9-8229-420BD940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F9AF5-C3EC-4DF8-A739-6C84914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0F93-B94A-4173-BF1A-D6962B4D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CED9-E4E5-4E3F-A566-FEE83DE6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F0DB-91CA-49EF-9456-496D9C61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9EEB-6997-4444-8091-0B0CF6D3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BA463-7D3C-4BC3-AD2E-542A61EC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9E7C-A786-4E03-86DB-F5509ECA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E15-42A7-490B-A6AD-6690E8CA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3976D-B81A-4946-AD59-940EB5B4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F531-9186-4F9F-9EBF-F07FA49B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1DCC-9A36-4BF1-A0FD-E29F36D5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B6442-3091-4C9F-9B54-0069D9A0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B24A1-744B-437C-A127-ACB77181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98745-B4EF-4AC4-B1ED-486706A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01FF0-C740-43D2-9A9F-56BA61EA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6BF45-52D2-4624-9908-80D6A53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EB80-86C1-4020-BFB5-DFFD03C2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573D-D2A5-4EFE-B68F-EDA956B1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556-473C-4B12-8B47-ED08F434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D6474-5692-4F99-90A7-D410CD90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B7187-65DE-4CEB-8F42-FF3E0736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27137-6E07-413D-8DDC-6C3BBDBF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9F5B7-E897-4402-A15D-DE0F613C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C4582-1231-48E1-A4E6-014ADD63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EA2DC-B575-4F32-9707-3F470062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171F-A2AA-4ED2-BA62-05B4257F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FBC8E-AFBC-426E-B212-C2025B3C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23A48-98EB-4CD1-B296-4A83632B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250BF-6826-4B0E-9603-FD8FAACB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A5D-FBB1-4774-89EE-67CB7FF2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79F53-B89B-47A7-850C-86EB8BD0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ADF3D-173D-46A1-AFFC-F9AB92CD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BB0AC-336E-4021-A852-3AD87B25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88CEF-A3E3-4FD7-ADA5-5A9FDD0B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888A8-050A-4E8A-8189-17B50B84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2A42C-CC7C-4553-A8CC-B9F67DEC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5B412-579D-40BA-92B0-6854C277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BC3CF-93BD-4F78-BEC9-54B23360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0F11C-C957-4E93-8E51-9EE08027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0D33D-73A6-4877-B498-43B62F89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079-2D34-413B-9B58-E6D46E02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B16FB-FEE4-47CB-8E12-8775008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D3C49-0DBF-4130-B2A0-77557BDA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04DF0-DE75-4016-9665-400005ED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4F832-BAC8-412D-B069-F5B0CB92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43CF1-5B42-411D-B411-3AC74BEF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63BAA-3152-46D2-BCCF-31BB3FFA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3706E-EAA3-403D-9126-672703E4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50DC1-6A06-4B8B-B5A4-6B9F2EC5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E6DE0-891E-4E28-BF4B-D872A608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6B4DD-1FB5-4A78-9566-DD13FF4D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301-F96D-4873-A97F-66498357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A8E89-59DF-4F78-B7D0-E18D01B4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24B61-4A0A-4669-8D1D-32A7B07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9DE6-C835-46CD-A884-CA6C610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E98F6-E77D-469C-BD60-57EDE68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0BEBE-BE33-42E6-9B0A-A2F5D9B4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8BFCD-7D90-40C1-AEE7-53F8A6A0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8F0B4-618F-4B1A-B388-AAA6C34F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D2E7-CAC1-4399-B2B6-85B0D76C1E08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A782-CE76-49FC-82AB-5409CC3B13D9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6E09-B796-4141-A8D3-48E1B6E2A083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4435-3114-4BE7-BC93-2D97D961FDD7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B938-08E6-4C51-A23E-F09CB8EC74E6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3D3E-9D80-49F4-AD56-B630E8E49BF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BE03-72B6-46A3-B35C-C1D068F126A9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AFAC-958F-41AC-864B-D50D71B8512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F7B3-16AC-47D2-8972-A781F772F32E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03CC-6492-4E13-8B52-1570A7FF1F0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69EB-576A-4EC2-ADB3-059782C6EE12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8FFB-F04C-449A-BD75-1303DC126F78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81EF-BB80-4496-A587-2B9ACC5B6960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0682-3303-4656-A8F3-132D7C825C2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59BA-CA6C-48A9-9C06-E162884E1643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EE17-E299-46A9-A92D-ABF46B5DAC0B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C999-4994-49D7-94ED-B1F5D8897F07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2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4: 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Int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44FB-3FF2-4779-821E-92D69EBDC8D3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75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Op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vraagwoord (5 W’s en 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el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 informatie dan gesloten vraa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en moeilijker te verwerken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4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Gebruik de LSD-methode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L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luister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S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samenvatt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door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el 3" descr=""/>
          <p:cNvPicPr/>
          <p:nvPr/>
        </p:nvPicPr>
        <p:blipFill>
          <a:blip r:embed="rId1"/>
          <a:stretch/>
        </p:blipFill>
        <p:spPr>
          <a:xfrm>
            <a:off x="469800" y="182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Lees deze vraag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Lucida Sans Unicode"/>
              </a:rPr>
              <a:t>Dus als ik het goed begrijp, wordt het arbeidscontract vandaag verstuurd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is het doel van deze vraag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Is dit een open of een gesloten vraag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voor type vraag is he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jdelijke aanduiding voor voettekst 1" descr=""/>
          <p:cNvPicPr/>
          <p:nvPr/>
        </p:nvPicPr>
        <p:blipFill>
          <a:blip r:embed="rId2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  <p:sp>
        <p:nvSpPr>
          <p:cNvPr id="409" name="Rechthoek 1"/>
          <p:cNvSpPr/>
          <p:nvPr/>
        </p:nvSpPr>
        <p:spPr>
          <a:xfrm>
            <a:off x="826920" y="1916280"/>
            <a:ext cx="7490160" cy="1008000"/>
          </a:xfrm>
          <a:prstGeom prst="rect">
            <a:avLst/>
          </a:prstGeom>
          <a:noFill/>
          <a:ln w="550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is na te gaan of de vraagsteller het goed heeft begrep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gesloten 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, want je kan er met ‘ja’, of ‘nee’, op antwoord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type vraag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controle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gges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mpertinent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volgvraag (doorvraag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ol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der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flec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erkeuz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B239-3B33-4AD8-96F1-CA82265B0CCD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twoord zit in d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ntrouwe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U heeft zeker geen vertrouwen in de politi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791B-949A-4C63-883F-6452FC8F9BB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uta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Klopt het dat uw vrouw bij u weg wil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A465-419B-4C79-9958-F1EA1BA368F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vra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actie op een antwoord van de geïnterview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bedoelt u daarme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7A2C-2443-4362-AE09-92B32CE2D41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te controleren of je de geïnterviewde goed hebt begre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Begrijp ik het goed dat …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6CB4-B8A8-4BBB-8E6F-CC3FA08967AC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als reactie op een ander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ak kritis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arom wilt u dat van me we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A32B-3227-463E-9FE5-9EDBDE47EF27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bruik beleefde taal en pas je taalgebruik 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aat elkaar uitpra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eem op gepaste wijze de beu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 bij het onderwerp, begin niet zomaar ergens anders o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a in op wat de gesprekspartner zeg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8F07-9308-4D9F-85FA-FAC6FE2BB622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iemand na te laten denken over zijn eigen situ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denkt u dat er van u verwacht word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F20-A32F-4E54-B8AA-D9ACD13D505C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met gegeven antwoordopt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Hoe tevreden bent u met onze diens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A132-A6AB-4EBD-9145-1581FD64122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terview: vraaggesprek tussen interviewer (de vragensteller) en geïnterviewde (degene die de vragen beantwoord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E567-426B-4F8F-BD28-452A0C462CD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en van do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persoon: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ningen peil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E16E-AD7B-41BE-94E8-BC20552C3B2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je van tevoren weet, hoe beter je interview verloop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631C-3697-4DA1-AE90-FCB8A55CF91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chrijf je vragen van tevoren 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3D5D-6E18-4D76-9757-F4BE05B244F5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ps voor een goed inter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reek af op een rustige ple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tel het doel van het interview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ister goed en vraag do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ntroleer of je vraag goed is begrep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ak een opname of aanteken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dank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209B-0FCF-485C-8D23-ABEEF0C3A17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perkte antwoordmogelijkhe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ecifieke informati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ie, wat, waar, waarom, hoe, wanneer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uitgebreid antwoor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er ruimte voor geïnterview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8A8C-E9CE-44DE-91F2-F571293AE5AF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Geslot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werkwoord (Bent u met de auto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buClr>
                <a:srgbClr val="2da2b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 is ja of ne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len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kan op 1 manier uitgelegd wor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stuurt het gesprek een richting o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je hoort alleen wat je hebt gevraag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7-02-28T09:36:25Z</dcterms:modified>
  <cp:revision>165</cp:revision>
  <dc:subject/>
  <dc:title>Sociaal-culturele dimensie Thema 1: Cultuur en identiteit</dc:title>
</cp:coreProperties>
</file>