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AC59-9E59-4738-943A-103FDA22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71E4-0DCA-4771-95E1-8BD2999A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5134-F990-416B-8D77-EA2477CF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C53B-656B-4FED-B1A5-A59EE93D8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9985-F430-4881-BD56-35533A93C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A381-673C-41CD-944B-81C29E67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04A7-61CB-4ADA-A853-EC8380FD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7ECA-3688-4CA6-A25D-4E1D502D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C3A1-57A8-4591-A0D2-AF4AB4BA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3406-A953-4692-8EBD-7FF12BCC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DB34-B352-41D3-9BC4-EEBCBCB9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BBA1-5DFE-495E-BBD2-C89F67C2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8E95-24B9-47FD-AFB1-C657B099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0DA1-1149-4142-BC04-8E8732C6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EB3C-6CC5-44E7-8D33-982E3124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CEDB-C92E-475D-8711-E58220EC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D22C-3FDA-4EB6-8D4D-CA72E38AC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FE72D-3907-4AFD-80CB-65B5A7F14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C9624-7F76-47A5-B7AC-D3A6FEDD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6FAC3-DEBA-4E93-9E57-71991E07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F133B-533F-46C3-9D66-78EDB3EE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0D068-75A4-4643-B9E3-8588F47C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D035-B45D-4076-B702-25F409CF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5835C-1A5E-42ED-884D-7D2DD3F3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BE23A-A8B0-481A-B1BD-FF4D518E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91922-1C0D-49C0-A36C-4AEBADC3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01E90-EE1D-42FE-927E-B7274955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E98B3-5357-40F6-9A64-FE0F3A43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AAFF8-846C-4A1B-932D-DDDBF63FA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200EA-17E0-43BA-9E99-A1413BCF4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2ED93-3C73-44B6-8407-3E72FC9D8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E1CBD-9932-4EFE-8B29-B1366207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50F69-CBDD-47F1-8EC8-0363E589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5645-E1D6-4F3E-9826-2B5FF8FC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F7C9D-D159-4D20-883B-F4EB2731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C9B23-45DE-438E-91AD-99FD85B9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18F6C-8E2F-4042-95C2-40DC5CD4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55075-F6B4-438F-9327-0942689E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6BC5F-415E-4D97-9F7F-77169CC9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07489-D905-4B27-B3B3-C6A58CD4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50686-58CF-4C46-A598-BE210AE2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CB208-1304-4150-A132-AF7A5DB1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3714F-D898-4DB7-9B09-A2CF41C9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E09CF-3CDE-455F-B4E2-F1401D55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4786-9BD5-49A8-AB8E-6BF6E2EB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C7F20-EAFE-40D3-83DC-1F0BD7BD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E0624-2B3F-42F8-8830-B02C5863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952BB-AC3F-4EA5-B9E9-70FBEAFF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92001-DE97-4EA1-95E8-C0FB9D45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E4861-D435-4852-AD41-8B4CF651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BA65A-6878-47D6-A2C9-C6A03CEB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31150-C5E9-432A-A024-66C9B887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7A714-FBE0-45D7-B9C8-53870B1F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4890D-D0EC-4B51-AF3F-AEB44528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C5DF2-2D4A-42B7-82EE-421AFCF1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F269-C6E6-41BC-A136-D21BEF5E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B49B5-22CA-42E5-B34A-C61BF7E37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F991C-BF6B-4C7E-AA50-15B439C1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69214-D686-4F22-A56E-177A6D4A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A4A09-D060-4ED2-8B06-91AA95B4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49917-20B2-493E-A044-F73EE994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F854D-74C9-4599-94D5-CD21DAB5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4BE84-AD04-4F8B-B1DD-D8692A61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BB51E-EF0F-4568-B0BC-3B4C125A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CF8DA-342A-4BA3-A6A4-1D1629BF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B1D6D-9FE6-4186-AA04-6943C787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BB22-D004-4C4B-9F25-59A570EB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3EFDE-1F73-4A01-BB6E-E1778D97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95E92-4787-4DC1-B683-2C8C4DABD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7D4E6-2348-45A1-9CAD-DBEEB8E9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90D0C-DCB2-45DF-ADED-F1BCDE4C4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4B83E-D77D-47C7-9C58-C2257AD5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C7BCD-EE30-42A0-B846-9676D65D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BB09A-F15E-4F35-9C8C-251E2660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5054A-2EE5-4158-90F7-7DCC2EA4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31410-17B2-4086-95E3-5B39882A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5FA15-0AA1-4DEB-AE36-C5F67EC6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EFAC-33D2-46A2-81D8-BB802DFF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6067D-ACDD-4521-ABA3-E46220D9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49106-A013-4E2A-AE81-B0EC2BAA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35EB5-A028-4B29-89E8-1AB2DCEE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A43EC-201D-4936-B978-3CBAD991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111A5-D7CB-4981-9E76-D8F84AE88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3463B-0841-4C4C-B492-0550F0AF9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9E9D7-2075-4B0C-9BE3-80882262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BABC6-1E48-4DC4-8483-D31B3720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263AE-0CCA-4330-94DC-E70F28CB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FAF67-4C93-48A9-8477-B647CB38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A588-AA9F-499D-8DB4-591322A7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FF695-AB72-42AF-B7B9-E7127FB6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F71CC-A1AD-4AB0-827A-66216B3C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CEEA9-C2F7-437E-8571-C1DBF1C4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10C10-6994-4615-B3EE-AB11218D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6BF29-F561-4DC8-98AE-778A8C7E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087ED-05C3-4B55-BBDB-77552EA40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8F3A7-585B-431E-B45A-9379D8D9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A5F1-117C-4948-937B-4143ED9DB146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3E8D-6550-4BA9-B1E6-65027F2CDD32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0C9D-6C20-4A43-9270-5067B53610FC}" type="datetime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582A-A8E3-40C9-8917-B1C164022127}" type="slidenum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CC6F-56B9-4A48-95D7-38498C6111F1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3D48-A586-4725-B61A-60CA9815ED1D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5F56-FFE8-422C-98B7-194D893CC3DA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1446-D4A9-4C83-87FD-6BDDD3AA0A2A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F39F-A509-468A-A882-5F9D2679E5A5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0943-8501-4204-B5FD-BFBF9ECCC34F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48AE-80CD-428C-A79D-92D854E198B8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0B71-AA03-4071-B590-7A7FEBF9342C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2D02-C467-46AC-8D3D-22CCA892A0FB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BC39-A87D-4EFE-A835-43A2B8629E9A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6966-654F-439F-AFF8-995F28855179}" type="datetime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05D2-B89B-4645-A198-24D37257EB46}" type="slidenum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D235-6B82-4115-8722-D0F13D65D7D0}" type="slidenum">
              <a:rPr b="0" lang="nl-NL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Titel 4" descr=""/>
          <p:cNvPicPr/>
          <p:nvPr/>
        </p:nvPicPr>
        <p:blipFill>
          <a:blip r:embed="rId1"/>
          <a:stretch/>
        </p:blipFill>
        <p:spPr>
          <a:xfrm>
            <a:off x="689040" y="762120"/>
            <a:ext cx="7772400" cy="1805040"/>
          </a:xfrm>
          <a:prstGeom prst="rect">
            <a:avLst/>
          </a:prstGeom>
          <a:ln w="0">
            <a:noFill/>
          </a:ln>
        </p:spPr>
      </p:pic>
      <p:sp>
        <p:nvSpPr>
          <p:cNvPr id="372" name="Ondertitel 2"/>
          <p:cNvSpPr/>
          <p:nvPr/>
        </p:nvSpPr>
        <p:spPr>
          <a:xfrm>
            <a:off x="684360" y="3213000"/>
            <a:ext cx="7772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Hoofdstuk 4: </a:t>
            </a:r>
            <a:br>
              <a:rPr sz="4100"/>
            </a:br>
            <a:r>
              <a:rPr b="1" lang="nl-NL" sz="4100" spc="-1" strike="noStrike">
                <a:solidFill>
                  <a:srgbClr val="464646"/>
                </a:solidFill>
                <a:latin typeface="Lucida Sans Unicode"/>
              </a:rPr>
              <a:t>Interview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147E-CF9F-4BFB-B1C2-A00D55D0B423}" type="slidenum">
              <a:rPr b="0" lang="nl-NL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Picture 2" descr="C:\Users\Jorrit\Pictures\Deviant\deviant_logo.png"/>
          <p:cNvPicPr/>
          <p:nvPr/>
        </p:nvPicPr>
        <p:blipFill>
          <a:blip r:embed="rId2"/>
          <a:stretch/>
        </p:blipFill>
        <p:spPr>
          <a:xfrm>
            <a:off x="7236000" y="404640"/>
            <a:ext cx="1428480" cy="514440"/>
          </a:xfrm>
          <a:prstGeom prst="rect">
            <a:avLst/>
          </a:prstGeom>
          <a:ln w="0">
            <a:noFill/>
          </a:ln>
        </p:spPr>
      </p:pic>
      <p:pic>
        <p:nvPicPr>
          <p:cNvPr id="375" name="Afbeelding 2" descr=""/>
          <p:cNvPicPr/>
          <p:nvPr/>
        </p:nvPicPr>
        <p:blipFill>
          <a:blip r:embed="rId3"/>
          <a:stretch/>
        </p:blipFill>
        <p:spPr>
          <a:xfrm>
            <a:off x="611280" y="836640"/>
            <a:ext cx="51847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836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160020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Sans Unicode"/>
              </a:rPr>
              <a:t>Open vrage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Begint met vraagwoord (5 W’s en H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Voordeel: 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meer informatie dan gesloten vraa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Nadeel: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antwoorden moeilijker te verwerken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jdelijke aanduiding voor voettekst 1" descr=""/>
          <p:cNvPicPr/>
          <p:nvPr/>
        </p:nvPicPr>
        <p:blipFill>
          <a:blip r:embed="rId1"/>
          <a:stretch/>
        </p:blipFill>
        <p:spPr>
          <a:xfrm>
            <a:off x="109440" y="6357960"/>
            <a:ext cx="848520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36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84360" y="1628640"/>
            <a:ext cx="63468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Gebruik de LSD-methode!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5e2d37"/>
                </a:solidFill>
                <a:latin typeface="Lucida Sans Unicode"/>
              </a:rPr>
              <a:t>L 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= luistere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5e2d37"/>
                </a:solidFill>
                <a:latin typeface="Lucida Sans Unicode"/>
              </a:rPr>
              <a:t>S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= samenvatte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5e2d37"/>
                </a:solidFill>
                <a:latin typeface="Lucida Sans Unicode"/>
              </a:rPr>
              <a:t>D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= doorvrage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Tijdelijke aanduiding voor voettekst 1" descr=""/>
          <p:cNvPicPr/>
          <p:nvPr/>
        </p:nvPicPr>
        <p:blipFill>
          <a:blip r:embed="rId1"/>
          <a:stretch/>
        </p:blipFill>
        <p:spPr>
          <a:xfrm>
            <a:off x="109440" y="6357960"/>
            <a:ext cx="848520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el 3" descr=""/>
          <p:cNvPicPr/>
          <p:nvPr/>
        </p:nvPicPr>
        <p:blipFill>
          <a:blip r:embed="rId1"/>
          <a:stretch/>
        </p:blipFill>
        <p:spPr>
          <a:xfrm>
            <a:off x="469800" y="1825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Lees deze vraag: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Lucida Sans Unicode"/>
              </a:rPr>
              <a:t>Dus als ik het goed begrijp, wordt het arbeidscontract vandaag verstuurd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Wat is het doel van deze vraag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Is dit een open of een gesloten vraag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Wat voor type vraag is het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jdelijke aanduiding voor voettekst 1" descr=""/>
          <p:cNvPicPr/>
          <p:nvPr/>
        </p:nvPicPr>
        <p:blipFill>
          <a:blip r:embed="rId2"/>
          <a:stretch/>
        </p:blipFill>
        <p:spPr>
          <a:xfrm>
            <a:off x="109440" y="6357960"/>
            <a:ext cx="8485200" cy="366840"/>
          </a:xfrm>
          <a:prstGeom prst="rect">
            <a:avLst/>
          </a:prstGeom>
          <a:ln w="0">
            <a:noFill/>
          </a:ln>
        </p:spPr>
      </p:pic>
      <p:sp>
        <p:nvSpPr>
          <p:cNvPr id="409" name="Rechthoek 1"/>
          <p:cNvSpPr/>
          <p:nvPr/>
        </p:nvSpPr>
        <p:spPr>
          <a:xfrm>
            <a:off x="826920" y="1916280"/>
            <a:ext cx="7490160" cy="1008000"/>
          </a:xfrm>
          <a:prstGeom prst="rect">
            <a:avLst/>
          </a:prstGeom>
          <a:noFill/>
          <a:ln w="55080">
            <a:solidFill>
              <a:srgbClr val="5e2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Het 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doel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 is na te gaan of de vraagsteller het goed heeft begrepe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Het is een 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gesloten vraag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, want je kan er met ‘ja’, of ‘nee’, op antwoorde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Het type vraag is een 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controlevraag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Tijdelijke aanduiding voor voettekst 1" descr=""/>
          <p:cNvPicPr/>
          <p:nvPr/>
        </p:nvPicPr>
        <p:blipFill>
          <a:blip r:embed="rId1"/>
          <a:stretch/>
        </p:blipFill>
        <p:spPr>
          <a:xfrm>
            <a:off x="109440" y="6357960"/>
            <a:ext cx="848520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uggestieve 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mpertinente 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volgvraag (doorvraag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Controle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der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flectieve 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eerkeuze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5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C661-2993-46F2-B4F2-0E9245F9E1E6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ntwoord zit in de 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ntrouwen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U heeft zeker geen vertrouwen in de politie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8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7069-B6CC-461D-9BE0-F9209BC32A7A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rutaa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Klopt het dat uw vrouw bij u weg wil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1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EFE5-74AB-41C5-A424-EE5E449F1458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oorvrag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actie op een antwoord van de geïnterviewd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Wat bedoelt u daarmee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4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10A7-A8AD-436F-800E-6BA44DA2C377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sloten 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m te controleren of je de geïnterviewde goed hebt begre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Begrijp ik het goed dat …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7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6A20-83A9-41EA-8FC6-4F50B063FC90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raag als reactie op een andere 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aak kritisch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Waarom wilt u dat van me weten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1250-1E9D-4470-8832-A217D0321568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bruik beleefde taal en pas je taalgebruik a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aat elkaar uitprat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eem op gepaste wijze de beu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ijf bij het onderwerp, begin niet zomaar ergens anders ov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a in op wat de gesprekspartner zeg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78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135B-9008-491B-827F-F1612CF8248B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m iemand na te laten denken over zijn eigen situati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Wat denkt u dat er van u verwacht wordt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3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B036-E13D-431C-BE95-331A48AE3279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raag met gegeven antwoordoptie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Hoe tevreden bent u met onze diensten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7560" indent="-457200">
              <a:spcBef>
                <a:spcPts val="349"/>
              </a:spcBef>
              <a:buClr>
                <a:srgbClr val="da1f28"/>
              </a:buClr>
              <a:buFont typeface="Lucida Sans Unicode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100" spc="-1" strike="noStrike">
                <a:solidFill>
                  <a:srgbClr val="000000"/>
                </a:solidFill>
                <a:latin typeface="Lucida Sans Unicode"/>
              </a:rPr>
              <a:t>Zeer tevreden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7560" indent="-457200">
              <a:spcBef>
                <a:spcPts val="349"/>
              </a:spcBef>
              <a:buClr>
                <a:srgbClr val="da1f28"/>
              </a:buClr>
              <a:buFont typeface="Lucida Sans Unicode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100" spc="-1" strike="noStrike">
                <a:solidFill>
                  <a:srgbClr val="000000"/>
                </a:solidFill>
                <a:latin typeface="Lucida Sans Unicode"/>
              </a:rPr>
              <a:t>Tevreden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7560" indent="-457200">
              <a:spcBef>
                <a:spcPts val="349"/>
              </a:spcBef>
              <a:buClr>
                <a:srgbClr val="da1f28"/>
              </a:buClr>
              <a:buFont typeface="Lucida Sans Unicode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100" spc="-1" strike="noStrike">
                <a:solidFill>
                  <a:srgbClr val="000000"/>
                </a:solidFill>
                <a:latin typeface="Lucida Sans Unicode"/>
              </a:rPr>
              <a:t>Ontevreden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7560" indent="-457200">
              <a:spcBef>
                <a:spcPts val="349"/>
              </a:spcBef>
              <a:buClr>
                <a:srgbClr val="da1f28"/>
              </a:buClr>
              <a:buFont typeface="Lucida Sans Unicode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100" spc="-1" strike="noStrike">
                <a:solidFill>
                  <a:srgbClr val="000000"/>
                </a:solidFill>
                <a:latin typeface="Lucida Sans Unicode"/>
              </a:rPr>
              <a:t>Zeer ontevreden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6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81B2-2AA8-460A-8BE2-41B344343B2B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terview: vraaggesprek tussen interviewer (de vragensteller) en geïnterviewde (degene die de vragen beantwoordt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1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75F1-BD6E-4368-9F61-9FAE516C3604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en van doel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Informeren naar een onderwerp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Informeren naar een persoon: de geïnterviewd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Meningen peil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4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7664-A6FB-47B6-BDC2-19F968C42815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e meer je van tevoren weet, hoe beter je interview verloop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7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901E-83E2-41A4-B51C-9F841AAC9BE3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chrijf je vragen van tevoren o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6231-9129-41BA-9B08-0E6F963E052F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ips voor een goed interview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preek af op een rustige plek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ertel het doel van het interview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Luister goed en vraag doo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Controleer of je vraag goed is begrep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Maak een opname of aantekening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edank de geïnterviewd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3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3633-096C-42B4-8C07-FDB9745F3138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sloten vrag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eperkte antwoordmogelijkhed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pecifieke informati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pen vrag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ie, wat, waar, waarom, hoe, wanneer, etc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uitgebreid antwoor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meer ruimte voor geïnterviewd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6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AE5E-A6E6-41EC-8E90-E6CA345F50F3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60020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Sans Unicode"/>
              </a:rPr>
              <a:t>Gesloten vrage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Begint met werkwoord (Bent u met de auto?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buClr>
                <a:srgbClr val="2da2bf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Antwoord is ja of ne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Voordelen: 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kan op 1 manier uitgelegd worde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stuurt het gesprek een richting op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Nadeel: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je hoort alleen wat je hebt gevraagd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jdelijke aanduiding voor voettekst 1" descr=""/>
          <p:cNvPicPr/>
          <p:nvPr/>
        </p:nvPicPr>
        <p:blipFill>
          <a:blip r:embed="rId1"/>
          <a:stretch/>
        </p:blipFill>
        <p:spPr>
          <a:xfrm>
            <a:off x="109440" y="6357960"/>
            <a:ext cx="848520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6T10:11:29Z</dcterms:created>
  <dc:creator>Jan</dc:creator>
  <dc:description/>
  <dc:language>en-US</dc:language>
  <cp:lastModifiedBy>Veen, Joke van der</cp:lastModifiedBy>
  <dcterms:modified xsi:type="dcterms:W3CDTF">2017-02-28T09:36:25Z</dcterms:modified>
  <cp:revision>165</cp:revision>
  <dc:subject/>
  <dc:title>Sociaal-culturele dimensie Thema 1: Cultuur en identiteit</dc:title>
</cp:coreProperties>
</file>