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836-0AD4-437D-BBCA-2B9C6423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904-C1A2-40D7-9E5B-DC782562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24F-76EA-45C6-8B32-F10BB280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E75-462D-4DEB-B9A8-CD9F5B46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95D9-DA90-4D76-9D82-EEB7B150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BFDF-347D-405F-BABB-5D5664DF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2CB6-9D6A-4E3E-A31C-D46898EF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0F4A-97D1-4227-871F-1F6BE030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32B9-99DB-48A1-8A9C-3C18B2FF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BF88-68A1-4CFD-ABFC-349C6802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F62D-858F-4B1B-8B85-794A245A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886-B37D-440F-BF76-680D3B54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F969-3962-4B39-96C7-81C11A18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3C04-94D1-43F8-9413-5F7DA2B7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F7F4-7212-422D-A2D8-4276B1F6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6047-0728-48DB-9363-26ABBF78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4250-A4BB-418C-8CF2-BDD29DAF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B61C1-B51B-4D70-8D2F-19B99BE9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384FF-B7F8-4A5D-A23B-19BEE2DF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1B8A-8512-4069-B6E1-F10057E6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59691-3032-44C0-8964-0BBEC598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0B494-74F2-4951-92BB-285BBAF4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E83-97CB-48B0-839C-59D1251B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88CC-FD5F-4E39-AE9A-0A09D4B9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50F1-A109-43E3-99CB-9E4C4094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E78E2-452A-4E75-8ECA-DB8E8ABE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9737-6C4D-4280-9929-9FAEF644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AA382-47EB-425E-A595-55C35294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6ABF-8219-4013-A6EF-029814A9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CD8AE-36D8-4776-BA9D-3448C2A0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76A0E-8333-4522-84E0-E567A079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EF73C-E807-4461-B37C-337B4CCB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9A71C-ABB3-4EFA-AD87-B597CE3E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4C2-D911-4721-85AD-7EA129A4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D29FD-DE64-4898-871A-C568BF84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2AD6E-1E98-4270-8D4E-445C6E69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3338-9BD2-4CE2-A405-FDF02515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C0AB3-4684-4954-A7EC-C8CB73AE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C8C35-43D1-4426-8DA9-4B04CD14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B16E-D296-4E37-8197-9DEB9CA6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66827-704E-42DA-BF53-8588536B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ECEC-A8AA-4008-8E65-58C81DFC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1712E-21E0-408A-AFC0-FCD10548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91BD8-DFA4-4BBF-8579-B0FB9F43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BDA-FED4-41E3-B949-05978DE5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B80EC-5E90-44A6-A332-A909AAD6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42DE4-AD47-458D-80E5-8E315863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E634F-70EE-4E84-A40A-1669968F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FACB3-05F1-4B33-8546-7C4F101F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18205-21E6-49DB-83FD-9FF79FE8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4B0A0-F8ED-4913-B025-C041ACD1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9F154-3936-4BC8-BDC5-A0E22D5C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2C489-F3D5-4BFB-8DED-094EBE44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0F665-4DFD-40A8-8E33-BD213C97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FECC6-76BE-4E03-B713-3FC13B14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B68-8362-43C4-9DBD-03BF31D6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95919-F17F-494C-BCD1-F5CE671B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FBFBC-2EEA-4DE2-ACA5-0C81FF68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3192E-3219-4853-B2EA-62D3BE66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7FA16-9E6C-43CE-AF98-61559202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57742-5B31-4C51-AC60-19577676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647DD-9C65-4008-94F0-62904C82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2DEBC-FA78-4DAC-AC1D-DF4FCB92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C432A-B1A3-464C-A89F-F497D863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DB97C-83EE-4194-A7C4-5629CEAF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41122-B8D3-461E-ABAE-5A08DE25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670-47DF-49A6-9544-FA0F69E7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FE498-6356-484F-9C4C-76C57917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37AF0-1283-4BB1-9C2A-89CEB789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6496C-94DC-4DED-A38E-3152F7D0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74FF9-8F0C-4C9A-83A4-57F9F7BD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22CED-8794-41FC-980D-E4BCC963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6041C-E500-4457-9C0F-7588358C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076D1-DF28-4C80-BCF5-6433430D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15E5C-BB17-44FF-8B23-6A56906C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3D36D-3021-432B-8B6B-9513BA85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2BF8C-C460-4B38-B7C0-629091BE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52E-DC17-4E74-AA68-7D2565C8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A8726-5518-4A9A-AA86-78883C19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18EA8-6295-4A50-998E-BDD1C6C6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7C4D9-30E5-4E4E-BC5E-53FB8F80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FF3FA-C3BF-40A6-91EC-A6B309FE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9EA29-0A09-45D9-91BA-C84E2EA0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7712D-3FF0-4FEA-9C38-A40A1223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56E08-618F-458E-9F3E-74F16A4F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CCF75-F9C1-45C9-BE85-79B26AEB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120D3-19E4-4801-99BB-27B5BE2F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03279-DB43-4F4F-93BA-E1FB41BA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42B-946F-4752-83CC-1C73ED2B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4CA63-7785-41E2-A5A0-C7E3DD61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E48AF-A78B-44A7-ACCC-93E74F01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13EBD-BBB9-43E3-8A60-EF5B46BA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4760C-4036-42E3-924E-DE01A141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A02E7-68CD-4D0A-BB98-06A78371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5AC51-8112-49AD-B474-80EFEA36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A7F08-3077-4C2D-81AE-98233AF1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C151-F10D-4F02-A9C1-B9B4FB06D90C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0FE5-76ED-4C70-8BC5-15832ECAAE5A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581D-AD92-47C6-8E7E-7FD30DBB0733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77D3-9628-4B20-8851-B3B1EBA0C3DB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D9A9-F8B8-4492-B41A-C96D767C9A4D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D6F4-CA74-49C5-BBCF-A6D5B3D86E20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2D06-723D-4C95-98A7-CB8A483BCE34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4ADF-8701-42D2-9E3F-416A304189BB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DCCD-3EF4-4445-91D0-C85A652F7D5E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2670-4C91-43D6-BBE2-48238D2252AC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60F5-4E53-4A46-844C-C996D3CDDB2F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9485-951A-4106-AD4C-B08007995B2F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E77E-6043-402B-BD25-4849CE296003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DF95-2C3C-4BE8-8159-126E5D85B5BC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DCF4-AD68-42DF-9A51-8255FC79F255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8588-FDC7-4921-8E0E-14906FD4A148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EED3-A258-4EAE-8AC0-7D1FAFFB1B14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2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4: 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Int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1B89-F5FD-47D1-AB67-DD16EB413010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75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Op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vraagwoord (5 W’s en 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el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 informatie dan gesloten vraa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en moeilijker te verwerken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4360" y="1628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Gebruik de LSD-methode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L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luister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S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samenvatt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door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el 3" descr=""/>
          <p:cNvPicPr/>
          <p:nvPr/>
        </p:nvPicPr>
        <p:blipFill>
          <a:blip r:embed="rId1"/>
          <a:stretch/>
        </p:blipFill>
        <p:spPr>
          <a:xfrm>
            <a:off x="469800" y="1825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Lees deze vraag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Lucida Sans Unicode"/>
              </a:rPr>
              <a:t>Dus als ik het goed begrijp, wordt het arbeidscontract vandaag verstuurd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is het doel van deze vraag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Is dit een open of een gesloten vraag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voor type vraag is het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jdelijke aanduiding voor voettekst 1" descr=""/>
          <p:cNvPicPr/>
          <p:nvPr/>
        </p:nvPicPr>
        <p:blipFill>
          <a:blip r:embed="rId2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  <p:sp>
        <p:nvSpPr>
          <p:cNvPr id="409" name="Rechthoek 1"/>
          <p:cNvSpPr/>
          <p:nvPr/>
        </p:nvSpPr>
        <p:spPr>
          <a:xfrm>
            <a:off x="826920" y="1916280"/>
            <a:ext cx="7490160" cy="1008000"/>
          </a:xfrm>
          <a:prstGeom prst="rect">
            <a:avLst/>
          </a:prstGeom>
          <a:noFill/>
          <a:ln w="55080">
            <a:solidFill>
              <a:srgbClr val="5e2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is na te gaan of de vraagsteller het goed heeft begrep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gesloten 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, want je kan er met ‘ja’, of ‘nee’, op antwoord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type vraag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controle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gges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mpertinent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volgvraag (doorvraag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rol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der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flec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erkeuz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5263-85AA-452A-8851-6EC440532F02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twoord zit in d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ntrouwe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U heeft zeker geen vertrouwen in de politi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51EE-4539-46C8-A939-3D3B3FF66E7D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uta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Klopt het dat uw vrouw bij u weg wil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997B-8152-48E2-9B3D-344D13FE2F84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vra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actie op een antwoord van de geïnterview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bedoelt u daarme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13E2-CFE5-4E9C-A6D0-9D30AC40B123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te controleren of je de geïnterviewde goed hebt begre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Begrijp ik het goed dat …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3260-439E-417E-9C0E-96A5AC03B827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als reactie op een ander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ak kritis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arom wilt u dat van me we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90AA-856C-4E68-BB5A-72BDF980578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bruik beleefde taal en pas je taalgebruik 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aat elkaar uitpra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eem op gepaste wijze de beu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 bij het onderwerp, begin niet zomaar ergens anders o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a in op wat de gesprekspartner zeg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995D-3424-411A-A4F2-8B8F61A1D0E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iemand na te laten denken over zijn eigen situ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denkt u dat er van u verwacht word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F065-B89D-423F-A3D8-0D66CE1EFBC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met gegeven antwoordopti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Hoe tevreden bent u met onze diens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02B4-3B51-4740-AF17-B00ADB1EBF20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terview: vraaggesprek tussen interviewer (de vragensteller) en geïnterviewde (degene die de vragen beantwoord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94D7-562B-4D6B-A813-A01C2D0032CB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en van do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onderwer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persoon: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ningen peil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2075-3286-4D9E-BA86-411476779B43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je van tevoren weet, hoe beter je interview verloop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FBB5-398F-4003-9618-7C27A1A35D5E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chrijf je vragen van tevoren 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5BE9-C87F-40DF-82E5-0D305E512C5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ips voor een goed intervie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reek af op een rustige ple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tel het doel van het interview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ister goed en vraag do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ntroleer of je vraag goed is begrep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ak een opname of aanteken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dank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5963-91F7-4D36-8457-596D3A2E5941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perkte antwoordmogelijkhe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ecifieke informati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ie, wat, waar, waarom, hoe, wanneer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uitgebreid antwoor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er ruimte voor geïnterview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89C5-BA4C-432C-BE72-9B64790244DC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Geslot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werkwoord (Bent u met de auto?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buClr>
                <a:srgbClr val="2da2b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 is ja of ne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len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kan op 1 manier uitgelegd word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stuurt het gesprek een richting o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je hoort alleen wat je hebt gevraag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7-02-28T09:36:25Z</dcterms:modified>
  <cp:revision>165</cp:revision>
  <dc:subject/>
  <dc:title>Sociaal-culturele dimensie Thema 1: Cultuur en identiteit</dc:title>
</cp:coreProperties>
</file>