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101-E223-486D-A4DF-A8E89C33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48F-75C0-4B3C-A58E-56BA54D6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133-DF5B-4E31-8B77-3AC21B56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C81-F2AD-47E3-A893-616EE84B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B8D3-4253-45D7-A22D-D1C4AB19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32BE-E48D-43F1-AA63-BBD818E5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FC7B-D7A9-4105-BDEF-8DCBDB7F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A0BE-1AC2-411F-AED1-BD8726E5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199-5D50-4DE2-BF43-F284AAFB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AAEF-B107-4A26-B5F1-4D0D7B25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F017-B8A1-4E12-9F87-40688DD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166-640E-48A7-A3B2-E02847CA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9BF-D1D9-4E4A-A3EF-9786901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B25A-1F46-4319-82D1-C18D9B0A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BB1F-C7A6-4C1B-A703-1CD71AF8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0847-1BDE-4A61-8BCF-6A2FEC33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2FD-0C47-4D5E-B575-E3ED576C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62C0-77B2-44D5-84CF-E2AB6DE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A24E-F665-4FB3-A0DF-1CD43B9F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75BB-1EC6-4B38-9CCA-4D43A834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8D0A-E360-47D3-B823-A730160D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FE20-5FD7-460D-8E8E-BA9D2B8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254-19CE-49AB-9C8E-9488D61E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4732E-5A11-47FE-985D-3FBB9A6E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620C-2C66-4454-BEC7-EEA719B4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8FBD-CC5F-4CEF-8A10-D8F1EA03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F46DB-94CA-4D98-A471-ACD7FE5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D73B-8232-4A1B-8421-C9DF751E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DA8B-E3BA-4B9D-A750-78D92D61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F398-3BA4-4931-8504-37BFF1CA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22B8-1E97-4668-91F8-633A965B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C781-1AEC-45CF-B628-D1EC780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54E5-D3A3-4BC3-A9E1-F4A6993B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4DC-3ADA-4FB7-B513-6D6F007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2534E-96DA-4EB7-A9F9-460BFB06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B339-ADD4-4460-867C-434AE1C9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6C3B3-B33E-40EC-AD3E-C59DEB25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693D-CD49-4093-8E3E-7936DFEF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9C50A-1442-44EB-8262-70273FC4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55336-4EDD-4606-963E-234A702E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3A9B-0FCE-4A1A-A2C1-ACC58BF2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096D7-ED77-4A45-B295-7F4E9BFE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32ED-77D0-4B03-9C4F-7413BE57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9A9E-02E0-48C3-876F-A1E1EF66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E20-8E8E-44CC-94AC-8795B002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7CE7B-F74A-4BC8-A565-59ECD693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1115-201B-4C10-AC92-406F232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3FF04-EC1F-4CD4-A678-3518B411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CA9E9-4418-4B18-8A44-699C3C97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B82A6-4E69-4DDC-B78D-AC97BC0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24ED9-496A-4A77-9E81-E4F3A1B1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829C-3DEA-424C-A8E8-C4E7D086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CB30-9577-4555-A16F-74EDBC2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E205-4F84-4FDA-B81D-85580925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9A12-4048-4DAD-A647-633C259A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B23-EEB0-4733-927F-9F141E7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D2EAB-2094-4EAB-84E6-E8504804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F3B5-665D-4A31-B65B-FBA297E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3A381-0ECA-456E-8EE8-C2666614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6E96C-94CB-4769-AEA8-FDAA81E3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F5C7C-AE22-4E70-8968-A9A73712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D9CC-A750-46EB-B989-DC515418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63120-DB51-4E49-A58E-8C935FD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B2EE3-CD1E-4C45-AAB9-D4564DB9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209F-48C4-499D-9E5D-638C3B7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6AE3-F30B-4772-A454-25D51334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0E0-E7C5-457A-8F77-04377178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EFBB-2DA4-4929-A679-1FD7E3F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262C8-8D6F-4889-8AE5-CB24D9FA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1189-EFCD-4AD3-BC33-CE52252F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773F0-653A-4081-A441-97C36B02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F8B51-5A85-4070-BDB6-7B3F639C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AAB7-599F-44B4-ACF0-48B8B61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98B69-C15B-472E-8100-044BE8D6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90EFA-1B69-4BF7-A970-9DB87C58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B338C-0088-46B8-8276-D30023D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42BD3-A9D2-4CA5-9A69-40FE102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D78-E100-411B-9945-FDC3E9B8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1ECF3-7C99-432D-AEC2-082674BA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6FF4-0A54-472D-AADE-575BBF2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0DC2-1922-49FD-893C-26C275E8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968CB-640E-4A4B-A396-C0009C39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E9471-3272-478C-9979-E57FAEDD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1BB4D-D422-4AEC-B1B5-34EF26D7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E468-5991-44D3-BA02-96083B35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D55FF-B6FF-4968-BFB2-C7CECEB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35C12-BE7E-401E-85DC-D84DA7C8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E402-8806-444D-A13E-C7838AB9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9EE-3DBC-4A6E-A856-FCEF9942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EBD28-6869-4682-9ACC-F9922B49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0A7B0-611E-41F2-887B-444B48B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64CAB-497C-4ACE-B1E8-0912C86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0C9B-CE4F-4657-930B-FF488C46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42DE-65C6-4B78-8409-034085F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54E4F-C4B4-418D-932C-D41A5ECB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139B-88B6-4796-A07F-18871B12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DE7E-E84F-488F-8491-AA3F7D089F03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2BE-E87A-4B87-9B92-3DE0AE996C2B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C053-6D13-4EBE-A33B-6C82870B284D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ACE1-5ADF-484D-BA0A-233311570073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2704-F223-4590-BD65-9F0600030CB3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2828-9505-4187-8D0D-948F178E300F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BB1E-777F-49D0-B217-EB8E7AC8B94E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F071-AFB9-4684-9368-2BBB38AC00FB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87E-1DD9-491E-9B7E-2D6FC3A1F737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C3D3-8BB4-4ED9-8C59-C35CC619E297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925B-017F-4950-BD5D-341DD7BBC2B3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1BEA-B3E6-477C-8B9A-795E2B439050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110-E094-4D55-BE05-4DB10041EE17}" type="datetime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13FE-4AF8-460C-B9B6-0E76B96C2188}" type="slidenum">
              <a:rPr b="0" lang="nl-N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3049-D157-4226-9451-D400FE97D503}" type="datetime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42D2-CEDB-4801-A82C-2D93B6E4B011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1D11-625F-4A8A-A5BA-8D93520E815E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el 4" descr=""/>
          <p:cNvPicPr/>
          <p:nvPr/>
        </p:nvPicPr>
        <p:blipFill>
          <a:blip r:embed="rId1"/>
          <a:stretch/>
        </p:blipFill>
        <p:spPr>
          <a:xfrm>
            <a:off x="689040" y="762120"/>
            <a:ext cx="7772400" cy="1805040"/>
          </a:xfrm>
          <a:prstGeom prst="rect">
            <a:avLst/>
          </a:prstGeom>
          <a:ln w="0">
            <a:noFill/>
          </a:ln>
        </p:spPr>
      </p:pic>
      <p:sp>
        <p:nvSpPr>
          <p:cNvPr id="372" name="Ondertitel 2"/>
          <p:cNvSpPr/>
          <p:nvPr/>
        </p:nvSpPr>
        <p:spPr>
          <a:xfrm>
            <a:off x="684360" y="321300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Hoofdstuk 4: </a:t>
            </a:r>
            <a:br>
              <a:rPr sz="4100"/>
            </a:br>
            <a:r>
              <a:rPr b="1" lang="nl-NL" sz="4100" spc="-1" strike="noStrike">
                <a:solidFill>
                  <a:srgbClr val="464646"/>
                </a:solidFill>
                <a:latin typeface="Lucida Sans Unicode"/>
              </a:rPr>
              <a:t>Interview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FD7-F29F-44B8-929C-15E66FB57EBB}" type="slidenum">
              <a:rPr b="0" lang="nl-NL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C:\Users\Jorrit\Pictures\Deviant\deviant_logo.png"/>
          <p:cNvPicPr/>
          <p:nvPr/>
        </p:nvPicPr>
        <p:blipFill>
          <a:blip r:embed="rId2"/>
          <a:stretch/>
        </p:blipFill>
        <p:spPr>
          <a:xfrm>
            <a:off x="7236000" y="404640"/>
            <a:ext cx="1428480" cy="514440"/>
          </a:xfrm>
          <a:prstGeom prst="rect">
            <a:avLst/>
          </a:prstGeom>
          <a:ln w="0">
            <a:noFill/>
          </a:ln>
        </p:spPr>
      </p:pic>
      <p:pic>
        <p:nvPicPr>
          <p:cNvPr id="375" name="Afbeelding 2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5184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Op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vraagwoord (5 W’s en H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el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 informatie dan gesloten vraa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en moeilijker te verwerken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4360" y="1628640"/>
            <a:ext cx="6346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Gebruik de LSD-methode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L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luister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samenvatt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5e2d37"/>
                </a:solidFill>
                <a:latin typeface="Lucida Sans Unicode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= door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el 3" descr=""/>
          <p:cNvPicPr/>
          <p:nvPr/>
        </p:nvPicPr>
        <p:blipFill>
          <a:blip r:embed="rId1"/>
          <a:stretch/>
        </p:blipFill>
        <p:spPr>
          <a:xfrm>
            <a:off x="469800" y="1825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Lees deze vraag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Lucida Sans Unicode"/>
              </a:rPr>
              <a:t>Dus als ik het goed begrijp, wordt het arbeidscontract vandaag verstuurd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is het doel van deze vraag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Is dit een open of een gesloten vraag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Wat voor type vraag is het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jdelijke aanduiding voor voettekst 1" descr=""/>
          <p:cNvPicPr/>
          <p:nvPr/>
        </p:nvPicPr>
        <p:blipFill>
          <a:blip r:embed="rId2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  <p:sp>
        <p:nvSpPr>
          <p:cNvPr id="409" name="Rechthoek 1"/>
          <p:cNvSpPr/>
          <p:nvPr/>
        </p:nvSpPr>
        <p:spPr>
          <a:xfrm>
            <a:off x="826920" y="1916280"/>
            <a:ext cx="7490160" cy="1008000"/>
          </a:xfrm>
          <a:prstGeom prst="rect">
            <a:avLst/>
          </a:prstGeom>
          <a:noFill/>
          <a:ln w="550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is na te gaan of de vraagsteller het goed heeft begrep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gesloten 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, want je kan er met ‘ja’, of ‘nee’, op antwoord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Het type vraag is een 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controlevraag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gges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mpertinent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volgvraag (doorvraag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ol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der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flectiev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erkeuze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5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4BFE-A538-46AE-97B8-5F694D8CAD74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twoord zit in d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ntrouw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U heeft zeker geen vertrouwen in de politi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4FAF-7C47-430A-A8FF-B217D626906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uta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Klopt het dat uw vrouw bij u weg wil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634-E5AD-4B3F-9402-FDD24028C49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vra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actie op een antwoord van de geïnterview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bedoelt u daarme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BA23-CF43-45AE-AADE-6EEAF7BC7AC9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te controleren of je de geïnterviewde goed hebt begre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Begrijp ik het goed dat …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0219-55F0-4AA2-A32E-408EDFCC778A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als reactie op een andere vr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ak kritis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arom wilt u dat van me we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4369-C91F-442C-A768-FDD9301129AD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bruik beleefde taal en pas je taalgebruik a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aat elkaar uitpra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eem op gepaste wijze de beu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 bij het onderwerp, begin niet zomaar ergens anders o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a in op wat de gesprekspartner zeg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B58-F598-4365-BBA6-5C5AE0454D6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 iemand na te laten denken over zijn eigen situ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Wat denkt u dat er van u verwacht word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B168-2F78-4DE8-9A06-4F418B29D6D3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 met gegeven antwoordopt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Lucida Sans Unicode"/>
              </a:rPr>
              <a:t>Hoe tevreden bent u met onze dienst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8756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100" spc="-1" strike="noStrike">
                <a:solidFill>
                  <a:srgbClr val="000000"/>
                </a:solidFill>
                <a:latin typeface="Lucida Sans Unicode"/>
              </a:rPr>
              <a:t>Zeer ontevreden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F35-B99D-481B-A6D5-DAC0FAD77EC3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terview: vraaggesprek tussen interviewer (de vragensteller) en geïnterviewde (degene die de vragen beantwoord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41D5-85F1-42DF-B918-E76F4111C2C8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en van do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onderwerp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formeren naar een persoon: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ningen peil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871-0593-4CBC-B3CA-4FB80A33305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je van tevoren weet, hoe beter je interview verloop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FE78-795F-4DC7-A14C-ADCDBD247EE0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chrijf je vragen van tevoren 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64E-550D-4288-BEAA-7240F187BE4C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ips voor een goed intervie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reek af op een rustige ple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tel het doel van het interview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ister goed en vraag doo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ntroleer of je vraag goed is begrep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ak een opname of aanteken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dank de geïnterview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847-C13C-4D8D-AE21-FFA2AFD24C9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slot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perkte antwoordmogelijkhe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ecifieke informati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en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ie, wat, waar, waarom, hoe, wanneer, 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uitgebreid antwoor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eer ruimte voor geïnterview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ijdelijke aanduiding voor dianumm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420C-14BB-415F-92EC-CD2284981A8E}" type="slidenum">
              <a:rPr b="0" lang="nl-NL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Gesloten vrag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Begint met werkwoord (Bent u met de auto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buClr>
                <a:srgbClr val="2da2bf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Antwoord is ja of ne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oordelen: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kan op 1 manier uitgelegd word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- stuurt het gesprek een richting 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Nadeel: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je hoort alleen wat je hebt gevraagd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jdelijke aanduiding voor voettekst 1" descr=""/>
          <p:cNvPicPr/>
          <p:nvPr/>
        </p:nvPicPr>
        <p:blipFill>
          <a:blip r:embed="rId1"/>
          <a:stretch/>
        </p:blipFill>
        <p:spPr>
          <a:xfrm>
            <a:off x="109440" y="635796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6T10:11:29Z</dcterms:created>
  <dc:creator>Jan</dc:creator>
  <dc:description/>
  <dc:language>en-US</dc:language>
  <cp:lastModifiedBy>Veen, Joke van der</cp:lastModifiedBy>
  <dcterms:modified xsi:type="dcterms:W3CDTF">2017-02-28T09:36:25Z</dcterms:modified>
  <cp:revision>165</cp:revision>
  <dc:subject/>
  <dc:title>Sociaal-culturele dimensie Thema 1: Cultuur en identiteit</dc:title>
</cp:coreProperties>
</file>