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19DD-0BDF-4E45-B852-1D8DAC5E0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6CCF-0978-46DE-AA2D-A5FB3617D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B52F-57E1-49DE-9550-9E8472F7F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53E0-31B0-4E8B-8D70-8DE2C2746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6BD6F-9112-4DBB-BAB8-B5AEB517D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B6CC4-AC1C-4B1D-81DF-DAAC0BE07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B8E93-9EE7-4C9D-BF75-2FFB84A27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2F32D-D203-4B3E-A7A2-338C4435C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B85A6-94A7-4CB6-BBC9-E2CE0D474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F340C-9012-4CFA-9CC3-A606B55DA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E3386-B19A-4638-8FD5-3229166A0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10C2-8E55-44EE-909A-4C031C027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A0678-63F0-4437-B1B5-B87D7281C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BAC53-681E-4841-9A7F-64FE816AE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7F751-3976-48D9-9228-F8E729543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B61AB-84D2-41B5-A7D6-FFA2496CF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5507B-A86C-4D72-A84C-5A2452F25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1FF49-AD71-4EF3-B63D-EEEDA6101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CA245-BB2E-4FB4-8E4F-8096BC9BA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CD4BE-9189-4B8A-BB61-2E0732A5F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652A2-8602-4432-80A2-D5404463F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0BC65-7656-4F1D-AED6-5880021A8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9136-94D8-4D63-B691-73A4C2DFB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CDC89-0ED3-473F-A063-ABEAD2745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74DBF-5163-4E1B-AE8A-481F29AB0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2CB48-FFFE-4A13-BFE3-FEC5BEA4F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737A6-1F9D-49D1-BEC8-E392C3E58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1E97F-7B36-42DE-825C-3E48F1945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F1ECA-C193-485F-B4E7-568D1D03D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DD1B4-7F5F-4010-833B-2759DD19A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CFA0F-D6DA-499D-82B9-6C25F04AA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1FFD9-1C49-4CD3-978B-06F0DDCD3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C3B21-9BFA-423B-8469-7AFAD02EF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8AF2-4724-4255-8230-621BDE860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DCB14-A4E8-4DBB-8BEF-6D798199B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FF194-47AD-4E58-AFA8-8EB051AA1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13FFA-715E-4111-8AD3-BCDABAE67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F1156-D90F-4B11-9A36-5EFC353D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A0F10-BC70-4C03-9A6B-2AE222DE9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4B359-000F-426E-A091-BD03C7316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F7E7A-3285-4553-899F-213DA4905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196FC-9577-486C-9AB8-531C09911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D911B-E101-49FA-BCFD-BA318B48C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AA162E-E839-4431-9C90-A0EF0B1DA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8C89-B2AD-4948-8421-F32521BFD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2BDAB8-8862-4B6E-AA1D-A48FEEDD8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1B3922-4E80-483C-9063-E058254D4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213DF6-EA57-4C6B-B111-E65CE0E29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67EE1A-2734-4675-A20D-3A4A3977A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1B4468-9F0A-44A3-881D-B6B740BF0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A3F7BD-BA5F-4A15-9BDA-16FDEE42E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D49551-94DA-4762-8035-34F94DE16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DF8059-C173-454E-9AA8-FFA54B706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B8A9B2-A98B-49B5-9871-B262EC6F1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34F7FF-DF38-41FB-988C-8F1F92252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8834-78AF-4183-848F-C8D5CA67A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EB877B-3E8F-4B2D-8F2B-193DCD000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605079-00C1-4FB6-9F84-45935D76A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82055D-D5EE-4D2C-AC86-97EBEC242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2334BF-79C5-4867-821A-F1D3E60CF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47C73C-5448-4DA3-8930-4122B9D49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4288EA-6DEC-4B01-A409-E63ACA565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05B19D-3EC8-4184-9887-BDDF1E75E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8678A0-9BDA-4B5C-8611-FFC1FE831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429CE4-BE84-4E65-803D-2B6AA2EAD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5F4D49-C916-40B4-8A7C-9DF24BB44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431E-0D0B-424E-AE47-56933E38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74984C-2725-480F-8F11-F5EC47FD8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889386-C790-437C-A08A-9553C2536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351568-12B5-4473-85DC-E8706E5D0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0C198B-001B-44B3-8944-6241C8832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C63978-AC5F-4E06-A3D2-15096D89C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D98E74-D09F-4FBE-AE8E-BAFFDDF9C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26AE4E-0610-4FBA-81D0-35632DFE2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13C4B7-30E0-4E0B-BFF8-AD4428E56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AB5AC0-1C28-460C-965C-7F84FD756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6A39F4-F7DA-4FD1-9AF6-D05FE60E3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CF7A-4C27-4C37-878A-971643D05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00C322-6EBE-4DE9-BE96-7F07AE575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ECCC6E-5A1F-4063-AD7A-B880522A3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477746-A2EE-4E3A-8013-81F308588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504836-AE3F-4C5F-8D32-A6602CCC3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723CA8-338A-4698-B1F2-07E14C2FB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F24AB1-E21E-4665-86D9-6CAE83250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7E0DA1-5A74-4989-9C91-1C0017CDD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97798A-7F31-4025-96F7-64C49DE25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686879-CF13-42A2-9BBE-722C265AD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C7683A-A1E6-4ADE-8340-D4F760BF6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629D-DC01-4EC7-AEDB-F559A9496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2CF30B-BAFE-49FF-8DB2-BD64FE1CF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0A1690-BD35-4544-8382-068D30230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0C9DED-1E8C-478C-9A8E-AE7C2D982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2EFF0C-DEBE-48D0-9024-5500A24F7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0778F5-D926-43CB-9C5C-902767ECB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B7DF12-3FEC-48DA-A866-DF1A2793F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940CF3-3E20-48D9-A15B-B4EEC9E25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86207-4AC7-4743-A4F2-92AE0B675F89}" type="datetime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29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DD665-1030-4872-B356-43C1F4FCBA72}" type="slidenum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9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6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7"/>
            <p:cNvSpPr/>
            <p:nvPr/>
          </p:nvSpPr>
          <p:spPr>
            <a:xfrm>
              <a:off x="45360" y="5236920"/>
              <a:ext cx="9092880" cy="78912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0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52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11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5B95E-ECD7-4248-864A-7E020A946F45}" type="datetime">
              <a:rPr b="0" lang="nl-NL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29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B689C-0BED-49E8-9AFE-A64B5E04897F}" type="slidenum">
              <a:rPr b="0" lang="nl-NL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6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7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D59FB-88D4-49C5-B8A9-61762119F651}" type="datetime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29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6F34A-627B-4335-868E-73427353999C}" type="slidenum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2DEA4-A24F-4B25-B610-6EC133B04D46}" type="datetime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29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B57BE-A659-4968-86FF-C0CD274E1541}" type="slidenum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A2AE4-9ED9-498B-8FF2-E3B969EC765F}" type="datetime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29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44C13-3C0E-4ECA-B5F7-0AF3D31A6CAF}" type="slidenum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EDAD2-E89A-4589-A73A-77C117F667CC}" type="datetime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29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D17BC-DE69-4884-8117-1591AF6A9BB0}" type="slidenum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6E3D2-D2F7-42D2-B360-FEE6A9A068B8}" type="datetime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29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B0CB8-7975-467B-A1CF-A640F36C73C4}" type="slidenum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7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8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9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9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0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1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12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62928-B7A5-4360-8525-0F3884191901}" type="datetime">
              <a:rPr b="0" lang="nl-NL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29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B1198-0DF2-4086-825C-6E6BE8E8B79E}" type="slidenum">
              <a:rPr b="0" lang="nl-NL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12325-C0A9-46AC-92EB-8DDE5C3A2B87}" type="slidenum">
              <a:rPr b="0" lang="nl-NL" sz="1000" spc="-1" strike="noStrike">
                <a:solidFill>
                  <a:srgbClr val="ffffff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1" name="Titel 4" descr=""/>
          <p:cNvPicPr/>
          <p:nvPr/>
        </p:nvPicPr>
        <p:blipFill>
          <a:blip r:embed="rId1"/>
          <a:stretch/>
        </p:blipFill>
        <p:spPr>
          <a:xfrm>
            <a:off x="689040" y="762120"/>
            <a:ext cx="7772400" cy="1805040"/>
          </a:xfrm>
          <a:prstGeom prst="rect">
            <a:avLst/>
          </a:prstGeom>
          <a:ln w="0">
            <a:noFill/>
          </a:ln>
        </p:spPr>
      </p:pic>
      <p:sp>
        <p:nvSpPr>
          <p:cNvPr id="372" name="Ondertitel 2"/>
          <p:cNvSpPr/>
          <p:nvPr/>
        </p:nvSpPr>
        <p:spPr>
          <a:xfrm>
            <a:off x="684360" y="3213000"/>
            <a:ext cx="77724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Hoofdstuk 4: </a:t>
            </a:r>
            <a:br>
              <a:rPr sz="4100"/>
            </a:br>
            <a:r>
              <a:rPr b="1" lang="nl-NL" sz="4100" spc="-1" strike="noStrike">
                <a:solidFill>
                  <a:srgbClr val="464646"/>
                </a:solidFill>
                <a:latin typeface="Lucida Sans Unicode"/>
              </a:rPr>
              <a:t>Interview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FCCD4-CE5A-40DD-A33E-30E6E1126854}" type="slidenum">
              <a:rPr b="0" lang="nl-NL" sz="1000" spc="-1" strike="noStrike">
                <a:solidFill>
                  <a:srgbClr val="ffffff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Picture 2" descr="C:\Users\Jorrit\Pictures\Deviant\deviant_logo.png"/>
          <p:cNvPicPr/>
          <p:nvPr/>
        </p:nvPicPr>
        <p:blipFill>
          <a:blip r:embed="rId2"/>
          <a:stretch/>
        </p:blipFill>
        <p:spPr>
          <a:xfrm>
            <a:off x="7236000" y="404640"/>
            <a:ext cx="1428480" cy="514440"/>
          </a:xfrm>
          <a:prstGeom prst="rect">
            <a:avLst/>
          </a:prstGeom>
          <a:ln w="0">
            <a:noFill/>
          </a:ln>
        </p:spPr>
      </p:pic>
      <p:pic>
        <p:nvPicPr>
          <p:cNvPr id="375" name="Afbeelding 2" descr=""/>
          <p:cNvPicPr/>
          <p:nvPr/>
        </p:nvPicPr>
        <p:blipFill>
          <a:blip r:embed="rId3"/>
          <a:stretch/>
        </p:blipFill>
        <p:spPr>
          <a:xfrm>
            <a:off x="611280" y="836640"/>
            <a:ext cx="518472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68360" y="1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57200" y="1600200"/>
            <a:ext cx="822960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Lucida Sans Unicode"/>
              </a:rPr>
              <a:t>Open vragen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- Begint met vraagwoord (5 W’s en H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Voordeel: 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meer informatie dan gesloten vraag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Nadeel: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antwoorden moeilijker te verwerken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Tijdelijke aanduiding voor voettekst 1" descr=""/>
          <p:cNvPicPr/>
          <p:nvPr/>
        </p:nvPicPr>
        <p:blipFill>
          <a:blip r:embed="rId1"/>
          <a:stretch/>
        </p:blipFill>
        <p:spPr>
          <a:xfrm>
            <a:off x="109440" y="6357960"/>
            <a:ext cx="8485200" cy="3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68360" y="1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684360" y="1628640"/>
            <a:ext cx="63468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Gebruik de LSD-methode!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5e2d37"/>
                </a:solidFill>
                <a:latin typeface="Lucida Sans Unicode"/>
              </a:rPr>
              <a:t>L 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= luisteren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5e2d37"/>
                </a:solidFill>
                <a:latin typeface="Lucida Sans Unicode"/>
              </a:rPr>
              <a:t>S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= samenvatten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5e2d37"/>
                </a:solidFill>
                <a:latin typeface="Lucida Sans Unicode"/>
              </a:rPr>
              <a:t>D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= doorvragen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5" name="Tijdelijke aanduiding voor voettekst 1" descr=""/>
          <p:cNvPicPr/>
          <p:nvPr/>
        </p:nvPicPr>
        <p:blipFill>
          <a:blip r:embed="rId1"/>
          <a:stretch/>
        </p:blipFill>
        <p:spPr>
          <a:xfrm>
            <a:off x="109440" y="6357960"/>
            <a:ext cx="8485200" cy="3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Titel 3" descr=""/>
          <p:cNvPicPr/>
          <p:nvPr/>
        </p:nvPicPr>
        <p:blipFill>
          <a:blip r:embed="rId1"/>
          <a:stretch/>
        </p:blipFill>
        <p:spPr>
          <a:xfrm>
            <a:off x="469800" y="18252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Lees deze vraag: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Lucida Sans Unicode"/>
              </a:rPr>
              <a:t>Dus als ik het goed begrijp, wordt het arbeidscontract vandaag verstuurd?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- Wat is het doel van deze vraag?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- Is dit een open of een gesloten vraag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- Wat voor type vraag is het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8" name="Tijdelijke aanduiding voor voettekst 1" descr=""/>
          <p:cNvPicPr/>
          <p:nvPr/>
        </p:nvPicPr>
        <p:blipFill>
          <a:blip r:embed="rId2"/>
          <a:stretch/>
        </p:blipFill>
        <p:spPr>
          <a:xfrm>
            <a:off x="109440" y="6357960"/>
            <a:ext cx="8485200" cy="366840"/>
          </a:xfrm>
          <a:prstGeom prst="rect">
            <a:avLst/>
          </a:prstGeom>
          <a:ln w="0">
            <a:noFill/>
          </a:ln>
        </p:spPr>
      </p:pic>
      <p:sp>
        <p:nvSpPr>
          <p:cNvPr id="409" name="Rechthoek 1"/>
          <p:cNvSpPr/>
          <p:nvPr/>
        </p:nvSpPr>
        <p:spPr>
          <a:xfrm>
            <a:off x="826920" y="1916280"/>
            <a:ext cx="7490160" cy="1008000"/>
          </a:xfrm>
          <a:prstGeom prst="rect">
            <a:avLst/>
          </a:prstGeom>
          <a:noFill/>
          <a:ln w="55080">
            <a:solidFill>
              <a:srgbClr val="5e2d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68360" y="1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Het </a:t>
            </a:r>
            <a:r>
              <a:rPr b="1" lang="nl-NL" sz="2400" spc="-1" strike="noStrike">
                <a:solidFill>
                  <a:srgbClr val="000000"/>
                </a:solidFill>
                <a:latin typeface="Lucida Sans Unicode"/>
              </a:rPr>
              <a:t>doel</a:t>
            </a: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 is na te gaan of de vraagsteller het goed heeft begrepen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Het is een </a:t>
            </a:r>
            <a:r>
              <a:rPr b="1" lang="nl-NL" sz="2400" spc="-1" strike="noStrike">
                <a:solidFill>
                  <a:srgbClr val="000000"/>
                </a:solidFill>
                <a:latin typeface="Lucida Sans Unicode"/>
              </a:rPr>
              <a:t>gesloten vraag</a:t>
            </a: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, want je kan er met ‘ja’, of ‘nee’, op antwoorden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Het type vraag is een </a:t>
            </a:r>
            <a:r>
              <a:rPr b="1" lang="nl-NL" sz="2400" spc="-1" strike="noStrike">
                <a:solidFill>
                  <a:srgbClr val="000000"/>
                </a:solidFill>
                <a:latin typeface="Lucida Sans Unicode"/>
              </a:rPr>
              <a:t>controlevraag</a:t>
            </a: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Tijdelijke aanduiding voor voettekst 1" descr=""/>
          <p:cNvPicPr/>
          <p:nvPr/>
        </p:nvPicPr>
        <p:blipFill>
          <a:blip r:embed="rId1"/>
          <a:stretch/>
        </p:blipFill>
        <p:spPr>
          <a:xfrm>
            <a:off x="109440" y="6357960"/>
            <a:ext cx="8485200" cy="3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Suggestieve vraa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Impertinente vraa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ervolgvraag (doorvraag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Controlevraa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edervraa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Reflectieve vraa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Meerkeuzevraa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4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15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455C0-0140-418C-9889-311BAA7E6661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Antwoord zit in de vraa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antrouwen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oorbeeld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300" spc="-1" strike="noStrike">
                <a:solidFill>
                  <a:srgbClr val="000000"/>
                </a:solidFill>
                <a:latin typeface="Lucida Sans Unicode"/>
              </a:rPr>
              <a:t>U heeft zeker geen vertrouwen in de politie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18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9D951-9096-4D9D-949C-DDD3D5A17303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Brutaal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oorbeeld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300" spc="-1" strike="noStrike">
                <a:solidFill>
                  <a:srgbClr val="000000"/>
                </a:solidFill>
                <a:latin typeface="Lucida Sans Unicode"/>
              </a:rPr>
              <a:t>Klopt het dat uw vrouw bij u weg wil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0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21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9FF1D-1F0D-4600-A132-90FC4BAA7938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oorvrag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Reactie op een antwoord van de geïnterviewd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oorbeeld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300" spc="-1" strike="noStrike">
                <a:solidFill>
                  <a:srgbClr val="000000"/>
                </a:solidFill>
                <a:latin typeface="Lucida Sans Unicode"/>
              </a:rPr>
              <a:t>Wat bedoelt u daarmee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3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24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5AC44-BBC4-4337-8E03-CCB818A56CC4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Gesloten vraa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Om te controleren of je de geïnterviewde goed hebt begrep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oorbeeld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300" spc="-1" strike="noStrike">
                <a:solidFill>
                  <a:srgbClr val="000000"/>
                </a:solidFill>
                <a:latin typeface="Lucida Sans Unicode"/>
              </a:rPr>
              <a:t>Begrijp ik het goed dat …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27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E0D67-90A5-4223-BB60-B5ED9700F1A1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raag als reactie op een andere vraa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aak kritisch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oorbeeld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300" spc="-1" strike="noStrike">
                <a:solidFill>
                  <a:srgbClr val="000000"/>
                </a:solidFill>
                <a:latin typeface="Lucida Sans Unicode"/>
              </a:rPr>
              <a:t>Waarom wilt u dat van me weten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9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30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2FD7A-DB8C-4177-AB8C-C37CAF2114F2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Gebruik beleefde taal en pas je taalgebruik aa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Laat elkaar uitprat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Neem op gepaste wijze de beur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Blijf bij het onderwerp, begin niet zomaar ergens anders ov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Ga in op wat de gesprekspartner zeg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78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EAF9B-B760-428B-868E-A7AFA84BA2B4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Om iemand na te laten denken over zijn eigen situati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oorbeeld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300" spc="-1" strike="noStrike">
                <a:solidFill>
                  <a:srgbClr val="000000"/>
                </a:solidFill>
                <a:latin typeface="Lucida Sans Unicode"/>
              </a:rPr>
              <a:t>Wat denkt u dat er van u verwacht wordt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33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00C4B-5741-4DE6-B1AA-EB72D3CD9E32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raag met gegeven antwoordopties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oorbeeld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300" spc="-1" strike="noStrike">
                <a:solidFill>
                  <a:srgbClr val="000000"/>
                </a:solidFill>
                <a:latin typeface="Lucida Sans Unicode"/>
              </a:rPr>
              <a:t>Hoe tevreden bent u met onze diensten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087560" indent="-457200">
              <a:spcBef>
                <a:spcPts val="349"/>
              </a:spcBef>
              <a:buClr>
                <a:srgbClr val="da1f28"/>
              </a:buClr>
              <a:buFont typeface="Lucida Sans Unicode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100" spc="-1" strike="noStrike">
                <a:solidFill>
                  <a:srgbClr val="000000"/>
                </a:solidFill>
                <a:latin typeface="Lucida Sans Unicode"/>
              </a:rPr>
              <a:t>Zeer tevreden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087560" indent="-457200">
              <a:spcBef>
                <a:spcPts val="349"/>
              </a:spcBef>
              <a:buClr>
                <a:srgbClr val="da1f28"/>
              </a:buClr>
              <a:buFont typeface="Lucida Sans Unicode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100" spc="-1" strike="noStrike">
                <a:solidFill>
                  <a:srgbClr val="000000"/>
                </a:solidFill>
                <a:latin typeface="Lucida Sans Unicode"/>
              </a:rPr>
              <a:t>Tevreden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087560" indent="-457200">
              <a:spcBef>
                <a:spcPts val="349"/>
              </a:spcBef>
              <a:buClr>
                <a:srgbClr val="da1f28"/>
              </a:buClr>
              <a:buFont typeface="Lucida Sans Unicode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100" spc="-1" strike="noStrike">
                <a:solidFill>
                  <a:srgbClr val="000000"/>
                </a:solidFill>
                <a:latin typeface="Lucida Sans Unicode"/>
              </a:rPr>
              <a:t>Ontevreden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087560" indent="-457200">
              <a:spcBef>
                <a:spcPts val="349"/>
              </a:spcBef>
              <a:buClr>
                <a:srgbClr val="da1f28"/>
              </a:buClr>
              <a:buFont typeface="Lucida Sans Unicode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100" spc="-1" strike="noStrike">
                <a:solidFill>
                  <a:srgbClr val="000000"/>
                </a:solidFill>
                <a:latin typeface="Lucida Sans Unicode"/>
              </a:rPr>
              <a:t>Zeer ontevreden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5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36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0A1D7-5341-4F11-BBC3-965FF63B9B24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Interview: vraaggesprek tussen interviewer (de vragensteller) en geïnterviewde (degene die de vragen beantwoordt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81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F6EEE-975E-4FBD-8334-9BCBDFD9A3D1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oorbeelden van doele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Informeren naar een onderwerp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Informeren naar een persoon: de geïnterviewde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Meningen peile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84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A97AF-25F6-49A1-A913-1E0E0F7BE8DA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oe meer je van tevoren weet, hoe beter je interview verloop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87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E098F-88D5-44D0-8A8B-BFD614A2BC0E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Schrijf je vragen van tevoren op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90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A9BA3-F46D-42D9-92ED-AEA554A033C6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Tips voor een goed interview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Spreek af op een rustige plek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Vertel het doel van het interview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Luister goed en vraag door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Controleer of je vraag goed is begrepe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Maak een opname of aantekeninge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Bedank de geïnterviewde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93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A4177-8A2F-4BF5-8B7B-7C0050409CB1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Gesloten vrage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beperkte antwoordmogelijkhed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specifieke informati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Open vrage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wie, wat, waar, waarom, hoe, wanneer, etc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uitgebreid antwoor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meer ruimte voor geïnterviewd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96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0834D-1000-4C64-88A0-FC2A4FE388BF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68360" y="1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7200" y="1600200"/>
            <a:ext cx="822960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Lucida Sans Unicode"/>
              </a:rPr>
              <a:t>Gesloten vragen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- Begint met werkwoord (Bent u met de auto?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buClr>
                <a:srgbClr val="2da2bf"/>
              </a:buClr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Antwoord is ja of ne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Voordelen: 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- kan op 1 manier uitgelegd worde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- stuurt het gesprek een richting op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Nadeel: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je hoort alleen wat je hebt gevraagd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9" name="Tijdelijke aanduiding voor voettekst 1" descr=""/>
          <p:cNvPicPr/>
          <p:nvPr/>
        </p:nvPicPr>
        <p:blipFill>
          <a:blip r:embed="rId1"/>
          <a:stretch/>
        </p:blipFill>
        <p:spPr>
          <a:xfrm>
            <a:off x="109440" y="6357960"/>
            <a:ext cx="8485200" cy="3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6T10:11:29Z</dcterms:created>
  <dc:creator>Jan</dc:creator>
  <dc:description/>
  <dc:language>en-US</dc:language>
  <cp:lastModifiedBy>Veen, Joke van der</cp:lastModifiedBy>
  <dcterms:modified xsi:type="dcterms:W3CDTF">2017-02-28T09:36:25Z</dcterms:modified>
  <cp:revision>165</cp:revision>
  <dc:subject/>
  <dc:title>Sociaal-culturele dimensie Thema 1: Cultuur en identiteit</dc:title>
</cp:coreProperties>
</file>