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81.xml.rels" ContentType="application/vnd.openxmlformats-package.relationships+xml"/>
  <Override PartName="/ppt/slideMasters/_rels/slideMaster77.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73.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4.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8.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9.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79.xml" ContentType="application/vnd.openxmlformats-officedocument.presentationml.slideMaster+xml"/>
  <Override PartName="/ppt/slideMasters/slideMaster67.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61.xml" ContentType="application/vnd.openxmlformats-officedocument.theme+xml"/>
  <Override PartName="/ppt/theme/theme19.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78.xml" ContentType="application/vnd.openxmlformats-officedocument.theme+xml"/>
  <Override PartName="/ppt/theme/theme77.xml" ContentType="application/vnd.openxmlformats-officedocument.theme+xml"/>
  <Override PartName="/ppt/theme/theme76.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69.xml" ContentType="application/vnd.openxmlformats-officedocument.theme+xml"/>
  <Override PartName="/ppt/theme/theme68.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965.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95.xml.rels" ContentType="application/vnd.openxmlformats-package.relationships+xml"/>
  <Override PartName="/ppt/slideLayouts/_rels/slideLayout943.xml.rels" ContentType="application/vnd.openxmlformats-package.relationships+xml"/>
  <Override PartName="/ppt/slideLayouts/_rels/slideLayout737.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267.xml.rels" ContentType="application/vnd.openxmlformats-package.relationships+xml"/>
  <Override PartName="/ppt/slideLayouts/_rels/slideLayout70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942.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4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0.xml.rels" ContentType="application/vnd.openxmlformats-package.relationships+xml"/>
  <Override PartName="/ppt/slideLayouts/_rels/slideLayout844.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845.xml.rels" ContentType="application/vnd.openxmlformats-package.relationships+xml"/>
  <Override PartName="/ppt/slideLayouts/_rels/slideLayout345.xml.rels" ContentType="application/vnd.openxmlformats-package.relationships+xml"/>
  <Override PartName="/ppt/slideLayouts/_rels/slideLayout552.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356.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98.xml.rels" ContentType="application/vnd.openxmlformats-package.relationships+xml"/>
  <Override PartName="/ppt/slideLayouts/_rels/slideLayout398.xml.rels" ContentType="application/vnd.openxmlformats-package.relationships+xml"/>
  <Override PartName="/ppt/slideLayouts/_rels/slideLayout523.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40.xml.rels" ContentType="application/vnd.openxmlformats-package.relationships+xml"/>
  <Override PartName="/ppt/slideLayouts/_rels/slideLayout69.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732.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89.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49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94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20.xml.rels" ContentType="application/vnd.openxmlformats-package.relationships+xml"/>
  <Override PartName="/ppt/slideLayouts/_rels/slideLayout21.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9.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498.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58.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7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522.xml.rels" ContentType="application/vnd.openxmlformats-package.relationships+xml"/>
  <Override PartName="/ppt/slideLayouts/_rels/slideLayout42.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98.xml.rels" ContentType="application/vnd.openxmlformats-package.relationships+xml"/>
  <Override PartName="/ppt/slideLayouts/_rels/slideLayout951.xml.rels" ContentType="application/vnd.openxmlformats-package.relationships+xml"/>
  <Override PartName="/ppt/slideLayouts/_rels/slideLayout451.xml.rels" ContentType="application/vnd.openxmlformats-package.relationships+xml"/>
  <Override PartName="/ppt/slideLayouts/_rels/slideLayout45.xml.rels" ContentType="application/vnd.openxmlformats-package.relationships+xml"/>
  <Override PartName="/ppt/slideLayouts/_rels/slideLayout295.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76.xml.rels" ContentType="application/vnd.openxmlformats-package.relationships+xml"/>
  <Override PartName="/ppt/slideLayouts/_rels/slideLayout504.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490.xml.rels" ContentType="application/vnd.openxmlformats-package.relationships+xml"/>
  <Override PartName="/ppt/slideLayouts/_rels/slideLayout8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14.xml.rels" ContentType="application/vnd.openxmlformats-package.relationships+xml"/>
  <Override PartName="/ppt/slideLayouts/_rels/slideLayout289.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60.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487.xml.rels" ContentType="application/vnd.openxmlformats-package.relationships+xml"/>
  <Override PartName="/ppt/slideLayouts/_rels/slideLayout72.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1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5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894.xml.rels" ContentType="application/vnd.openxmlformats-package.relationships+xml"/>
  <Override PartName="/ppt/slideLayouts/_rels/slideLayout394.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38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90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96.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412.xml.rels" ContentType="application/vnd.openxmlformats-package.relationships+xml"/>
  <Override PartName="/ppt/slideLayouts/_rels/slideLayout9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10.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0.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471.xml.rels" ContentType="application/vnd.openxmlformats-package.relationships+xml"/>
  <Override PartName="/ppt/slideLayouts/_rels/slideLayout971.xml.rels" ContentType="application/vnd.openxmlformats-package.relationships+xml"/>
  <Override PartName="/ppt/slideLayouts/_rels/slideLayout11.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935.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874.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93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8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60.xml.rels" ContentType="application/vnd.openxmlformats-package.relationships+xml"/>
  <Override PartName="/ppt/slideLayouts/_rels/slideLayout960.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928.xml.rels" ContentType="application/vnd.openxmlformats-package.relationships+xml"/>
  <Override PartName="/ppt/slideLayouts/_rels/slideLayout634.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9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926.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25.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96.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595.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953.xml.rels" ContentType="application/vnd.openxmlformats-package.relationships+xml"/>
  <Override PartName="/ppt/slideLayouts/_rels/slideLayout952.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589.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571.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45.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946.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947.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949.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955.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5.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3.xml" ContentType="application/vnd.openxmlformats-officedocument.presentationml.slideLayout+xml"/>
  <Override PartName="/ppt/slideLayouts/slideLayout929.xml" ContentType="application/vnd.openxmlformats-officedocument.presentationml.slideLayout+xml"/>
  <Override PartName="/ppt/slideLayouts/slideLayout801.xml" ContentType="application/vnd.openxmlformats-officedocument.presentationml.slideLayout+xml"/>
  <Override PartName="/ppt/slideLayouts/slideLayout626.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7.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2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72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810.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635.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73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3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22.xml" ContentType="application/vnd.openxmlformats-officedocument.presentationml.slideLayout+xml"/>
  <Override PartName="/ppt/slideLayouts/slideLayout915.xml" ContentType="application/vnd.openxmlformats-officedocument.presentationml.slideLayout+xml"/>
  <Override PartName="/ppt/slideLayouts/slideLayout612.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23.xml" ContentType="application/vnd.openxmlformats-officedocument.presentationml.slideLayout+xml"/>
  <Override PartName="/ppt/slideLayouts/slideLayout916.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733.xml" ContentType="application/vnd.openxmlformats-officedocument.presentationml.slideLayout+xml"/>
  <Override PartName="/ppt/slideLayouts/slideLayout926.xml" ContentType="application/vnd.openxmlformats-officedocument.presentationml.slideLayout+xml"/>
  <Override PartName="/ppt/slideLayouts/slideLayout760.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761.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4.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42.xml" ContentType="application/vnd.openxmlformats-officedocument.presentationml.slideLayout+xml"/>
  <Override PartName="/ppt/slideLayouts/slideLayout908.xml" ContentType="application/vnd.openxmlformats-officedocument.presentationml.slideLayout+xml"/>
  <Override PartName="/ppt/slideLayouts/slideLayout605.xml" ContentType="application/vnd.openxmlformats-officedocument.presentationml.slideLayout+xml"/>
  <Override PartName="/ppt/slideLayouts/slideLayout935.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762.xml" ContentType="application/vnd.openxmlformats-officedocument.presentationml.slideLayout+xml"/>
  <Override PartName="/ppt/slideLayouts/slideLayout928.xml" ContentType="application/vnd.openxmlformats-officedocument.presentationml.slideLayout+xml"/>
  <Override PartName="/ppt/slideLayouts/slideLayout800.xml" ContentType="application/vnd.openxmlformats-officedocument.presentationml.slideLayout+xml"/>
  <Override PartName="/ppt/slideLayouts/slideLayout625.xml" ContentType="application/vnd.openxmlformats-officedocument.presentationml.slideLayout+xml"/>
  <Override PartName="/ppt/slideLayouts/slideLayout850.xml" ContentType="application/vnd.openxmlformats-officedocument.presentationml.slideLayout+xml"/>
  <Override PartName="/ppt/slideLayouts/slideLayout717.xml" ContentType="application/vnd.openxmlformats-officedocument.presentationml.slideLayout+xml"/>
  <Override PartName="/ppt/slideLayouts/slideLayout961.xml" ContentType="application/vnd.openxmlformats-officedocument.presentationml.slideLayout+xml"/>
  <Override PartName="/ppt/slideLayouts/slideLayout962.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963.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952.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64.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35.xml" ContentType="application/vnd.openxmlformats-officedocument.presentationml.slideLayout+xml"/>
  <Override PartName="/ppt/slideLayouts/slideLayout726.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616.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736.xml" ContentType="application/vnd.openxmlformats-officedocument.presentationml.slideLayout+xml"/>
  <Override PartName="/ppt/slideLayouts/slideLayout727.xml" ContentType="application/vnd.openxmlformats-officedocument.presentationml.slideLayout+xml"/>
  <Override PartName="/ppt/slideLayouts/slideLayout72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96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951.xml" ContentType="application/vnd.openxmlformats-officedocument.presentationml.slideLayout+xml"/>
  <Override PartName="/ppt/slideLayouts/slideLayout912.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15.xml" ContentType="application/vnd.openxmlformats-officedocument.presentationml.slideLayout+xml"/>
  <Override PartName="/ppt/slideLayouts/slideLayout950.xml" ContentType="application/vnd.openxmlformats-officedocument.presentationml.slideLayout+xml"/>
  <Override PartName="/ppt/slideLayouts/slideLayout911.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910.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94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940.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Lst>
  <p:notesMasterIdLst>
    <p:notesMasterId r:id="rId83"/>
  </p:notesMasterIdLst>
  <p:sldIdLst>
    <p:sldId id="256" r:id="rId84"/>
    <p:sldId id="257" r:id="rId85"/>
    <p:sldId id="258" r:id="rId86"/>
    <p:sldId id="259" r:id="rId87"/>
    <p:sldId id="260" r:id="rId88"/>
    <p:sldId id="261" r:id="rId89"/>
    <p:sldId id="262" r:id="rId90"/>
    <p:sldId id="263" r:id="rId91"/>
    <p:sldId id="264" r:id="rId92"/>
    <p:sldId id="265" r:id="rId93"/>
    <p:sldId id="266" r:id="rId94"/>
    <p:sldId id="267" r:id="rId95"/>
    <p:sldId id="268" r:id="rId96"/>
    <p:sldId id="269" r:id="rId97"/>
    <p:sldId id="270" r:id="rId98"/>
    <p:sldId id="271" r:id="rId99"/>
    <p:sldId id="272" r:id="rId100"/>
    <p:sldId id="273" r:id="rId101"/>
    <p:sldId id="274" r:id="rId102"/>
    <p:sldId id="275" r:id="rId103"/>
    <p:sldId id="276" r:id="rId104"/>
    <p:sldId id="277" r:id="rId105"/>
    <p:sldId id="278" r:id="rId106"/>
    <p:sldId id="279" r:id="rId107"/>
    <p:sldId id="280" r:id="rId108"/>
    <p:sldId id="281" r:id="rId109"/>
    <p:sldId id="282" r:id="rId110"/>
    <p:sldId id="283" r:id="rId111"/>
    <p:sldId id="284" r:id="rId112"/>
    <p:sldId id="285" r:id="rId113"/>
    <p:sldId id="286" r:id="rId114"/>
    <p:sldId id="287" r:id="rId115"/>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notesMaster" Target="notesMasters/notesMaster1.xml"/><Relationship Id="rId84" Type="http://schemas.openxmlformats.org/officeDocument/2006/relationships/slide" Target="slides/slide1.xml"/><Relationship Id="rId85" Type="http://schemas.openxmlformats.org/officeDocument/2006/relationships/slide" Target="slides/slide2.xml"/><Relationship Id="rId86" Type="http://schemas.openxmlformats.org/officeDocument/2006/relationships/slide" Target="slides/slide3.xml"/><Relationship Id="rId87" Type="http://schemas.openxmlformats.org/officeDocument/2006/relationships/slide" Target="slides/slide4.xml"/><Relationship Id="rId88" Type="http://schemas.openxmlformats.org/officeDocument/2006/relationships/slide" Target="slides/slide5.xml"/><Relationship Id="rId89" Type="http://schemas.openxmlformats.org/officeDocument/2006/relationships/slide" Target="slides/slide6.xml"/><Relationship Id="rId90" Type="http://schemas.openxmlformats.org/officeDocument/2006/relationships/slide" Target="slides/slide7.xml"/><Relationship Id="rId91" Type="http://schemas.openxmlformats.org/officeDocument/2006/relationships/slide" Target="slides/slide8.xml"/><Relationship Id="rId92" Type="http://schemas.openxmlformats.org/officeDocument/2006/relationships/slide" Target="slides/slide9.xml"/><Relationship Id="rId93" Type="http://schemas.openxmlformats.org/officeDocument/2006/relationships/slide" Target="slides/slide10.xml"/><Relationship Id="rId94" Type="http://schemas.openxmlformats.org/officeDocument/2006/relationships/slide" Target="slides/slide11.xml"/><Relationship Id="rId95" Type="http://schemas.openxmlformats.org/officeDocument/2006/relationships/slide" Target="slides/slide12.xml"/><Relationship Id="rId96" Type="http://schemas.openxmlformats.org/officeDocument/2006/relationships/slide" Target="slides/slide13.xml"/><Relationship Id="rId97" Type="http://schemas.openxmlformats.org/officeDocument/2006/relationships/slide" Target="slides/slide14.xml"/><Relationship Id="rId98" Type="http://schemas.openxmlformats.org/officeDocument/2006/relationships/slide" Target="slides/slide15.xml"/><Relationship Id="rId99" Type="http://schemas.openxmlformats.org/officeDocument/2006/relationships/slide" Target="slides/slide16.xml"/><Relationship Id="rId100" Type="http://schemas.openxmlformats.org/officeDocument/2006/relationships/slide" Target="slides/slide17.xml"/><Relationship Id="rId101" Type="http://schemas.openxmlformats.org/officeDocument/2006/relationships/slide" Target="slides/slide18.xml"/><Relationship Id="rId102" Type="http://schemas.openxmlformats.org/officeDocument/2006/relationships/slide" Target="slides/slide19.xml"/><Relationship Id="rId103" Type="http://schemas.openxmlformats.org/officeDocument/2006/relationships/slide" Target="slides/slide20.xml"/><Relationship Id="rId104" Type="http://schemas.openxmlformats.org/officeDocument/2006/relationships/slide" Target="slides/slide21.xml"/><Relationship Id="rId105" Type="http://schemas.openxmlformats.org/officeDocument/2006/relationships/slide" Target="slides/slide22.xml"/><Relationship Id="rId106" Type="http://schemas.openxmlformats.org/officeDocument/2006/relationships/slide" Target="slides/slide23.xml"/><Relationship Id="rId107" Type="http://schemas.openxmlformats.org/officeDocument/2006/relationships/slide" Target="slides/slide24.xml"/><Relationship Id="rId108" Type="http://schemas.openxmlformats.org/officeDocument/2006/relationships/slide" Target="slides/slide25.xml"/><Relationship Id="rId109" Type="http://schemas.openxmlformats.org/officeDocument/2006/relationships/slide" Target="slides/slide26.xml"/><Relationship Id="rId110" Type="http://schemas.openxmlformats.org/officeDocument/2006/relationships/slide" Target="slides/slide27.xml"/><Relationship Id="rId111" Type="http://schemas.openxmlformats.org/officeDocument/2006/relationships/slide" Target="slides/slide28.xml"/><Relationship Id="rId112" Type="http://schemas.openxmlformats.org/officeDocument/2006/relationships/slide" Target="slides/slide29.xml"/><Relationship Id="rId113" Type="http://schemas.openxmlformats.org/officeDocument/2006/relationships/slide" Target="slides/slide30.xml"/><Relationship Id="rId114" Type="http://schemas.openxmlformats.org/officeDocument/2006/relationships/slide" Target="slides/slide31.xml"/><Relationship Id="rId115" Type="http://schemas.openxmlformats.org/officeDocument/2006/relationships/slide" Target="slides/slide3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
          <p:cNvSpPr/>
          <p:nvPr/>
        </p:nvSpPr>
        <p:spPr>
          <a:xfrm>
            <a:off x="0" y="0"/>
            <a:ext cx="6883200" cy="1000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8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389" name="PlaceHolder 2"/>
          <p:cNvSpPr>
            <a:spLocks noGrp="1"/>
          </p:cNvSpPr>
          <p:nvPr>
            <p:ph type="dt" idx="211"/>
          </p:nvPr>
        </p:nvSpPr>
        <p:spPr>
          <a:xfrm>
            <a:off x="3897360" y="-360"/>
            <a:ext cx="2982960" cy="500040"/>
          </a:xfrm>
          <a:prstGeom prst="rect">
            <a:avLst/>
          </a:prstGeom>
          <a:noFill/>
          <a:ln w="0">
            <a:noFill/>
          </a:ln>
        </p:spPr>
        <p:txBody>
          <a:bodyPr lIns="96480" rIns="9648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90" name="PlaceHolder 3"/>
          <p:cNvSpPr>
            <a:spLocks noGrp="1"/>
          </p:cNvSpPr>
          <p:nvPr>
            <p:ph type="sldImg"/>
          </p:nvPr>
        </p:nvSpPr>
        <p:spPr>
          <a:xfrm>
            <a:off x="942840" y="750960"/>
            <a:ext cx="4997520" cy="3749760"/>
          </a:xfrm>
          <a:prstGeom prst="rect">
            <a:avLst/>
          </a:prstGeom>
          <a:noFill/>
          <a:ln w="12600">
            <a:solidFill>
              <a:srgbClr val="000000"/>
            </a:solidFill>
            <a:miter/>
          </a:ln>
        </p:spPr>
        <p:txBody>
          <a:bodyPr lIns="96480" rIns="96480" tIns="48240" bIns="48240" anchor="ctr">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move the slide</a:t>
            </a:r>
            <a:endParaRPr b="1" lang="en-US" sz="2800" spc="-1" strike="noStrike">
              <a:solidFill>
                <a:srgbClr val="24126e"/>
              </a:solidFill>
              <a:latin typeface="Trebuchet MS"/>
            </a:endParaRPr>
          </a:p>
        </p:txBody>
      </p:sp>
      <p:sp>
        <p:nvSpPr>
          <p:cNvPr id="3391" name="PlaceHolder 4"/>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2" name="PlaceHolder 5"/>
          <p:cNvSpPr>
            <a:spLocks noGrp="1"/>
          </p:cNvSpPr>
          <p:nvPr>
            <p:ph type="ftr" idx="212"/>
          </p:nvPr>
        </p:nvSpPr>
        <p:spPr>
          <a:xfrm>
            <a:off x="0" y="9500760"/>
            <a:ext cx="2982960" cy="5000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393" name="PlaceHolder 6"/>
          <p:cNvSpPr>
            <a:spLocks noGrp="1"/>
          </p:cNvSpPr>
          <p:nvPr>
            <p:ph type="sldNum" idx="213"/>
          </p:nvPr>
        </p:nvSpPr>
        <p:spPr>
          <a:xfrm>
            <a:off x="3897360" y="9500760"/>
            <a:ext cx="2982960" cy="50004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9547-DEBC-4FC6-9335-C6CE5BEBD6E7}"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gezondheidsplein.nl/menselijk-lichaam/huid/item45072" TargetMode="External"/><Relationship Id="rId2" Type="http://schemas.openxmlformats.org/officeDocument/2006/relationships/hyperlink" Target="http://www.gezondheidsplein.nl/aandoeningen/infectie/item39912" TargetMode="External"/><Relationship Id="rId3" Type="http://schemas.openxmlformats.org/officeDocument/2006/relationships/hyperlink" Target="https://www.gezondheidsplein.nl/aandoeningen/schimmelinfectie/item33009" TargetMode="External"/><Relationship Id="rId4" Type="http://schemas.openxmlformats.org/officeDocument/2006/relationships/hyperlink" Target="https://www.gezondheidsplein.nl/menselijk-lichaam/huid/item45072" TargetMode="External"/><Relationship Id="rId5" Type="http://schemas.openxmlformats.org/officeDocument/2006/relationships/slide" Target="../slides/slide12.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7" name="PlaceHolder 1"/>
          <p:cNvSpPr>
            <a:spLocks noGrp="1"/>
          </p:cNvSpPr>
          <p:nvPr>
            <p:ph type="sldImg"/>
          </p:nvPr>
        </p:nvSpPr>
        <p:spPr>
          <a:xfrm>
            <a:off x="942840" y="750960"/>
            <a:ext cx="4997520" cy="3749760"/>
          </a:xfrm>
          <a:prstGeom prst="rect">
            <a:avLst/>
          </a:prstGeom>
          <a:ln w="0">
            <a:noFill/>
          </a:ln>
        </p:spPr>
      </p:sp>
      <p:sp>
        <p:nvSpPr>
          <p:cNvPr id="3478"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pathologie: ziekteleer, alles wat niet gezond is, onderwijsschema erbij pakken. Laten zien wat de onderwerpen deze periode zijn.</a:t>
            </a:r>
            <a:br>
              <a:rPr sz="1200"/>
            </a:br>
            <a:r>
              <a:rPr b="0" lang="nl-NL" sz="1200" spc="-1" strike="noStrike">
                <a:solidFill>
                  <a:srgbClr val="000000"/>
                </a:solidFill>
                <a:latin typeface="Calibri"/>
              </a:rPr>
              <a:t>Anatomie is hoe het lichaam normaal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dat pathologie plaatsvindt doormiddel hoorcollege, studenten maken aantekeningen bij de ppt, zijn in de gelegenheid om vragen te stellen, huiswerkopdracht wordt volgende les gecontrole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Calibri"/>
              </a:rPr>
              <a:t>Iedere 10</a:t>
            </a:r>
            <a:r>
              <a:rPr b="0" lang="nl-NL" sz="1200" spc="-1" strike="noStrike" baseline="30000">
                <a:solidFill>
                  <a:srgbClr val="000000"/>
                </a:solidFill>
                <a:latin typeface="Calibri"/>
              </a:rPr>
              <a:t>e</a:t>
            </a:r>
            <a:r>
              <a:rPr b="0" lang="nl-NL" sz="1200" spc="-1" strike="noStrike">
                <a:solidFill>
                  <a:srgbClr val="000000"/>
                </a:solidFill>
                <a:latin typeface="Calibri"/>
              </a:rPr>
              <a:t> lesweek is er een toets, laatste week van de periode op de dinsdag ochtend van alle vakken (behalve iav/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a:t>
            </a:r>
            <a:r>
              <a:rPr b="0" lang="nl-NL" sz="1200" spc="-1" strike="noStrike" baseline="30000">
                <a:solidFill>
                  <a:srgbClr val="000000"/>
                </a:solidFill>
                <a:latin typeface="Calibri"/>
              </a:rPr>
              <a:t>e</a:t>
            </a:r>
            <a:r>
              <a:rPr b="0" lang="nl-NL" sz="1200" spc="-1" strike="noStrike">
                <a:solidFill>
                  <a:srgbClr val="000000"/>
                </a:solidFill>
                <a:latin typeface="Calibri"/>
              </a:rPr>
              <a:t> toets gaat over periode 1, 2</a:t>
            </a:r>
            <a:r>
              <a:rPr b="0" lang="nl-NL" sz="1200" spc="-1" strike="noStrike" baseline="30000">
                <a:solidFill>
                  <a:srgbClr val="000000"/>
                </a:solidFill>
                <a:latin typeface="Calibri"/>
              </a:rPr>
              <a:t>e</a:t>
            </a:r>
            <a:r>
              <a:rPr b="0" lang="nl-NL" sz="1200" spc="-1" strike="noStrike">
                <a:solidFill>
                  <a:srgbClr val="000000"/>
                </a:solidFill>
                <a:latin typeface="Calibri"/>
              </a:rPr>
              <a:t> toets over periode 2 en 3</a:t>
            </a:r>
            <a:r>
              <a:rPr b="0" lang="nl-NL" sz="1200" spc="-1" strike="noStrike" baseline="30000">
                <a:solidFill>
                  <a:srgbClr val="000000"/>
                </a:solidFill>
                <a:latin typeface="Calibri"/>
              </a:rPr>
              <a:t>e</a:t>
            </a:r>
            <a:r>
              <a:rPr b="0" lang="nl-NL" sz="1200" spc="-1" strike="noStrike">
                <a:solidFill>
                  <a:srgbClr val="000000"/>
                </a:solidFill>
                <a:latin typeface="Calibri"/>
              </a:rPr>
              <a:t> toets over heel het leerj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logie zit meestal met meerkeuzevragen/ stellingen en openvragen in de to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HEORIE:</a:t>
            </a:r>
            <a:br>
              <a:rPr sz="1200"/>
            </a:br>
            <a:r>
              <a:rPr b="1" lang="nl-NL" sz="1200" spc="-1" strike="noStrike">
                <a:solidFill>
                  <a:srgbClr val="000000"/>
                </a:solidFill>
                <a:latin typeface="Calibri"/>
              </a:rPr>
              <a:t>- ZORGPAD is aangeschaft door alle studenten</a:t>
            </a:r>
            <a:br>
              <a:rPr sz="1200"/>
            </a:br>
            <a:r>
              <a:rPr b="1" lang="nl-NL" sz="1200" spc="-1" strike="noStrike">
                <a:solidFill>
                  <a:srgbClr val="000000"/>
                </a:solidFill>
                <a:latin typeface="Calibri"/>
              </a:rPr>
              <a:t>- Basisboek pathologie mbo niv4 is optie als aanvulling. </a:t>
            </a:r>
            <a:endParaRPr b="0" lang="en-US" sz="1200" spc="-1" strike="noStrike">
              <a:solidFill>
                <a:srgbClr val="000000"/>
              </a:solidFill>
              <a:latin typeface="Calibri"/>
            </a:endParaRPr>
          </a:p>
        </p:txBody>
      </p:sp>
      <p:sp>
        <p:nvSpPr>
          <p:cNvPr id="3479"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7C9C-0AA6-4A83-8642-EFE8FA0E2C89}"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PlaceHolder 1"/>
          <p:cNvSpPr>
            <a:spLocks noGrp="1"/>
          </p:cNvSpPr>
          <p:nvPr>
            <p:ph type="sldImg"/>
          </p:nvPr>
        </p:nvSpPr>
        <p:spPr>
          <a:xfrm>
            <a:off x="942840" y="750960"/>
            <a:ext cx="4997520" cy="3749760"/>
          </a:xfrm>
          <a:prstGeom prst="rect">
            <a:avLst/>
          </a:prstGeom>
          <a:ln w="0">
            <a:noFill/>
          </a:ln>
        </p:spPr>
      </p:sp>
      <p:sp>
        <p:nvSpPr>
          <p:cNvPr id="3499"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ids; acquired immune deficiency: pakket ziekteverschijnselen die verband houden met verworven verminderde we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iep=influen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erontsteking = hep 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ids=hiv</a:t>
            </a:r>
            <a:endParaRPr b="0" lang="en-US" sz="1200" spc="-1" strike="noStrike">
              <a:solidFill>
                <a:srgbClr val="000000"/>
              </a:solidFill>
              <a:latin typeface="Calibri"/>
            </a:endParaRPr>
          </a:p>
        </p:txBody>
      </p:sp>
      <p:sp>
        <p:nvSpPr>
          <p:cNvPr id="3500"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B803-1DFE-4DCF-AB13-2B7E2E19B307}"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1" name="PlaceHolder 1"/>
          <p:cNvSpPr>
            <a:spLocks noGrp="1"/>
          </p:cNvSpPr>
          <p:nvPr>
            <p:ph type="sldImg"/>
          </p:nvPr>
        </p:nvSpPr>
        <p:spPr>
          <a:xfrm>
            <a:off x="942840" y="750960"/>
            <a:ext cx="4997520" cy="3749760"/>
          </a:xfrm>
          <a:prstGeom prst="rect">
            <a:avLst/>
          </a:prstGeom>
          <a:ln w="0">
            <a:noFill/>
          </a:ln>
        </p:spPr>
      </p:sp>
      <p:sp>
        <p:nvSpPr>
          <p:cNvPr id="3502"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keur warm en vochtige plekken zoals: lichaamsplooie(oksel/lies,bilnaad, tussen tene)0 mond en darmen, de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etschimmel, door scheenbeschermers(warmte/vocht) kunnen besmettelijk zijn. Bv op br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immels veroorzaken over het algemeen niet gemakkelijk infecties n. Daar staat tegenover dat de infecties die zij veroorzaken vaak moeilijk te behandelen zijn. Schimmelinfecties kunnen uitermate hardnekkig zijn. En een infectie met gisten kan voor een zorgvrager die weinig weerstand heeft, levensgevaarlijk worden. In een ziekenhuis kunnen schimmels en gisten door deze eigenschappen voor grote problemen zorgen.</a:t>
            </a:r>
            <a:endParaRPr b="0" lang="en-US" sz="1200" spc="-1" strike="noStrike">
              <a:solidFill>
                <a:srgbClr val="000000"/>
              </a:solidFill>
              <a:latin typeface="Calibri"/>
            </a:endParaRPr>
          </a:p>
        </p:txBody>
      </p:sp>
      <p:sp>
        <p:nvSpPr>
          <p:cNvPr id="3503"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0322-E5BC-4A1C-9BEF-3B9151E73F73}"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4" name="PlaceHolder 1"/>
          <p:cNvSpPr>
            <a:spLocks noGrp="1"/>
          </p:cNvSpPr>
          <p:nvPr>
            <p:ph type="sldImg"/>
          </p:nvPr>
        </p:nvSpPr>
        <p:spPr>
          <a:xfrm>
            <a:off x="942840" y="750960"/>
            <a:ext cx="4997520" cy="3749760"/>
          </a:xfrm>
          <a:prstGeom prst="rect">
            <a:avLst/>
          </a:prstGeom>
          <a:ln w="0">
            <a:noFill/>
          </a:ln>
        </p:spPr>
      </p:sp>
      <p:sp>
        <p:nvSpPr>
          <p:cNvPr id="3505"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nsen</a:t>
            </a:r>
            <a:r>
              <a:rPr b="0" lang="nl-NL" sz="1200" spc="-1" strike="noStrike">
                <a:solidFill>
                  <a:srgbClr val="000000"/>
                </a:solidFill>
                <a:latin typeface="Calibri"/>
              </a:rPr>
              <a:t> krijgen vaak last van schimmelsporen in de lucht, vooral in ruimtes die slecht geventileerd worden: door het aanwezige vocht krijgen de schimmels de kans mycelium te maken en vervolgens sporen te vormen die in de lucht verspreid wor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pruw(mondschimmel): De schimmel komt vaak gewoon voor op je </a:t>
            </a:r>
            <a:r>
              <a:rPr b="0" lang="nl-NL" sz="1200" spc="-1" strike="noStrike" u="sng">
                <a:solidFill>
                  <a:srgbClr val="0000ff"/>
                </a:solidFill>
                <a:uFillTx/>
                <a:latin typeface="Calibri"/>
                <a:hlinkClick r:id="rId1"/>
              </a:rPr>
              <a:t>huid</a:t>
            </a:r>
            <a:r>
              <a:rPr b="0" lang="nl-NL" sz="1200" spc="-1" strike="noStrike">
                <a:solidFill>
                  <a:srgbClr val="000000"/>
                </a:solidFill>
                <a:latin typeface="Calibri"/>
              </a:rPr>
              <a:t>, zonder dat er ziekteverschijnselen zijn. Pas als er een </a:t>
            </a:r>
            <a:r>
              <a:rPr b="0" lang="nl-NL" sz="1200" spc="-1" strike="noStrike" u="sng">
                <a:solidFill>
                  <a:srgbClr val="0000ff"/>
                </a:solidFill>
                <a:uFillTx/>
                <a:latin typeface="Calibri"/>
                <a:hlinkClick r:id="rId2"/>
              </a:rPr>
              <a:t>infectie</a:t>
            </a:r>
            <a:r>
              <a:rPr b="0" lang="nl-NL" sz="1200" spc="-1" strike="noStrike">
                <a:solidFill>
                  <a:srgbClr val="000000"/>
                </a:solidFill>
                <a:latin typeface="Calibri"/>
              </a:rPr>
              <a:t> optreedt krijg je klachten. Spruw is besmettelijk. Spruw wordt veroorzaakt door een gist (een soort schimmel). De gist heet </a:t>
            </a:r>
            <a:r>
              <a:rPr b="0" i="1" lang="nl-NL" sz="1200" spc="-1" strike="noStrike">
                <a:solidFill>
                  <a:srgbClr val="000000"/>
                </a:solidFill>
                <a:latin typeface="Calibri"/>
              </a:rPr>
              <a:t>Candida albicans</a:t>
            </a:r>
            <a:r>
              <a:rPr b="0" lang="nl-NL" sz="1200" spc="-1" strike="noStrike">
                <a:solidFill>
                  <a:srgbClr val="000000"/>
                </a:solidFill>
                <a:latin typeface="Calibri"/>
              </a:rPr>
              <a:t>. Veel volwassenen dragen de gist bij zich zonder dat ze daar klachten va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geboorte, wanneer de moeder een vaginale candida-infectie heeft (dit hoeft bij de moeder geen klachten te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ia de tepel van de moeder als daar </a:t>
            </a:r>
            <a:r>
              <a:rPr b="0" i="1" lang="nl-NL" sz="1200" spc="-1" strike="noStrike">
                <a:solidFill>
                  <a:srgbClr val="000000"/>
                </a:solidFill>
                <a:latin typeface="Calibri"/>
              </a:rPr>
              <a:t>Candida </a:t>
            </a:r>
            <a:r>
              <a:rPr b="0" lang="nl-NL" sz="1200" spc="-1" strike="noStrike">
                <a:solidFill>
                  <a:srgbClr val="000000"/>
                </a:solidFill>
                <a:latin typeface="Calibri"/>
              </a:rPr>
              <a:t>op zit. (andersom kan een gist ook via de mond van de baby op de tepel van de moeder terecht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wemmerseczeem:</a:t>
            </a:r>
            <a:br>
              <a:rPr sz="1200"/>
            </a:br>
            <a:r>
              <a:rPr b="0" lang="nl-NL" sz="1200" spc="-1" strike="noStrike">
                <a:solidFill>
                  <a:srgbClr val="000000"/>
                </a:solidFill>
                <a:latin typeface="Calibri"/>
              </a:rPr>
              <a:t>In onze leefomgeving zijn veel schimmels aanwezig en iedereen komt ermee in aanraking. Meestal hebben we er geen last van omdat het bovenste laagje van de huid dik genoeg is om de schimmel buiten te hou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de huid echter beschadigd of langdurig vochtig is, vermindert de kwaliteit van deze bescherming. Schimmel tast de buitenste laag van de huid, de hoornlaag, aan en dringt de huid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chimmel voedt zich met de cellen van de hoornlaag waardoor hij kan uitgroeien en een infectie veroorzaa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ingworm is een </a:t>
            </a:r>
            <a:r>
              <a:rPr b="0" lang="nl-NL" sz="1200" spc="-1" strike="noStrike" u="sng">
                <a:solidFill>
                  <a:srgbClr val="0000ff"/>
                </a:solidFill>
                <a:uFillTx/>
                <a:latin typeface="Calibri"/>
                <a:hlinkClick r:id="rId3"/>
              </a:rPr>
              <a:t>schimmelinfectie</a:t>
            </a:r>
            <a:r>
              <a:rPr b="0" lang="nl-NL" sz="1200" spc="-1" strike="noStrike">
                <a:solidFill>
                  <a:srgbClr val="000000"/>
                </a:solidFill>
                <a:latin typeface="Calibri"/>
              </a:rPr>
              <a:t> aan de </a:t>
            </a:r>
            <a:r>
              <a:rPr b="0" lang="nl-NL" sz="1200" spc="-1" strike="noStrike" u="sng">
                <a:solidFill>
                  <a:srgbClr val="0000ff"/>
                </a:solidFill>
                <a:uFillTx/>
                <a:latin typeface="Calibri"/>
                <a:hlinkClick r:id="rId4"/>
              </a:rPr>
              <a:t>huid</a:t>
            </a:r>
            <a:r>
              <a:rPr b="0" lang="nl-NL" sz="1200" spc="-1" strike="noStrike">
                <a:solidFill>
                  <a:srgbClr val="000000"/>
                </a:solidFill>
                <a:latin typeface="Calibri"/>
              </a:rPr>
              <a:t> die meestal onschuldig is, maar wel besmettelijk. Ringworm wordt niet door een worm veroorzaakt, maar door een schimmel. De rode plekken die bij ringworm ontstaan zijn ringvormig, daar komt de benaming vand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kunt onder andere met ringworm besmet raken door contact met besmette huid of huidschilfers. Verschijnselen ontstaan over het algemeen tien dagen tot drie weken na de besm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6"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9C11-3619-40D3-BDB3-2927029F16A4}"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7" name="PlaceHolder 1"/>
          <p:cNvSpPr>
            <a:spLocks noGrp="1"/>
          </p:cNvSpPr>
          <p:nvPr>
            <p:ph type="sldImg"/>
          </p:nvPr>
        </p:nvSpPr>
        <p:spPr>
          <a:xfrm>
            <a:off x="942840" y="750960"/>
            <a:ext cx="4997520" cy="3749760"/>
          </a:xfrm>
          <a:prstGeom prst="rect">
            <a:avLst/>
          </a:prstGeom>
          <a:ln w="0">
            <a:noFill/>
          </a:ln>
        </p:spPr>
      </p:sp>
      <p:sp>
        <p:nvSpPr>
          <p:cNvPr id="3508"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tozoën zijn ééncellige, dierlijke parasieten die bij de mens o.a. ernstige diarree, verstoring van de voedselopname in de darm ( = mal-absorptie), malaria (zie aldaar), infecties van de ingewanden, vaginale ontsteking, en Afrikaanse slaapziekte kunnen veroorza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 koste van de gastheer leven ze</a:t>
            </a:r>
            <a:endParaRPr b="0" lang="en-US" sz="1200" spc="-1" strike="noStrike">
              <a:solidFill>
                <a:srgbClr val="000000"/>
              </a:solidFill>
              <a:latin typeface="Calibri"/>
            </a:endParaRPr>
          </a:p>
        </p:txBody>
      </p:sp>
      <p:sp>
        <p:nvSpPr>
          <p:cNvPr id="3509"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F30F-B9F4-47A5-981D-90C4CA4847D2}"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PlaceHolder 1"/>
          <p:cNvSpPr>
            <a:spLocks noGrp="1"/>
          </p:cNvSpPr>
          <p:nvPr>
            <p:ph type="sldImg"/>
          </p:nvPr>
        </p:nvSpPr>
        <p:spPr>
          <a:xfrm>
            <a:off x="942840" y="750960"/>
            <a:ext cx="4997520" cy="3749760"/>
          </a:xfrm>
          <a:prstGeom prst="rect">
            <a:avLst/>
          </a:prstGeom>
          <a:ln w="0">
            <a:noFill/>
          </a:ln>
        </p:spPr>
      </p:sp>
      <p:sp>
        <p:nvSpPr>
          <p:cNvPr id="3511"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ofdluis besmettelijk, eitjes plakken tegen de hoofdharen, luis kruipt en zorgt voor jeu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rsmaden= kleine wormpjes, speldenknop, eitjes bij anus kan jeuk veroorzaken, krabben, onder nagels, bij eten weer opnieuw in de mond/darmen hardnekk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ntworm= zeer lange worm 2-3 meter lang die in de dunne darm leeft, eten van onvoldoende verhit varkens-rundvlees. Rauw vles kunnen eitjes vd lintworm aanwezig zijn.</a:t>
            </a:r>
            <a:endParaRPr b="0" lang="en-US" sz="1200" spc="-1" strike="noStrike">
              <a:solidFill>
                <a:srgbClr val="000000"/>
              </a:solidFill>
              <a:latin typeface="Calibri"/>
            </a:endParaRPr>
          </a:p>
        </p:txBody>
      </p:sp>
      <p:sp>
        <p:nvSpPr>
          <p:cNvPr id="3512"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93B5-90C6-42FA-9C04-E0EB38DCF4E3}"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3" name="PlaceHolder 1"/>
          <p:cNvSpPr>
            <a:spLocks noGrp="1"/>
          </p:cNvSpPr>
          <p:nvPr>
            <p:ph type="sldImg"/>
          </p:nvPr>
        </p:nvSpPr>
        <p:spPr>
          <a:xfrm>
            <a:off x="942840" y="750960"/>
            <a:ext cx="4997520" cy="3749760"/>
          </a:xfrm>
          <a:prstGeom prst="rect">
            <a:avLst/>
          </a:prstGeom>
          <a:ln w="0">
            <a:noFill/>
          </a:ln>
        </p:spPr>
      </p:sp>
      <p:sp>
        <p:nvSpPr>
          <p:cNvPr id="3514"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A: Het micro-organism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a:t>
            </a:r>
            <a:r>
              <a:rPr b="0" lang="nl-NL" sz="900" spc="-1" strike="noStrike">
                <a:solidFill>
                  <a:srgbClr val="000000"/>
                </a:solidFill>
                <a:latin typeface="Calibri"/>
                <a:ea typeface="MS PGothic"/>
              </a:rPr>
              <a:t>kleine levende wezentj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4 groep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bacterië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gist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chimmels</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iruss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In principe overal aanwezig. Ze vermeerderen: tweeën delen, kan iedere </a:t>
            </a:r>
            <a:r>
              <a:rPr b="1" lang="nl-NL" sz="900" spc="-1" strike="noStrike">
                <a:solidFill>
                  <a:srgbClr val="000000"/>
                </a:solidFill>
                <a:latin typeface="Calibri"/>
                <a:ea typeface="MS PGothic"/>
              </a:rPr>
              <a:t>20 minuten</a:t>
            </a:r>
            <a:r>
              <a:rPr b="0" lang="nl-NL" sz="900" spc="-1" strike="noStrike">
                <a:solidFill>
                  <a:srgbClr val="000000"/>
                </a:solidFill>
                <a:latin typeface="Calibri"/>
                <a:ea typeface="MS PGothic"/>
              </a:rPr>
              <a: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B: Br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Menselijke bronnen (mensen met griep, wonden, waterpokken et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Overige bronn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traatvui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chtige sopdoek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edsel dat onzorgvuldig is bereid;</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orwerpen, apparaten en instrumenten die onvoldoende gereinigd/ gedesinfecteerd zij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C: porte de sorti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De weg waarlangs de micro-organismen de bron verlat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wondvocht;</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urine;</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putum;</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huidschilfers;</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hoestdruppels.</a:t>
            </a:r>
            <a:br>
              <a:rPr sz="900"/>
            </a:br>
            <a:r>
              <a:rPr b="1" lang="nl-NL" sz="900" spc="-1" strike="noStrike">
                <a:solidFill>
                  <a:srgbClr val="000000"/>
                </a:solidFill>
                <a:latin typeface="Calibri"/>
                <a:ea typeface="MS PGothic"/>
              </a:rPr>
              <a:t>Schakel D: Verspreidingswe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Overdracht vindt plaats door:</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contact, voornamelijk via handen, apparatuur;</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lucht, aerosolen, minuscule druppeltjes met micro-organism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edse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De plaats waar het micro-organisme het lichaam binnendringt:</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niet-intacte huid;</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maagdarmkanaa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urineweg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luchtweg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chakel F: de ontvankelijke gasthee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Gezond mens: unieke afweer (huid/slijmvliez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Zieke mens: afweer minder, bij operatie huid (barrière) doorbrok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Keten is gesloten, patiënt kan weer als bron funger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397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515"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E53A-C746-4635-9DBE-A7FFACA980A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sldImg"/>
          </p:nvPr>
        </p:nvSpPr>
        <p:spPr>
          <a:xfrm>
            <a:off x="942840" y="750960"/>
            <a:ext cx="4997520" cy="3749760"/>
          </a:xfrm>
          <a:prstGeom prst="rect">
            <a:avLst/>
          </a:prstGeom>
          <a:ln w="0">
            <a:noFill/>
          </a:ln>
        </p:spPr>
      </p:sp>
      <p:sp>
        <p:nvSpPr>
          <p:cNvPr id="3481"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rdweb maken door studenten in tweetallen. Deze nabespreken door bv een groot wordweb op het bord te schrijven aan de hand vd termen die de studenten benoe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vragers die in een kliniek een medische behandeling krijgen hebben vaak een minder weerstand. Er is meer risico op een infectie dan bij gezonde men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aak dragen zij de micro organisme die deze infecties veroorzaken al bij zich bv. in de darmen of in de keel.</a:t>
            </a:r>
            <a:br>
              <a:rPr sz="1200"/>
            </a:br>
            <a:r>
              <a:rPr b="0" lang="nl-NL" sz="1200" spc="-1" strike="noStrike">
                <a:solidFill>
                  <a:srgbClr val="000000"/>
                </a:solidFill>
                <a:latin typeface="Calibri"/>
              </a:rPr>
              <a:t>Artsen/vpk lopen zelf risico bv. na onbeschermd contact m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2"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D168-B3ED-48DE-A190-B155C35AB228}"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6" name="PlaceHolder 1"/>
          <p:cNvSpPr>
            <a:spLocks noGrp="1"/>
          </p:cNvSpPr>
          <p:nvPr>
            <p:ph type="sldImg"/>
          </p:nvPr>
        </p:nvSpPr>
        <p:spPr>
          <a:xfrm>
            <a:off x="942840" y="750960"/>
            <a:ext cx="4997520" cy="3749760"/>
          </a:xfrm>
          <a:prstGeom prst="rect">
            <a:avLst/>
          </a:prstGeom>
          <a:ln w="0">
            <a:noFill/>
          </a:ln>
        </p:spPr>
      </p:sp>
      <p:sp>
        <p:nvSpPr>
          <p:cNvPr id="3517" name="PlaceHolder 2"/>
          <p:cNvSpPr>
            <a:spLocks noGrp="1"/>
          </p:cNvSpPr>
          <p:nvPr>
            <p:ph type="body"/>
          </p:nvPr>
        </p:nvSpPr>
        <p:spPr>
          <a:xfrm>
            <a:off x="688680" y="4751280"/>
            <a:ext cx="5505480" cy="45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8"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A6A-B097-4D76-8C61-48E5E6E50C53}"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PlaceHolder 1"/>
          <p:cNvSpPr>
            <a:spLocks noGrp="1"/>
          </p:cNvSpPr>
          <p:nvPr>
            <p:ph type="sldImg"/>
          </p:nvPr>
        </p:nvSpPr>
        <p:spPr>
          <a:xfrm>
            <a:off x="942840" y="750960"/>
            <a:ext cx="4997520" cy="3749760"/>
          </a:xfrm>
          <a:prstGeom prst="rect">
            <a:avLst/>
          </a:prstGeom>
          <a:ln w="0">
            <a:noFill/>
          </a:ln>
        </p:spPr>
      </p:sp>
      <p:sp>
        <p:nvSpPr>
          <p:cNvPr id="3520" name="PlaceHolder 2"/>
          <p:cNvSpPr>
            <a:spLocks noGrp="1"/>
          </p:cNvSpPr>
          <p:nvPr>
            <p:ph type="body"/>
          </p:nvPr>
        </p:nvSpPr>
        <p:spPr>
          <a:xfrm>
            <a:off x="688680" y="4751280"/>
            <a:ext cx="5505480" cy="45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521"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F0D4-63F9-4940-A5F3-96405A6BA183}"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PlaceHolder 1"/>
          <p:cNvSpPr>
            <a:spLocks noGrp="1"/>
          </p:cNvSpPr>
          <p:nvPr>
            <p:ph type="sldImg"/>
          </p:nvPr>
        </p:nvSpPr>
        <p:spPr>
          <a:xfrm>
            <a:off x="942840" y="750960"/>
            <a:ext cx="4997520" cy="3749760"/>
          </a:xfrm>
          <a:prstGeom prst="rect">
            <a:avLst/>
          </a:prstGeom>
          <a:ln w="0">
            <a:noFill/>
          </a:ln>
        </p:spPr>
      </p:sp>
      <p:sp>
        <p:nvSpPr>
          <p:cNvPr id="3523"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ken een infiltraat en abces meestal op het bord schematisch ter verduidelij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filtraat is in staat de infectie tegen te houden zodat deze niet verder in het weefsel kan binnen dringen.</a:t>
            </a:r>
            <a:br>
              <a:rPr sz="1200"/>
            </a:br>
            <a:r>
              <a:rPr b="0" lang="nl-NL" sz="1200" spc="-1" strike="noStrike">
                <a:solidFill>
                  <a:srgbClr val="000000"/>
                </a:solidFill>
                <a:latin typeface="Calibri"/>
              </a:rPr>
              <a:t>Binnen het infiltraat woedt een hevig gevecht tussen bact.en witte bloedcellen. Bij dat gevecht gaan vele cellen en bact.dood en sterven weefselcellen af. Binnen infiltraat ontstaat vloeibare massa: dode/levende bacterien/ dode afweercellen/ beschadigde weefselcellen: pus/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efsel beschermen tegen pus vormt lichaam extra laag bindweefsel(kapsel)rondom het infiltraat: holte ontstaat die is gevuld met pus=abces</a:t>
            </a:r>
            <a:br>
              <a:rPr sz="1200"/>
            </a:br>
            <a:r>
              <a:rPr b="0" lang="nl-NL" sz="1200" spc="-1" strike="noStrike">
                <a:solidFill>
                  <a:srgbClr val="000000"/>
                </a:solidFill>
                <a:latin typeface="Calibri"/>
              </a:rPr>
              <a:t>Steenpu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welling met veel bacteriën en witte bloedcellen wordt </a:t>
            </a:r>
            <a:r>
              <a:rPr b="0" i="1" lang="nl-NL" sz="1200" spc="-1" strike="noStrike">
                <a:solidFill>
                  <a:srgbClr val="000000"/>
                </a:solidFill>
                <a:latin typeface="Calibri"/>
              </a:rPr>
              <a:t>infiltraat</a:t>
            </a:r>
            <a:r>
              <a:rPr b="0" lang="nl-NL" sz="1200" spc="-1" strike="noStrike">
                <a:solidFill>
                  <a:srgbClr val="000000"/>
                </a:solidFill>
                <a:latin typeface="Calibri"/>
              </a:rPr>
              <a:t> genoemd. Een </a:t>
            </a:r>
            <a:r>
              <a:rPr b="0" i="1" lang="nl-NL" sz="1200" spc="-1" strike="noStrike">
                <a:solidFill>
                  <a:srgbClr val="000000"/>
                </a:solidFill>
                <a:latin typeface="Calibri"/>
              </a:rPr>
              <a:t>infiltraat</a:t>
            </a:r>
            <a:r>
              <a:rPr b="0" lang="nl-NL" sz="1200" spc="-1" strike="noStrike">
                <a:solidFill>
                  <a:srgbClr val="000000"/>
                </a:solidFill>
                <a:latin typeface="Calibri"/>
              </a:rPr>
              <a:t> kan verdwijnen, er kan ook een </a:t>
            </a:r>
            <a:r>
              <a:rPr b="0" i="1" lang="nl-NL" sz="1200" spc="-1" strike="noStrike">
                <a:solidFill>
                  <a:srgbClr val="000000"/>
                </a:solidFill>
                <a:latin typeface="Calibri"/>
              </a:rPr>
              <a:t>abces</a:t>
            </a:r>
            <a:r>
              <a:rPr b="0" lang="nl-NL" sz="1200" spc="-1" strike="noStrike">
                <a:solidFill>
                  <a:srgbClr val="000000"/>
                </a:solidFill>
                <a:latin typeface="Calibri"/>
              </a:rPr>
              <a:t> worden ...</a:t>
            </a:r>
            <a:endParaRPr b="0" lang="en-US" sz="1200" spc="-1" strike="noStrike">
              <a:solidFill>
                <a:srgbClr val="000000"/>
              </a:solidFill>
              <a:latin typeface="Calibri"/>
            </a:endParaRPr>
          </a:p>
        </p:txBody>
      </p:sp>
      <p:sp>
        <p:nvSpPr>
          <p:cNvPr id="3524"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9169-09C4-4695-915B-9D3F7A8721B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PlaceHolder 1"/>
          <p:cNvSpPr>
            <a:spLocks noGrp="1"/>
          </p:cNvSpPr>
          <p:nvPr>
            <p:ph type="sldImg"/>
          </p:nvPr>
        </p:nvSpPr>
        <p:spPr>
          <a:xfrm>
            <a:off x="942840" y="750960"/>
            <a:ext cx="4997520" cy="3749760"/>
          </a:xfrm>
          <a:prstGeom prst="rect">
            <a:avLst/>
          </a:prstGeom>
          <a:ln w="0">
            <a:noFill/>
          </a:ln>
        </p:spPr>
      </p:sp>
      <p:sp>
        <p:nvSpPr>
          <p:cNvPr id="3484"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logie in het 1</a:t>
            </a:r>
            <a:r>
              <a:rPr b="0" lang="nl-NL" sz="1200" spc="-1" strike="noStrike" baseline="30000">
                <a:solidFill>
                  <a:srgbClr val="000000"/>
                </a:solidFill>
                <a:latin typeface="Calibri"/>
              </a:rPr>
              <a:t>e</a:t>
            </a:r>
            <a:r>
              <a:rPr b="0" lang="nl-NL" sz="1200" spc="-1" strike="noStrike">
                <a:solidFill>
                  <a:srgbClr val="000000"/>
                </a:solidFill>
                <a:latin typeface="Calibri"/>
              </a:rPr>
              <a:t> leerjaar is de basis, in het 2</a:t>
            </a:r>
            <a:r>
              <a:rPr b="0" lang="nl-NL" sz="1200" spc="-1" strike="noStrike" baseline="30000">
                <a:solidFill>
                  <a:srgbClr val="000000"/>
                </a:solidFill>
                <a:latin typeface="Calibri"/>
              </a:rPr>
              <a:t>e</a:t>
            </a:r>
            <a:r>
              <a:rPr b="0" lang="nl-NL" sz="1200" spc="-1" strike="noStrike">
                <a:solidFill>
                  <a:srgbClr val="000000"/>
                </a:solidFill>
                <a:latin typeface="Calibri"/>
              </a:rPr>
              <a:t> /3</a:t>
            </a:r>
            <a:r>
              <a:rPr b="0" lang="nl-NL" sz="1200" spc="-1" strike="noStrike" baseline="30000">
                <a:solidFill>
                  <a:srgbClr val="000000"/>
                </a:solidFill>
                <a:latin typeface="Calibri"/>
              </a:rPr>
              <a:t>e</a:t>
            </a:r>
            <a:r>
              <a:rPr b="0" lang="nl-NL" sz="1200" spc="-1" strike="noStrike">
                <a:solidFill>
                  <a:srgbClr val="000000"/>
                </a:solidFill>
                <a:latin typeface="Calibri"/>
              </a:rPr>
              <a:t>/4</a:t>
            </a:r>
            <a:r>
              <a:rPr b="0" lang="nl-NL" sz="1200" spc="-1" strike="noStrike" baseline="30000">
                <a:solidFill>
                  <a:srgbClr val="000000"/>
                </a:solidFill>
                <a:latin typeface="Calibri"/>
              </a:rPr>
              <a:t>e</a:t>
            </a:r>
            <a:r>
              <a:rPr b="0" lang="nl-NL" sz="1200" spc="-1" strike="noStrike">
                <a:solidFill>
                  <a:srgbClr val="000000"/>
                </a:solidFill>
                <a:latin typeface="Calibri"/>
              </a:rPr>
              <a:t> leerjaar zal meer diepgang plaatsvinden.</a:t>
            </a:r>
            <a:endParaRPr b="0" lang="en-US" sz="1200" spc="-1" strike="noStrike">
              <a:solidFill>
                <a:srgbClr val="000000"/>
              </a:solidFill>
              <a:latin typeface="Calibri"/>
            </a:endParaRPr>
          </a:p>
        </p:txBody>
      </p:sp>
      <p:sp>
        <p:nvSpPr>
          <p:cNvPr id="3485"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81C1-E76F-4DE9-8ED9-B32857F9B94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5" name="PlaceHolder 1"/>
          <p:cNvSpPr>
            <a:spLocks noGrp="1"/>
          </p:cNvSpPr>
          <p:nvPr>
            <p:ph type="sldImg"/>
          </p:nvPr>
        </p:nvSpPr>
        <p:spPr>
          <a:xfrm>
            <a:off x="942840" y="750960"/>
            <a:ext cx="4997520" cy="3749760"/>
          </a:xfrm>
          <a:prstGeom prst="rect">
            <a:avLst/>
          </a:prstGeom>
          <a:ln w="0">
            <a:noFill/>
          </a:ln>
        </p:spPr>
      </p:sp>
      <p:sp>
        <p:nvSpPr>
          <p:cNvPr id="3526"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o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pad Beroepsgerichte basis, verpleegkundige zorg, 1 voorschriften toepassen, 7. hygiënisch werken, 7.4 Mr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sisboek pathologie, blz. 81 MR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a:t>
            </a:r>
            <a:endParaRPr b="0" lang="en-US" sz="1200" spc="-1" strike="noStrike">
              <a:solidFill>
                <a:srgbClr val="000000"/>
              </a:solidFill>
              <a:latin typeface="Calibri"/>
            </a:endParaRPr>
          </a:p>
        </p:txBody>
      </p:sp>
      <p:sp>
        <p:nvSpPr>
          <p:cNvPr id="3527"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9439-AE39-40F5-B0E0-A5D6D552A768}"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sldImg"/>
          </p:nvPr>
        </p:nvSpPr>
        <p:spPr>
          <a:xfrm>
            <a:off x="942840" y="750960"/>
            <a:ext cx="4997520" cy="3749760"/>
          </a:xfrm>
          <a:prstGeom prst="rect">
            <a:avLst/>
          </a:prstGeom>
          <a:ln w="0">
            <a:noFill/>
          </a:ln>
        </p:spPr>
      </p:sp>
      <p:sp>
        <p:nvSpPr>
          <p:cNvPr id="3487"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icro-organismen bevinden zich letterlijk vrijwel overal: op, rondom en in ons. Voor een verzameling verschillende micro-organismen gebruiken we de term ‘flora’ (letterlijk: plantenwereld). De verzameling micro-organismen die in de darmen thuishoort, noemen we de darmflora. Zo onderscheiden we onder meer ook de mondflora, huidflora en vaginale flora. De flora die je altijd bij je hebt, vormen samen de residente flo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geen= ziekmakend, micro-organismen is onder microsc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pecifieke micro organisme veroorzaken specifieke ziekten. Je kunt dus precies onderzoeken met welk micro organisme je te maken hebt= Path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influenza virus= griep, varicellavirus= waterpokken herpes simplex= koortsl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mettingsbronnen:</a:t>
            </a:r>
            <a:br>
              <a:rPr sz="1200"/>
            </a:br>
            <a:r>
              <a:rPr b="0" lang="nl-NL" sz="1200" spc="-1" strike="noStrike">
                <a:solidFill>
                  <a:srgbClr val="000000"/>
                </a:solidFill>
                <a:latin typeface="Calibri"/>
              </a:rPr>
              <a:t>anus(ontlasting) neus(slijm) mond(speeksel/sputum) wond(bloed/pus/weefselvocht) puist(p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uches,kranen,toiletten, zalfpotten, vaatdoe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van neuspeuteren naar de w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toiletbezoek via hand naar voedingsmiddel en naar de m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iekteverwekkende micro-organismenMicro-organismenZiekteverschijnseleninfluenzavirusinfluenzagriepvaricellazosterviruswaterpokkenBordetella pertussisbacteriekinkhoesthepatitis B-virusleverontstekingherpessimplexviruskoortslip</a:t>
            </a:r>
            <a:endParaRPr b="0" lang="en-US" sz="1200" spc="-1" strike="noStrike">
              <a:solidFill>
                <a:srgbClr val="000000"/>
              </a:solidFill>
              <a:latin typeface="Calibri"/>
            </a:endParaRPr>
          </a:p>
        </p:txBody>
      </p:sp>
      <p:sp>
        <p:nvSpPr>
          <p:cNvPr id="3488"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1E1C-7854-429F-B4D1-FF4D7DD38E00}"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PlaceHolder 1"/>
          <p:cNvSpPr>
            <a:spLocks noGrp="1"/>
          </p:cNvSpPr>
          <p:nvPr>
            <p:ph type="sldImg"/>
          </p:nvPr>
        </p:nvSpPr>
        <p:spPr>
          <a:xfrm>
            <a:off x="942840" y="750960"/>
            <a:ext cx="4997520" cy="3749760"/>
          </a:xfrm>
          <a:prstGeom prst="rect">
            <a:avLst/>
          </a:prstGeom>
          <a:ln w="0">
            <a:noFill/>
          </a:ln>
        </p:spPr>
      </p:sp>
      <p:sp>
        <p:nvSpPr>
          <p:cNvPr id="3490"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acterie is een zeer klein eencellig levend micro-organisme dat zich vermenigvuldigd door celdeling. Een bacterie kan zichzelf voortplanten in allerlei voedingsbodems, zelfs in bijvoorbeeld een dood organisme. Onder goede omstandigheden kunnen bacteriën zich razendsnel vermenigvuldigen: bijvoorbeeld in voedsel binnen elke 10 tot 20 minu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e pneumokok. </a:t>
            </a:r>
            <a:r>
              <a:rPr b="0" lang="nl-NL" sz="1200" spc="-1" strike="noStrike">
                <a:solidFill>
                  <a:srgbClr val="000000"/>
                </a:solidFill>
                <a:latin typeface="Calibri"/>
              </a:rPr>
              <a:t>De bacterie is van mens op mens overdraagbaar. De pneumokok is een bacterie die vaak voorkomt in de neus- en keelholte van de mens zonder ziekte te veroorzaken. Dit noemen we ook wel dragerschap. Vrijwel iedereen is gedurende enige tijd wel dra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pneumokok kan luchtweginfecties veroorzaken zoals oorontsteking en longontsteking. De bacterie kan ook ernstige invasieve infecties, als het in de bloedbaan terecht komt zoals bloedvergiftiging en hersenvliesontsteking veroorzaken. Vaccinatie tegen pneumokokken wordt aan alle kinderen in Nederland aangeboden via het Rijksvaccinatieprogram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tafylokok: </a:t>
            </a:r>
            <a:r>
              <a:rPr b="0" lang="nl-NL" sz="1200" spc="-1" strike="noStrike">
                <a:solidFill>
                  <a:srgbClr val="000000"/>
                </a:solidFill>
                <a:latin typeface="Calibri"/>
              </a:rPr>
              <a:t>is een bacterie die bij veel mensen voorkomt, vooral op de huid en in de neus. De bacterie veroorzaakt normaal gesproken geen ziekte, maar bij beschadiging van huid of slijmvliezen kunnen infecties ont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uidinfecties kunnen oppervlakkig zijn, zoals bijvoorbeeld krentenbaard (impetigo). Dieper in de huid kunnen ook infecties ontstaan, bijvoorbeeld in een wond. Ook steenpuisten, ontstoken nagelriemen, borstontsteking en cellulitis (niet de sinaasappelhuid, maar een ontsteking van de opperhuid en het huidvet) zijn voorbeelden hiervan. </a:t>
            </a:r>
            <a:br>
              <a:rPr sz="1200"/>
            </a:br>
            <a:r>
              <a:rPr b="0" lang="nl-NL" sz="1200" spc="-1" strike="noStrike">
                <a:solidFill>
                  <a:srgbClr val="000000"/>
                </a:solidFill>
                <a:latin typeface="Calibri"/>
              </a:rPr>
              <a:t>De bacterie kan dieper in het lichaam komen en verschillende ziektebeelden veroorzaken, zoals bloedvergiftiging, endocarditis (ontsteking aan de hartkleppen), abcessen, botontsteking, gewrichtsontsteking en longontst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treptokok; </a:t>
            </a:r>
            <a:r>
              <a:rPr b="0" lang="nl-NL" sz="1200" spc="-1" strike="noStrike">
                <a:solidFill>
                  <a:srgbClr val="000000"/>
                </a:solidFill>
                <a:latin typeface="Calibri"/>
              </a:rPr>
              <a:t>veel soorten onder deze groep, de meeste zijn ongevaarlijk. Meest voorkomende infectie. Streptokok uit groep A kunnen wel gevaarlijk zijn. Goede handhygiene is belangrijk want draagt deze bacterien over!! Veel mensen dragen de bacterie kortere of langere tijd bij zich in neus- of keelholte of op de huid, zonder daar ziek van te worden. Groep-A-streptokokken kunnen overgedragen worden door middel van druppeltjes vocht die vrijkomen tijdens hoesten, niezen en praten of door (in)direct contact met wonden van geïnfecteerde personen. Tevens kunnen infecties zoals kraamvrouwenkoorts worden verspreid door hulpverleners (bijvoorbeeld gynaecologen en verloskundigen). </a:t>
            </a:r>
            <a:endParaRPr b="0" lang="en-US" sz="1200" spc="-1" strike="noStrike">
              <a:solidFill>
                <a:srgbClr val="000000"/>
              </a:solidFill>
              <a:latin typeface="Calibri"/>
            </a:endParaRPr>
          </a:p>
        </p:txBody>
      </p:sp>
      <p:sp>
        <p:nvSpPr>
          <p:cNvPr id="3491"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EF3D-968B-49D1-A2EF-715755D304C9}"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sldImg"/>
          </p:nvPr>
        </p:nvSpPr>
        <p:spPr>
          <a:xfrm>
            <a:off x="942840" y="750960"/>
            <a:ext cx="4997520" cy="3749760"/>
          </a:xfrm>
          <a:prstGeom prst="rect">
            <a:avLst/>
          </a:prstGeom>
          <a:ln w="0">
            <a:noFill/>
          </a:ln>
        </p:spPr>
      </p:sp>
      <p:sp>
        <p:nvSpPr>
          <p:cNvPr id="3493"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blaasontst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Calibri"/>
              </a:rPr>
              <a:t>Urine is van nature steriel maar vorm wel een goede voedingsbodem voor micro-organismen, mevrouw x kan niet uitplassen er blijft urine achter in de bla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PK gaat mevrouw daarom catheteriseren, dit moet altijd steriel! Vpk raakt perongeluk perineum aan waardoor katheter onsteriel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steriele cad moet vervangen worden maar wordt toch ingebracht waardoor darmbacterien in de blaas terecht komen. </a:t>
            </a:r>
            <a:br>
              <a:rPr sz="1200"/>
            </a:br>
            <a:r>
              <a:rPr b="0" lang="nl-NL" sz="1200" spc="-1" strike="noStrike">
                <a:solidFill>
                  <a:srgbClr val="000000"/>
                </a:solidFill>
                <a:latin typeface="Calibri"/>
              </a:rPr>
              <a:t>Mw. Krijgt daardoor een blaasontst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ndroos is een ontsteking van de huid, veroorzaakt door bacteriën. De huid wordt (glanzend) rood en pijn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ndroos komt meestal voor op een been, op een arm of op het gez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4"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0CF-7A6A-434F-A46C-2C44798E3336}"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5" name="PlaceHolder 1"/>
          <p:cNvSpPr>
            <a:spLocks noGrp="1"/>
          </p:cNvSpPr>
          <p:nvPr>
            <p:ph type="sldImg"/>
          </p:nvPr>
        </p:nvSpPr>
        <p:spPr>
          <a:xfrm>
            <a:off x="942840" y="750960"/>
            <a:ext cx="4997520" cy="3749760"/>
          </a:xfrm>
          <a:prstGeom prst="rect">
            <a:avLst/>
          </a:prstGeom>
          <a:ln w="0">
            <a:noFill/>
          </a:ln>
        </p:spPr>
      </p:sp>
      <p:sp>
        <p:nvSpPr>
          <p:cNvPr id="3496"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icro-organismen die levende cellen van andere organismen nodig hebben om zich te kunnen vermenigvuld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ringt celkern binnen gebruikt materiaal om te groeien hierdoor gaat lichaamscel kapot en valt uiteen , virussen die daarbij vrijkomen gaan weer andere lichaamscel binn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virus is een zeer klein organisme (kleiner dan een bacterie) dat zich niet zelfstandig kan voortplanten. Het wordt verspreid via de lucht, via voedsel of aanraking. Om zich te vermeerderen heeft het een levende gastheer nodig: lichaamscellen van mensen en dieren. Virussen nestelen zich het eerst in onze slijmvliezen, waar de luchtwegen en het maagdarmstelsel vrijwel geheel mee zijn bekleed. Het virus maakt misbruik van de mogelijkheid van lichaamscellen om zichzelf te kopiëren. Binnen een dag is een virus gemakkelijk in staat om miljoenen kopieën van zichzelf te maken. Als je bijvoorbeeld besmet bent met een verkoudheidsvirus, ben je meestal binnen twee dagen verkou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n imuum worden voor virussen als lichaam antistoffen aanmaakt zoals: mazelen, waterpokken. Of na vaccineren. </a:t>
            </a:r>
            <a:br>
              <a:rPr sz="1200"/>
            </a:br>
            <a:r>
              <a:rPr b="0" lang="nl-NL" sz="1200" spc="-1" strike="noStrike">
                <a:solidFill>
                  <a:srgbClr val="000000"/>
                </a:solidFill>
                <a:latin typeface="Calibri"/>
              </a:rPr>
              <a:t>Antibiotica werkt alleen tegen bacterien en niet tegen virussen</a:t>
            </a:r>
            <a:endParaRPr b="0" lang="en-US" sz="1200" spc="-1" strike="noStrike">
              <a:solidFill>
                <a:srgbClr val="000000"/>
              </a:solidFill>
              <a:latin typeface="Calibri"/>
            </a:endParaRPr>
          </a:p>
        </p:txBody>
      </p:sp>
      <p:sp>
        <p:nvSpPr>
          <p:cNvPr id="3497"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E1AD-C96B-4193-A7D3-B46CA337CCC1}"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6A4E4-3BED-47C1-849B-F7F627D01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78727-7E9F-41BC-B59C-A1CD3568D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6AF3C-4B82-47CA-84BE-59C19D2FA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77647-14E8-4555-A560-6F4BC153D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8040B-E80A-4C7A-BF7A-0E5E995AA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47626-0776-40FC-835E-E69EFA650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183CD-56EF-41C5-BC85-C5925CDFD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B48D4-CA7E-41CD-AAC3-FA55E62BE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8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8BD5B-FBF0-4048-BA32-58C663751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6C6E55-984A-4890-9A32-75AEC8B5FE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9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02D9B-5748-4ED7-8CD5-5C03A5DCF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07542-72BA-4C64-B3AF-4096A893A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9520C-BFB1-4948-84E2-DA6C91C42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C0DC9-4D09-4DF7-A30C-6AAC60131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7A349-9D44-4694-9691-CA22B2657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A4A1C-2CCC-4C48-8BF9-1F0A564A6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1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2C284-6FD5-44CC-8639-39D35B95D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D42E3-209B-453E-872B-46EF81632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73648-C5D3-4DCC-AE5F-9E4C7061A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A7686-C173-44F7-A157-E891630AF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57387-7F80-46AC-A8E6-C0F7BD919E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4A0FFD-0205-40DF-87F4-736AD5820C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0B813-BE81-42DC-B64C-F9B3977B0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892E3-F5B8-48CC-8207-698CEAE16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D5686-DAFA-4F17-BB3D-510BCAA6F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5AF3B-ACDB-4AD2-A036-BD89C2E28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B98CC-40D2-41EE-8D16-4A13CF866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8404E-5274-4D93-BFA3-72AE1BF9B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5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BADC8-24BE-44D8-A053-1A66D8D78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92290-D478-4BB5-936A-B64E746F8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A4FCA-8FF2-4A5D-A860-4D36D427F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ADEF38-21ED-4411-A695-29EA1EA48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A6325-713F-4405-BBAA-317471554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37C67A-44E2-40DF-8081-ECF7DBCF98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E6848-2FB1-44D5-A56E-B29CD7A2B0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EA169-7420-4C4F-9EFD-F03C7511C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D16A7-C0B2-4EFF-AE7C-2CB4A9AA4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57564-33E4-4DF9-8147-9B5AEB34D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1D43C-4318-424E-A180-8871DBF9A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DE914-6AEB-494D-8E58-62C0218B0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37363-7810-4B15-8372-A7552C443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428258CE-9743-46F9-ADB2-7667F32E4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6A254-169C-4E75-A6EE-E5B77B2A5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997E9-8820-4D65-A302-00A96BB6E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D2ED5-3D5C-4D46-8696-0843656C3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96BD6D-CB63-41B4-802E-DE2A34F52C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1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9DDE8C-36A4-4563-8DCC-70FBF9FE8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23FFCB-0C79-4951-B1B7-2B0BF0BAAE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A36ADF-CF55-461D-87FE-1A65EC9FD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753B29-A76B-407C-8364-5EC7FD59C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CA0D2-EFA9-4683-A2A7-CF737F2C1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B68394-BB88-4A42-A495-1EFD82EF1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8162A565-6D7C-4DA7-878C-FFB11BA9D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E4196E-10F1-4540-A056-C29866E23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7DEC2-823D-4DC9-AA78-45A657A7F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E6258-68EE-4784-A9A2-99D70ABDE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B5B68-F8F1-403D-B0F9-E9CD4BFA3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4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ED434-6394-4CB6-9547-F04CAB5E3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4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1B7C9E-8EE1-4CFF-A807-F235AA8CE4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5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49D3D6-D7DA-4F2B-83B6-3D4047720E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22FA56-43D6-4314-B2BA-243FD53DBF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9D7209-C648-4B2F-BA17-8413BC562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29F7D7-270B-4F1F-974A-CCE39087FD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6C38313E-8E2A-4D06-BE1F-05300C484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C5FA0E-E9F4-4128-A164-0ECE97EA5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967068-A660-4D6A-9E32-E4793B5DD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C74BF-C403-4B42-9A6F-49A46E55E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33A72-ADC0-419B-8055-F6709097B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13874-0428-4984-B222-F553B2E86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280CC-35EC-4236-B964-5918BFC33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ABE47-1038-4CB0-B5B0-D47EE4221C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069B7C-F72B-44FB-9CFB-5C16924154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9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30572D-FF87-421D-9A7A-35516C4B0B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43DCC6-CFBB-457C-BF46-77DB1C6D3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
          </p:nvPr>
        </p:nvSpPr>
        <p:spPr/>
        <p:txBody>
          <a:bodyPr/>
          <a:p>
            <a:fld id="{6B6FE7AF-BEAD-4747-B6FD-5E82F4222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E31CC5-08A2-4F6D-A3CC-8F62804C11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96448-672F-484D-B573-92C616973B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EFB09-3EFA-41ED-83F5-2FC4FADC60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A3D2C6-7B4C-459A-A1F3-058F69962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E5E18-B898-44E3-A67F-89E72B57F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BA5A4-1F33-4608-95C3-4A79208D9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B21458-31FE-4885-8ABD-ED6E1ADAB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379DB-1AE7-4AC9-8D1F-E0ED80A1B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C1A1C-9451-4E9A-A677-4A834C0320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36B3D8-E9A2-480D-A00D-A5A2B9AC44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
          </p:nvPr>
        </p:nvSpPr>
        <p:spPr/>
        <p:txBody>
          <a:bodyPr/>
          <a:p>
            <a:fld id="{49BD7563-E8AE-4074-9AF3-9151434C9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3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F98D69-3383-4370-AF9C-F1006DA934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7B462E-4138-456F-899D-B2839CEF01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66099E-E6AC-4F66-8EFB-2C5775D0E7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E247B5-2444-4AF2-B555-4024D11019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F7DDD4-7AB5-41FC-A8F6-800735FFB7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971084-862A-4509-937E-4275BCA955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0A43CA-4A7E-4CAC-B257-9C20E4926D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177EE4-BADE-4B7A-99AD-A89C9F1075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46A5FD-5D27-4C0A-A9C1-526AD0F4A7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590A40-B577-448E-9C7C-93A6D46F7D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4EA4E8BB-0D96-40F4-82D9-4DEA1D815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140A6F-6F62-4D39-920B-EBEDE71378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117A68-EB88-4FC3-AE0C-DC379E4E3C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7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BD12BA-DC9E-4DB2-A8D6-788F928ADE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608F3B-1D99-4E64-992D-58A48EC31E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205BFD-81C5-4AEA-9F51-F315DEC42A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B180E6-2AFB-4115-8625-0A7B4D0CC1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6A7BA7-25C3-4C62-A490-B6E132B128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8E6EA5-2505-4437-8B33-F27D280D80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25DA02-040B-4029-A46F-4C9BFB43E6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1A73B-91A0-47A9-9624-AEEBDBA6CD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C71C080B-E7FF-4FE2-9A4D-061143A59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27A380-3053-4187-8D47-22FA0D10D6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F8624A-B626-4CAE-B407-0200AA47FA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351C60-9359-481E-B9CD-15ECC74B23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981316-C157-4F89-9247-930FAE5A0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014226-D9C4-4F70-B686-9F8228CBFF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E4B82E07-9C03-4D7E-8B19-7A01D5A63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3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5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221822-00B1-4DEF-A43A-9E061F691D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21DA3B-8F85-451C-98C5-D70A6FFAF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3DDE73-A3C0-488F-89C7-6BB91215EF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C5E490A7-06AB-4DFD-861D-087F5332D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70593C-73C3-4157-B209-EEBAE66800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14B388-4044-48B4-8FC3-C9B521DC96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524469-41FD-4F5C-A328-B34C2E5ED0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7216D4-A461-4C75-ABE4-0CBB1E30D7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B9E9C7-217A-40A7-8E2D-9B2BDAAFD8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6531DE-5228-4DDB-969B-B4C8E5FDF3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F1A02A-2FF3-472D-9753-738114CFCF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73737E-15DB-4361-8EE0-7E887B5FD7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9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2C2AAB-A651-44CB-9E54-889228C9A0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01E216F-775D-4672-8380-10BDCAB904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
          </p:nvPr>
        </p:nvSpPr>
        <p:spPr/>
        <p:txBody>
          <a:bodyPr/>
          <a:p>
            <a:fld id="{003F964E-AFB1-4EC1-A28D-BAADF6E7C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7"/>
          </p:nvPr>
        </p:nvSpPr>
        <p:spPr/>
        <p:txBody>
          <a:bodyPr/>
          <a:p>
            <a:fld id="{C960EB77-A7EC-4958-A50D-339960EE260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7"/>
          </p:nvPr>
        </p:nvSpPr>
        <p:spPr/>
        <p:txBody>
          <a:bodyPr/>
          <a:p>
            <a:fld id="{C3FACB09-36C3-4533-95E8-3A55D447A3A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7"/>
          </p:nvPr>
        </p:nvSpPr>
        <p:spPr/>
        <p:txBody>
          <a:bodyPr/>
          <a:p>
            <a:fld id="{A9A49A4E-E877-464C-BB54-C67E7081AC2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7"/>
          </p:nvPr>
        </p:nvSpPr>
        <p:spPr/>
        <p:txBody>
          <a:bodyPr/>
          <a:p>
            <a:fld id="{33D76630-3110-48B9-97BA-C959C7C01FE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7"/>
          </p:nvPr>
        </p:nvSpPr>
        <p:spPr/>
        <p:txBody>
          <a:bodyPr/>
          <a:p>
            <a:fld id="{4581400D-FB9E-4A02-9E44-394B25567C9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1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518AA093-CA12-46FE-9BD1-FE5C25BCDC2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1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ED742566-2812-48EE-B37A-640DC1DBA9E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627D63D1-64B7-4996-8533-70F1B74A9D3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7"/>
          </p:nvPr>
        </p:nvSpPr>
        <p:spPr/>
        <p:txBody>
          <a:bodyPr/>
          <a:p>
            <a:fld id="{4F97C3D9-97F2-4C68-9322-A41261C389C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7"/>
          </p:nvPr>
        </p:nvSpPr>
        <p:spPr/>
        <p:txBody>
          <a:bodyPr/>
          <a:p>
            <a:fld id="{E907864D-650A-4CE1-B541-7BA7F939B1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
          </p:nvPr>
        </p:nvSpPr>
        <p:spPr/>
        <p:txBody>
          <a:bodyPr/>
          <a:p>
            <a:fld id="{6C6671F7-4100-4118-848E-208854F8C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3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7"/>
          </p:nvPr>
        </p:nvSpPr>
        <p:spPr/>
        <p:txBody>
          <a:bodyPr/>
          <a:p>
            <a:fld id="{0A05E57B-6CC2-4276-90E0-63711E72DD1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9FF2E1C-6EDB-4A20-B4F7-8042BBD30E3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8"/>
          </p:nvPr>
        </p:nvSpPr>
        <p:spPr/>
        <p:txBody>
          <a:bodyPr/>
          <a:p>
            <a:fld id="{0865DB65-1C4D-4811-AAE1-FCE78620CDD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8"/>
          </p:nvPr>
        </p:nvSpPr>
        <p:spPr/>
        <p:txBody>
          <a:bodyPr/>
          <a:p>
            <a:fld id="{3E5B1E2E-E912-4D14-9E05-B42CB3BAFA5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8"/>
          </p:nvPr>
        </p:nvSpPr>
        <p:spPr/>
        <p:txBody>
          <a:bodyPr/>
          <a:p>
            <a:fld id="{36551044-1465-4A5C-8F0A-DB28B73094E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8"/>
          </p:nvPr>
        </p:nvSpPr>
        <p:spPr/>
        <p:txBody>
          <a:bodyPr/>
          <a:p>
            <a:fld id="{8624F6C3-DC20-4122-8016-B992157AA2B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8"/>
          </p:nvPr>
        </p:nvSpPr>
        <p:spPr/>
        <p:txBody>
          <a:bodyPr/>
          <a:p>
            <a:fld id="{F15B03B9-2DF9-414C-BA80-65CF1ED6587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5FC4653C-3567-4692-9953-79268E64FB6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F9DC6F4E-46D8-4B6B-BBEB-1386296FD6B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05C48BF2-B984-41DC-A03A-4DA18B8058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8"/>
          </p:nvPr>
        </p:nvSpPr>
        <p:spPr/>
        <p:txBody>
          <a:bodyPr/>
          <a:p>
            <a:fld id="{5704A97C-5D55-48AA-8BE0-7C138EE7D9A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8"/>
          </p:nvPr>
        </p:nvSpPr>
        <p:spPr/>
        <p:txBody>
          <a:bodyPr/>
          <a:p>
            <a:fld id="{9C858EFD-C868-4D35-BF61-A6EB4C36EB7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7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8"/>
          </p:nvPr>
        </p:nvSpPr>
        <p:spPr/>
        <p:txBody>
          <a:bodyPr/>
          <a:p>
            <a:fld id="{32D6A1B3-FCEF-47AD-A834-B79F2E4D938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1E804CF-DDCB-45F0-8503-26B32EDA718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2090E8E-101E-4AAE-BFA1-F780343E199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AA5D594-0921-439A-A9E5-3FED581E0B5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470C326-FC60-4E06-A835-4B2E7BE19CD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6006D2B-A3BD-4D9B-BBBB-C3093BB6802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EE1F11B-6A8D-4897-87A8-BFA2F969488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8A7EDAE-2F90-42D0-83F3-212B7D9C29C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814622A-8F30-48E6-99A3-7FA479274DE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6BB15FE-7933-4DE9-9655-3524E8965E7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E065F20-A639-47B8-8D84-520FB51E890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C15714C-8700-4C3D-B31C-8512B31367A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FA50B33-C6AB-4BC9-8AE4-66AAEE1B9B2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09E7C0E0-4B38-4DB0-9B9D-3CB14D75D28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2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205F6D2-EE73-4E7C-B641-71AEC4F91D4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2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A2ED24F-E8EA-473F-ABEA-483F356A9E0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970627B-7D82-4698-AAC1-D31CAAAC2DF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8A1B36C-8BB2-4891-83F5-260E501C33F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9B5BA94-70F8-418D-96DF-44C82F23176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304F3F4-7CA3-4998-98FC-81DE36A97A0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66383AC-8428-495A-B044-A8BF1C5EB83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6A4B810-1C51-4BC9-89C6-15BE5C396BD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83B4D40-F888-4AC9-A06B-2840BDAA769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CCE0B4F-5DC1-40E5-872B-AF5A48040D9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5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CDB57DB-8E1C-49FD-A45A-D0EB90D4C62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19FC6D1-F4E0-4D10-8AAC-4E3BB894CC5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6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33E5A46-F2A1-4066-BEBE-72CA590AE96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D4FCFE3-110C-4352-AA8C-D1BA46D3287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A795EF4-FF26-4128-BC06-E1E67B9EA9D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813C60D-7C61-4CAD-A2EB-D1487E48BD9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F97F195-2AAD-4CEB-B3AE-A7F051E7AE8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01E9748-5C43-4886-8E67-21DE085D4D7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D6E044E-398C-4281-9F16-C845B6410CE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4E90C52-0673-4E41-A8DD-3E122F7D011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CD7C862-63C5-4C20-82F0-2582188CE27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9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A64BD87-981C-420F-A6FB-C399049FA6BA}"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9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E9EADD3-85CA-4712-8AC3-CF8F66FE474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1EA23D2E-E20C-43B8-97D2-9A1B8AFD4E21}"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0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B067BAF-94A0-4190-BD11-F42CF8A7FF6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BC4930C-8604-4297-B35D-D024333FA59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1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9EDEFB9-882E-4820-9758-7914EE5168B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1AE8178-D3E5-4C1C-A7D8-3950B052ED0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F966BD1-C49E-45CF-B2B1-5718CF68F8E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1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1597F49-FE0F-4D24-9561-1D1F8EF58C3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FE33079-6E63-4B37-9027-8B4242F9F04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7A9ACFA-ABAD-48D9-81BF-DB0FEF9BC97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D179A31-7123-46FB-890A-DA9815D4350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C535AC8-82C9-4640-A635-8F5721232D2A}"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ECE2B0C-77C2-41DD-AFCF-437C4D2D573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1A63667-0926-4004-99AF-19DC2F2708F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A175FF5-43CC-40F2-A322-CABA439E115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7BF65C8-F9BB-4921-A910-33BE42D7610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AF23235-FC6E-4A17-B03D-295CB8EE3FC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1525148-3D92-45AF-922A-D4B04D114C4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190CC5C-63B1-4AD2-B527-0B2F046ED38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9C01FEE-951C-4AD9-958F-259524E08C7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A8495BF-B1BE-47A9-9ED0-0DAC408FA53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922395D-9BF9-4D36-B32F-20A04AA7D21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CF58DCD-E9AE-4803-BA04-80387A2E812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57B5C63B-8938-4458-8793-84D030631558}"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DEBB9042-28DA-48FB-9FAF-25E3B55FBE3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CF58903C-078E-4EDC-BCB7-9B2068DA7CC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DA55BB2-C016-4DDE-8138-BC90DA16E1E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34195B6-7EB6-44A2-AC53-4C2BCED4E34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1B3F25A-6E10-43D0-B86B-8C676FD7360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1DF21E2-3A0D-43DB-AD84-34D6A6D0D07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7956458-5328-4324-B521-0814FF1BA07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981CF63-03C3-4A1D-A366-1CCAD213048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BCFB50A-A0BE-47A4-A7EB-1C23133A39D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94C4BF3-9D43-4CD0-A1BF-2D6308343F8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04ED984-D4F6-43A3-8841-3FE375F1B32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E60688E-DFF1-41DF-95FA-1B88D1E1400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2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0FC9238-4CD3-4C35-A29A-6596A9C837F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A7425210-95F0-4BD0-ADCC-AF3F3F5947A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1D30CEC-7098-4EE4-A1F1-C12EF380535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5A7CB99-A4A4-4459-97F6-1C34B43F65C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9F1C8F5-D753-43E0-9EBB-91550AD3BF8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56023E0-2E70-4414-AC9F-25EEED31913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374D7D4-14F4-45DE-A5C0-5E4614B42F2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00C3465-4478-4992-93A4-89F39D24A7A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4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159A0F1-5BB5-440F-A98F-3F58E80B9E6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CFF3F6B-0546-4334-BE2A-CA6E1F758B0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2A9A71F-9F03-4630-9AAB-68654B93FAB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D46AC3B-D159-4E21-9E40-04C798949D6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6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0520A1C-86AC-4C1C-B1FB-0CBD78751950}"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550576E-93B7-4C64-BF63-66093CD17D2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7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61ED98A-125D-4D76-A1F1-3EB280FC91F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7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D6F2DBA-6FF2-4167-8D92-EC10C131695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FA66DA6-A774-48CC-9D44-8F3747F664C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A7FE2DE-9023-436A-800F-B94EE374F6F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51A339A-997F-4A79-9B51-FDE4F4C4A3C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AC42734-D40D-4C79-B955-AD825EDF28E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4EAEA79-7304-49BA-AA8F-F8722326286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9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65CC5E9-A989-44D8-973E-22747499DE8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9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136E6FD-96C7-41BA-AE8A-0A3F9F70B58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2DC41303-1088-4910-9D70-4904A354004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0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1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9DF0A57-94F4-47D2-A909-C19C2D1B0FB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C15B3559-D56D-408C-A989-A4495F20A90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1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66F05D8-DF5B-499D-B038-734A1263A51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1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D5FA518-5751-4B24-831F-0A560B4A97D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2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3CB86B3-1F8C-41B3-84C7-8523041F9D3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F2E1AF9-4532-4506-BF4D-C5D2ADFD773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37EC544-B36F-4E01-81DA-9CE0FCF1CA4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00F6541-A99B-47B5-B5D6-A916C2E89BB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9F8D630-2715-4A9A-9AF3-7DCB3BBD80B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EF704EB-9D1C-48D2-821E-8D02FA1853D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048D4B3-10CA-4B36-BB90-9C4FABB23CC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305759D-9DF1-41EC-9CD5-97C16C773FA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4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5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5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3E1DDC7-6718-49D0-96AD-733E06545ADE}"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AE0AF07E-074F-4F19-89F8-377F12B488BA}"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5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D96A96A-CA95-4E01-AD64-9A89280E3E8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D0187989-CF40-4589-9502-96A59DA5EB5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633EFA7-70F5-40F3-BF5D-EB02B526E5D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2330835-0BF4-40FC-AD21-1D8519E863F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4ADE280-F96E-4608-A4A2-4B8555144E9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9E2E3D9-1C52-4DFC-800F-3507379BBAD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E4E310E-464B-4D09-B8E7-3C720EAF849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5F5B0DC0-BAF1-4CFA-9812-5570D5BAB6D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99E083E-5A2C-4A3F-9F0F-D4BC2CD258FB}"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61B99EE1-1D51-4255-8620-55B529255491}"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8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101D4AC-070A-41C2-862B-B59D2AE66C03}"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69"/>
          </p:nvPr>
        </p:nvSpPr>
        <p:spPr/>
        <p:txBody>
          <a:bodyPr/>
          <a:p>
            <a:fld id="{78770E26-3074-4B88-89AA-A131AEF66DF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9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69"/>
          </p:nvPr>
        </p:nvSpPr>
        <p:spPr/>
        <p:txBody>
          <a:bodyPr/>
          <a:p>
            <a:fld id="{F5A0E701-BCFF-453D-8D98-265C46507A4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69"/>
          </p:nvPr>
        </p:nvSpPr>
        <p:spPr/>
        <p:txBody>
          <a:bodyPr/>
          <a:p>
            <a:fld id="{6EC4171B-FD41-4F41-B342-5E4D3A4F79C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69"/>
          </p:nvPr>
        </p:nvSpPr>
        <p:spPr/>
        <p:txBody>
          <a:bodyPr/>
          <a:p>
            <a:fld id="{E7ED43FF-9FDF-4D58-B24F-4A4EBDA9BC3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69"/>
          </p:nvPr>
        </p:nvSpPr>
        <p:spPr/>
        <p:txBody>
          <a:bodyPr/>
          <a:p>
            <a:fld id="{A10A67F8-DA8F-49A1-BCE3-DD6625FF68C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69"/>
          </p:nvPr>
        </p:nvSpPr>
        <p:spPr/>
        <p:txBody>
          <a:bodyPr/>
          <a:p>
            <a:fld id="{4FF9AED3-E29F-46CF-80F4-4AC056C184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485AE6E7-52ED-4463-B34C-E6577F0CF26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1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EA8B38EB-4229-49C4-B6C6-0510C16B2F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07E225BD-A444-4B71-B5A2-5B5797C92B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69"/>
          </p:nvPr>
        </p:nvSpPr>
        <p:spPr/>
        <p:txBody>
          <a:bodyPr/>
          <a:p>
            <a:fld id="{AC50143D-87E2-4041-9F80-82933E63514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69"/>
          </p:nvPr>
        </p:nvSpPr>
        <p:spPr/>
        <p:txBody>
          <a:bodyPr/>
          <a:p>
            <a:fld id="{57C869F0-A25F-4A64-8457-1C80565402D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69"/>
          </p:nvPr>
        </p:nvSpPr>
        <p:spPr/>
        <p:txBody>
          <a:bodyPr/>
          <a:p>
            <a:fld id="{138F536C-A366-49A6-A1FC-71BE3BEF4A6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A3F198AA-2443-4328-BB7E-01D70F57740E}"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EEE42F2-AB83-439C-BC50-BBC822D62317}"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14CFE40-A6DF-4B3C-BC1B-39BFC5DF6131}"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1F456AA0-B052-403A-A697-94BE4AE47AF5}"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DD777C41-0B83-41C2-82A6-A12C134F57A4}"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B88D215C-F04E-492D-8F28-CE4474CE962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324CCD3-3AAF-4DD2-9D25-98433050079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5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B6B6A51-1C03-4300-AE48-E82B68E6708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9EC9EF7-B00C-43FD-830E-D8191B000FF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795C3CBF-3D6C-4355-87FC-0134CDA7C8C0}"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C34E9DF2-E315-407F-B161-78D7F9E5321F}"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2E7FC6E4-A18E-479F-83D7-46EF78435F68}"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3268B951-E97F-44B1-9856-A1BDBD4C56C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75"/>
          </p:nvPr>
        </p:nvSpPr>
        <p:spPr/>
        <p:txBody>
          <a:bodyPr/>
          <a:p>
            <a:fld id="{2BE5A9A5-6D8B-4FD6-B993-12130B61B54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75"/>
          </p:nvPr>
        </p:nvSpPr>
        <p:spPr/>
        <p:txBody>
          <a:bodyPr/>
          <a:p>
            <a:fld id="{152FE4BC-93EA-4D1D-B1F7-E1A94701D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8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75"/>
          </p:nvPr>
        </p:nvSpPr>
        <p:spPr/>
        <p:txBody>
          <a:bodyPr/>
          <a:p>
            <a:fld id="{62584F66-707F-4BAF-851E-80BB117E82D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75"/>
          </p:nvPr>
        </p:nvSpPr>
        <p:spPr/>
        <p:txBody>
          <a:bodyPr/>
          <a:p>
            <a:fld id="{2785B57B-3EB1-427D-A6FE-9151505F49A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75"/>
          </p:nvPr>
        </p:nvSpPr>
        <p:spPr/>
        <p:txBody>
          <a:bodyPr/>
          <a:p>
            <a:fld id="{E0A5C7A1-216E-4029-92F7-CB1CC7C070C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5A35EE39-D528-48E6-83CC-7E2E2A7D0AF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F6E265B2-9788-4976-9628-0B995620709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1E55E23A-4FB8-41A6-A7BD-36CA6DE1CA8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75"/>
          </p:nvPr>
        </p:nvSpPr>
        <p:spPr/>
        <p:txBody>
          <a:bodyPr/>
          <a:p>
            <a:fld id="{24DE5B33-31A8-4F88-9197-B0F84D648F7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75"/>
          </p:nvPr>
        </p:nvSpPr>
        <p:spPr/>
        <p:txBody>
          <a:bodyPr/>
          <a:p>
            <a:fld id="{97B9A416-BC11-4988-A43C-1722E7C6F8C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1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75"/>
          </p:nvPr>
        </p:nvSpPr>
        <p:spPr/>
        <p:txBody>
          <a:bodyPr/>
          <a:p>
            <a:fld id="{A2EC6DA2-2702-40C9-B46E-A59EE172F3D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80C2934-CFEC-4D3E-ACB9-8D013AC758A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2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264DD81-ABB5-49EE-9449-64302748797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2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54115D-868D-4506-A59D-FE3B83C06FA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7F2A193-B582-440C-8449-66565651B65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AD62D9B-44A5-4BC2-A270-CBF463140F8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63C3BE4-80CB-4925-A99F-551B2A02A63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254166D-6ABE-4BAD-8DDE-8264B8ABC15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2FD9F1-32F3-4A5F-A180-222039C91D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2EBE1FC-DFA4-4BA5-9EC8-FCBDACC935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C9D3FD3-7A66-46E2-B9BE-442BF73E23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B1C714D-720F-4DC3-895F-2F4DE4F7025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5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6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6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5E47CB4-C842-4FA6-8763-5C661CC0091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3C9C248-3B4E-4611-B8EB-240A0D1555D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73979CF-18EB-4CC9-AD0A-3CE66F65176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B988E94-DF87-4070-9CC2-F0E5C28C099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7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7FD6807-6804-409E-8520-1B4F1304198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EEDC952-B6DE-4744-8161-298E4B0283E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39350E7-3701-46C9-9667-12C5041E699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CEE8666-1FF9-4B16-98CD-9FF58DCDE8B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075694-B920-4E9F-9FCC-73E26A94BEE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0C4ADB-FB01-4184-85C7-A8DBF71BA72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9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1C1F409-3F9A-4DC9-B4D2-1772067773F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66F4660-096C-4BFC-BA6F-859D1513D93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0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D3440D4-0FC0-4C59-8BB1-83458134DE0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75675DC-5BE3-4CE9-8AA2-B1378297681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CBAF8F7-B5BE-4A31-9B82-15B0BA770A8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4295DB3-3863-43A7-A812-516945CACA2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6D2E34-CBF9-478A-B89C-BEEA313B97C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2BCC952-3D41-466A-A5A1-DE6E557BCEC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C9BCF5A-76D4-4DE0-BF70-C9FCDD90BC2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2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47B832-F901-4549-84AF-08ECA7A145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2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9F88D16-164E-45ED-B6E8-16968054CF7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06B0ED-45BA-4084-B935-7CEA5F6BD55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E07775F-2152-4336-9EA3-BD445B09A22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F1584D3-C7D1-404C-85ED-3345FA658ED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4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6AD9B40-2F8F-4EE8-8E54-9FC7F0B64D9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F27CFFE-6F58-4B67-89E4-72EAF18B324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5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811A360-3A2C-491C-915C-094538F65B3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14A77DE-9635-4C4B-B787-569036A4059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D2D5156-96B1-43C6-B8BA-2E2F9C77CEF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AC1991E-177C-4F91-8A98-B69849DDB5A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F4FA117-1B47-4973-91A1-3ED4DBA3769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6207806-C0A7-4F07-97B5-A296D57A86C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7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DE49A5-727F-4C16-9ACA-496C1C10F75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70CD3DD-3F85-47FA-B4B3-B5F081C10CE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75C8A4D-7706-4A06-BEE9-364CCF7A6B9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CD728A2-0B9E-4D3B-B39A-980D6309DAF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A3E526B-C9AE-44EF-8F47-6F327D0501C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48B6FD6-DB47-48C1-85DF-6CF057DE78A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4A699C9-AD6E-478A-935A-280D2DB4F94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46EB41E-A186-43D8-93CB-54352E73B0E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0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0AF2BE8-8ED2-457A-9FC5-10640680B61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241C6DA-044D-461A-A893-3C7D660891D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A9151D8-CDE1-4815-BD2F-4BB8F0D70AD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1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630673A-3E80-40A7-8534-9903FAA7F2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1BE2CED-00EA-4284-BE25-3AA6DA9CA94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473A247-E281-465F-A1DE-06935FCFE60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F8BE2F4-3895-41B9-998C-215546E57DF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A0EF635-B5F5-4836-AD56-60DE9A886AC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3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2209B93-5FA0-410A-8C92-5BF7F45DEBB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D6D46F2-CD6D-4A73-8249-6A923C2D218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4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6AE08C7-4D90-48F6-A37D-944A0F5D499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4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318DE26-8464-4C9F-B6CD-B37DD0D0901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5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77F9CAC-BB7B-4574-8D8C-BF380CC569B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8A5A9DA-0FEB-4AF0-98AB-FA6BDAF178A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29206B4-842E-489C-B6E0-FEE578DE5DB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A60240-6F64-4799-A1ED-C37942CCEFE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A6BFD9F-7E1F-4462-8CF6-5E1DE8DA3D2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48EF0F3-D104-4E16-AE04-A23DA78054D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30FC644-F44B-4C01-91A0-D8781D2FB7A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B6B2470-FC09-466A-B1BA-014DC35E8D2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7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8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8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91CC7AD-1F45-4D98-993B-85C8852FBB3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8FAE123-A50C-4B88-B3E4-65A2523027D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31A49CE-1733-4781-BB99-0554CD9B6E1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E4FF6CB-CCE4-44B7-81A2-2BF7E1176F8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7DAFCDD-3613-4FE1-B8DB-D860EAA91E1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08AE20C-BFE0-43E0-999F-0CDF0B1DAF2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490CC5C-581E-4075-A902-CB1297C2ECB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7A95192-3CF5-49DB-A9BC-01547FD65B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9319237-B104-488C-9355-A6D4BEEF3AC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7D991DE-5D1F-4AD2-A090-321D15B4E4B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1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5A85800-3B72-43DF-A9F8-20EB26FDE03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C24906C-C8F9-4FA0-8A72-E26B217C424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2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B453D29-2E73-4BDC-8724-88EBE673FEE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029D5D0-B812-47E0-98C4-599F9E64750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DD7E94F-86DB-44EC-A0C6-146169F7BDD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EFC41DA-6583-4370-81CC-A66A4F7C931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4F2B04A-C65A-420C-90EF-D354E6C5B03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23F5B84-741B-414E-AAD0-17186EB0A27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082C8E-85AF-466C-A506-760593EB218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B87A0F8-CF90-41FC-BDB2-A583771875D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4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9D0DC98-A38A-455F-9CD7-414BEAFA6B1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9A153DB-5308-4D60-8681-23395A40F41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08AD935-E229-442D-AFAC-9D407D84D41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EA1EA36-9475-4569-B222-CD003D010D3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6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033C2F4-E16C-43EC-9447-317989D1978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2E7FE22-5837-46CA-B451-3EF6CBA6793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7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0EB1F79-7142-442B-BCA0-C986DF6AC44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B8444F0-FEDD-4418-A0B9-DC161218B4A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8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1C75AC2-82F2-4713-AE7B-FF71D6C8DF7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A7623A5-C07C-48D2-8304-7797946535A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72FCE4B-BC6A-4C4F-B88A-38FE0CB5748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8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6ADF6B3-BCDF-483D-8B16-E034B1E296E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9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2D4E0FD-E678-45AC-B9C8-67E0539E8C4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457DDC7-EB05-47D4-A413-D58DD7CCED1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093A04D-AA04-4EE2-B512-A5A93B924D8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05EAECF-FACC-4023-9602-10C5A7F6F12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4BEF164-6194-4D29-BC19-A4AC887A2E4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1D141CE-0914-4DD7-92EA-D4463F77389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B951EC8-D026-46CC-8358-55BCF3CACDB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5728EE6-BDEE-483E-B17F-713304EC348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2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BCD1AE5-8180-4F0E-BBA4-E84EBF1472F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B363DE6-D07B-4C52-B6C8-78D8944C447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99AEB9B-DC7E-4045-9A29-E8D80C87A5A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3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8AA4DD9-7981-46F6-9C47-4F281D494FE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28F9B43-B9FE-4F18-9B2F-BFCD25DF457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3FA463-D0D2-406D-83D2-38FE717B66F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D2E1E49-9D6F-4C65-8C09-208F2CE1E57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17B8EDE-82ED-4F6C-A30D-B6B5BEB9AF1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5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B8373E2-8F90-4788-9CFD-5C9F87E61C8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6"/>
          </p:nvPr>
        </p:nvSpPr>
        <p:spPr/>
        <p:txBody>
          <a:bodyPr/>
          <a:p>
            <a:fld id="{49BB457F-0066-4DCC-A676-5F97B81470F5}"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6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3A4D7928-695A-4E6D-B59A-F5B1F849114A}"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6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C22B1D83-5FCB-48F2-9299-A04DC79AE43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D643C3A9-B94E-495C-817D-2889A4633F98}"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DB9C5CE1-4E10-44AC-B0E9-8C4A86B00309}"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8C953C0E-2A9C-43B3-8359-2E08F8DCC8BC}"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390815A2-3E80-4BE6-9811-8676360CA6C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3AB78974-D9B6-45C2-8EF5-370D2E21C39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BCEAD29E-6B29-40A1-988B-E53C1983BD09}"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EC76F5F0-86D7-4318-BBE8-A57A267BCEBF}"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9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6"/>
          </p:nvPr>
        </p:nvSpPr>
        <p:spPr/>
        <p:txBody>
          <a:bodyPr/>
          <a:p>
            <a:fld id="{FB4C0517-F7A6-4C82-97A9-024652E0C4C2}"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9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0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0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6"/>
          </p:nvPr>
        </p:nvSpPr>
        <p:spPr/>
        <p:txBody>
          <a:bodyPr/>
          <a:p>
            <a:fld id="{FF83501E-1CF5-44D0-8A92-8B110FA4D924}"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885F94CD-BF5A-4913-BC43-99AEFB07A7E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09"/>
          </p:nvPr>
        </p:nvSpPr>
        <p:spPr/>
        <p:txBody>
          <a:bodyPr/>
          <a:p>
            <a:fld id="{ABF200F5-C400-4DAC-B36B-1AC8F8FACC27}"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09"/>
          </p:nvPr>
        </p:nvSpPr>
        <p:spPr/>
        <p:txBody>
          <a:bodyPr/>
          <a:p>
            <a:fld id="{C3B55CEF-9462-4AB6-927C-386EE5A534B1}"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1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09"/>
          </p:nvPr>
        </p:nvSpPr>
        <p:spPr/>
        <p:txBody>
          <a:bodyPr/>
          <a:p>
            <a:fld id="{DE129F4C-B057-48F1-885F-2D99C40C95F9}"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09"/>
          </p:nvPr>
        </p:nvSpPr>
        <p:spPr/>
        <p:txBody>
          <a:bodyPr/>
          <a:p>
            <a:fld id="{1EDCB34C-4645-4F5C-A5ED-18A1E11204DC}"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09"/>
          </p:nvPr>
        </p:nvSpPr>
        <p:spPr/>
        <p:txBody>
          <a:bodyPr/>
          <a:p>
            <a:fld id="{9811DCD2-A7F8-4D2F-817C-FD448EAA2C54}"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5EAC8532-A69C-4FFB-B791-EC7FA1EA649D}"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2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42C72FE5-77AB-4F77-A743-5F1837E2635E}"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55EB0296-DC27-4231-A3BF-DB107E8AF9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09"/>
          </p:nvPr>
        </p:nvSpPr>
        <p:spPr/>
        <p:txBody>
          <a:bodyPr/>
          <a:p>
            <a:fld id="{792973CF-E403-4B33-852F-D0EDD3F8AA01}"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09"/>
          </p:nvPr>
        </p:nvSpPr>
        <p:spPr/>
        <p:txBody>
          <a:bodyPr/>
          <a:p>
            <a:fld id="{7A9145AE-1E93-4D92-9406-E76C98909B08}"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09"/>
          </p:nvPr>
        </p:nvSpPr>
        <p:spPr/>
        <p:txBody>
          <a:bodyPr/>
          <a:p>
            <a:fld id="{B51C4340-1E9D-4661-831F-744390D1FB4D}"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CAF4E897-6369-4A1B-8A8E-347FBA73E3BC}"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EA5E997D-5E3F-4021-96AC-97E174B9CF2B}"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5C514775-C438-4A45-8F15-BA78D293C78D}"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5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8DFF5BE0-5B23-4601-8412-171974E3086D}"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8D230352-6AFB-4F1E-955E-9CE3D57AE131}"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0B72729D-6D56-4F80-807E-4B0431FA1BB7}"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6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1B39A4E5-9602-4818-9BD1-10764AAB9643}"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6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A325B1EA-1D5B-4A2C-899F-3EDA3CF3E23D}"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DDDD389C-97E3-41D2-8EA4-7CE8CCBA7162}"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C03F979C-83D8-453C-A547-8E92BBBA6CC6}"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6574CE62-CA80-4AB2-8F0E-085C69F840C2}"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8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590545BC-A363-4057-BF2E-A64ED9F1F295}"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B44E6FC8-3A49-4F72-BA23-4FA76AEF7CFD}"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9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5CF9263C-A458-4487-90E5-E1F1E6580515}"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B819B523-8F1B-4A49-82B6-257C6F655C37}"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2744C4B0-D109-4A88-ADF7-9510BEF6C75C}"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436B9BA8-75C4-4785-877C-749CEF742198}"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47B183F9-4FCD-4458-9879-21831AB78C77}"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E4F90A52-5617-4A81-9DC1-CDD26D865906}"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22EDCEA9-4C71-4934-BE09-02191DF2D43F}"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5D374C08-FA00-4423-9A7D-BD56971DE79A}"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37609C20-4BA2-4A23-9016-1C1F1DFF71CE}"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7944234E-C164-4BA9-A3B7-5989EDB302D8}"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2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35877E61-E123-459E-9DF9-816D9A358602}"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11D8EFE3-8C2F-46CC-BC22-71A5157DE087}"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4E904C52-B099-4BD0-A8D6-3D00EFB13404}"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F2414FAB-D3D9-4AC2-A7CD-282C6DF0C814}"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4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2E770948-E7C5-461D-821E-B883BDE14C28}"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63F97CC1-B182-474F-A245-B6B9BA829CFD}"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A6DC8D8-E87D-41A7-BD6B-DB6DC0D0E874}"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C9F6709B-4C9D-49C4-8534-A83AE22ABDC3}"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CE8402B1-C4C6-41C0-BA52-32F861DA63A3}"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DE40E1CE-A4B9-40BC-AA03-99CED9CA0811}"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6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CC84AB10-3485-41C4-A6CC-60C6EE677CF1}"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6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606275C0-3CB4-43FA-ACB0-53ADC2C1936E}"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7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771D60F1-A513-4E97-B22D-79F13E011E73}"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70B288B4-4A1C-4695-A9D1-52E0B1BDB92F}"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24E02B73-5FF9-46DF-BFF2-A54E138540B1}"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CBF6B790-2457-4DA3-9297-86CCFE861AC5}"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4342D216-E6CD-4C53-BC5F-05DDB68C9AA1}"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8FAB512F-6131-4B81-8A4D-25B2E24430EF}"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01A533AF-8D9E-44BF-B904-9D5D47B75869}"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8CDB8190-21B6-4A05-8A58-46BE5FE32053}"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A063DFDF-A928-4B6E-B890-F32A72C52ACD}"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9F1E0BA4-6B96-43C2-A49B-53F20AEBD9E7}"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452E9CFB-AE7E-48E1-8EB7-A50B4F59E0D4}"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48F14B4F-E4B4-47CC-A392-73F34F80F070}"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F2548916-223A-4204-9344-D5CC9BAF6DCB}"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696518B8-2D17-4298-B175-953BDA312963}"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2093C17F-2CF3-4060-9110-7A798BFC2165}"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7C449C17-45D0-455D-8EE3-18ED03C2F820}"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3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5E6A5D13-7ABF-4B4B-82F1-86DF589A51FB}"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8F5E6F41-2AB8-45E6-B654-D49E441BD321}"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3AF91961-4BBF-4D9A-BD58-71B8B01256F4}"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60A4A622-8C7C-4F43-BA22-DAE5C9E361AE}"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4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2CAAD019-128B-45DB-B7E9-2A3962FEEF0C}"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D279204B-3B12-47C3-9D07-2755ED683AB7}"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E237D591-DE59-4CD7-9514-C5448E17E602}"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A7D2D6A5-1B0C-4245-BF87-381B28AE6775}"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40F71B95-9956-4492-AFBE-03A4EE4A4013}"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94173C2F-8308-44CB-A191-D2E5B90C9B33}"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D9D9D161-FD0B-46C4-B07E-B17FE3529D7D}"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D518EAF3-F1FB-43F8-9B68-36E03B514AC9}"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7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D8CF891C-8701-45C6-BE81-F84DC020F693}"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E678A6F1-4F9D-4596-92B3-8EBE4BA378E5}"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5D4ABF9B-F814-4092-A0C4-04EE696E3F21}"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8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A1CA09EC-3178-47DF-A01F-DBEECE15E2B4}"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8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3F27DD52-6EF7-4288-917D-BC0BF6214730}"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939B457C-FCD9-4A9D-98F4-7B89B697BCF8}"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BAAF59A2-3342-4E03-B7EF-F290E3A5EF72}"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1AAD6A2D-87F4-4916-8177-565B225273B3}"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0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3152DA8E-31F9-49EA-A6BE-4367423DC286}"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91D0CB23-BBF3-4579-A5D0-1C3965EF69A5}"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1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2BD86A22-FE9D-4312-A82E-494DEE02FFE1}"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26F84A80-21AD-4476-A0CF-295B5608D42E}"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ABF883F7-0F9A-4F14-B162-4B76E5654152}"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980304D8-2668-411C-B752-564DBBAAFACE}"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435FD4E0-27C4-4FFA-A9E8-37F9D7DEB2A6}"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F852272C-1117-46FD-B713-5A10C80A9604}"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AE0C8822-0CD6-4BC8-8D81-353B7C5D7C8A}"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7E40D99B-4C54-479E-BB94-5BD06089B2BF}"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C68E2ABB-0086-463B-A5DA-05D36D891BB3}"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6F1B8A83-46F9-4B53-81AA-92DD740E5DCE}"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415E65DB-5E0C-43CC-84A3-B0632FA74FBC}"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6653C927-EFBE-40ED-AFD8-3F7BCFA22754}"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A793DB01-2D7E-49F7-A416-86435E73BF5E}"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89EB4F64-8C2B-4C4F-A80E-08E78E82931F}"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6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170AC68E-9A5A-4EDE-A338-5C888CEABB7F}"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15C34FE0-D425-4A65-83AA-C611FBD6E730}"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CF34E2B3-F521-4847-BB59-A922282E7A46}"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1805C814-CC33-46BF-AD09-7B7C8C4E1A1A}"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200BC83A-E6B3-478C-9639-A068DCE6C92E}"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42355287-2E32-45BB-8393-366A8C139E1A}"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8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FBDD72B5-DA70-4F64-83C0-BA2E32ADAD65}"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8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AF3943BC-B9F5-4093-8539-42B32914A711}"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9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E8C692CC-CBBA-42E7-8508-664A9A89D3C3}"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E45A57D4-B7F2-4C88-A334-1346FDC231DF}"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0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86CDF677-1A79-4B7F-A92F-2EF88ACAC072}"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0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F4799676-1BF8-4150-8D71-0F21E732087F}"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87DE2284-910A-4858-985B-683DD6C21F38}"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F3DD7765-DCDA-4634-82BD-E262ABAB5C93}"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6337326D-DCF6-465C-BC68-C724C448F3A3}"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633489D7-78EE-4312-B4D5-46E34AFD4AAF}"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468DA081-AABD-48D7-9E4D-2ECAAC52A03D}"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268885A5-7583-4B4B-BE10-62109DB0DBB6}"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2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0EA05E44-80DB-4C44-BE5E-7A4AED6B45D9}"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DB699797-84AB-4BA9-8B80-EA9C7074A993}"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3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4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DB930A37-B774-4BAC-B9B0-F10D43A76C0A}"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987809B8-D149-4ED1-BA4D-5F7A3AD27592}"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CA3B31C6-FF6A-439E-93C9-6B86811AF637}"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600CE58F-C549-4E09-A760-B9EE39D1A390}"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7FAF1D94-15AA-47E3-AA0C-CC32200C716C}"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B73FBE8A-6CCA-465C-B8EB-5F0CC373099A}"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273EE8B4-91A7-4665-A1AB-8AD40C3434E8}"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5D302EAA-C3FD-4539-9112-C12FEC039500}"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9EA0BEB3-680E-4A51-9DD9-C7F74F7F7157}"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C3926BBD-C775-4901-9537-7375B1337DCB}"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BBAFA582-7AFB-447F-82EA-CB799E1F461F}"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195B240B-9820-40E9-8309-4498FB7E5F7B}"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4D35E066-3A5C-43AC-9EC1-3F036CA4413F}"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0"/>
          </p:nvPr>
        </p:nvSpPr>
        <p:spPr/>
        <p:txBody>
          <a:bodyPr/>
          <a:p>
            <a:fld id="{F9500C48-DDCB-4366-B004-CDDC40372DD0}"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0"/>
          </p:nvPr>
        </p:nvSpPr>
        <p:spPr/>
        <p:txBody>
          <a:bodyPr/>
          <a:p>
            <a:fld id="{E3BEEC90-1961-4512-95E0-C45B4F0EACFA}"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0"/>
          </p:nvPr>
        </p:nvSpPr>
        <p:spPr/>
        <p:txBody>
          <a:bodyPr/>
          <a:p>
            <a:fld id="{220A90E2-9641-4B0C-8E4E-A6F1705A6BC2}"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0"/>
          </p:nvPr>
        </p:nvSpPr>
        <p:spPr/>
        <p:txBody>
          <a:bodyPr/>
          <a:p>
            <a:fld id="{F582DF1B-ECB3-48E2-9CAE-072D9387BE8C}"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0"/>
          </p:nvPr>
        </p:nvSpPr>
        <p:spPr/>
        <p:txBody>
          <a:bodyPr/>
          <a:p>
            <a:fld id="{D689F978-2050-4FC7-A196-8BE0459CF78E}"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0"/>
          </p:nvPr>
        </p:nvSpPr>
        <p:spPr/>
        <p:txBody>
          <a:bodyPr/>
          <a:p>
            <a:fld id="{12C9668A-3A21-46B3-B72B-4005512DEABE}"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780EDEBA-51F1-4C72-BBFD-808434EC5ABE}"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FE4DA99B-FE19-4CE3-AA64-265184E3A999}"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505B6B76-E245-43AA-A9F3-DCF2694C5182}"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0"/>
          </p:nvPr>
        </p:nvSpPr>
        <p:spPr/>
        <p:txBody>
          <a:bodyPr/>
          <a:p>
            <a:fld id="{4280853C-A2B8-4927-83F6-D1FAFBDD3D33}"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0"/>
          </p:nvPr>
        </p:nvSpPr>
        <p:spPr/>
        <p:txBody>
          <a:bodyPr/>
          <a:p>
            <a:fld id="{20FF8549-4169-4E37-A3D5-EC2B44F94EF1}"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2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0"/>
          </p:nvPr>
        </p:nvSpPr>
        <p:spPr/>
        <p:txBody>
          <a:bodyPr/>
          <a:p>
            <a:fld id="{7D0F7AFB-1C9B-4C08-952D-97D709713622}"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34C91416-6FEE-4D2C-B66E-51EEFA468841}"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43"/>
          </p:nvPr>
        </p:nvSpPr>
        <p:spPr/>
        <p:txBody>
          <a:bodyPr/>
          <a:p>
            <a:fld id="{3099EE3E-B42E-4D5F-AA0A-5E0E65E8CCBD}"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43"/>
          </p:nvPr>
        </p:nvSpPr>
        <p:spPr/>
        <p:txBody>
          <a:bodyPr/>
          <a:p>
            <a:fld id="{62814274-7ABB-49F4-90B5-82F789826EE2}"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43"/>
          </p:nvPr>
        </p:nvSpPr>
        <p:spPr/>
        <p:txBody>
          <a:bodyPr/>
          <a:p>
            <a:fld id="{B8562CA0-108E-4EAA-88ED-705A969EE8F1}"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43"/>
          </p:nvPr>
        </p:nvSpPr>
        <p:spPr/>
        <p:txBody>
          <a:bodyPr/>
          <a:p>
            <a:fld id="{62029573-D85D-4794-BF73-01E48EFF3D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43"/>
          </p:nvPr>
        </p:nvSpPr>
        <p:spPr/>
        <p:txBody>
          <a:bodyPr/>
          <a:p>
            <a:fld id="{46ECD890-D46A-47A7-8584-1D7194F7AF6B}"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C81AAA24-8160-4EAF-8874-24C7F89309F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9F9C7497-FED3-4873-AA32-F886A6D2A594}"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202BFCA5-D9A1-4679-925B-F275D093B7E9}"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43"/>
          </p:nvPr>
        </p:nvSpPr>
        <p:spPr/>
        <p:txBody>
          <a:bodyPr/>
          <a:p>
            <a:fld id="{3EA92469-1641-465E-B58B-37A546797696}"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43"/>
          </p:nvPr>
        </p:nvSpPr>
        <p:spPr/>
        <p:txBody>
          <a:bodyPr/>
          <a:p>
            <a:fld id="{7EFDE91C-BFA1-4E3D-A6B1-E8878DC3F65E}"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43"/>
          </p:nvPr>
        </p:nvSpPr>
        <p:spPr/>
        <p:txBody>
          <a:bodyPr/>
          <a:p>
            <a:fld id="{22D1362F-C2C5-465D-B301-9BACADC6C0FE}"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797B4E34-E19B-4BAF-8C10-2D50C4A31A0A}"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B09FBC4B-ECD3-4B7F-A67C-348D17FDF847}"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F320673A-9E54-4927-B0F1-60BE774483A7}"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077FC02E-BC3A-4BDE-8BD1-D05D3019CF25}"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6A7D3DFF-2672-48BE-B4F9-370376084FF2}"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41A2F1D5-3374-4D01-BF33-10D472F635D2}"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8F6E7B9F-0EC2-46BA-BBB1-6696D0472BCB}"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6297504B-08FA-43BF-AD4A-9F50FDF0D504}"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EDB2200D-CFEC-484A-99A2-058D732DEFF3}"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CCF9E028-D298-48CC-8ACE-08C03E8BECA3}"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088CA0A4-F983-4B58-9A21-4745D20ACA28}"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4965083A-D971-4CC3-9F0F-67929882C8A5}"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84197BFB-74D1-4ECB-9F3A-5F95C8C7988F}"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16176107-1861-431B-9FB0-5A388D21D0E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EDFC1FD6-5A36-4EC1-81B7-D51B62BDFF3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1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D6A8279D-AB33-4629-B482-18C36BFE0800}"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89C15AE3-98FD-4EAA-BCB1-44CE5032D59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BD089864-3900-4BBD-AB7C-6FA36ED2CC8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31A860B2-E3F1-4471-95DD-B553A22A2EB5}"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31D627DF-2D02-4A89-B9A6-C31B65BC16F6}"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9771B3A9-68D3-45CC-95F9-94036A2829A1}"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FEA0FA4D-F763-4963-9337-A45A9D19D03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D3AE70AC-6334-4382-B68E-8771233D36B4}"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4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5D11B8F9-9326-422B-BF11-5A04F0E06042}"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2245C4C3-5CBD-4FD7-BB35-BCB5B3840C31}"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AC94EA3A-5779-4C65-85F4-FD9C3DFE3998}"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76B946FA-A1FA-47E3-8EB9-9A323D0F384C}"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4D5829F2-2A37-4950-BE59-A580C448AF31}"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50FBA569-5E8D-46AD-A356-F2639AB54705}"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6A85EFA3-13AD-44F8-A728-D22EE5EC13AF}"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33F39608-903D-4C12-B6D8-28DE1792D393}"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C32948AC-36B3-4849-A122-3D50AF6D3E03}"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6CA202C2-7309-4A54-81B6-A32BCB98443C}"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DC0CB5-F2B1-42A5-81EC-58914E1C1AB0}"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A73C5129-F166-4CD3-8419-982AA7D9251C}"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65B3144A-A72E-486C-A3C8-19CF68EC566E}"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8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06835F3A-A248-4758-A0E7-9C82BB31D2BE}"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0B4EE1A2-BB1F-403F-8609-CC903B9FA8B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69B49B93-13AE-4EEA-AF87-A2EC90AD828B}"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8151722D-DFDB-4685-BF26-37C93175928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9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620B6E4C-7AC2-4FE3-83EB-5F8F4B187EA5}"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D4BB5FAE-EB39-435A-813C-A883E464E24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F4B167CD-E739-4967-AA37-42B282218A66}"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548F9ADF-92AD-4CB3-AC21-D6804F72E30E}"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
          </p:nvPr>
        </p:nvSpPr>
        <p:spPr/>
        <p:txBody>
          <a:bodyPr/>
          <a:p>
            <a:fld id="{830F72A3-71DF-4536-9B3E-7555F2AC43EA}"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AE605BAE-A096-4DF9-A7C3-EEB7550184B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75A162C0-E422-4D0A-9F60-E123520E9634}"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0845F0D8-8D7A-402D-95BB-9C51AACD8194}"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EA148AC2-087E-4C20-B61D-8CE569689986}"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2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C2B6F778-079C-4C8B-A901-B1EA7ABCB624}"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A9606A64-3314-4228-9063-5D259B549CD5}"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2C7A629B-E220-4AA5-9CDE-72C51317014A}"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4D8E8C58-F665-4729-B0E6-C051960FF150}"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021E5239-9C4C-40F6-A1DD-A64118E76FB1}"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FFD5960F-A9CF-44D3-A132-EB7C017A1665}"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
          </p:nvPr>
        </p:nvSpPr>
        <p:spPr/>
        <p:txBody>
          <a:bodyPr/>
          <a:p>
            <a:fld id="{FC7AEE24-6D65-4B4E-B9BD-F344D59A9D3E}"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7FEDFF74-93F2-4239-A5E3-3FD953A58695}"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4FF8AB66-651D-441E-9B49-E58CDD1AFC4C}"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E61D313F-28DD-4504-A9E3-C1F467F218B2}"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6793987A-A4AA-4B9A-B5FC-DF5CE68ED664}"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BF4B89B9-0464-4D27-8D36-6BEBC61D5A73}"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6326C45C-5C85-42CB-B89B-AC848BA4E418}"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6B07A19B-EC81-4CD4-BF5B-0A0232DF52D5}"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1F4A52D6-CDCF-4D88-A077-707B21473670}"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B181AE38-D0F1-4EFF-909E-5484A02CE319}"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34CFCD80-02B6-4A6C-9069-615BD2B2AA5E}"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
          </p:nvPr>
        </p:nvSpPr>
        <p:spPr/>
        <p:txBody>
          <a:bodyPr/>
          <a:p>
            <a:fld id="{C18D9819-3C0D-44A5-8046-F712CF63E066}"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9174E2DB-1EB0-4E73-B55B-A06F74313978}"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B25C8F36-7F54-4282-8EF0-927B12631EA5}"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CA918B33-C459-445E-B484-BE868CBED3F8}"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2543CB4E-9140-42EB-AEB7-F73EFF7E433E}"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EC5B1295-1951-4B76-BE8F-672BB2A2706E}"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82C6E293-94D8-4AAE-B496-34FB55C967A4}"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B4414CD1-1811-41D2-BC1E-21907B8BCF3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94060841-D542-4FE8-B4E3-41ACA60E5FA7}"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FB6DBD77-7FB7-49FA-ADA4-511977E71740}"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972CAFA8-7EAB-446C-83B5-1E5BF84DB3D1}"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
          </p:nvPr>
        </p:nvSpPr>
        <p:spPr/>
        <p:txBody>
          <a:bodyPr/>
          <a:p>
            <a:fld id="{48C5521D-0500-4BB1-87E0-CDEF11A90ADD}"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924EFDE7-E79E-4F6C-A81F-DE37C9C2B5DA}"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C0C97F60-E533-46EB-815D-F8152CF8F271}"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1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18842124-CD55-4AEC-9F51-09B05ED65004}"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38F19FF4-F487-4B92-B469-35C70A7773D6}"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67DAB601-AFED-4984-A3C3-FAD1740F51E9}"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98752685-CE78-4353-BE3E-CC8031D2683E}"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C27821DE-9880-4928-8B1C-340AFEB4FA77}"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FDD5E0FF-575A-441C-B2CA-466AE978568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19DD98E6-0C6F-46E8-BAF5-34E2CE03DB8D}"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C4EB528E-25E6-4331-8449-D9B93D795926}"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
          </p:nvPr>
        </p:nvSpPr>
        <p:spPr/>
        <p:txBody>
          <a:bodyPr/>
          <a:p>
            <a:fld id="{1DBE27DF-6AEC-4B69-8C91-71CBD986A06D}"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4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8638D4C6-6850-4B72-A238-F27A54C2119D}"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6"/>
          </p:nvPr>
        </p:nvSpPr>
        <p:spPr/>
        <p:txBody>
          <a:bodyPr/>
          <a:p>
            <a:r>
              <a:t>Footer</a:t>
            </a:r>
          </a:p>
        </p:txBody>
      </p:sp>
      <p:sp>
        <p:nvSpPr>
          <p:cNvPr id="3" name="PlaceHolder 2"/>
          <p:cNvSpPr>
            <a:spLocks noGrp="1"/>
          </p:cNvSpPr>
          <p:nvPr>
            <p:ph type="sldNum" idx="167"/>
          </p:nvPr>
        </p:nvSpPr>
        <p:spPr/>
        <p:txBody>
          <a:bodyPr/>
          <a:p>
            <a:fld id="{7B427DB4-9E7D-496D-8695-D96039005B0F}"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879567FF-C14C-49A3-BECC-3AAA6B21C0AC}"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AFF797F8-7E3A-4494-96FF-525EFFB51DC8}"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56FE7B00-E634-414A-B96F-E1F5BC04356D}"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2D868DE5-125F-4484-B928-FCBFA7C143E4}"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2E443AA7-209F-4ABC-B28C-1B05F8DA4D0B}"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F83AC985-4F34-4342-B61E-9DC7AFC09CC3}"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A16B9C26-8325-4C44-9532-B254CCACEE64}"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E60FEEDA-E9A7-405E-88D2-2A91BB8F109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2CC21424-EBAF-4624-B753-9FD23658EAB1}"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EDF0BE94-05A6-4A34-B12F-150C81F17EF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6"/>
          </p:nvPr>
        </p:nvSpPr>
        <p:spPr/>
        <p:txBody>
          <a:bodyPr/>
          <a:p>
            <a:r>
              <a:t>Footer</a:t>
            </a:r>
          </a:p>
        </p:txBody>
      </p:sp>
      <p:sp>
        <p:nvSpPr>
          <p:cNvPr id="8" name="PlaceHolder 7"/>
          <p:cNvSpPr>
            <a:spLocks noGrp="1"/>
          </p:cNvSpPr>
          <p:nvPr>
            <p:ph type="sldNum" idx="167"/>
          </p:nvPr>
        </p:nvSpPr>
        <p:spPr/>
        <p:txBody>
          <a:bodyPr/>
          <a:p>
            <a:fld id="{6C607713-D42B-4669-AF6D-CBCBB6A8D263}" type="slidenum">
              <a:t>&lt;#&gt;</a:t>
            </a:fld>
          </a:p>
        </p:txBody>
      </p:sp>
      <p:sp>
        <p:nvSpPr>
          <p:cNvPr id="9" name="PlaceHolder 8"/>
          <p:cNvSpPr>
            <a:spLocks noGrp="1"/>
          </p:cNvSpPr>
          <p:nvPr>
            <p:ph type="dt" idx="165"/>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8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6"/>
          </p:nvPr>
        </p:nvSpPr>
        <p:spPr/>
        <p:txBody>
          <a:bodyPr/>
          <a:p>
            <a:r>
              <a:t>Footer</a:t>
            </a:r>
          </a:p>
        </p:txBody>
      </p:sp>
      <p:sp>
        <p:nvSpPr>
          <p:cNvPr id="10" name="PlaceHolder 9"/>
          <p:cNvSpPr>
            <a:spLocks noGrp="1"/>
          </p:cNvSpPr>
          <p:nvPr>
            <p:ph type="sldNum" idx="167"/>
          </p:nvPr>
        </p:nvSpPr>
        <p:spPr/>
        <p:txBody>
          <a:bodyPr/>
          <a:p>
            <a:fld id="{C706398B-EFE8-42B8-9E99-4030D68CD9E4}" type="slidenum">
              <a:t>&lt;#&gt;</a:t>
            </a:fld>
          </a:p>
        </p:txBody>
      </p:sp>
      <p:sp>
        <p:nvSpPr>
          <p:cNvPr id="11" name="PlaceHolder 10"/>
          <p:cNvSpPr>
            <a:spLocks noGrp="1"/>
          </p:cNvSpPr>
          <p:nvPr>
            <p:ph type="dt" idx="165"/>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9"/>
          </p:nvPr>
        </p:nvSpPr>
        <p:spPr/>
        <p:txBody>
          <a:bodyPr/>
          <a:p>
            <a:r>
              <a:t>Footer</a:t>
            </a:r>
          </a:p>
        </p:txBody>
      </p:sp>
      <p:sp>
        <p:nvSpPr>
          <p:cNvPr id="3" name="PlaceHolder 2"/>
          <p:cNvSpPr>
            <a:spLocks noGrp="1"/>
          </p:cNvSpPr>
          <p:nvPr>
            <p:ph type="sldNum" idx="170"/>
          </p:nvPr>
        </p:nvSpPr>
        <p:spPr/>
        <p:txBody>
          <a:bodyPr/>
          <a:p>
            <a:fld id="{2296D668-AC68-450C-9C92-4BD26E285A38}" type="slidenum">
              <a:t>&lt;#&gt;</a:t>
            </a:fld>
          </a:p>
        </p:txBody>
      </p:sp>
      <p:sp>
        <p:nvSpPr>
          <p:cNvPr id="4" name="PlaceHolder 3"/>
          <p:cNvSpPr>
            <a:spLocks noGrp="1"/>
          </p:cNvSpPr>
          <p:nvPr>
            <p:ph type="dt" idx="168"/>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C7CEB2E1-E304-49A1-AF08-F045E8BB3640}"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1F8EF2BC-8EF3-477E-A19A-29E0A06B633F}"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9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3765C1F9-A3CA-4FDB-B2FE-EBF71093F9E1}"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A88DBACF-E677-480B-86E8-A73C6D992219}"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392A1777-161E-4F88-B81A-CED3BA79E0AF}"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879B7825-CE20-4838-93E2-4E1CDE9E061E}"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65A30DAF-1A23-40AC-BF98-D4370C8CD96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09F85E06-3772-429F-A741-3E7EDDE9A282}"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C6962AB3-6620-48DA-AA46-128CAF73ED71}"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8F647F6B-0EE3-4A95-98DE-AD238BA58FAC}"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9"/>
          </p:nvPr>
        </p:nvSpPr>
        <p:spPr/>
        <p:txBody>
          <a:bodyPr/>
          <a:p>
            <a:r>
              <a:t>Footer</a:t>
            </a:r>
          </a:p>
        </p:txBody>
      </p:sp>
      <p:sp>
        <p:nvSpPr>
          <p:cNvPr id="8" name="PlaceHolder 7"/>
          <p:cNvSpPr>
            <a:spLocks noGrp="1"/>
          </p:cNvSpPr>
          <p:nvPr>
            <p:ph type="sldNum" idx="170"/>
          </p:nvPr>
        </p:nvSpPr>
        <p:spPr/>
        <p:txBody>
          <a:bodyPr/>
          <a:p>
            <a:fld id="{E7D3513C-986E-4F6F-A691-8E68B1C3060A}" type="slidenum">
              <a:t>&lt;#&gt;</a:t>
            </a:fld>
          </a:p>
        </p:txBody>
      </p:sp>
      <p:sp>
        <p:nvSpPr>
          <p:cNvPr id="9" name="PlaceHolder 8"/>
          <p:cNvSpPr>
            <a:spLocks noGrp="1"/>
          </p:cNvSpPr>
          <p:nvPr>
            <p:ph type="dt" idx="168"/>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2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9"/>
          </p:nvPr>
        </p:nvSpPr>
        <p:spPr/>
        <p:txBody>
          <a:bodyPr/>
          <a:p>
            <a:r>
              <a:t>Footer</a:t>
            </a:r>
          </a:p>
        </p:txBody>
      </p:sp>
      <p:sp>
        <p:nvSpPr>
          <p:cNvPr id="10" name="PlaceHolder 9"/>
          <p:cNvSpPr>
            <a:spLocks noGrp="1"/>
          </p:cNvSpPr>
          <p:nvPr>
            <p:ph type="sldNum" idx="170"/>
          </p:nvPr>
        </p:nvSpPr>
        <p:spPr/>
        <p:txBody>
          <a:bodyPr/>
          <a:p>
            <a:fld id="{68E9EBF5-C02C-4B97-9B78-1A6928CA3B22}" type="slidenum">
              <a:t>&lt;#&gt;</a:t>
            </a:fld>
          </a:p>
        </p:txBody>
      </p:sp>
      <p:sp>
        <p:nvSpPr>
          <p:cNvPr id="11" name="PlaceHolder 10"/>
          <p:cNvSpPr>
            <a:spLocks noGrp="1"/>
          </p:cNvSpPr>
          <p:nvPr>
            <p:ph type="dt" idx="168"/>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2"/>
          </p:nvPr>
        </p:nvSpPr>
        <p:spPr/>
        <p:txBody>
          <a:bodyPr/>
          <a:p>
            <a:r>
              <a:t>Footer</a:t>
            </a:r>
          </a:p>
        </p:txBody>
      </p:sp>
      <p:sp>
        <p:nvSpPr>
          <p:cNvPr id="3" name="PlaceHolder 2"/>
          <p:cNvSpPr>
            <a:spLocks noGrp="1"/>
          </p:cNvSpPr>
          <p:nvPr>
            <p:ph type="sldNum" idx="173"/>
          </p:nvPr>
        </p:nvSpPr>
        <p:spPr/>
        <p:txBody>
          <a:bodyPr/>
          <a:p>
            <a:fld id="{D668DA1F-2AF9-481D-889A-C5485AB26844}" type="slidenum">
              <a:t>&lt;#&gt;</a:t>
            </a:fld>
          </a:p>
        </p:txBody>
      </p:sp>
      <p:sp>
        <p:nvSpPr>
          <p:cNvPr id="4" name="PlaceHolder 3"/>
          <p:cNvSpPr>
            <a:spLocks noGrp="1"/>
          </p:cNvSpPr>
          <p:nvPr>
            <p:ph type="dt" idx="171"/>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D75565BD-39A2-4E83-B593-7C3FA9564C58}"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00145368-2A9D-4B7F-81A8-A9CFFA2098FE}"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21B40FFF-2F6A-4EE4-BBA0-39EC0EAF17F7}"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A0CE7AF5-374F-46C0-A036-776335308E00}"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C8864625-5F01-4767-AB13-144AF047453A}"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A2CE0440-D14B-4F64-9A62-FE93C773BAD1}"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3D7B8E32-FEA2-494F-AA72-BA58F5262310}"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C87AEC30-CB60-4AF7-962C-C70B0A1DD9A4}"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E0868098-0CCA-48F9-A21B-0FAC7912524A}"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A1A90C51-8F64-4D9A-96E4-FB4F20FCD8B3}"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2"/>
          </p:nvPr>
        </p:nvSpPr>
        <p:spPr/>
        <p:txBody>
          <a:bodyPr/>
          <a:p>
            <a:r>
              <a:t>Footer</a:t>
            </a:r>
          </a:p>
        </p:txBody>
      </p:sp>
      <p:sp>
        <p:nvSpPr>
          <p:cNvPr id="8" name="PlaceHolder 7"/>
          <p:cNvSpPr>
            <a:spLocks noGrp="1"/>
          </p:cNvSpPr>
          <p:nvPr>
            <p:ph type="sldNum" idx="173"/>
          </p:nvPr>
        </p:nvSpPr>
        <p:spPr/>
        <p:txBody>
          <a:bodyPr/>
          <a:p>
            <a:fld id="{CF08526B-6D64-4198-B6A4-62EF451E1048}" type="slidenum">
              <a:t>&lt;#&gt;</a:t>
            </a:fld>
          </a:p>
        </p:txBody>
      </p:sp>
      <p:sp>
        <p:nvSpPr>
          <p:cNvPr id="9" name="PlaceHolder 8"/>
          <p:cNvSpPr>
            <a:spLocks noGrp="1"/>
          </p:cNvSpPr>
          <p:nvPr>
            <p:ph type="dt" idx="171"/>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2"/>
          </p:nvPr>
        </p:nvSpPr>
        <p:spPr/>
        <p:txBody>
          <a:bodyPr/>
          <a:p>
            <a:r>
              <a:t>Footer</a:t>
            </a:r>
          </a:p>
        </p:txBody>
      </p:sp>
      <p:sp>
        <p:nvSpPr>
          <p:cNvPr id="10" name="PlaceHolder 9"/>
          <p:cNvSpPr>
            <a:spLocks noGrp="1"/>
          </p:cNvSpPr>
          <p:nvPr>
            <p:ph type="sldNum" idx="173"/>
          </p:nvPr>
        </p:nvSpPr>
        <p:spPr/>
        <p:txBody>
          <a:bodyPr/>
          <a:p>
            <a:fld id="{0EDF299C-F848-4304-81C6-2C3E57829D24}" type="slidenum">
              <a:t>&lt;#&gt;</a:t>
            </a:fld>
          </a:p>
        </p:txBody>
      </p:sp>
      <p:sp>
        <p:nvSpPr>
          <p:cNvPr id="11" name="PlaceHolder 10"/>
          <p:cNvSpPr>
            <a:spLocks noGrp="1"/>
          </p:cNvSpPr>
          <p:nvPr>
            <p:ph type="dt" idx="171"/>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4"/>
          </p:nvPr>
        </p:nvSpPr>
        <p:spPr/>
        <p:txBody>
          <a:bodyPr/>
          <a:p>
            <a:fld id="{8944BCB7-BDA0-40D7-9544-80CC81C1C7E5}"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4"/>
          </p:nvPr>
        </p:nvSpPr>
        <p:spPr/>
        <p:txBody>
          <a:bodyPr/>
          <a:p>
            <a:fld id="{A9EC665F-7DA9-455F-8B02-2CB8DD0F8669}"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4"/>
          </p:nvPr>
        </p:nvSpPr>
        <p:spPr/>
        <p:txBody>
          <a:bodyPr/>
          <a:p>
            <a:fld id="{CC323F92-7106-42AB-89E6-8029C944F605}"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
          </p:nvPr>
        </p:nvSpPr>
        <p:spPr/>
        <p:txBody>
          <a:bodyPr/>
          <a:p>
            <a:fld id="{91984CBD-29B1-4542-B3D9-2F02F67DF264}"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4"/>
          </p:nvPr>
        </p:nvSpPr>
        <p:spPr/>
        <p:txBody>
          <a:bodyPr/>
          <a:p>
            <a:fld id="{44A8837B-D78C-4E0A-AEF0-003ECF113509}"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4"/>
          </p:nvPr>
        </p:nvSpPr>
        <p:spPr/>
        <p:txBody>
          <a:bodyPr/>
          <a:p>
            <a:fld id="{32EF4A42-FBD0-4E7B-A504-468EDF07D29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4"/>
          </p:nvPr>
        </p:nvSpPr>
        <p:spPr/>
        <p:txBody>
          <a:bodyPr/>
          <a:p>
            <a:fld id="{EEC86B14-1450-430C-B25B-1778A781E12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BAB871B8-7146-4214-B817-673E02ADBC31}"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BCE40D04-1DAA-4E9A-A7CE-CD4FAD36CFD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F0621058-3004-4B72-AB41-2EABA94658A4}"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4"/>
          </p:nvPr>
        </p:nvSpPr>
        <p:spPr/>
        <p:txBody>
          <a:bodyPr/>
          <a:p>
            <a:fld id="{0984E366-BBFE-460B-B738-F97D45E5EE16}"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4"/>
          </p:nvPr>
        </p:nvSpPr>
        <p:spPr/>
        <p:txBody>
          <a:bodyPr/>
          <a:p>
            <a:fld id="{098B5810-8E1C-4E11-9F51-0BE54F1CFA85}"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4"/>
          </p:nvPr>
        </p:nvSpPr>
        <p:spPr/>
        <p:txBody>
          <a:bodyPr/>
          <a:p>
            <a:fld id="{859ADD39-B544-4C51-9501-C3768545A30C}"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7"/>
          </p:nvPr>
        </p:nvSpPr>
        <p:spPr/>
        <p:txBody>
          <a:bodyPr/>
          <a:p>
            <a:fld id="{8AEE3E2B-2522-429E-82C0-B5A24B5A69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
          </p:nvPr>
        </p:nvSpPr>
        <p:spPr/>
        <p:txBody>
          <a:bodyPr/>
          <a:p>
            <a:fld id="{6B284E85-10E9-444D-8B78-81A6527871D8}"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77"/>
          </p:nvPr>
        </p:nvSpPr>
        <p:spPr/>
        <p:txBody>
          <a:bodyPr/>
          <a:p>
            <a:fld id="{A2D7F0C1-B8C8-48E5-A65D-104F54343D3B}"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77"/>
          </p:nvPr>
        </p:nvSpPr>
        <p:spPr/>
        <p:txBody>
          <a:bodyPr/>
          <a:p>
            <a:fld id="{5C452C9C-4FB4-4776-A03F-8849491A3578}"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77"/>
          </p:nvPr>
        </p:nvSpPr>
        <p:spPr/>
        <p:txBody>
          <a:bodyPr/>
          <a:p>
            <a:fld id="{7B192C13-E446-4423-86EC-AF3475541F7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77"/>
          </p:nvPr>
        </p:nvSpPr>
        <p:spPr/>
        <p:txBody>
          <a:bodyPr/>
          <a:p>
            <a:fld id="{86403D36-608C-4BB1-81A2-4BC8F2D3476F}"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77"/>
          </p:nvPr>
        </p:nvSpPr>
        <p:spPr/>
        <p:txBody>
          <a:bodyPr/>
          <a:p>
            <a:fld id="{FFE32BAF-3A1E-4FD5-98DC-3EF732E60A04}"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D9244DC7-D566-41A0-8342-37985FDC328F}"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0BB0F654-95B0-49C9-994C-4C2107BA40A6}"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13D15A39-CFED-4F1C-B322-5FE225023E7A}"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77"/>
          </p:nvPr>
        </p:nvSpPr>
        <p:spPr/>
        <p:txBody>
          <a:bodyPr/>
          <a:p>
            <a:fld id="{A4687BF2-BC05-4CA8-BF2F-7A18BAC27E3F}"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77"/>
          </p:nvPr>
        </p:nvSpPr>
        <p:spPr/>
        <p:txBody>
          <a:bodyPr/>
          <a:p>
            <a:fld id="{37015298-F087-4D0F-AE95-C75C2D47631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
          </p:nvPr>
        </p:nvSpPr>
        <p:spPr/>
        <p:txBody>
          <a:bodyPr/>
          <a:p>
            <a:fld id="{4BF73A68-08C9-40CF-ADF9-A4A0E610B86D}"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77"/>
          </p:nvPr>
        </p:nvSpPr>
        <p:spPr/>
        <p:txBody>
          <a:bodyPr/>
          <a:p>
            <a:fld id="{992EB0CF-1278-40C8-86DF-1EA7F90E99DF}"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A4D41A38-D5CB-4358-9FA9-0E2BFCD36DD2}"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886D1A7A-F4EB-4696-B284-55D5F7119A71}"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82FF437F-BAEA-484B-9C3D-67210074C7D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941701A4-805E-40F8-95B9-62AA4404E361}"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02669E60-0633-4014-99E0-23984A42109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7A01F931-E34D-45CE-A1DC-99421819977D}"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366420EC-C5B3-4A15-B696-9AE7EF02579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85E205F-9D59-431D-A748-5375B54CA39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CEBBF0D-6554-4AE2-AA6E-498D165A071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21825-17C8-43C3-8021-5936F1394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BF6B5BC3-CAB0-4B8F-84AB-40A289BEE2A5}"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9C4A83E3-1CEE-47DB-9AE3-69B19DC61ED9}"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BFED7E24-8CA1-4B8B-8C72-C25D07F41CDE}"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13C768AF-A92B-4213-A17F-202A4525CFCC}"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77F827B0-8DC4-48D8-A6BC-D0D42491226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C53C79DB-813B-40D3-B914-1EBA7FCE4FAB}"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9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90BA041-07C0-4DF1-812B-74349E07AC1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FF22034E-3DDD-465E-98ED-DAA749A5CEC4}"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78F8F5E-DEEE-4FFF-861E-6BE0E97BBB0A}"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C265289-91CC-40EB-A826-609093FA8BE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1E4C8-D316-429B-A662-9FFA6FCF6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07A0629-E764-40D7-99F3-45DAA77CF05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26776E6-CF1D-4B1E-B47E-BBDEA2D987C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1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3A3E4411-7E38-4399-89FD-247F75C93682}"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33757799-76CB-4B22-B4E9-9C8A0BD674ED}"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2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6730ABB9-C2BD-456F-A0F4-BD93D9E0061B}"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9543DB85-F53E-416F-8411-438685E5CDB6}"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C5A5277C-4360-423C-A5BF-493022273745}"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6C4EB557-4637-4686-85B9-52650412CB8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0ADF436-0E7E-4F37-9203-3A9247B78CAF}"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E76D0BEC-C5F9-4598-A136-2574C3A9D93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EFFE1-F4D6-4213-962A-983BD367C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729FEAD-8E33-4282-B1CB-19281DD92F02}"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A60FA9C-F108-4194-871C-0133FB3806B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128467D-B2F6-4BC7-BDD3-C1AD893A4325}"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23D7A13F-E7FC-4995-90CF-4D3F0366D443}"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161896ED-9FB7-40A6-9A49-E4CBC8272D25}"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061B8554-DDFB-47E7-944E-9D39C56B87DF}"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6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4E1F26B7-E359-4338-BEAD-3FA3CBCD1CAC}"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080134C5-DB04-4DFD-A97F-AF26D4F7880B}"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E25D2CC3-9DB9-49EB-9C4B-C8A245291ECA}"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16C36B2-EF7E-43BF-814B-F6FE90FB05EC}"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AF0D5-21B8-4E32-98BE-3A31FCE23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3E0BE70B-458A-4D7F-B462-E449273DFFB6}"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EE08AD3C-E5FF-459A-A449-3D6292832876}"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C591B04-9338-4256-B670-37E48174214C}"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7706B18-B13C-42C1-9CD1-681B526D3F7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1C10FF47-39D1-4B67-B45B-C6C73B35E4E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A60EDE40-168E-4D7B-9D7E-AC5AE9CBF353}"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9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331746DA-3EFC-4A08-B22D-28696C3BB7B6}"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BA92C095-348C-415D-B5BD-A787AFA7B858}"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0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CB55D5D0-3888-4206-B7EB-8B069F6A0E95}"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E3892E94-A32E-4707-B39F-2E5AAE7EFDFD}"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4D79E-92B2-4807-BDB3-658EA3E46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DA2FAF40-26D0-43A7-B931-53CAAA0303E2}"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A9BE473-6D74-41E5-92C8-479F17D3E1D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E7DD4191-7D52-4A71-873A-FDD903EECEA3}"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006E00EC-7A05-49EA-AEE6-23572F207A72}"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764A6BB6-AE18-4458-833D-57378DE1AAF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6BDB8DF-5E85-44AD-A29B-9C48BD29B48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F6566259-69AA-4795-A324-CBF16FFFFDD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AE204E9-172A-4AC9-84F3-36235C4CED4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8BF952D7-6302-4071-AC96-2B31F0462DBE}"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575B59BF-0EEC-4780-BDD1-CEDABE263FF6}"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75B1D-225D-41D2-A629-43480A31D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C6F92086-A990-4C54-92D5-6966845C47E0}"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BD64986B-2391-47AA-9501-2A1D87C0FFB6}"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5A15D3A7-B898-43C9-8045-F3B1DEA1B778}"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CA34E450-8E74-4F1B-A8B7-2B91932A41DC}"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4E003A1-F23F-46A2-B1B1-CC0AA6AFE97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E697247F-16E4-463C-AFAB-79BB1FF5B9C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E2D6A566-5D22-4E0A-8BFB-38B56874CCB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5525BDA-5875-4747-B7C4-FB8D0D18167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258FA585-882B-4CAB-ACF8-D530F3A01F9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ABE80A1-684B-4D3C-A284-55593D042A9E}"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C6689-B76F-4B9A-9DD9-DF7629E5A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71A3A1D3-182F-4BBB-8557-2A9FA9076C1E}"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08FE3113-383B-4F2B-8A10-04FFDF3ACB31}"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89140CCA-48ED-425C-8723-1889F1A6080E}"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029851E1-593F-48E8-9E50-8A764F6BA46E}"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70E873DD-23A3-4CF3-B414-564054830FC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57BD1DDD-1CB8-4CA6-B303-CC44C5BFF9B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9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381557A6-B5E0-4112-9552-C53A6E85BA6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43C1DBF9-D9F2-42C1-ACF3-A18DDF985E79}"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5D653F8-FED3-43E3-A982-309B4D4812D6}"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6EE6AFB3-BAB7-4682-BECF-7D056773FDD5}"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D7676-2485-4313-931E-A18C86D19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69324453-D367-43A0-BDB0-D1862DA12C3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2C535EB-161E-4A27-9B72-32D234748EB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5DF8812-A336-4E5D-B7DA-8173F41B025E}"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708BB426-2CE5-42FB-9A1D-658AC3A48CC5}"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2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4D01D359-052E-4613-84CB-DAD4AA4C71CD}"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50D25B62-5984-4209-8205-D96ECBD05986}"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FC7940C1-636E-4C7C-A2A6-FCAEB0552CC6}"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A47749E0-F2A2-42D3-887D-2C8C243099D5}"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179D82B8-1C4B-4E0D-B748-9876A4349A66}"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30BCBE7-9972-40A7-AFCF-04C69772B389}"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ACC7-D392-4A5D-A717-36C73B64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25D1082A-D206-4997-A4D4-06C715ECD83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5E659F8B-918E-4984-9D4C-82FCF167E995}"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80D5A689-51D8-47EF-B9B7-A1985B0008D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705902AE-AEBE-4537-AC50-7074B50C936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5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710827A8-ACA5-4386-9D70-ABAAD38FAE5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F2BF1529-C91F-4A83-AC79-F62ACEF80979}"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6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D180D797-9393-4A28-908F-D75140ADD27F}"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CB9F082D-0D7C-44BF-B9AD-96A5C0A359A0}"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BC9CD7A8-492E-4F4E-9CF3-F9EC266A82A3}"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512200DD-F799-4B95-877A-CAD5C9B1F3E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09C62-F10E-4078-9C44-FC7022D5A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3C0125E-B481-406C-A84D-E07A0056058E}"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B664A94F-ED14-4B42-8BD1-EE0B5B71196E}"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21995261-BD8B-4565-AF93-27724702C15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D5E911A4-9819-4EA7-890B-E5A0547DE59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01E410A-5619-4E0A-A43A-9FA354A8A97B}"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AA3AFD9-3A90-42BD-8110-4137C27E14E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9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3B9B2791-A6B7-4FB6-89C0-D9234072B856}"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6DAA1425-3962-4BF2-BF9B-61A0D64E659E}"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0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7B462EFE-4908-4D6C-8E65-7F3A89B28390}"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E1CF86C9-9285-4214-B910-F96C1BACD4E1}"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0FA01-C026-445B-9563-3C328D4EC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2F35951C-8D10-45C6-A850-88816895DBE9}"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54882915-E249-4CAA-A252-853BC12CCA80}"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3C1869F-A894-4159-80F2-A8F487DFEC7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CE206DA3-7F8C-40D6-BB4D-5083D713436C}"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97FD7CC4-471B-4329-9FF6-1345F7A5E579}"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DE653288-2C9F-4A69-95CD-D119594776A7}"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19735F33-E647-4AF2-960D-E194B0D0F8F9}"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08500D7A-AAD0-478F-B6BF-03F4A66173D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74B8BC09-225D-4F08-86C9-726762EA99CB}"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7B9BA477-3A6E-45D5-9477-1CBD17AE98AE}"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4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C931F-F7C3-4076-96AD-95584319B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79462E5F-0693-4133-BB4D-FA0C2531E17C}"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0"/>
          </p:nvPr>
        </p:nvSpPr>
        <p:spPr/>
        <p:txBody>
          <a:bodyPr/>
          <a:p>
            <a:r>
              <a:t>Footer</a:t>
            </a:r>
          </a:p>
        </p:txBody>
      </p:sp>
      <p:sp>
        <p:nvSpPr>
          <p:cNvPr id="3" name="PlaceHolder 2"/>
          <p:cNvSpPr>
            <a:spLocks noGrp="1"/>
          </p:cNvSpPr>
          <p:nvPr>
            <p:ph type="sldNum" idx="208"/>
          </p:nvPr>
        </p:nvSpPr>
        <p:spPr/>
        <p:txBody>
          <a:bodyPr/>
          <a:p>
            <a:fld id="{4E1063E1-7AB5-432C-BC6A-8D438FC7471D}" type="slidenum">
              <a:t>&lt;#&gt;</a:t>
            </a:fld>
          </a:p>
        </p:txBody>
      </p:sp>
      <p:sp>
        <p:nvSpPr>
          <p:cNvPr id="4" name="PlaceHolder 3"/>
          <p:cNvSpPr>
            <a:spLocks noGrp="1"/>
          </p:cNvSpPr>
          <p:nvPr>
            <p:ph type="dt" idx="209"/>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10"/>
          </p:nvPr>
        </p:nvSpPr>
        <p:spPr/>
        <p:txBody>
          <a:bodyPr/>
          <a:p>
            <a:r>
              <a:t>Footer</a:t>
            </a:r>
          </a:p>
        </p:txBody>
      </p:sp>
      <p:sp>
        <p:nvSpPr>
          <p:cNvPr id="5" name="PlaceHolder 4"/>
          <p:cNvSpPr>
            <a:spLocks noGrp="1"/>
          </p:cNvSpPr>
          <p:nvPr>
            <p:ph type="sldNum" idx="208"/>
          </p:nvPr>
        </p:nvSpPr>
        <p:spPr/>
        <p:txBody>
          <a:bodyPr/>
          <a:p>
            <a:fld id="{50C9323B-BEBB-4F8A-ADC0-87580EBE6A6D}" type="slidenum">
              <a:t>&lt;#&gt;</a:t>
            </a:fld>
          </a:p>
        </p:txBody>
      </p:sp>
      <p:sp>
        <p:nvSpPr>
          <p:cNvPr id="6" name="PlaceHolder 5"/>
          <p:cNvSpPr>
            <a:spLocks noGrp="1"/>
          </p:cNvSpPr>
          <p:nvPr>
            <p:ph type="dt" idx="209"/>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10"/>
          </p:nvPr>
        </p:nvSpPr>
        <p:spPr/>
        <p:txBody>
          <a:bodyPr/>
          <a:p>
            <a:r>
              <a:t>Footer</a:t>
            </a:r>
          </a:p>
        </p:txBody>
      </p:sp>
      <p:sp>
        <p:nvSpPr>
          <p:cNvPr id="5" name="PlaceHolder 4"/>
          <p:cNvSpPr>
            <a:spLocks noGrp="1"/>
          </p:cNvSpPr>
          <p:nvPr>
            <p:ph type="sldNum" idx="208"/>
          </p:nvPr>
        </p:nvSpPr>
        <p:spPr/>
        <p:txBody>
          <a:bodyPr/>
          <a:p>
            <a:fld id="{E66BAC6F-1AA5-4192-B335-F668450B9A9E}" type="slidenum">
              <a:t>&lt;#&gt;</a:t>
            </a:fld>
          </a:p>
        </p:txBody>
      </p:sp>
      <p:sp>
        <p:nvSpPr>
          <p:cNvPr id="6" name="PlaceHolder 5"/>
          <p:cNvSpPr>
            <a:spLocks noGrp="1"/>
          </p:cNvSpPr>
          <p:nvPr>
            <p:ph type="dt" idx="209"/>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10"/>
          </p:nvPr>
        </p:nvSpPr>
        <p:spPr/>
        <p:txBody>
          <a:bodyPr/>
          <a:p>
            <a:r>
              <a:t>Footer</a:t>
            </a:r>
          </a:p>
        </p:txBody>
      </p:sp>
      <p:sp>
        <p:nvSpPr>
          <p:cNvPr id="6" name="PlaceHolder 5"/>
          <p:cNvSpPr>
            <a:spLocks noGrp="1"/>
          </p:cNvSpPr>
          <p:nvPr>
            <p:ph type="sldNum" idx="208"/>
          </p:nvPr>
        </p:nvSpPr>
        <p:spPr/>
        <p:txBody>
          <a:bodyPr/>
          <a:p>
            <a:fld id="{C8F6FE8D-5382-43DB-ABE1-704BEC815E04}" type="slidenum">
              <a:t>&lt;#&gt;</a:t>
            </a:fld>
          </a:p>
        </p:txBody>
      </p:sp>
      <p:sp>
        <p:nvSpPr>
          <p:cNvPr id="7" name="PlaceHolder 6"/>
          <p:cNvSpPr>
            <a:spLocks noGrp="1"/>
          </p:cNvSpPr>
          <p:nvPr>
            <p:ph type="dt" idx="209"/>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10"/>
          </p:nvPr>
        </p:nvSpPr>
        <p:spPr/>
        <p:txBody>
          <a:bodyPr/>
          <a:p>
            <a:r>
              <a:t>Footer</a:t>
            </a:r>
          </a:p>
        </p:txBody>
      </p:sp>
      <p:sp>
        <p:nvSpPr>
          <p:cNvPr id="4" name="PlaceHolder 3"/>
          <p:cNvSpPr>
            <a:spLocks noGrp="1"/>
          </p:cNvSpPr>
          <p:nvPr>
            <p:ph type="sldNum" idx="208"/>
          </p:nvPr>
        </p:nvSpPr>
        <p:spPr/>
        <p:txBody>
          <a:bodyPr/>
          <a:p>
            <a:fld id="{788C4A0B-D1D1-4136-84D1-7D4CCC43C4B0}" type="slidenum">
              <a:t>&lt;#&gt;</a:t>
            </a:fld>
          </a:p>
        </p:txBody>
      </p:sp>
      <p:sp>
        <p:nvSpPr>
          <p:cNvPr id="5" name="PlaceHolder 4"/>
          <p:cNvSpPr>
            <a:spLocks noGrp="1"/>
          </p:cNvSpPr>
          <p:nvPr>
            <p:ph type="dt" idx="209"/>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10"/>
          </p:nvPr>
        </p:nvSpPr>
        <p:spPr/>
        <p:txBody>
          <a:bodyPr/>
          <a:p>
            <a:r>
              <a:t>Footer</a:t>
            </a:r>
          </a:p>
        </p:txBody>
      </p:sp>
      <p:sp>
        <p:nvSpPr>
          <p:cNvPr id="4" name="PlaceHolder 3"/>
          <p:cNvSpPr>
            <a:spLocks noGrp="1"/>
          </p:cNvSpPr>
          <p:nvPr>
            <p:ph type="sldNum" idx="208"/>
          </p:nvPr>
        </p:nvSpPr>
        <p:spPr/>
        <p:txBody>
          <a:bodyPr/>
          <a:p>
            <a:fld id="{AFD47561-EFA2-45EC-B2F5-3BB88447D151}" type="slidenum">
              <a:t>&lt;#&gt;</a:t>
            </a:fld>
          </a:p>
        </p:txBody>
      </p:sp>
      <p:sp>
        <p:nvSpPr>
          <p:cNvPr id="5" name="PlaceHolder 4"/>
          <p:cNvSpPr>
            <a:spLocks noGrp="1"/>
          </p:cNvSpPr>
          <p:nvPr>
            <p:ph type="dt" idx="209"/>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063D0B54-0EB8-4A0E-AF82-C9C8F90292B7}"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DC5170A1-59F9-4784-ADCD-D1BE53DD2317}"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2B08F231-E3D0-42AF-995B-F72B69D6544D}"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A26AC7-D684-4D59-A338-EA1C56075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10"/>
          </p:nvPr>
        </p:nvSpPr>
        <p:spPr/>
        <p:txBody>
          <a:bodyPr/>
          <a:p>
            <a:r>
              <a:t>Footer</a:t>
            </a:r>
          </a:p>
        </p:txBody>
      </p:sp>
      <p:sp>
        <p:nvSpPr>
          <p:cNvPr id="6" name="PlaceHolder 5"/>
          <p:cNvSpPr>
            <a:spLocks noGrp="1"/>
          </p:cNvSpPr>
          <p:nvPr>
            <p:ph type="sldNum" idx="208"/>
          </p:nvPr>
        </p:nvSpPr>
        <p:spPr/>
        <p:txBody>
          <a:bodyPr/>
          <a:p>
            <a:fld id="{7A1CE747-D306-42B5-835C-C7BBD5527F80}" type="slidenum">
              <a:t>&lt;#&gt;</a:t>
            </a:fld>
          </a:p>
        </p:txBody>
      </p:sp>
      <p:sp>
        <p:nvSpPr>
          <p:cNvPr id="7" name="PlaceHolder 6"/>
          <p:cNvSpPr>
            <a:spLocks noGrp="1"/>
          </p:cNvSpPr>
          <p:nvPr>
            <p:ph type="dt" idx="209"/>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10"/>
          </p:nvPr>
        </p:nvSpPr>
        <p:spPr/>
        <p:txBody>
          <a:bodyPr/>
          <a:p>
            <a:r>
              <a:t>Footer</a:t>
            </a:r>
          </a:p>
        </p:txBody>
      </p:sp>
      <p:sp>
        <p:nvSpPr>
          <p:cNvPr id="8" name="PlaceHolder 7"/>
          <p:cNvSpPr>
            <a:spLocks noGrp="1"/>
          </p:cNvSpPr>
          <p:nvPr>
            <p:ph type="sldNum" idx="208"/>
          </p:nvPr>
        </p:nvSpPr>
        <p:spPr/>
        <p:txBody>
          <a:bodyPr/>
          <a:p>
            <a:fld id="{AB461C37-1C6F-4C96-8C9B-195767D33966}" type="slidenum">
              <a:t>&lt;#&gt;</a:t>
            </a:fld>
          </a:p>
        </p:txBody>
      </p:sp>
      <p:sp>
        <p:nvSpPr>
          <p:cNvPr id="9" name="PlaceHolder 8"/>
          <p:cNvSpPr>
            <a:spLocks noGrp="1"/>
          </p:cNvSpPr>
          <p:nvPr>
            <p:ph type="dt" idx="209"/>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10"/>
          </p:nvPr>
        </p:nvSpPr>
        <p:spPr/>
        <p:txBody>
          <a:bodyPr/>
          <a:p>
            <a:r>
              <a:t>Footer</a:t>
            </a:r>
          </a:p>
        </p:txBody>
      </p:sp>
      <p:sp>
        <p:nvSpPr>
          <p:cNvPr id="10" name="PlaceHolder 9"/>
          <p:cNvSpPr>
            <a:spLocks noGrp="1"/>
          </p:cNvSpPr>
          <p:nvPr>
            <p:ph type="sldNum" idx="208"/>
          </p:nvPr>
        </p:nvSpPr>
        <p:spPr/>
        <p:txBody>
          <a:bodyPr/>
          <a:p>
            <a:fld id="{8444BB98-18B0-40E3-A2C8-F6538A82BA18}" type="slidenum">
              <a:t>&lt;#&gt;</a:t>
            </a:fld>
          </a:p>
        </p:txBody>
      </p:sp>
      <p:sp>
        <p:nvSpPr>
          <p:cNvPr id="11" name="PlaceHolder 10"/>
          <p:cNvSpPr>
            <a:spLocks noGrp="1"/>
          </p:cNvSpPr>
          <p:nvPr>
            <p:ph type="dt" idx="20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5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76A3B-0E35-4599-B21F-C6E68DC4B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806FD-A070-4D4A-BC22-55282431F7CE}"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61.xml"/><Relationship Id="rId5" Type="http://schemas.openxmlformats.org/officeDocument/2006/relationships/slideLayout" Target="../slideLayouts/slideLayout662.xml"/><Relationship Id="rId6" Type="http://schemas.openxmlformats.org/officeDocument/2006/relationships/slideLayout" Target="../slideLayouts/slideLayout663.xml"/><Relationship Id="rId7" Type="http://schemas.openxmlformats.org/officeDocument/2006/relationships/slideLayout" Target="../slideLayouts/slideLayout664.xml"/><Relationship Id="rId8" Type="http://schemas.openxmlformats.org/officeDocument/2006/relationships/slideLayout" Target="../slideLayouts/slideLayout665.xml"/><Relationship Id="rId9" Type="http://schemas.openxmlformats.org/officeDocument/2006/relationships/slideLayout" Target="../slideLayouts/slideLayout666.xml"/><Relationship Id="rId10" Type="http://schemas.openxmlformats.org/officeDocument/2006/relationships/slideLayout" Target="../slideLayouts/slideLayout667.xml"/><Relationship Id="rId11" Type="http://schemas.openxmlformats.org/officeDocument/2006/relationships/slideLayout" Target="../slideLayouts/slideLayout668.xml"/><Relationship Id="rId12" Type="http://schemas.openxmlformats.org/officeDocument/2006/relationships/slideLayout" Target="../slideLayouts/slideLayout669.xml"/><Relationship Id="rId13" Type="http://schemas.openxmlformats.org/officeDocument/2006/relationships/slideLayout" Target="../slideLayouts/slideLayout670.xml"/><Relationship Id="rId14" Type="http://schemas.openxmlformats.org/officeDocument/2006/relationships/slideLayout" Target="../slideLayouts/slideLayout671.xml"/><Relationship Id="rId15"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Afbeelding 5" descr=""/>
          <p:cNvPicPr/>
          <p:nvPr/>
        </p:nvPicPr>
        <p:blipFill>
          <a:blip r:embed="rId3"/>
          <a:stretch/>
        </p:blipFill>
        <p:spPr>
          <a:xfrm>
            <a:off x="166680" y="6165720"/>
            <a:ext cx="746280" cy="500040"/>
          </a:xfrm>
          <a:prstGeom prst="rect">
            <a:avLst/>
          </a:prstGeom>
          <a:ln w="0">
            <a:noFill/>
          </a:ln>
        </p:spPr>
      </p:pic>
      <p:sp>
        <p:nvSpPr>
          <p:cNvPr id="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TextBox 3"/>
          <p:cNvSpPr/>
          <p:nvPr/>
        </p:nvSpPr>
        <p:spPr>
          <a:xfrm>
            <a:off x="856764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E770-D5DC-4EEB-91F5-4E1A344DC200}"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4" name="TextBox 4"/>
          <p:cNvSpPr/>
          <p:nvPr/>
        </p:nvSpPr>
        <p:spPr>
          <a:xfrm>
            <a:off x="4788000" y="6591240"/>
            <a:ext cx="1224000" cy="13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Box 8"/>
          <p:cNvSpPr/>
          <p:nvPr/>
        </p:nvSpPr>
        <p:spPr>
          <a:xfrm>
            <a:off x="5759280" y="6591240"/>
            <a:ext cx="2521080" cy="13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94"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1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2AF7-2BE7-4B60-B22B-D0D9D983995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35"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1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9DF5-CB11-4B8C-BC46-9F2CDAC3BEC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76"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7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1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1BA0-FE6F-4AE9-8884-577E2E11EE1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17"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1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2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62A9-FF7C-47F3-8A9D-CDA7811E709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58"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5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2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EC08-5120-4483-B336-30D9CCCFC98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99"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0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2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1AD0-A184-4990-8392-FA9C6B465A1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640"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4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8D29-FA70-4A4C-9109-455ABCDFE7B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681"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8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3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F132-1B03-4B34-AE51-E34F89EF9DC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72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760"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7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1F37-1D9F-4A5A-8420-39582DBB7A8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4" name="PlaceHolder 3"/>
          <p:cNvSpPr>
            <a:spLocks noGrp="1"/>
          </p:cNvSpPr>
          <p:nvPr>
            <p:ph type="sldNum" idx="1"/>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CAF8-6580-4DD5-A1A8-B82915399C3A}"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
        <p:nvSpPr>
          <p:cNvPr id="45" name="PlaceHolder 4"/>
          <p:cNvSpPr>
            <a:spLocks noGrp="1"/>
          </p:cNvSpPr>
          <p:nvPr>
            <p:ph type="dt" idx="2"/>
          </p:nvPr>
        </p:nvSpPr>
        <p:spPr>
          <a:xfrm>
            <a:off x="4788000" y="6593040"/>
            <a:ext cx="122400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Times New Roman"/>
            </a:endParaRPr>
          </a:p>
        </p:txBody>
      </p:sp>
      <p:pic>
        <p:nvPicPr>
          <p:cNvPr id="46" name="Afbeelding 3"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00" name="Afbeelding 7" descr=""/>
          <p:cNvPicPr/>
          <p:nvPr/>
        </p:nvPicPr>
        <p:blipFill>
          <a:blip r:embed="rId3"/>
          <a:stretch/>
        </p:blipFill>
        <p:spPr>
          <a:xfrm>
            <a:off x="7178760" y="5230800"/>
            <a:ext cx="1673280" cy="1542960"/>
          </a:xfrm>
          <a:prstGeom prst="rect">
            <a:avLst/>
          </a:prstGeom>
          <a:ln w="0">
            <a:noFill/>
          </a:ln>
        </p:spPr>
      </p:pic>
      <p:sp>
        <p:nvSpPr>
          <p:cNvPr id="8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0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03" name="PlaceHolder 3"/>
          <p:cNvSpPr>
            <a:spLocks noGrp="1"/>
          </p:cNvSpPr>
          <p:nvPr>
            <p:ph type="sldNum" idx="37"/>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EB0E-01F1-4DEA-9A05-DF7B96F68FCF}"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0" name="Afbeelding 7" descr="haal het beste uit jezelf_RGB.png"/>
          <p:cNvPicPr/>
          <p:nvPr/>
        </p:nvPicPr>
        <p:blipFill>
          <a:blip r:embed="rId3"/>
          <a:stretch/>
        </p:blipFill>
        <p:spPr>
          <a:xfrm>
            <a:off x="2340000" y="3429000"/>
            <a:ext cx="4824360" cy="646200"/>
          </a:xfrm>
          <a:prstGeom prst="rect">
            <a:avLst/>
          </a:prstGeom>
          <a:ln w="0">
            <a:noFill/>
          </a:ln>
        </p:spPr>
      </p:pic>
      <p:sp>
        <p:nvSpPr>
          <p:cNvPr id="8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4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43" name="PlaceHolder 3"/>
          <p:cNvSpPr>
            <a:spLocks noGrp="1"/>
          </p:cNvSpPr>
          <p:nvPr>
            <p:ph type="sldNum" idx="38"/>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F191-1733-4122-8144-A307F60549DB}"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81"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82" name="PlaceHolder 3"/>
          <p:cNvSpPr>
            <a:spLocks noGrp="1"/>
          </p:cNvSpPr>
          <p:nvPr>
            <p:ph type="dt" idx="39"/>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883"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5"/>
          <p:cNvSpPr>
            <a:spLocks noGrp="1"/>
          </p:cNvSpPr>
          <p:nvPr>
            <p:ph type="sldNum" idx="41"/>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6173-1171-4492-A46C-569BEB25287F}"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92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923" name="PlaceHolder 3"/>
          <p:cNvSpPr>
            <a:spLocks noGrp="1"/>
          </p:cNvSpPr>
          <p:nvPr>
            <p:ph type="dt" idx="42"/>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924"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44"/>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06AE-CE2A-4C41-A8F6-C1782C2ECF7F}"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96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964" name="PlaceHolder 3"/>
          <p:cNvSpPr>
            <a:spLocks noGrp="1"/>
          </p:cNvSpPr>
          <p:nvPr>
            <p:ph type="dt" idx="45"/>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965" name="PlaceHolder 4"/>
          <p:cNvSpPr>
            <a:spLocks noGrp="1"/>
          </p:cNvSpPr>
          <p:nvPr>
            <p:ph type="ftr" idx="4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PlaceHolder 5"/>
          <p:cNvSpPr>
            <a:spLocks noGrp="1"/>
          </p:cNvSpPr>
          <p:nvPr>
            <p:ph type="sldNum" idx="47"/>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B53A-9EB8-4E26-A3A5-CB4E9728CBDC}"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04"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05" name="PlaceHolder 3"/>
          <p:cNvSpPr>
            <a:spLocks noGrp="1"/>
          </p:cNvSpPr>
          <p:nvPr>
            <p:ph type="dt" idx="48"/>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06" name="PlaceHolder 4"/>
          <p:cNvSpPr>
            <a:spLocks noGrp="1"/>
          </p:cNvSpPr>
          <p:nvPr>
            <p:ph type="ftr" idx="4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5"/>
          <p:cNvSpPr>
            <a:spLocks noGrp="1"/>
          </p:cNvSpPr>
          <p:nvPr>
            <p:ph type="sldNum" idx="50"/>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2D7F-24CC-4756-814E-7467F95C87A6}"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45"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46" name="PlaceHolder 3"/>
          <p:cNvSpPr>
            <a:spLocks noGrp="1"/>
          </p:cNvSpPr>
          <p:nvPr>
            <p:ph type="dt" idx="51"/>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47" name="PlaceHolder 4"/>
          <p:cNvSpPr>
            <a:spLocks noGrp="1"/>
          </p:cNvSpPr>
          <p:nvPr>
            <p:ph type="ftr" idx="5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5"/>
          <p:cNvSpPr>
            <a:spLocks noGrp="1"/>
          </p:cNvSpPr>
          <p:nvPr>
            <p:ph type="sldNum" idx="53"/>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4BBB-E203-4142-B693-C667A6FD0BFA}"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85" name="Afbeelding 7" descr=""/>
          <p:cNvPicPr/>
          <p:nvPr/>
        </p:nvPicPr>
        <p:blipFill>
          <a:blip r:embed="rId3"/>
          <a:stretch/>
        </p:blipFill>
        <p:spPr>
          <a:xfrm>
            <a:off x="0" y="0"/>
            <a:ext cx="9144000" cy="6858000"/>
          </a:xfrm>
          <a:prstGeom prst="rect">
            <a:avLst/>
          </a:prstGeom>
          <a:ln w="0">
            <a:noFill/>
          </a:ln>
        </p:spPr>
      </p:pic>
      <p:pic>
        <p:nvPicPr>
          <p:cNvPr id="1086" name="Afbeelding 8" descr=""/>
          <p:cNvPicPr/>
          <p:nvPr/>
        </p:nvPicPr>
        <p:blipFill>
          <a:blip r:embed="rId4"/>
          <a:stretch/>
        </p:blipFill>
        <p:spPr>
          <a:xfrm>
            <a:off x="7178760" y="5230800"/>
            <a:ext cx="1673280" cy="1542960"/>
          </a:xfrm>
          <a:prstGeom prst="rect">
            <a:avLst/>
          </a:prstGeom>
          <a:ln w="0">
            <a:noFill/>
          </a:ln>
        </p:spPr>
      </p:pic>
      <p:pic>
        <p:nvPicPr>
          <p:cNvPr id="1087" name="Afbeelding 9" descr=""/>
          <p:cNvPicPr/>
          <p:nvPr/>
        </p:nvPicPr>
        <p:blipFill>
          <a:blip r:embed="rId5"/>
          <a:stretch/>
        </p:blipFill>
        <p:spPr>
          <a:xfrm>
            <a:off x="166680" y="6165720"/>
            <a:ext cx="746280" cy="500040"/>
          </a:xfrm>
          <a:prstGeom prst="rect">
            <a:avLst/>
          </a:prstGeom>
          <a:ln w="0">
            <a:noFill/>
          </a:ln>
        </p:spPr>
      </p:pic>
      <p:sp>
        <p:nvSpPr>
          <p:cNvPr id="10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89"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90" name="PlaceHolder 3"/>
          <p:cNvSpPr>
            <a:spLocks noGrp="1"/>
          </p:cNvSpPr>
          <p:nvPr>
            <p:ph type="dt" idx="54"/>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91" name="PlaceHolder 4"/>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PlaceHolder 5"/>
          <p:cNvSpPr>
            <a:spLocks noGrp="1"/>
          </p:cNvSpPr>
          <p:nvPr>
            <p:ph type="sldNum" idx="56"/>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A8B4-774B-44C0-954F-90E597AAF099}"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130"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131" name="PlaceHolder 3"/>
          <p:cNvSpPr>
            <a:spLocks noGrp="1"/>
          </p:cNvSpPr>
          <p:nvPr>
            <p:ph type="dt" idx="57"/>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132" name="PlaceHolder 4"/>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5"/>
          <p:cNvSpPr>
            <a:spLocks noGrp="1"/>
          </p:cNvSpPr>
          <p:nvPr>
            <p:ph type="sldNum" idx="59"/>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0C7D-C977-42AD-856A-AFD23A4899B9}"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171"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172" name="PlaceHolder 3"/>
          <p:cNvSpPr>
            <a:spLocks noGrp="1"/>
          </p:cNvSpPr>
          <p:nvPr>
            <p:ph type="dt" idx="60"/>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173" name="PlaceHolder 4"/>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5"/>
          <p:cNvSpPr>
            <a:spLocks noGrp="1"/>
          </p:cNvSpPr>
          <p:nvPr>
            <p:ph type="sldNum" idx="62"/>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FE0E-24B0-42D1-BA8F-1A81BF0CF0A9}"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3EE7-0618-4CC8-8FF7-4BAC22652B7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8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8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87" name="Tijdelijke aanduiding voor inhoud 6" descr=""/>
          <p:cNvPicPr/>
          <p:nvPr/>
        </p:nvPicPr>
        <p:blipFill>
          <a:blip r:embed="rId3"/>
          <a:stretch/>
        </p:blipFill>
        <p:spPr>
          <a:xfrm>
            <a:off x="488880" y="1652760"/>
            <a:ext cx="8410680" cy="456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1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13" name="PlaceHolder 3"/>
          <p:cNvSpPr>
            <a:spLocks noGrp="1"/>
          </p:cNvSpPr>
          <p:nvPr>
            <p:ph type="dt" idx="63"/>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214" name="PlaceHolder 4"/>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PlaceHolder 5"/>
          <p:cNvSpPr>
            <a:spLocks noGrp="1"/>
          </p:cNvSpPr>
          <p:nvPr>
            <p:ph type="sldNum" idx="65"/>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9D55-DBFA-49ED-ABD0-C110EC28B5D9}"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5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54" name="PlaceHolder 3"/>
          <p:cNvSpPr>
            <a:spLocks noGrp="1"/>
          </p:cNvSpPr>
          <p:nvPr>
            <p:ph type="dt" idx="66"/>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255" name="PlaceHolder 4"/>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PlaceHolder 5"/>
          <p:cNvSpPr>
            <a:spLocks noGrp="1"/>
          </p:cNvSpPr>
          <p:nvPr>
            <p:ph type="sldNum" idx="68"/>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6906-B121-4712-B232-84361249E4A2}"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94"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95" name="PlaceHolder 3"/>
          <p:cNvSpPr>
            <a:spLocks noGrp="1"/>
          </p:cNvSpPr>
          <p:nvPr>
            <p:ph type="sldNum" idx="69"/>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9DC2-08A9-407D-927E-AD53C6DDAD00}"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
        <p:nvSpPr>
          <p:cNvPr id="1296" name="PlaceHolder 4"/>
          <p:cNvSpPr>
            <a:spLocks noGrp="1"/>
          </p:cNvSpPr>
          <p:nvPr>
            <p:ph type="dt" idx="70"/>
          </p:nvPr>
        </p:nvSpPr>
        <p:spPr>
          <a:xfrm>
            <a:off x="4788000" y="6593040"/>
            <a:ext cx="122400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Times New Roman"/>
            </a:endParaRPr>
          </a:p>
        </p:txBody>
      </p:sp>
      <p:sp>
        <p:nvSpPr>
          <p:cNvPr id="1297" name="PlaceHolder 5"/>
          <p:cNvSpPr>
            <a:spLocks noGrp="1"/>
          </p:cNvSpPr>
          <p:nvPr>
            <p:ph type="ftr" idx="71"/>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335"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336" name="PlaceHolder 3"/>
          <p:cNvSpPr>
            <a:spLocks noGrp="1"/>
          </p:cNvSpPr>
          <p:nvPr>
            <p:ph type="dt" idx="72"/>
          </p:nvPr>
        </p:nvSpPr>
        <p:spPr>
          <a:xfrm>
            <a:off x="456840" y="6244920"/>
            <a:ext cx="213372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4"/>
          <p:cNvSpPr>
            <a:spLocks noGrp="1"/>
          </p:cNvSpPr>
          <p:nvPr>
            <p:ph type="ftr" idx="7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PlaceHolder 5"/>
          <p:cNvSpPr>
            <a:spLocks noGrp="1"/>
          </p:cNvSpPr>
          <p:nvPr>
            <p:ph type="sldNum" idx="7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1FFE-8C65-402B-A970-F55C3274FD5C}"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61C9-A2B4-45BC-B9D2-41231EFA023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37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37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378" name="Tijdelijke aanduiding voor inhoud 6" descr=""/>
          <p:cNvPicPr/>
          <p:nvPr/>
        </p:nvPicPr>
        <p:blipFill>
          <a:blip r:embed="rId3"/>
          <a:stretch/>
        </p:blipFill>
        <p:spPr>
          <a:xfrm>
            <a:off x="488880" y="1652760"/>
            <a:ext cx="8410680" cy="4565520"/>
          </a:xfrm>
          <a:prstGeom prst="rect">
            <a:avLst/>
          </a:prstGeom>
          <a:ln w="0">
            <a:noFill/>
          </a:ln>
        </p:spPr>
      </p:pic>
      <p:sp>
        <p:nvSpPr>
          <p:cNvPr id="1379"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13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381" name="PlaceHolder 2"/>
          <p:cNvSpPr>
            <a:spLocks noGrp="1"/>
          </p:cNvSpPr>
          <p:nvPr>
            <p:ph type="sldNum" idx="7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9148-03BC-4A43-8C30-DB0A19679C9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D57D-4B74-4659-8F49-82DCCA098BA0}"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41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42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421" name="Tijdelijke aanduiding voor inhoud 6" descr=""/>
          <p:cNvPicPr/>
          <p:nvPr/>
        </p:nvPicPr>
        <p:blipFill>
          <a:blip r:embed="rId3"/>
          <a:stretch/>
        </p:blipFill>
        <p:spPr>
          <a:xfrm>
            <a:off x="488880" y="1652760"/>
            <a:ext cx="8410680" cy="4565520"/>
          </a:xfrm>
          <a:prstGeom prst="rect">
            <a:avLst/>
          </a:prstGeom>
          <a:ln w="0">
            <a:noFill/>
          </a:ln>
        </p:spPr>
      </p:pic>
      <p:sp>
        <p:nvSpPr>
          <p:cNvPr id="1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423" name="PlaceHolder 2"/>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24" name="PlaceHolder 3"/>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sldNum" idx="7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7090-1E3B-4CA2-8038-5C7C670A057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8476-6116-48F6-B6A6-58517A9104C4}"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46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46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465" name="Tijdelijke aanduiding voor inhoud 6" descr=""/>
          <p:cNvPicPr/>
          <p:nvPr/>
        </p:nvPicPr>
        <p:blipFill>
          <a:blip r:embed="rId3"/>
          <a:stretch/>
        </p:blipFill>
        <p:spPr>
          <a:xfrm>
            <a:off x="488880" y="1652760"/>
            <a:ext cx="8410680" cy="4565520"/>
          </a:xfrm>
          <a:prstGeom prst="rect">
            <a:avLst/>
          </a:prstGeom>
          <a:ln w="0">
            <a:noFill/>
          </a:ln>
        </p:spPr>
      </p:pic>
      <p:sp>
        <p:nvSpPr>
          <p:cNvPr id="14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467" name="PlaceHolder 2"/>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68" name="PlaceHolder 3"/>
          <p:cNvSpPr>
            <a:spLocks noGrp="1"/>
          </p:cNvSpPr>
          <p:nvPr>
            <p:ph type="ftr" idx="8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4"/>
          <p:cNvSpPr>
            <a:spLocks noGrp="1"/>
          </p:cNvSpPr>
          <p:nvPr>
            <p:ph type="sldNum" idx="8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B88C-B6F6-47D1-B686-F84327479C0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652A-2E83-4968-89A5-CC0AA0F8CF7B}"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0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0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09" name="Tijdelijke aanduiding voor inhoud 6" descr=""/>
          <p:cNvPicPr/>
          <p:nvPr/>
        </p:nvPicPr>
        <p:blipFill>
          <a:blip r:embed="rId3"/>
          <a:stretch/>
        </p:blipFill>
        <p:spPr>
          <a:xfrm>
            <a:off x="488880" y="1652760"/>
            <a:ext cx="8410680" cy="4565520"/>
          </a:xfrm>
          <a:prstGeom prst="rect">
            <a:avLst/>
          </a:prstGeom>
          <a:ln w="0">
            <a:noFill/>
          </a:ln>
        </p:spPr>
      </p:pic>
      <p:sp>
        <p:nvSpPr>
          <p:cNvPr id="15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11" name="PlaceHolder 2"/>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12" name="PlaceHolder 3"/>
          <p:cNvSpPr>
            <a:spLocks noGrp="1"/>
          </p:cNvSpPr>
          <p:nvPr>
            <p:ph type="ftr" idx="8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4"/>
          <p:cNvSpPr>
            <a:spLocks noGrp="1"/>
          </p:cNvSpPr>
          <p:nvPr>
            <p:ph type="sldNum" idx="8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AB13-CEF6-44B4-A7E4-71F7B207671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0"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2DE7-CD35-4F3F-9EB5-508A46006C41}"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51"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52"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53" name="Tijdelijke aanduiding voor inhoud 6" descr=""/>
          <p:cNvPicPr/>
          <p:nvPr/>
        </p:nvPicPr>
        <p:blipFill>
          <a:blip r:embed="rId3"/>
          <a:stretch/>
        </p:blipFill>
        <p:spPr>
          <a:xfrm>
            <a:off x="488880" y="1652760"/>
            <a:ext cx="8410680" cy="4565520"/>
          </a:xfrm>
          <a:prstGeom prst="rect">
            <a:avLst/>
          </a:prstGeom>
          <a:ln w="0">
            <a:noFill/>
          </a:ln>
        </p:spPr>
      </p:pic>
      <p:sp>
        <p:nvSpPr>
          <p:cNvPr id="15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55" name="PlaceHolder 2"/>
          <p:cNvSpPr>
            <a:spLocks noGrp="1"/>
          </p:cNvSpPr>
          <p:nvPr>
            <p:ph type="dt" idx="8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56" name="PlaceHolder 3"/>
          <p:cNvSpPr>
            <a:spLocks noGrp="1"/>
          </p:cNvSpPr>
          <p:nvPr>
            <p:ph type="ftr" idx="8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sldNum" idx="8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79E9-F6F3-4A71-936A-0AD20E74661E}"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A5E7-8FDD-4763-BA5D-CEF22A5B4AEB}"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9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9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97" name="Tijdelijke aanduiding voor inhoud 6" descr=""/>
          <p:cNvPicPr/>
          <p:nvPr/>
        </p:nvPicPr>
        <p:blipFill>
          <a:blip r:embed="rId3"/>
          <a:stretch/>
        </p:blipFill>
        <p:spPr>
          <a:xfrm>
            <a:off x="488880" y="1652760"/>
            <a:ext cx="8410680" cy="4565520"/>
          </a:xfrm>
          <a:prstGeom prst="rect">
            <a:avLst/>
          </a:prstGeom>
          <a:ln w="0">
            <a:noFill/>
          </a:ln>
        </p:spPr>
      </p:pic>
      <p:sp>
        <p:nvSpPr>
          <p:cNvPr id="15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99" name="PlaceHolder 2"/>
          <p:cNvSpPr>
            <a:spLocks noGrp="1"/>
          </p:cNvSpPr>
          <p:nvPr>
            <p:ph type="dt" idx="8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0" name="PlaceHolder 3"/>
          <p:cNvSpPr>
            <a:spLocks noGrp="1"/>
          </p:cNvSpPr>
          <p:nvPr>
            <p:ph type="ftr" idx="8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sldNum" idx="9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A720-F56F-4918-BEAB-AAC6364FFC0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79F9-B88E-4DF9-B758-A24092976A84}"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2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2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28" name="Tijdelijke aanduiding voor inhoud 6" descr=""/>
          <p:cNvPicPr/>
          <p:nvPr/>
        </p:nvPicPr>
        <p:blipFill>
          <a:blip r:embed="rId3"/>
          <a:stretch/>
        </p:blipFill>
        <p:spPr>
          <a:xfrm>
            <a:off x="488880" y="1652760"/>
            <a:ext cx="8410680" cy="456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6BB8-9E55-421A-A42F-724FE5286C6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3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4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641" name="Tijdelijke aanduiding voor inhoud 6" descr=""/>
          <p:cNvPicPr/>
          <p:nvPr/>
        </p:nvPicPr>
        <p:blipFill>
          <a:blip r:embed="rId3"/>
          <a:stretch/>
        </p:blipFill>
        <p:spPr>
          <a:xfrm>
            <a:off x="488880" y="1652760"/>
            <a:ext cx="8410680" cy="4565520"/>
          </a:xfrm>
          <a:prstGeom prst="rect">
            <a:avLst/>
          </a:prstGeom>
          <a:ln w="0">
            <a:noFill/>
          </a:ln>
        </p:spPr>
      </p:pic>
      <p:sp>
        <p:nvSpPr>
          <p:cNvPr id="16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43" name="PlaceHolder 2"/>
          <p:cNvSpPr>
            <a:spLocks noGrp="1"/>
          </p:cNvSpPr>
          <p:nvPr>
            <p:ph type="dt" idx="9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4" name="PlaceHolder 3"/>
          <p:cNvSpPr>
            <a:spLocks noGrp="1"/>
          </p:cNvSpPr>
          <p:nvPr>
            <p:ph type="ftr" idx="9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PlaceHolder 4"/>
          <p:cNvSpPr>
            <a:spLocks noGrp="1"/>
          </p:cNvSpPr>
          <p:nvPr>
            <p:ph type="sldNum" idx="9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9422-E21D-418A-B71C-722F6041A30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96E6-313A-4C4B-BB23-0AC0079013A6}"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8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8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685" name="Tijdelijke aanduiding voor inhoud 6" descr=""/>
          <p:cNvPicPr/>
          <p:nvPr/>
        </p:nvPicPr>
        <p:blipFill>
          <a:blip r:embed="rId3"/>
          <a:stretch/>
        </p:blipFill>
        <p:spPr>
          <a:xfrm>
            <a:off x="488880" y="1652760"/>
            <a:ext cx="8410680" cy="4565520"/>
          </a:xfrm>
          <a:prstGeom prst="rect">
            <a:avLst/>
          </a:prstGeom>
          <a:ln w="0">
            <a:noFill/>
          </a:ln>
        </p:spPr>
      </p:pic>
      <p:sp>
        <p:nvSpPr>
          <p:cNvPr id="16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87" name="PlaceHolder 2"/>
          <p:cNvSpPr>
            <a:spLocks noGrp="1"/>
          </p:cNvSpPr>
          <p:nvPr>
            <p:ph type="dt" idx="9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8" name="PlaceHolder 3"/>
          <p:cNvSpPr>
            <a:spLocks noGrp="1"/>
          </p:cNvSpPr>
          <p:nvPr>
            <p:ph type="ftr" idx="9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4"/>
          <p:cNvSpPr>
            <a:spLocks noGrp="1"/>
          </p:cNvSpPr>
          <p:nvPr>
            <p:ph type="sldNum" idx="9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DB3B-7374-4E91-81D9-E79E56D7CBD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F7C0-213C-45FD-9FE3-D3289A2C790D}"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72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72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729" name="Tijdelijke aanduiding voor inhoud 6" descr=""/>
          <p:cNvPicPr/>
          <p:nvPr/>
        </p:nvPicPr>
        <p:blipFill>
          <a:blip r:embed="rId3"/>
          <a:stretch/>
        </p:blipFill>
        <p:spPr>
          <a:xfrm>
            <a:off x="488880" y="1652760"/>
            <a:ext cx="8410680" cy="4565520"/>
          </a:xfrm>
          <a:prstGeom prst="rect">
            <a:avLst/>
          </a:prstGeom>
          <a:ln w="0">
            <a:noFill/>
          </a:ln>
        </p:spPr>
      </p:pic>
      <p:sp>
        <p:nvSpPr>
          <p:cNvPr id="17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731" name="PlaceHolder 2"/>
          <p:cNvSpPr>
            <a:spLocks noGrp="1"/>
          </p:cNvSpPr>
          <p:nvPr>
            <p:ph type="dt" idx="9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32" name="PlaceHolder 3"/>
          <p:cNvSpPr>
            <a:spLocks noGrp="1"/>
          </p:cNvSpPr>
          <p:nvPr>
            <p:ph type="ftr" idx="9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4"/>
          <p:cNvSpPr>
            <a:spLocks noGrp="1"/>
          </p:cNvSpPr>
          <p:nvPr>
            <p:ph type="sldNum" idx="9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CDC0-E973-4E83-82CC-9BC958530DC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0"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D33C-2BA2-4155-8159-50CB05E490A1}"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771"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772"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773" name="Tijdelijke aanduiding voor inhoud 6" descr=""/>
          <p:cNvPicPr/>
          <p:nvPr/>
        </p:nvPicPr>
        <p:blipFill>
          <a:blip r:embed="rId3"/>
          <a:stretch/>
        </p:blipFill>
        <p:spPr>
          <a:xfrm>
            <a:off x="488880" y="1652760"/>
            <a:ext cx="8410680" cy="4565520"/>
          </a:xfrm>
          <a:prstGeom prst="rect">
            <a:avLst/>
          </a:prstGeom>
          <a:ln w="0">
            <a:noFill/>
          </a:ln>
        </p:spPr>
      </p:pic>
      <p:sp>
        <p:nvSpPr>
          <p:cNvPr id="17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775" name="PlaceHolder 2"/>
          <p:cNvSpPr>
            <a:spLocks noGrp="1"/>
          </p:cNvSpPr>
          <p:nvPr>
            <p:ph type="dt" idx="10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6" name="PlaceHolder 3"/>
          <p:cNvSpPr>
            <a:spLocks noGrp="1"/>
          </p:cNvSpPr>
          <p:nvPr>
            <p:ph type="ftr" idx="10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PlaceHolder 4"/>
          <p:cNvSpPr>
            <a:spLocks noGrp="1"/>
          </p:cNvSpPr>
          <p:nvPr>
            <p:ph type="sldNum" idx="10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E21E-F9ED-4600-B1A7-5FBD6F3F0BA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24F2-771A-41D0-831F-B6CBC7F79BC2}"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81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81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817" name="Tijdelijke aanduiding voor inhoud 6" descr=""/>
          <p:cNvPicPr/>
          <p:nvPr/>
        </p:nvPicPr>
        <p:blipFill>
          <a:blip r:embed="rId3"/>
          <a:stretch/>
        </p:blipFill>
        <p:spPr>
          <a:xfrm>
            <a:off x="488880" y="1652760"/>
            <a:ext cx="8410680" cy="4565520"/>
          </a:xfrm>
          <a:prstGeom prst="rect">
            <a:avLst/>
          </a:prstGeom>
          <a:ln w="0">
            <a:noFill/>
          </a:ln>
        </p:spPr>
      </p:pic>
      <p:sp>
        <p:nvSpPr>
          <p:cNvPr id="18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819" name="PlaceHolder 2"/>
          <p:cNvSpPr>
            <a:spLocks noGrp="1"/>
          </p:cNvSpPr>
          <p:nvPr>
            <p:ph type="dt" idx="10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20" name="PlaceHolder 3"/>
          <p:cNvSpPr>
            <a:spLocks noGrp="1"/>
          </p:cNvSpPr>
          <p:nvPr>
            <p:ph type="ftr" idx="10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PlaceHolder 4"/>
          <p:cNvSpPr>
            <a:spLocks noGrp="1"/>
          </p:cNvSpPr>
          <p:nvPr>
            <p:ph type="sldNum" idx="10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AAEA-89D3-4599-9254-0CC49F8ACB1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5BC5-9767-4ABF-8C7E-2205892B6DDC}"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85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86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861" name="Tijdelijke aanduiding voor inhoud 6" descr=""/>
          <p:cNvPicPr/>
          <p:nvPr/>
        </p:nvPicPr>
        <p:blipFill>
          <a:blip r:embed="rId3"/>
          <a:stretch/>
        </p:blipFill>
        <p:spPr>
          <a:xfrm>
            <a:off x="488880" y="1652760"/>
            <a:ext cx="8410680" cy="4565520"/>
          </a:xfrm>
          <a:prstGeom prst="rect">
            <a:avLst/>
          </a:prstGeom>
          <a:ln w="0">
            <a:noFill/>
          </a:ln>
        </p:spPr>
      </p:pic>
      <p:sp>
        <p:nvSpPr>
          <p:cNvPr id="18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863" name="PlaceHolder 2"/>
          <p:cNvSpPr>
            <a:spLocks noGrp="1"/>
          </p:cNvSpPr>
          <p:nvPr>
            <p:ph type="sldNum" idx="10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C990-EFA0-4572-82B6-440D1D6B3D6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864" name="PlaceHolder 3"/>
          <p:cNvSpPr>
            <a:spLocks noGrp="1"/>
          </p:cNvSpPr>
          <p:nvPr>
            <p:ph type="dt" idx="107"/>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865" name="PlaceHolder 4"/>
          <p:cNvSpPr>
            <a:spLocks noGrp="1"/>
          </p:cNvSpPr>
          <p:nvPr>
            <p:ph type="ftr" idx="108"/>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FDFF-664F-49A8-9495-BAF3F0E37497}"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0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0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05" name="Tijdelijke aanduiding voor inhoud 6" descr=""/>
          <p:cNvPicPr/>
          <p:nvPr/>
        </p:nvPicPr>
        <p:blipFill>
          <a:blip r:embed="rId3"/>
          <a:stretch/>
        </p:blipFill>
        <p:spPr>
          <a:xfrm>
            <a:off x="488880" y="1652760"/>
            <a:ext cx="8410680" cy="4565520"/>
          </a:xfrm>
          <a:prstGeom prst="rect">
            <a:avLst/>
          </a:prstGeom>
          <a:ln w="0">
            <a:noFill/>
          </a:ln>
        </p:spPr>
      </p:pic>
      <p:sp>
        <p:nvSpPr>
          <p:cNvPr id="1906"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19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08" name="PlaceHolder 2"/>
          <p:cNvSpPr>
            <a:spLocks noGrp="1"/>
          </p:cNvSpPr>
          <p:nvPr>
            <p:ph type="sldNum" idx="10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FF71-88CA-4F6B-A80E-A564D77A33F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042D-56D6-483D-9003-1E73E8AC212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4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4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48" name="Tijdelijke aanduiding voor inhoud 6" descr=""/>
          <p:cNvPicPr/>
          <p:nvPr/>
        </p:nvPicPr>
        <p:blipFill>
          <a:blip r:embed="rId3"/>
          <a:stretch/>
        </p:blipFill>
        <p:spPr>
          <a:xfrm>
            <a:off x="488880" y="1652760"/>
            <a:ext cx="8410680" cy="4565520"/>
          </a:xfrm>
          <a:prstGeom prst="rect">
            <a:avLst/>
          </a:prstGeom>
          <a:ln w="0">
            <a:noFill/>
          </a:ln>
        </p:spPr>
      </p:pic>
      <p:sp>
        <p:nvSpPr>
          <p:cNvPr id="19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50" name="PlaceHolder 2"/>
          <p:cNvSpPr>
            <a:spLocks noGrp="1"/>
          </p:cNvSpPr>
          <p:nvPr>
            <p:ph type="dt" idx="11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51" name="PlaceHolder 3"/>
          <p:cNvSpPr>
            <a:spLocks noGrp="1"/>
          </p:cNvSpPr>
          <p:nvPr>
            <p:ph type="ftr" idx="1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4"/>
          <p:cNvSpPr>
            <a:spLocks noGrp="1"/>
          </p:cNvSpPr>
          <p:nvPr>
            <p:ph type="sldNum" idx="11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C590-1635-408D-B6D1-6D950B39DDA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9"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01C4-2CAF-4375-A234-91EE3DC5992B}"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90"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91"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92" name="Tijdelijke aanduiding voor inhoud 6" descr=""/>
          <p:cNvPicPr/>
          <p:nvPr/>
        </p:nvPicPr>
        <p:blipFill>
          <a:blip r:embed="rId3"/>
          <a:stretch/>
        </p:blipFill>
        <p:spPr>
          <a:xfrm>
            <a:off x="488880" y="1652760"/>
            <a:ext cx="8410680" cy="4565520"/>
          </a:xfrm>
          <a:prstGeom prst="rect">
            <a:avLst/>
          </a:prstGeom>
          <a:ln w="0">
            <a:noFill/>
          </a:ln>
        </p:spPr>
      </p:pic>
      <p:sp>
        <p:nvSpPr>
          <p:cNvPr id="19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94" name="PlaceHolder 2"/>
          <p:cNvSpPr>
            <a:spLocks noGrp="1"/>
          </p:cNvSpPr>
          <p:nvPr>
            <p:ph type="dt" idx="11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95" name="PlaceHolder 3"/>
          <p:cNvSpPr>
            <a:spLocks noGrp="1"/>
          </p:cNvSpPr>
          <p:nvPr>
            <p:ph type="ftr" idx="1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PlaceHolder 4"/>
          <p:cNvSpPr>
            <a:spLocks noGrp="1"/>
          </p:cNvSpPr>
          <p:nvPr>
            <p:ph type="sldNum" idx="11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B32E-B628-4AB9-A97A-EBDCE77177E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3"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47EC-BF1D-40D1-A660-E83564F0C4A4}"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034"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035"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036" name="Tijdelijke aanduiding voor inhoud 6" descr=""/>
          <p:cNvPicPr/>
          <p:nvPr/>
        </p:nvPicPr>
        <p:blipFill>
          <a:blip r:embed="rId3"/>
          <a:stretch/>
        </p:blipFill>
        <p:spPr>
          <a:xfrm>
            <a:off x="488880" y="1652760"/>
            <a:ext cx="8410680" cy="4565520"/>
          </a:xfrm>
          <a:prstGeom prst="rect">
            <a:avLst/>
          </a:prstGeom>
          <a:ln w="0">
            <a:noFill/>
          </a:ln>
        </p:spPr>
      </p:pic>
      <p:sp>
        <p:nvSpPr>
          <p:cNvPr id="20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038" name="PlaceHolder 2"/>
          <p:cNvSpPr>
            <a:spLocks noGrp="1"/>
          </p:cNvSpPr>
          <p:nvPr>
            <p:ph type="dt" idx="11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39" name="PlaceHolder 3"/>
          <p:cNvSpPr>
            <a:spLocks noGrp="1"/>
          </p:cNvSpPr>
          <p:nvPr>
            <p:ph type="ftr" idx="1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PlaceHolder 4"/>
          <p:cNvSpPr>
            <a:spLocks noGrp="1"/>
          </p:cNvSpPr>
          <p:nvPr>
            <p:ph type="sldNum" idx="11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CB50-AEA5-4482-A7E4-6E54637BB47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A8E5-7F03-4FC3-80EB-E674F6CEAF3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grpSp>
        <p:nvGrpSpPr>
          <p:cNvPr id="169" name="Tijdelijke aanduiding voor inhoud 6"/>
          <p:cNvGrpSpPr/>
          <p:nvPr/>
        </p:nvGrpSpPr>
        <p:grpSpPr>
          <a:xfrm>
            <a:off x="546120" y="1698480"/>
            <a:ext cx="8307360" cy="1854360"/>
            <a:chOff x="546120" y="1698480"/>
            <a:chExt cx="8307360" cy="1854360"/>
          </a:xfrm>
        </p:grpSpPr>
        <p:sp>
          <p:nvSpPr>
            <p:cNvPr id="170" name=""/>
            <p:cNvSpPr/>
            <p:nvPr/>
          </p:nvSpPr>
          <p:spPr>
            <a:xfrm>
              <a:off x="546120" y="1698480"/>
              <a:ext cx="276876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14880" y="1698480"/>
              <a:ext cx="276984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084720" y="1698480"/>
              <a:ext cx="276876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46120" y="2070000"/>
              <a:ext cx="276876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314880" y="2070000"/>
              <a:ext cx="27698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6084720" y="2070000"/>
              <a:ext cx="276876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46120" y="244008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314880" y="2440080"/>
              <a:ext cx="27698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084720" y="244008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46120" y="2811600"/>
              <a:ext cx="27687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314880" y="2811600"/>
              <a:ext cx="27698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084720" y="2811600"/>
              <a:ext cx="27687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46120" y="318132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14880" y="3181320"/>
              <a:ext cx="27698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084720" y="318132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314880" y="169848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14880" y="2070000"/>
              <a:ext cx="0" cy="148284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084720" y="169848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084720" y="2070000"/>
              <a:ext cx="0" cy="148284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6120" y="2070000"/>
              <a:ext cx="8307360" cy="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6120" y="244008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6120" y="281160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46120" y="318132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6120" y="355284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7"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ED86-1F32-4749-8357-BA814B825AFB}"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078"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079"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080" name="Tijdelijke aanduiding voor inhoud 6" descr=""/>
          <p:cNvPicPr/>
          <p:nvPr/>
        </p:nvPicPr>
        <p:blipFill>
          <a:blip r:embed="rId3"/>
          <a:stretch/>
        </p:blipFill>
        <p:spPr>
          <a:xfrm>
            <a:off x="488880" y="1652760"/>
            <a:ext cx="8410680" cy="4565520"/>
          </a:xfrm>
          <a:prstGeom prst="rect">
            <a:avLst/>
          </a:prstGeom>
          <a:ln w="0">
            <a:noFill/>
          </a:ln>
        </p:spPr>
      </p:pic>
      <p:sp>
        <p:nvSpPr>
          <p:cNvPr id="20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082" name="PlaceHolder 2"/>
          <p:cNvSpPr>
            <a:spLocks noGrp="1"/>
          </p:cNvSpPr>
          <p:nvPr>
            <p:ph type="dt" idx="11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83" name="PlaceHolder 3"/>
          <p:cNvSpPr>
            <a:spLocks noGrp="1"/>
          </p:cNvSpPr>
          <p:nvPr>
            <p:ph type="ftr" idx="1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PlaceHolder 4"/>
          <p:cNvSpPr>
            <a:spLocks noGrp="1"/>
          </p:cNvSpPr>
          <p:nvPr>
            <p:ph type="sldNum" idx="12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785E-2BD5-4805-8887-360B12AE690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258C-7AF2-45FE-813E-64BF296C6477}"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12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12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124" name="Tijdelijke aanduiding voor inhoud 6" descr=""/>
          <p:cNvPicPr/>
          <p:nvPr/>
        </p:nvPicPr>
        <p:blipFill>
          <a:blip r:embed="rId3"/>
          <a:stretch/>
        </p:blipFill>
        <p:spPr>
          <a:xfrm>
            <a:off x="488880" y="1652760"/>
            <a:ext cx="8410680" cy="4565520"/>
          </a:xfrm>
          <a:prstGeom prst="rect">
            <a:avLst/>
          </a:prstGeom>
          <a:ln w="0">
            <a:noFill/>
          </a:ln>
        </p:spPr>
      </p:pic>
      <p:sp>
        <p:nvSpPr>
          <p:cNvPr id="21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126" name="PlaceHolder 2"/>
          <p:cNvSpPr>
            <a:spLocks noGrp="1"/>
          </p:cNvSpPr>
          <p:nvPr>
            <p:ph type="dt" idx="12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7" name="PlaceHolder 3"/>
          <p:cNvSpPr>
            <a:spLocks noGrp="1"/>
          </p:cNvSpPr>
          <p:nvPr>
            <p:ph type="ftr" idx="1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PlaceHolder 4"/>
          <p:cNvSpPr>
            <a:spLocks noGrp="1"/>
          </p:cNvSpPr>
          <p:nvPr>
            <p:ph type="sldNum" idx="12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10D8-9173-47E1-85F7-B9B70F046FE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9DD6-3F57-4502-AF75-5DCFC55E52E0}"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16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16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168" name="Tijdelijke aanduiding voor inhoud 6" descr=""/>
          <p:cNvPicPr/>
          <p:nvPr/>
        </p:nvPicPr>
        <p:blipFill>
          <a:blip r:embed="rId3"/>
          <a:stretch/>
        </p:blipFill>
        <p:spPr>
          <a:xfrm>
            <a:off x="488880" y="1652760"/>
            <a:ext cx="8410680" cy="4565520"/>
          </a:xfrm>
          <a:prstGeom prst="rect">
            <a:avLst/>
          </a:prstGeom>
          <a:ln w="0">
            <a:noFill/>
          </a:ln>
        </p:spPr>
      </p:pic>
      <p:sp>
        <p:nvSpPr>
          <p:cNvPr id="21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170" name="PlaceHolder 2"/>
          <p:cNvSpPr>
            <a:spLocks noGrp="1"/>
          </p:cNvSpPr>
          <p:nvPr>
            <p:ph type="dt" idx="12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71" name="PlaceHolder 3"/>
          <p:cNvSpPr>
            <a:spLocks noGrp="1"/>
          </p:cNvSpPr>
          <p:nvPr>
            <p:ph type="ftr" idx="1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PlaceHolder 4"/>
          <p:cNvSpPr>
            <a:spLocks noGrp="1"/>
          </p:cNvSpPr>
          <p:nvPr>
            <p:ph type="sldNum" idx="12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4F0B-9ADA-4A8B-8F6E-60B3043C304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9"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7BB5-25FC-4BEC-8213-D815B73E5F19}"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10"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11"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212" name="Tijdelijke aanduiding voor inhoud 6" descr=""/>
          <p:cNvPicPr/>
          <p:nvPr/>
        </p:nvPicPr>
        <p:blipFill>
          <a:blip r:embed="rId3"/>
          <a:stretch/>
        </p:blipFill>
        <p:spPr>
          <a:xfrm>
            <a:off x="488880" y="1652760"/>
            <a:ext cx="8410680" cy="4565520"/>
          </a:xfrm>
          <a:prstGeom prst="rect">
            <a:avLst/>
          </a:prstGeom>
          <a:ln w="0">
            <a:noFill/>
          </a:ln>
        </p:spPr>
      </p:pic>
      <p:sp>
        <p:nvSpPr>
          <p:cNvPr id="22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214" name="PlaceHolder 2"/>
          <p:cNvSpPr>
            <a:spLocks noGrp="1"/>
          </p:cNvSpPr>
          <p:nvPr>
            <p:ph type="dt" idx="12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5" name="PlaceHolder 3"/>
          <p:cNvSpPr>
            <a:spLocks noGrp="1"/>
          </p:cNvSpPr>
          <p:nvPr>
            <p:ph type="ftr" idx="1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PlaceHolder 4"/>
          <p:cNvSpPr>
            <a:spLocks noGrp="1"/>
          </p:cNvSpPr>
          <p:nvPr>
            <p:ph type="sldNum" idx="13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B71A-F213-43BA-812B-3992F388041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3"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0EEA-6611-4C4B-92A3-45E14F06DEF0}"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54"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55"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256" name="Tijdelijke aanduiding voor inhoud 6" descr=""/>
          <p:cNvPicPr/>
          <p:nvPr/>
        </p:nvPicPr>
        <p:blipFill>
          <a:blip r:embed="rId3"/>
          <a:stretch/>
        </p:blipFill>
        <p:spPr>
          <a:xfrm>
            <a:off x="488880" y="1652760"/>
            <a:ext cx="8410680" cy="4565520"/>
          </a:xfrm>
          <a:prstGeom prst="rect">
            <a:avLst/>
          </a:prstGeom>
          <a:ln w="0">
            <a:noFill/>
          </a:ln>
        </p:spPr>
      </p:pic>
      <p:sp>
        <p:nvSpPr>
          <p:cNvPr id="22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258" name="PlaceHolder 2"/>
          <p:cNvSpPr>
            <a:spLocks noGrp="1"/>
          </p:cNvSpPr>
          <p:nvPr>
            <p:ph type="dt" idx="13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9" name="PlaceHolder 3"/>
          <p:cNvSpPr>
            <a:spLocks noGrp="1"/>
          </p:cNvSpPr>
          <p:nvPr>
            <p:ph type="ftr" idx="1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PlaceHolder 4"/>
          <p:cNvSpPr>
            <a:spLocks noGrp="1"/>
          </p:cNvSpPr>
          <p:nvPr>
            <p:ph type="sldNum" idx="13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F02F-650C-4102-BDEE-8E801C5B125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7"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497B-E892-4232-A764-55021A57ABC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98"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99"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00" name="Tijdelijke aanduiding voor inhoud 6" descr=""/>
          <p:cNvPicPr/>
          <p:nvPr/>
        </p:nvPicPr>
        <p:blipFill>
          <a:blip r:embed="rId3"/>
          <a:stretch/>
        </p:blipFill>
        <p:spPr>
          <a:xfrm>
            <a:off x="488880" y="1652760"/>
            <a:ext cx="8410680" cy="4565520"/>
          </a:xfrm>
          <a:prstGeom prst="rect">
            <a:avLst/>
          </a:prstGeom>
          <a:ln w="0">
            <a:noFill/>
          </a:ln>
        </p:spPr>
      </p:pic>
      <p:sp>
        <p:nvSpPr>
          <p:cNvPr id="23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02" name="PlaceHolder 2"/>
          <p:cNvSpPr>
            <a:spLocks noGrp="1"/>
          </p:cNvSpPr>
          <p:nvPr>
            <p:ph type="dt" idx="13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03" name="PlaceHolder 3"/>
          <p:cNvSpPr>
            <a:spLocks noGrp="1"/>
          </p:cNvSpPr>
          <p:nvPr>
            <p:ph type="ftr" idx="1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PlaceHolder 4"/>
          <p:cNvSpPr>
            <a:spLocks noGrp="1"/>
          </p:cNvSpPr>
          <p:nvPr>
            <p:ph type="sldNum" idx="13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7983-4B2B-4282-91C2-F598A94D20D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94A8-5403-4E0D-B15A-F827DCE2D33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4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4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44" name="Tijdelijke aanduiding voor inhoud 6" descr=""/>
          <p:cNvPicPr/>
          <p:nvPr/>
        </p:nvPicPr>
        <p:blipFill>
          <a:blip r:embed="rId3"/>
          <a:stretch/>
        </p:blipFill>
        <p:spPr>
          <a:xfrm>
            <a:off x="488880" y="1652760"/>
            <a:ext cx="8410680" cy="4565520"/>
          </a:xfrm>
          <a:prstGeom prst="rect">
            <a:avLst/>
          </a:prstGeom>
          <a:ln w="0">
            <a:noFill/>
          </a:ln>
        </p:spPr>
      </p:pic>
      <p:sp>
        <p:nvSpPr>
          <p:cNvPr id="23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46" name="PlaceHolder 2"/>
          <p:cNvSpPr>
            <a:spLocks noGrp="1"/>
          </p:cNvSpPr>
          <p:nvPr>
            <p:ph type="dt" idx="13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47" name="PlaceHolder 3"/>
          <p:cNvSpPr>
            <a:spLocks noGrp="1"/>
          </p:cNvSpPr>
          <p:nvPr>
            <p:ph type="ftr" idx="1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PlaceHolder 4"/>
          <p:cNvSpPr>
            <a:spLocks noGrp="1"/>
          </p:cNvSpPr>
          <p:nvPr>
            <p:ph type="sldNum" idx="13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D87E-8067-4010-9BC3-E062B473C24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4"/>
    <p:sldLayoutId id="2147484365" r:id="rId5"/>
    <p:sldLayoutId id="2147484366" r:id="rId6"/>
    <p:sldLayoutId id="2147484367" r:id="rId7"/>
    <p:sldLayoutId id="2147484368" r:id="rId8"/>
    <p:sldLayoutId id="2147484369" r:id="rId9"/>
    <p:sldLayoutId id="2147484370" r:id="rId10"/>
    <p:sldLayoutId id="2147484371" r:id="rId11"/>
    <p:sldLayoutId id="2147484372" r:id="rId12"/>
    <p:sldLayoutId id="2147484373" r:id="rId13"/>
    <p:sldLayoutId id="2147484374" r:id="rId14"/>
    <p:sldLayoutId id="2147484375" r:id="rId15"/>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C5D1-9F40-412D-919B-BD4257B0746D}"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8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8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88" name="Tijdelijke aanduiding voor inhoud 6" descr=""/>
          <p:cNvPicPr/>
          <p:nvPr/>
        </p:nvPicPr>
        <p:blipFill>
          <a:blip r:embed="rId3"/>
          <a:stretch/>
        </p:blipFill>
        <p:spPr>
          <a:xfrm>
            <a:off x="488880" y="1652760"/>
            <a:ext cx="8410680" cy="4565520"/>
          </a:xfrm>
          <a:prstGeom prst="rect">
            <a:avLst/>
          </a:prstGeom>
          <a:ln w="0">
            <a:noFill/>
          </a:ln>
        </p:spPr>
      </p:pic>
      <p:sp>
        <p:nvSpPr>
          <p:cNvPr id="23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90" name="PlaceHolder 2"/>
          <p:cNvSpPr>
            <a:spLocks noGrp="1"/>
          </p:cNvSpPr>
          <p:nvPr>
            <p:ph type="sldNum" idx="14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6AB2-F8A8-4EDA-A99C-1AE17BBF71BC}"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91" name="PlaceHolder 3"/>
          <p:cNvSpPr>
            <a:spLocks noGrp="1"/>
          </p:cNvSpPr>
          <p:nvPr>
            <p:ph type="dt" idx="141"/>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392" name="PlaceHolder 4"/>
          <p:cNvSpPr>
            <a:spLocks noGrp="1"/>
          </p:cNvSpPr>
          <p:nvPr>
            <p:ph type="ftr" idx="142"/>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9"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4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431" name="PlaceHolder 2"/>
          <p:cNvSpPr>
            <a:spLocks noGrp="1"/>
          </p:cNvSpPr>
          <p:nvPr>
            <p:ph type="sldNum" idx="14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3264-5973-46F8-A6A7-D90E1691378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469" name="PlaceHolder 2"/>
          <p:cNvSpPr>
            <a:spLocks noGrp="1"/>
          </p:cNvSpPr>
          <p:nvPr>
            <p:ph type="dt" idx="14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70" name="PlaceHolder 3"/>
          <p:cNvSpPr>
            <a:spLocks noGrp="1"/>
          </p:cNvSpPr>
          <p:nvPr>
            <p:ph type="ftr" idx="1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PlaceHolder 4"/>
          <p:cNvSpPr>
            <a:spLocks noGrp="1"/>
          </p:cNvSpPr>
          <p:nvPr>
            <p:ph type="sldNum" idx="14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C34A-CDAE-4375-8521-046B0AAA2D2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A63C-6A90-4AE5-9C29-B0F69CFA9C50}"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4" name="Tijdelijke aanduiding voor inhoud 6" descr=""/>
          <p:cNvPicPr/>
          <p:nvPr/>
        </p:nvPicPr>
        <p:blipFill>
          <a:blip r:embed="rId3"/>
          <a:stretch/>
        </p:blipFill>
        <p:spPr>
          <a:xfrm>
            <a:off x="549360" y="1682640"/>
            <a:ext cx="8313480" cy="448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09" name="PlaceHolder 2"/>
          <p:cNvSpPr>
            <a:spLocks noGrp="1"/>
          </p:cNvSpPr>
          <p:nvPr>
            <p:ph type="dt" idx="14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10" name="PlaceHolder 3"/>
          <p:cNvSpPr>
            <a:spLocks noGrp="1"/>
          </p:cNvSpPr>
          <p:nvPr>
            <p:ph type="ftr" idx="1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PlaceHolder 4"/>
          <p:cNvSpPr>
            <a:spLocks noGrp="1"/>
          </p:cNvSpPr>
          <p:nvPr>
            <p:ph type="sldNum" idx="14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092D-ABB4-4A48-A654-7D10D580B26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49" name="PlaceHolder 2"/>
          <p:cNvSpPr>
            <a:spLocks noGrp="1"/>
          </p:cNvSpPr>
          <p:nvPr>
            <p:ph type="dt" idx="15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50" name="PlaceHolder 3"/>
          <p:cNvSpPr>
            <a:spLocks noGrp="1"/>
          </p:cNvSpPr>
          <p:nvPr>
            <p:ph type="ftr" idx="1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PlaceHolder 4"/>
          <p:cNvSpPr>
            <a:spLocks noGrp="1"/>
          </p:cNvSpPr>
          <p:nvPr>
            <p:ph type="sldNum" idx="15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ADBC-AF39-41CE-86E0-0F104C53AE2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89" name="PlaceHolder 2"/>
          <p:cNvSpPr>
            <a:spLocks noGrp="1"/>
          </p:cNvSpPr>
          <p:nvPr>
            <p:ph type="dt" idx="15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90" name="PlaceHolder 3"/>
          <p:cNvSpPr>
            <a:spLocks noGrp="1"/>
          </p:cNvSpPr>
          <p:nvPr>
            <p:ph type="ftr" idx="1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PlaceHolder 4"/>
          <p:cNvSpPr>
            <a:spLocks noGrp="1"/>
          </p:cNvSpPr>
          <p:nvPr>
            <p:ph type="sldNum" idx="15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407A-9799-4A48-B542-29D551167A9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629" name="PlaceHolder 2"/>
          <p:cNvSpPr>
            <a:spLocks noGrp="1"/>
          </p:cNvSpPr>
          <p:nvPr>
            <p:ph type="dt" idx="15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30" name="PlaceHolder 3"/>
          <p:cNvSpPr>
            <a:spLocks noGrp="1"/>
          </p:cNvSpPr>
          <p:nvPr>
            <p:ph type="ftr" idx="1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PlaceHolder 4"/>
          <p:cNvSpPr>
            <a:spLocks noGrp="1"/>
          </p:cNvSpPr>
          <p:nvPr>
            <p:ph type="sldNum" idx="15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A682-2022-485B-9266-38C44BF3F57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669" name="PlaceHolder 2"/>
          <p:cNvSpPr>
            <a:spLocks noGrp="1"/>
          </p:cNvSpPr>
          <p:nvPr>
            <p:ph type="dt" idx="15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70" name="PlaceHolder 3"/>
          <p:cNvSpPr>
            <a:spLocks noGrp="1"/>
          </p:cNvSpPr>
          <p:nvPr>
            <p:ph type="ftr" idx="1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PlaceHolder 4"/>
          <p:cNvSpPr>
            <a:spLocks noGrp="1"/>
          </p:cNvSpPr>
          <p:nvPr>
            <p:ph type="sldNum" idx="16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71BB-FD90-45E9-A55C-2C14DF207FE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09" name="PlaceHolder 2"/>
          <p:cNvSpPr>
            <a:spLocks noGrp="1"/>
          </p:cNvSpPr>
          <p:nvPr>
            <p:ph type="dt" idx="16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10" name="PlaceHolder 3"/>
          <p:cNvSpPr>
            <a:spLocks noGrp="1"/>
          </p:cNvSpPr>
          <p:nvPr>
            <p:ph type="ftr" idx="1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PlaceHolder 4"/>
          <p:cNvSpPr>
            <a:spLocks noGrp="1"/>
          </p:cNvSpPr>
          <p:nvPr>
            <p:ph type="sldNum" idx="16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E54E-C91C-445E-A557-3BC932D675B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49" name="PlaceHolder 2"/>
          <p:cNvSpPr>
            <a:spLocks noGrp="1"/>
          </p:cNvSpPr>
          <p:nvPr>
            <p:ph type="dt" idx="16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50" name="PlaceHolder 3"/>
          <p:cNvSpPr>
            <a:spLocks noGrp="1"/>
          </p:cNvSpPr>
          <p:nvPr>
            <p:ph type="ftr" idx="1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PlaceHolder 4"/>
          <p:cNvSpPr>
            <a:spLocks noGrp="1"/>
          </p:cNvSpPr>
          <p:nvPr>
            <p:ph type="sldNum" idx="16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445E-93B7-4A82-BB4F-1F9D31329F7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89" name="PlaceHolder 2"/>
          <p:cNvSpPr>
            <a:spLocks noGrp="1"/>
          </p:cNvSpPr>
          <p:nvPr>
            <p:ph type="dt" idx="16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0" name="PlaceHolder 3"/>
          <p:cNvSpPr>
            <a:spLocks noGrp="1"/>
          </p:cNvSpPr>
          <p:nvPr>
            <p:ph type="ftr" idx="1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PlaceHolder 4"/>
          <p:cNvSpPr>
            <a:spLocks noGrp="1"/>
          </p:cNvSpPr>
          <p:nvPr>
            <p:ph type="sldNum" idx="17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7FB6-3B04-41F3-ADA4-8082EA755D2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829" name="PlaceHolder 2"/>
          <p:cNvSpPr>
            <a:spLocks noGrp="1"/>
          </p:cNvSpPr>
          <p:nvPr>
            <p:ph type="dt" idx="17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30" name="PlaceHolder 3"/>
          <p:cNvSpPr>
            <a:spLocks noGrp="1"/>
          </p:cNvSpPr>
          <p:nvPr>
            <p:ph type="ftr" idx="1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PlaceHolder 4"/>
          <p:cNvSpPr>
            <a:spLocks noGrp="1"/>
          </p:cNvSpPr>
          <p:nvPr>
            <p:ph type="sldNum" idx="17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94E8-3F29-4243-8122-013F83D0AB4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869" name="PlaceHolder 2"/>
          <p:cNvSpPr>
            <a:spLocks noGrp="1"/>
          </p:cNvSpPr>
          <p:nvPr>
            <p:ph type="sldNum" idx="17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EB2E-72F8-4780-BC42-86C0EE0819B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70" name="PlaceHolder 3"/>
          <p:cNvSpPr>
            <a:spLocks noGrp="1"/>
          </p:cNvSpPr>
          <p:nvPr>
            <p:ph type="dt" idx="175"/>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871" name="PlaceHolder 4"/>
          <p:cNvSpPr>
            <a:spLocks noGrp="1"/>
          </p:cNvSpPr>
          <p:nvPr>
            <p:ph type="ftr" idx="176"/>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3"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274" name="PlaceHolder 3"/>
          <p:cNvSpPr>
            <a:spLocks noGrp="1"/>
          </p:cNvSpPr>
          <p:nvPr>
            <p:ph type="sldNum" idx="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7BC-B103-44A6-888C-2D0343036CC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8"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10" name="PlaceHolder 2"/>
          <p:cNvSpPr>
            <a:spLocks noGrp="1"/>
          </p:cNvSpPr>
          <p:nvPr>
            <p:ph type="sldNum" idx="17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2389-94B2-4184-8D91-C0F665D48A0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48" name="PlaceHolder 2"/>
          <p:cNvSpPr>
            <a:spLocks noGrp="1"/>
          </p:cNvSpPr>
          <p:nvPr>
            <p:ph type="dt" idx="17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49" name="PlaceHolder 3"/>
          <p:cNvSpPr>
            <a:spLocks noGrp="1"/>
          </p:cNvSpPr>
          <p:nvPr>
            <p:ph type="ftr" idx="17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PlaceHolder 4"/>
          <p:cNvSpPr>
            <a:spLocks noGrp="1"/>
          </p:cNvSpPr>
          <p:nvPr>
            <p:ph type="sldNum" idx="18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485E-94D7-49AB-9650-618D0BC8151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88" name="PlaceHolder 2"/>
          <p:cNvSpPr>
            <a:spLocks noGrp="1"/>
          </p:cNvSpPr>
          <p:nvPr>
            <p:ph type="dt" idx="18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89" name="PlaceHolder 3"/>
          <p:cNvSpPr>
            <a:spLocks noGrp="1"/>
          </p:cNvSpPr>
          <p:nvPr>
            <p:ph type="ftr" idx="18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PlaceHolder 4"/>
          <p:cNvSpPr>
            <a:spLocks noGrp="1"/>
          </p:cNvSpPr>
          <p:nvPr>
            <p:ph type="sldNum" idx="18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30E9-4087-49D8-BEDD-85791705496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028" name="PlaceHolder 2"/>
          <p:cNvSpPr>
            <a:spLocks noGrp="1"/>
          </p:cNvSpPr>
          <p:nvPr>
            <p:ph type="dt" idx="18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29" name="PlaceHolder 3"/>
          <p:cNvSpPr>
            <a:spLocks noGrp="1"/>
          </p:cNvSpPr>
          <p:nvPr>
            <p:ph type="ftr" idx="18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PlaceHolder 4"/>
          <p:cNvSpPr>
            <a:spLocks noGrp="1"/>
          </p:cNvSpPr>
          <p:nvPr>
            <p:ph type="sldNum" idx="18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4B94-6954-4A78-A49B-28439CC0936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068" name="PlaceHolder 2"/>
          <p:cNvSpPr>
            <a:spLocks noGrp="1"/>
          </p:cNvSpPr>
          <p:nvPr>
            <p:ph type="dt" idx="18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69" name="PlaceHolder 3"/>
          <p:cNvSpPr>
            <a:spLocks noGrp="1"/>
          </p:cNvSpPr>
          <p:nvPr>
            <p:ph type="ftr" idx="18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PlaceHolder 4"/>
          <p:cNvSpPr>
            <a:spLocks noGrp="1"/>
          </p:cNvSpPr>
          <p:nvPr>
            <p:ph type="sldNum" idx="18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5B05-EE6D-4115-B265-7FAB7EBF20BE}"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08" name="PlaceHolder 2"/>
          <p:cNvSpPr>
            <a:spLocks noGrp="1"/>
          </p:cNvSpPr>
          <p:nvPr>
            <p:ph type="dt" idx="19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09" name="PlaceHolder 3"/>
          <p:cNvSpPr>
            <a:spLocks noGrp="1"/>
          </p:cNvSpPr>
          <p:nvPr>
            <p:ph type="ftr" idx="19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PlaceHolder 4"/>
          <p:cNvSpPr>
            <a:spLocks noGrp="1"/>
          </p:cNvSpPr>
          <p:nvPr>
            <p:ph type="sldNum" idx="19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7F81-431F-4D6C-870E-1EDCE336957B}"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48" name="PlaceHolder 2"/>
          <p:cNvSpPr>
            <a:spLocks noGrp="1"/>
          </p:cNvSpPr>
          <p:nvPr>
            <p:ph type="dt" idx="19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49" name="PlaceHolder 3"/>
          <p:cNvSpPr>
            <a:spLocks noGrp="1"/>
          </p:cNvSpPr>
          <p:nvPr>
            <p:ph type="ftr" idx="19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PlaceHolder 4"/>
          <p:cNvSpPr>
            <a:spLocks noGrp="1"/>
          </p:cNvSpPr>
          <p:nvPr>
            <p:ph type="sldNum" idx="19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8C73-BE35-40CC-BAE7-3D1CCDC812F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88" name="PlaceHolder 2"/>
          <p:cNvSpPr>
            <a:spLocks noGrp="1"/>
          </p:cNvSpPr>
          <p:nvPr>
            <p:ph type="dt" idx="19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89" name="PlaceHolder 3"/>
          <p:cNvSpPr>
            <a:spLocks noGrp="1"/>
          </p:cNvSpPr>
          <p:nvPr>
            <p:ph type="ftr" idx="19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PlaceHolder 4"/>
          <p:cNvSpPr>
            <a:spLocks noGrp="1"/>
          </p:cNvSpPr>
          <p:nvPr>
            <p:ph type="sldNum" idx="19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FC7B-6A8B-4608-9810-8319F20F0C9E}"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228" name="PlaceHolder 2"/>
          <p:cNvSpPr>
            <a:spLocks noGrp="1"/>
          </p:cNvSpPr>
          <p:nvPr>
            <p:ph type="dt" idx="19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29" name="PlaceHolder 3"/>
          <p:cNvSpPr>
            <a:spLocks noGrp="1"/>
          </p:cNvSpPr>
          <p:nvPr>
            <p:ph type="ftr" idx="20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sldNum" idx="20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171F-E179-4762-B3C4-8869AB98C17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268" name="PlaceHolder 2"/>
          <p:cNvSpPr>
            <a:spLocks noGrp="1"/>
          </p:cNvSpPr>
          <p:nvPr>
            <p:ph type="dt" idx="20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69" name="PlaceHolder 3"/>
          <p:cNvSpPr>
            <a:spLocks noGrp="1"/>
          </p:cNvSpPr>
          <p:nvPr>
            <p:ph type="ftr" idx="20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PlaceHolder 4"/>
          <p:cNvSpPr>
            <a:spLocks noGrp="1"/>
          </p:cNvSpPr>
          <p:nvPr>
            <p:ph type="sldNum" idx="20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0912-F8D0-4BDA-AF32-B89294C246C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E8EC-2936-4F3D-A03A-EEC7CA16A98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308" name="PlaceHolder 2"/>
          <p:cNvSpPr>
            <a:spLocks noGrp="1"/>
          </p:cNvSpPr>
          <p:nvPr>
            <p:ph type="dt" idx="20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9" name="PlaceHolder 3"/>
          <p:cNvSpPr>
            <a:spLocks noGrp="1"/>
          </p:cNvSpPr>
          <p:nvPr>
            <p:ph type="ftr" idx="20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PlaceHolder 4"/>
          <p:cNvSpPr>
            <a:spLocks noGrp="1"/>
          </p:cNvSpPr>
          <p:nvPr>
            <p:ph type="sldNum" idx="20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33BC-8F48-40D7-B1D8-FEC22A6250F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348" name="PlaceHolder 2"/>
          <p:cNvSpPr>
            <a:spLocks noGrp="1"/>
          </p:cNvSpPr>
          <p:nvPr>
            <p:ph type="sldNum" idx="20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ED8B-E445-4036-9C6A-7E7CAB1AABF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49" name="PlaceHolder 3"/>
          <p:cNvSpPr>
            <a:spLocks noGrp="1"/>
          </p:cNvSpPr>
          <p:nvPr>
            <p:ph type="dt" idx="209"/>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3350" name="PlaceHolder 4"/>
          <p:cNvSpPr>
            <a:spLocks noGrp="1"/>
          </p:cNvSpPr>
          <p:nvPr>
            <p:ph type="ftr" idx="210"/>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53"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2A2D-2705-48AC-B8CE-46EB14DF3A5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8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4" name="PlaceHolder 1"/>
          <p:cNvSpPr>
            <a:spLocks noGrp="1"/>
          </p:cNvSpPr>
          <p:nvPr>
            <p:ph type="title"/>
          </p:nvPr>
        </p:nvSpPr>
        <p:spPr>
          <a:xfrm>
            <a:off x="1692360" y="2060280"/>
            <a:ext cx="7772400" cy="146988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24126e"/>
                </a:solidFill>
                <a:latin typeface="Trebuchet MS"/>
              </a:rPr>
              <a:t>       </a:t>
            </a:r>
            <a:r>
              <a:rPr b="1" lang="nl-NL" sz="4400" spc="-1" strike="noStrike">
                <a:solidFill>
                  <a:srgbClr val="24126e"/>
                </a:solidFill>
                <a:latin typeface="Trebuchet MS"/>
              </a:rPr>
              <a:t>Pathologie </a:t>
            </a:r>
            <a:endParaRPr b="1" lang="en-US" sz="4400" spc="-1" strike="noStrike">
              <a:solidFill>
                <a:srgbClr val="24126e"/>
              </a:solidFill>
              <a:latin typeface="Trebuchet MS"/>
            </a:endParaRPr>
          </a:p>
        </p:txBody>
      </p:sp>
      <p:sp>
        <p:nvSpPr>
          <p:cNvPr id="33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oorbeelden van virale infecties</a:t>
            </a:r>
            <a:endParaRPr b="1" lang="en-US" sz="2800" spc="-1" strike="noStrike">
              <a:solidFill>
                <a:srgbClr val="24126e"/>
              </a:solidFill>
              <a:latin typeface="Trebuchet MS"/>
            </a:endParaRPr>
          </a:p>
        </p:txBody>
      </p:sp>
      <p:sp>
        <p:nvSpPr>
          <p:cNvPr id="3416"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erkoudhei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riep</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oortslip</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aterpokk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ordelroo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iekte van Pfeiffer</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ids</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17" name="Picture 2" descr=""/>
          <p:cNvPicPr/>
          <p:nvPr/>
        </p:nvPicPr>
        <p:blipFill>
          <a:blip r:embed="rId1"/>
          <a:stretch/>
        </p:blipFill>
        <p:spPr>
          <a:xfrm>
            <a:off x="6692760" y="1581120"/>
            <a:ext cx="1876680" cy="2428920"/>
          </a:xfrm>
          <a:prstGeom prst="rect">
            <a:avLst/>
          </a:prstGeom>
          <a:ln w="0">
            <a:noFill/>
          </a:ln>
        </p:spPr>
      </p:pic>
      <p:pic>
        <p:nvPicPr>
          <p:cNvPr id="3418" name="Picture 3" descr=""/>
          <p:cNvPicPr/>
          <p:nvPr/>
        </p:nvPicPr>
        <p:blipFill>
          <a:blip r:embed="rId2"/>
          <a:stretch/>
        </p:blipFill>
        <p:spPr>
          <a:xfrm>
            <a:off x="3443400" y="5157720"/>
            <a:ext cx="2342880" cy="1390680"/>
          </a:xfrm>
          <a:prstGeom prst="rect">
            <a:avLst/>
          </a:prstGeom>
          <a:ln w="0">
            <a:noFill/>
          </a:ln>
        </p:spPr>
      </p:pic>
      <p:pic>
        <p:nvPicPr>
          <p:cNvPr id="3419" name="Picture 4" descr=""/>
          <p:cNvPicPr/>
          <p:nvPr/>
        </p:nvPicPr>
        <p:blipFill>
          <a:blip r:embed="rId3"/>
          <a:stretch/>
        </p:blipFill>
        <p:spPr>
          <a:xfrm>
            <a:off x="3443400" y="1581120"/>
            <a:ext cx="2633400" cy="2790720"/>
          </a:xfrm>
          <a:prstGeom prst="rect">
            <a:avLst/>
          </a:prstGeom>
          <a:ln w="0">
            <a:noFill/>
          </a:ln>
        </p:spPr>
      </p:pic>
      <p:pic>
        <p:nvPicPr>
          <p:cNvPr id="3420" name="Picture 5" descr=""/>
          <p:cNvPicPr/>
          <p:nvPr/>
        </p:nvPicPr>
        <p:blipFill>
          <a:blip r:embed="rId4"/>
          <a:stretch/>
        </p:blipFill>
        <p:spPr>
          <a:xfrm>
            <a:off x="6692760" y="4533840"/>
            <a:ext cx="1876680" cy="18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Schimmels en gisten</a:t>
            </a:r>
            <a:endParaRPr b="1" lang="en-US" sz="2800" spc="-1" strike="noStrike">
              <a:solidFill>
                <a:srgbClr val="24126e"/>
              </a:solidFill>
              <a:latin typeface="Trebuchet MS"/>
            </a:endParaRPr>
          </a:p>
        </p:txBody>
      </p:sp>
      <p:sp>
        <p:nvSpPr>
          <p:cNvPr id="342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Schimmels en gisten zijn meercellig plantaardige micro-organismen die zich vooral nestelen in de oppervlakkige lagen van de huid, nagels, slijmvliez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Een schimmel die uit 1 cel bestaat noemen we een gist</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Komen op de gezonde huid voor, geen last van, onder bijzondere omstandigheden kunnen ze ziekte veroorzaken (mycos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oorbeelden van schimmelinfecties</a:t>
            </a:r>
            <a:endParaRPr b="1" lang="en-US" sz="2800" spc="-1" strike="noStrike">
              <a:solidFill>
                <a:srgbClr val="24126e"/>
              </a:solidFill>
              <a:latin typeface="Trebuchet MS"/>
            </a:endParaRPr>
          </a:p>
        </p:txBody>
      </p:sp>
      <p:sp>
        <p:nvSpPr>
          <p:cNvPr id="342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ruw</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wemmers eczeem</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ingworm</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25" name="Picture 2" descr=""/>
          <p:cNvPicPr/>
          <p:nvPr/>
        </p:nvPicPr>
        <p:blipFill>
          <a:blip r:embed="rId1"/>
          <a:stretch/>
        </p:blipFill>
        <p:spPr>
          <a:xfrm>
            <a:off x="6164280" y="1600200"/>
            <a:ext cx="2035080" cy="2292480"/>
          </a:xfrm>
          <a:prstGeom prst="rect">
            <a:avLst/>
          </a:prstGeom>
          <a:ln w="0">
            <a:noFill/>
          </a:ln>
        </p:spPr>
      </p:pic>
      <p:pic>
        <p:nvPicPr>
          <p:cNvPr id="3426" name="Picture 3" descr=""/>
          <p:cNvPicPr/>
          <p:nvPr/>
        </p:nvPicPr>
        <p:blipFill>
          <a:blip r:embed="rId2"/>
          <a:stretch/>
        </p:blipFill>
        <p:spPr>
          <a:xfrm>
            <a:off x="3195720" y="3319560"/>
            <a:ext cx="2384280" cy="1589040"/>
          </a:xfrm>
          <a:prstGeom prst="rect">
            <a:avLst/>
          </a:prstGeom>
          <a:ln w="0">
            <a:noFill/>
          </a:ln>
        </p:spPr>
      </p:pic>
      <p:pic>
        <p:nvPicPr>
          <p:cNvPr id="3427" name="Picture 4" descr=""/>
          <p:cNvPicPr/>
          <p:nvPr/>
        </p:nvPicPr>
        <p:blipFill>
          <a:blip r:embed="rId3"/>
          <a:stretch/>
        </p:blipFill>
        <p:spPr>
          <a:xfrm>
            <a:off x="5877000" y="4305240"/>
            <a:ext cx="2609640" cy="1752840"/>
          </a:xfrm>
          <a:prstGeom prst="rect">
            <a:avLst/>
          </a:prstGeom>
          <a:ln w="0">
            <a:noFill/>
          </a:ln>
        </p:spPr>
      </p:pic>
      <p:pic>
        <p:nvPicPr>
          <p:cNvPr id="3428" name="Picture 7" descr=""/>
          <p:cNvPicPr/>
          <p:nvPr/>
        </p:nvPicPr>
        <p:blipFill>
          <a:blip r:embed="rId4"/>
          <a:stretch/>
        </p:blipFill>
        <p:spPr>
          <a:xfrm>
            <a:off x="665280" y="3925800"/>
            <a:ext cx="2171520" cy="210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Protozoën / parasiet</a:t>
            </a:r>
            <a:endParaRPr b="1" lang="en-US" sz="2800" spc="-1" strike="noStrike">
              <a:solidFill>
                <a:srgbClr val="24126e"/>
              </a:solidFill>
              <a:latin typeface="Trebuchet MS"/>
            </a:endParaRPr>
          </a:p>
        </p:txBody>
      </p:sp>
      <p:sp>
        <p:nvSpPr>
          <p:cNvPr id="3430"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cellige organismen, behorend tot het dierenrijk ( oerdiertje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ijn afhankelijk van hun gastheer, zijn dus parasiete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Metazoen/ wormen (parasieten)</a:t>
            </a:r>
            <a:endParaRPr b="1" lang="en-US" sz="2800" spc="-1" strike="noStrike">
              <a:solidFill>
                <a:srgbClr val="24126e"/>
              </a:solidFill>
              <a:latin typeface="Trebuchet MS"/>
            </a:endParaRPr>
          </a:p>
        </p:txBody>
      </p:sp>
      <p:sp>
        <p:nvSpPr>
          <p:cNvPr id="343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unnen heel klein zijn, ook bacteriën of schimmel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Ook lintwormen, teken , vlooien, mijten, luizen, mug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eeft van de mens ( parasiteert)</a:t>
            </a:r>
            <a:endParaRPr b="0" lang="en-US" sz="2200" spc="-1" strike="noStrike">
              <a:solidFill>
                <a:srgbClr val="000000"/>
              </a:solidFill>
              <a:latin typeface="Trebuchet MS"/>
            </a:endParaRPr>
          </a:p>
        </p:txBody>
      </p:sp>
      <p:pic>
        <p:nvPicPr>
          <p:cNvPr id="3433" name="Picture 4" descr=""/>
          <p:cNvPicPr/>
          <p:nvPr/>
        </p:nvPicPr>
        <p:blipFill>
          <a:blip r:embed="rId1"/>
          <a:stretch/>
        </p:blipFill>
        <p:spPr>
          <a:xfrm>
            <a:off x="6588000" y="4797360"/>
            <a:ext cx="2019600" cy="1533600"/>
          </a:xfrm>
          <a:prstGeom prst="rect">
            <a:avLst/>
          </a:prstGeom>
          <a:ln w="0">
            <a:noFill/>
          </a:ln>
        </p:spPr>
      </p:pic>
      <p:pic>
        <p:nvPicPr>
          <p:cNvPr id="3434" name="Picture 5" descr=""/>
          <p:cNvPicPr/>
          <p:nvPr/>
        </p:nvPicPr>
        <p:blipFill>
          <a:blip r:embed="rId2"/>
          <a:stretch/>
        </p:blipFill>
        <p:spPr>
          <a:xfrm>
            <a:off x="3059280" y="5013360"/>
            <a:ext cx="2952720" cy="154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esmetting (= contaminatie)</a:t>
            </a:r>
            <a:endParaRPr b="1" lang="en-US" sz="2800" spc="-1" strike="noStrike">
              <a:solidFill>
                <a:srgbClr val="24126e"/>
              </a:solidFill>
              <a:latin typeface="Trebuchet MS"/>
            </a:endParaRPr>
          </a:p>
        </p:txBody>
      </p:sp>
      <p:sp>
        <p:nvSpPr>
          <p:cNvPr id="3436" name=""/>
          <p:cNvSpPr txBox="1"/>
          <p:nvPr/>
        </p:nvSpPr>
        <p:spPr>
          <a:xfrm>
            <a:off x="539280" y="1698120"/>
            <a:ext cx="8309160" cy="4464360"/>
          </a:xfrm>
          <a:prstGeom prst="rect">
            <a:avLst/>
          </a:prstGeom>
          <a:noFill/>
          <a:ln w="0">
            <a:noFill/>
          </a:ln>
        </p:spPr>
        <p:txBody>
          <a:bodyPr lIns="0" rIns="0" tIns="0" bIns="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rebuchet MS"/>
              </a:rPr>
              <a:t>Overbrengen van levende pathogene micro-organismen van de ene plaats naar de andere</a:t>
            </a: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cubatietijd</a:t>
            </a:r>
            <a:endParaRPr b="1" lang="en-US" sz="2800" spc="-1" strike="noStrike">
              <a:solidFill>
                <a:srgbClr val="24126e"/>
              </a:solidFill>
              <a:latin typeface="Trebuchet MS"/>
            </a:endParaRPr>
          </a:p>
        </p:txBody>
      </p:sp>
      <p:sp>
        <p:nvSpPr>
          <p:cNvPr id="3438"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rebuchet MS"/>
              </a:rPr>
              <a:t>Tijd tussen besmetting en het uitbreken van ziekteverschijnsele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ectieketen</a:t>
            </a:r>
            <a:endParaRPr b="1" lang="en-US" sz="2800" spc="-1" strike="noStrike">
              <a:solidFill>
                <a:srgbClr val="24126e"/>
              </a:solidFill>
              <a:latin typeface="Trebuchet MS"/>
            </a:endParaRPr>
          </a:p>
        </p:txBody>
      </p:sp>
      <p:pic>
        <p:nvPicPr>
          <p:cNvPr id="3440" name="Picture 6" descr=""/>
          <p:cNvPicPr/>
          <p:nvPr/>
        </p:nvPicPr>
        <p:blipFill>
          <a:blip r:embed="rId1"/>
          <a:stretch/>
        </p:blipFill>
        <p:spPr>
          <a:xfrm>
            <a:off x="1698480" y="1698480"/>
            <a:ext cx="5991480" cy="44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ectie cyclus</a:t>
            </a:r>
            <a:endParaRPr b="1" lang="en-US" sz="2800" spc="-1" strike="noStrike">
              <a:solidFill>
                <a:srgbClr val="24126e"/>
              </a:solidFill>
              <a:latin typeface="Trebuchet MS"/>
            </a:endParaRPr>
          </a:p>
        </p:txBody>
      </p:sp>
      <p:sp>
        <p:nvSpPr>
          <p:cNvPr id="3442" name=""/>
          <p:cNvSpPr txBox="1"/>
          <p:nvPr/>
        </p:nvSpPr>
        <p:spPr>
          <a:xfrm>
            <a:off x="539280" y="1698120"/>
            <a:ext cx="8309160" cy="4464360"/>
          </a:xfrm>
          <a:prstGeom prst="rect">
            <a:avLst/>
          </a:prstGeom>
          <a:noFill/>
          <a:ln w="0">
            <a:noFill/>
          </a:ln>
        </p:spPr>
        <p:txBody>
          <a:bodyPr lIns="0" rIns="0" tIns="0" bIns="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1: er zijn m.o</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2: de omgeving moet gunstig zijn voor de m.o </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3: de m.o moeten de omgeving kunnen verlaten</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4: de wijze van transport</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5: porte d’entree bij andere perso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esmettingswegen</a:t>
            </a:r>
            <a:endParaRPr b="1" lang="en-US" sz="2800" spc="-1" strike="noStrike">
              <a:solidFill>
                <a:srgbClr val="24126e"/>
              </a:solidFill>
              <a:latin typeface="Trebuchet MS"/>
            </a:endParaRPr>
          </a:p>
        </p:txBody>
      </p:sp>
      <p:sp>
        <p:nvSpPr>
          <p:cNvPr id="3444"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on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uchtweg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aagdarmkanaal,</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loe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lasbui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slachtsorgan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ui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ondje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Insectenbeet</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581040" y="765000"/>
            <a:ext cx="7632720" cy="136872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nderwerp les 1: Infectieziekten</a:t>
            </a:r>
            <a:endParaRPr b="1" lang="en-US" sz="2800" spc="-1" strike="noStrike">
              <a:solidFill>
                <a:srgbClr val="24126e"/>
              </a:solidFill>
              <a:latin typeface="Trebuchet MS"/>
            </a:endParaRPr>
          </a:p>
        </p:txBody>
      </p:sp>
      <p:sp>
        <p:nvSpPr>
          <p:cNvPr id="3397" name="Tijdelijke aanduiding voor inhoud 2"/>
          <p:cNvSpPr/>
          <p:nvPr/>
        </p:nvSpPr>
        <p:spPr>
          <a:xfrm>
            <a:off x="611280" y="1700280"/>
            <a:ext cx="7489800" cy="24494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Trebuchet MS"/>
              </a:rPr>
              <a:t>Wat weet je al van infectieziekt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Wanneer wordt iemand ziek</a:t>
            </a:r>
            <a:endParaRPr b="1" lang="en-US" sz="2800" spc="-1" strike="noStrike">
              <a:solidFill>
                <a:srgbClr val="24126e"/>
              </a:solidFill>
              <a:latin typeface="Trebuchet MS"/>
            </a:endParaRPr>
          </a:p>
        </p:txBody>
      </p:sp>
      <p:sp>
        <p:nvSpPr>
          <p:cNvPr id="3446"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de aanvalskracht groot is: virulent</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het aantal path.m.o. groot is</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de weerstand verminderd i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ntsteking</a:t>
            </a:r>
            <a:endParaRPr b="1" lang="en-US" sz="2800" spc="-1" strike="noStrike">
              <a:solidFill>
                <a:srgbClr val="24126e"/>
              </a:solidFill>
              <a:latin typeface="Trebuchet MS"/>
            </a:endParaRPr>
          </a:p>
        </p:txBody>
      </p:sp>
      <p:sp>
        <p:nvSpPr>
          <p:cNvPr id="3448" name=""/>
          <p:cNvSpPr txBox="1"/>
          <p:nvPr/>
        </p:nvSpPr>
        <p:spPr>
          <a:xfrm>
            <a:off x="468360" y="1700280"/>
            <a:ext cx="8229600" cy="452592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eactie van het lichaam op een schadelijke prikkel</a:t>
            </a:r>
            <a:br>
              <a:rPr sz="2200"/>
            </a:b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Zwelling  </a:t>
            </a:r>
            <a:r>
              <a:rPr b="1" lang="nl-NL" sz="2200" spc="-1" strike="noStrike">
                <a:solidFill>
                  <a:srgbClr val="000000"/>
                </a:solidFill>
                <a:latin typeface="Trebuchet MS"/>
              </a:rPr>
              <a:t>	</a:t>
            </a:r>
            <a:r>
              <a:rPr b="1" lang="nl-NL" sz="2200" spc="-1" strike="noStrike">
                <a:solidFill>
                  <a:srgbClr val="000000"/>
                </a:solidFill>
                <a:latin typeface="Trebuchet MS"/>
              </a:rPr>
              <a:t>tum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Rood  </a:t>
            </a:r>
            <a:r>
              <a:rPr b="1" lang="nl-NL" sz="2200" spc="-1" strike="noStrike">
                <a:solidFill>
                  <a:srgbClr val="000000"/>
                </a:solidFill>
                <a:latin typeface="Trebuchet MS"/>
              </a:rPr>
              <a:t>	</a:t>
            </a:r>
            <a:r>
              <a:rPr b="1" lang="nl-NL" sz="2200" spc="-1" strike="noStrike">
                <a:solidFill>
                  <a:srgbClr val="000000"/>
                </a:solidFill>
                <a:latin typeface="Trebuchet MS"/>
              </a:rPr>
              <a:t>	</a:t>
            </a:r>
            <a:r>
              <a:rPr b="1" lang="nl-NL" sz="2200" spc="-1" strike="noStrike">
                <a:solidFill>
                  <a:srgbClr val="000000"/>
                </a:solidFill>
                <a:latin typeface="Trebuchet MS"/>
              </a:rPr>
              <a:t>rub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Warm  </a:t>
            </a:r>
            <a:r>
              <a:rPr b="1" lang="nl-NL" sz="2200" spc="-1" strike="noStrike">
                <a:solidFill>
                  <a:srgbClr val="000000"/>
                </a:solidFill>
                <a:latin typeface="Trebuchet MS"/>
              </a:rPr>
              <a:t>	</a:t>
            </a:r>
            <a:r>
              <a:rPr b="1" lang="nl-NL" sz="2200" spc="-1" strike="noStrike">
                <a:solidFill>
                  <a:srgbClr val="000000"/>
                </a:solidFill>
                <a:latin typeface="Trebuchet MS"/>
              </a:rPr>
              <a:t>	</a:t>
            </a:r>
            <a:r>
              <a:rPr b="1" lang="nl-NL" sz="2200" spc="-1" strike="noStrike">
                <a:solidFill>
                  <a:srgbClr val="000000"/>
                </a:solidFill>
                <a:latin typeface="Trebuchet MS"/>
              </a:rPr>
              <a:t>cal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Pijnlijk  </a:t>
            </a:r>
            <a:r>
              <a:rPr b="1" lang="nl-NL" sz="2200" spc="-1" strike="noStrike">
                <a:solidFill>
                  <a:srgbClr val="000000"/>
                </a:solidFill>
                <a:latin typeface="Trebuchet MS"/>
              </a:rPr>
              <a:t>	</a:t>
            </a:r>
            <a:r>
              <a:rPr b="1" lang="nl-NL" sz="2200" spc="-1" strike="noStrike">
                <a:solidFill>
                  <a:srgbClr val="000000"/>
                </a:solidFill>
                <a:latin typeface="Trebuchet MS"/>
              </a:rPr>
              <a:t>dolor</a:t>
            </a:r>
            <a:br>
              <a:rPr sz="2200"/>
            </a:b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oms gestoorde functie:  functio laesa</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Steriele ontsteking</a:t>
            </a:r>
            <a:endParaRPr b="1" lang="en-US" sz="2800" spc="-1" strike="noStrike">
              <a:solidFill>
                <a:srgbClr val="24126e"/>
              </a:solidFill>
              <a:latin typeface="Trebuchet MS"/>
            </a:endParaRPr>
          </a:p>
        </p:txBody>
      </p:sp>
      <p:sp>
        <p:nvSpPr>
          <p:cNvPr id="3450"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 ontsteking kan ook steriel zij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nder de aanwezigheid van micro organismen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v. bij artrose, verbranding door de zon of hooikoorts (allergi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loedcellen</a:t>
            </a:r>
            <a:endParaRPr b="1" lang="en-US" sz="2800" spc="-1" strike="noStrike">
              <a:solidFill>
                <a:srgbClr val="24126e"/>
              </a:solidFill>
              <a:latin typeface="Trebuchet MS"/>
            </a:endParaRPr>
          </a:p>
        </p:txBody>
      </p:sp>
      <p:sp>
        <p:nvSpPr>
          <p:cNvPr id="345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ode bloedcellen </a:t>
            </a:r>
            <a:r>
              <a:rPr b="0" lang="nl-NL" sz="2200" spc="-1" strike="noStrike">
                <a:solidFill>
                  <a:srgbClr val="000000"/>
                </a:solidFill>
                <a:latin typeface="Trebuchet MS"/>
              </a:rPr>
              <a:t>	</a:t>
            </a:r>
            <a:r>
              <a:rPr b="0" lang="nl-NL" sz="2200" spc="-1" strike="noStrike">
                <a:solidFill>
                  <a:srgbClr val="000000"/>
                </a:solidFill>
                <a:latin typeface="Trebuchet MS"/>
              </a:rPr>
              <a:t>= erytrocy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itte bloedcellen </a:t>
            </a:r>
            <a:r>
              <a:rPr b="0" lang="nl-NL" sz="2200" spc="-1" strike="noStrike">
                <a:solidFill>
                  <a:srgbClr val="000000"/>
                </a:solidFill>
                <a:latin typeface="Trebuchet MS"/>
              </a:rPr>
              <a:t>	</a:t>
            </a:r>
            <a:r>
              <a:rPr b="0" lang="nl-NL" sz="2200" spc="-1" strike="noStrike">
                <a:solidFill>
                  <a:srgbClr val="000000"/>
                </a:solidFill>
                <a:latin typeface="Trebuchet MS"/>
              </a:rPr>
              <a:t>= leukocy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loedplaatjes </a:t>
            </a:r>
            <a:r>
              <a:rPr b="0" lang="nl-NL" sz="2200" spc="-1" strike="noStrike">
                <a:solidFill>
                  <a:srgbClr val="000000"/>
                </a:solidFill>
                <a:latin typeface="Trebuchet MS"/>
              </a:rPr>
              <a:t>	</a:t>
            </a:r>
            <a:r>
              <a:rPr b="0" lang="nl-NL" sz="2200" spc="-1" strike="noStrike">
                <a:solidFill>
                  <a:srgbClr val="000000"/>
                </a:solidFill>
                <a:latin typeface="Trebuchet MS"/>
              </a:rPr>
              <a:t>	</a:t>
            </a:r>
            <a:r>
              <a:rPr b="0" lang="nl-NL" sz="2200" spc="-1" strike="noStrike">
                <a:solidFill>
                  <a:srgbClr val="000000"/>
                </a:solidFill>
                <a:latin typeface="Trebuchet MS"/>
              </a:rPr>
              <a:t>= trombocyte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24126e"/>
                </a:solidFill>
                <a:latin typeface="Trebuchet MS"/>
              </a:rPr>
              <a:t>Ontsteking: </a:t>
            </a:r>
            <a:br>
              <a:rPr sz="4000"/>
            </a:br>
            <a:r>
              <a:rPr b="1" lang="nl-NL" sz="4000" spc="-1" strike="noStrike">
                <a:solidFill>
                  <a:srgbClr val="24126e"/>
                </a:solidFill>
                <a:latin typeface="Trebuchet MS"/>
              </a:rPr>
              <a:t>witte bloedcellen in actie</a:t>
            </a:r>
            <a:endParaRPr b="1" lang="en-US" sz="4000" spc="-1" strike="noStrike">
              <a:solidFill>
                <a:srgbClr val="24126e"/>
              </a:solidFill>
              <a:latin typeface="Trebuchet MS"/>
            </a:endParaRPr>
          </a:p>
        </p:txBody>
      </p:sp>
      <p:sp>
        <p:nvSpPr>
          <p:cNvPr id="345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itte bloedcellen schakelen indringers zoals ziekmakende micro-organismen uit,  door ze buiten gevecht te stellen en vervolgens af te breken.</a:t>
            </a:r>
            <a:r>
              <a:rPr b="0" lang="nl-NL" sz="2200" spc="-1" strike="noStrike">
                <a:solidFill>
                  <a:srgbClr val="000000"/>
                </a:solidFill>
                <a:latin typeface="Trebuchet MS"/>
              </a:rPr>
              <a:t>	</a:t>
            </a:r>
            <a:r>
              <a:rPr b="0" lang="nl-NL" sz="2200" spc="-1" strike="noStrike" u="sng">
                <a:solidFill>
                  <a:srgbClr val="000000"/>
                </a:solidFill>
                <a:uFillTx/>
                <a:latin typeface="Trebuchet MS"/>
              </a:rPr>
              <a:t>fagocytose</a:t>
            </a:r>
            <a:endParaRPr b="0" lang="en-US" sz="2200" spc="-1" strike="noStrike">
              <a:solidFill>
                <a:srgbClr val="000000"/>
              </a:solidFill>
              <a:latin typeface="Trebuchet MS"/>
            </a:endParaRPr>
          </a:p>
        </p:txBody>
      </p:sp>
      <p:sp>
        <p:nvSpPr>
          <p:cNvPr id="3455" name="Text Box 7"/>
          <p:cNvSpPr/>
          <p:nvPr/>
        </p:nvSpPr>
        <p:spPr>
          <a:xfrm>
            <a:off x="7236000" y="5445000"/>
            <a:ext cx="136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iltraat</a:t>
            </a:r>
            <a:endParaRPr b="1" lang="en-US" sz="2800" spc="-1" strike="noStrike">
              <a:solidFill>
                <a:srgbClr val="24126e"/>
              </a:solidFill>
              <a:latin typeface="Trebuchet MS"/>
            </a:endParaRPr>
          </a:p>
        </p:txBody>
      </p:sp>
      <p:sp>
        <p:nvSpPr>
          <p:cNvPr id="3457" name=""/>
          <p:cNvSpPr txBox="1"/>
          <p:nvPr/>
        </p:nvSpPr>
        <p:spPr>
          <a:xfrm>
            <a:off x="468360" y="1341360"/>
            <a:ext cx="8229600" cy="452592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eukocyten en bacteriën ”in actie”</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Tussen de cellen in het weefsel</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Niet goed omgrensde plaats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aat vaak samen met abce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Abces</a:t>
            </a:r>
            <a:endParaRPr b="1" lang="en-US" sz="2800" spc="-1" strike="noStrike">
              <a:solidFill>
                <a:srgbClr val="24126e"/>
              </a:solidFill>
              <a:latin typeface="Trebuchet MS"/>
            </a:endParaRPr>
          </a:p>
        </p:txBody>
      </p:sp>
      <p:sp>
        <p:nvSpPr>
          <p:cNvPr id="3459"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 niet eerder bestaande holte gevuld met pus</a:t>
            </a:r>
            <a:endParaRPr b="0" lang="en-US" sz="22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pic>
        <p:nvPicPr>
          <p:cNvPr id="3460" name="Picture 4" descr=""/>
          <p:cNvPicPr/>
          <p:nvPr/>
        </p:nvPicPr>
        <p:blipFill>
          <a:blip r:embed="rId1"/>
          <a:stretch/>
        </p:blipFill>
        <p:spPr>
          <a:xfrm>
            <a:off x="4211640" y="2305080"/>
            <a:ext cx="2879640" cy="2671560"/>
          </a:xfrm>
          <a:prstGeom prst="rect">
            <a:avLst/>
          </a:prstGeom>
          <a:ln w="0">
            <a:noFill/>
          </a:ln>
        </p:spPr>
      </p:pic>
      <p:pic>
        <p:nvPicPr>
          <p:cNvPr id="3461" name="Picture 5" descr=""/>
          <p:cNvPicPr/>
          <p:nvPr/>
        </p:nvPicPr>
        <p:blipFill>
          <a:blip r:embed="rId2"/>
          <a:stretch/>
        </p:blipFill>
        <p:spPr>
          <a:xfrm>
            <a:off x="684360" y="2276640"/>
            <a:ext cx="2323800" cy="305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Afweer van het lichaam</a:t>
            </a:r>
            <a:endParaRPr b="1" lang="en-US" sz="2800" spc="-1" strike="noStrike">
              <a:solidFill>
                <a:srgbClr val="24126e"/>
              </a:solidFill>
              <a:latin typeface="Trebuchet MS"/>
            </a:endParaRPr>
          </a:p>
        </p:txBody>
      </p:sp>
      <p:sp>
        <p:nvSpPr>
          <p:cNvPr id="3463" name=""/>
          <p:cNvSpPr txBox="1"/>
          <p:nvPr/>
        </p:nvSpPr>
        <p:spPr>
          <a:xfrm>
            <a:off x="539280" y="1698120"/>
            <a:ext cx="8309160" cy="4464360"/>
          </a:xfrm>
          <a:prstGeom prst="rect">
            <a:avLst/>
          </a:prstGeom>
          <a:noFill/>
          <a:ln w="0">
            <a:noFill/>
          </a:ln>
        </p:spPr>
        <p:txBody>
          <a:bodyPr lIns="0" rIns="0" tIns="0" bIns="0" anchor="t">
            <a:normAutofit/>
          </a:bodyPr>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Ontstekingsverschijnselen</a:t>
            </a: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anmaak afweerstoffen</a:t>
            </a: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oorts</a:t>
            </a: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Extra “hulp” voor het afweersysteem</a:t>
            </a:r>
            <a:endParaRPr b="1" lang="en-US" sz="2800" spc="-1" strike="noStrike">
              <a:solidFill>
                <a:srgbClr val="24126e"/>
              </a:solidFill>
              <a:latin typeface="Trebuchet MS"/>
            </a:endParaRPr>
          </a:p>
        </p:txBody>
      </p:sp>
      <p:sp>
        <p:nvSpPr>
          <p:cNvPr id="3465" name=""/>
          <p:cNvSpPr txBox="1"/>
          <p:nvPr/>
        </p:nvSpPr>
        <p:spPr>
          <a:xfrm>
            <a:off x="539280" y="1698120"/>
            <a:ext cx="8309160" cy="4464360"/>
          </a:xfrm>
          <a:prstGeom prst="rect">
            <a:avLst/>
          </a:prstGeom>
          <a:noFill/>
          <a:ln w="0">
            <a:noFill/>
          </a:ln>
        </p:spPr>
        <p:txBody>
          <a:bodyPr lIns="0" rIns="0" tIns="0" bIns="0" anchor="t">
            <a:normAutofit/>
          </a:bodyPr>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bruik medicatie</a:t>
            </a: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accinati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6" name="PlaceHolder 1"/>
          <p:cNvSpPr>
            <a:spLocks noGrp="1"/>
          </p:cNvSpPr>
          <p:nvPr>
            <p:ph type="title"/>
          </p:nvPr>
        </p:nvSpPr>
        <p:spPr>
          <a:xfrm>
            <a:off x="250920" y="333000"/>
            <a:ext cx="9432720" cy="114300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rebuchet MS"/>
              </a:rPr>
              <a:t>Medicatie:</a:t>
            </a:r>
            <a:br>
              <a:rPr sz="2800"/>
            </a:br>
            <a:r>
              <a:rPr b="1" lang="nl-NL" sz="2800" spc="-1" strike="noStrike">
                <a:solidFill>
                  <a:srgbClr val="000000"/>
                </a:solidFill>
                <a:latin typeface="Trebuchet MS"/>
              </a:rPr>
              <a:t>Antibiotica. Doodt bacteriën.</a:t>
            </a:r>
            <a:endParaRPr b="1" lang="en-US" sz="2800" spc="-1" strike="noStrike">
              <a:solidFill>
                <a:srgbClr val="24126e"/>
              </a:solidFill>
              <a:latin typeface="Trebuchet MS"/>
            </a:endParaRPr>
          </a:p>
        </p:txBody>
      </p:sp>
      <p:sp>
        <p:nvSpPr>
          <p:cNvPr id="3467"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iever niet:</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et lichaam kan het beter zelf oplossen</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oms vervelende bijwerkingen</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cterie kan resistent worden</a:t>
            </a:r>
            <a:endParaRPr b="0" lang="en-US" sz="2200" spc="-1" strike="noStrike">
              <a:solidFill>
                <a:srgbClr val="000000"/>
              </a:solidFill>
              <a:latin typeface="Trebuchet MS"/>
            </a:endParaRPr>
          </a:p>
        </p:txBody>
      </p:sp>
      <p:pic>
        <p:nvPicPr>
          <p:cNvPr id="3468" name="Picture 4" descr=""/>
          <p:cNvPicPr/>
          <p:nvPr/>
        </p:nvPicPr>
        <p:blipFill>
          <a:blip r:embed="rId1"/>
          <a:stretch/>
        </p:blipFill>
        <p:spPr>
          <a:xfrm>
            <a:off x="6300720" y="4352760"/>
            <a:ext cx="2467080" cy="1847880"/>
          </a:xfrm>
          <a:prstGeom prst="rect">
            <a:avLst/>
          </a:prstGeom>
          <a:ln w="0">
            <a:noFill/>
          </a:ln>
        </p:spPr>
      </p:pic>
      <p:pic>
        <p:nvPicPr>
          <p:cNvPr id="3469" name="Picture 5" descr=""/>
          <p:cNvPicPr/>
          <p:nvPr/>
        </p:nvPicPr>
        <p:blipFill>
          <a:blip r:embed="rId2"/>
          <a:stretch/>
        </p:blipFill>
        <p:spPr>
          <a:xfrm>
            <a:off x="1403280" y="4441680"/>
            <a:ext cx="2362320" cy="19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8" name="PlaceHolder 1"/>
          <p:cNvSpPr>
            <a:spLocks noGrp="1"/>
          </p:cNvSpPr>
          <p:nvPr>
            <p:ph type="title"/>
          </p:nvPr>
        </p:nvSpPr>
        <p:spPr>
          <a:xfrm>
            <a:off x="539640" y="40428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Doelstellingen:</a:t>
            </a:r>
            <a:br>
              <a:rPr sz="2800"/>
            </a:br>
            <a:r>
              <a:rPr b="1" lang="nl-NL" sz="2800" spc="-1" strike="noStrike">
                <a:solidFill>
                  <a:srgbClr val="24126e"/>
                </a:solidFill>
                <a:latin typeface="Trebuchet MS"/>
              </a:rPr>
              <a:t>De student kent….</a:t>
            </a:r>
            <a:br>
              <a:rPr sz="2800"/>
            </a:br>
            <a:endParaRPr b="1" lang="en-US" sz="2800" spc="-1" strike="noStrike">
              <a:solidFill>
                <a:srgbClr val="24126e"/>
              </a:solidFill>
              <a:latin typeface="Trebuchet MS"/>
            </a:endParaRPr>
          </a:p>
        </p:txBody>
      </p:sp>
      <p:sp>
        <p:nvSpPr>
          <p:cNvPr id="3399" name=""/>
          <p:cNvSpPr txBox="1"/>
          <p:nvPr/>
        </p:nvSpPr>
        <p:spPr>
          <a:xfrm>
            <a:off x="539280" y="1413000"/>
            <a:ext cx="8280360" cy="4968720"/>
          </a:xfrm>
          <a:prstGeom prst="rect">
            <a:avLst/>
          </a:prstGeom>
          <a:noFill/>
          <a:ln w="0">
            <a:noFill/>
          </a:ln>
        </p:spPr>
        <p:txBody>
          <a:bodyPr lIns="0" rIns="0" tIns="0" bIns="0" anchor="t">
            <a:normAutofit/>
          </a:bodyPr>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term pathoge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erschillende mico-organismen: bacteriën, virussen, schimmels en gisten, protozoen, parasiet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oorbeelden van bacteriële, virale en schimmelinfectie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begrippen besmetting en contaminati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Incubatietijd</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infectiecyclu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esmettingsweg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irulenti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erschijnselen ontsteking</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Steriele ontsteking</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loedcellen: erytrocyten, leukocyten, trombocyt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Fagocytos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Infiltraat en abce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Gebruik en gevaar van antibiotica</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accinatie (passief en actief)</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rmo/Mrsa/Vre/ Noro virus</a:t>
            </a: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accin</a:t>
            </a:r>
            <a:endParaRPr b="1" lang="en-US" sz="2800" spc="-1" strike="noStrike">
              <a:solidFill>
                <a:srgbClr val="24126e"/>
              </a:solidFill>
              <a:latin typeface="Trebuchet MS"/>
            </a:endParaRPr>
          </a:p>
        </p:txBody>
      </p:sp>
      <p:sp>
        <p:nvSpPr>
          <p:cNvPr id="3471"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ntstof; een cultuur van verzwakte of dode ziektekiemen, die wordt toegediend om de weerstand tegen deze ziektekiemen te verhog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et lichaam maakt antistoffen</a:t>
            </a:r>
            <a:endParaRPr b="0" lang="en-US" sz="2200" spc="-1" strike="noStrike">
              <a:solidFill>
                <a:srgbClr val="000000"/>
              </a:solidFill>
              <a:latin typeface="Trebuchet MS"/>
            </a:endParaRPr>
          </a:p>
        </p:txBody>
      </p:sp>
      <p:pic>
        <p:nvPicPr>
          <p:cNvPr id="3472" name="Picture 4" descr=""/>
          <p:cNvPicPr/>
          <p:nvPr/>
        </p:nvPicPr>
        <p:blipFill>
          <a:blip r:embed="rId1"/>
          <a:stretch/>
        </p:blipFill>
        <p:spPr>
          <a:xfrm>
            <a:off x="6156360" y="328464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Huiswerk opdracht</a:t>
            </a:r>
            <a:endParaRPr b="1" lang="en-US" sz="2800" spc="-1" strike="noStrike">
              <a:solidFill>
                <a:srgbClr val="24126e"/>
              </a:solidFill>
              <a:latin typeface="Trebuchet MS"/>
            </a:endParaRPr>
          </a:p>
        </p:txBody>
      </p:sp>
      <p:sp>
        <p:nvSpPr>
          <p:cNvPr id="347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ek informatie ove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R.M.O</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R.S.A</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R.E</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Noro viru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at is het? Wat zijn de klachten en symptom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Kennislijst</a:t>
            </a:r>
            <a:endParaRPr b="1" lang="en-US" sz="2800" spc="-1" strike="noStrike">
              <a:solidFill>
                <a:srgbClr val="24126e"/>
              </a:solidFill>
              <a:latin typeface="Trebuchet MS"/>
            </a:endParaRPr>
          </a:p>
        </p:txBody>
      </p:sp>
      <p:sp>
        <p:nvSpPr>
          <p:cNvPr id="3476" name=""/>
          <p:cNvSpPr txBox="1"/>
          <p:nvPr/>
        </p:nvSpPr>
        <p:spPr>
          <a:xfrm>
            <a:off x="539280" y="1484280"/>
            <a:ext cx="8309160" cy="46785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Bacterië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Schimmel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iru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rotozoö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neumokok, stafylokok, streptokok</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athogene micro-organisme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Malaria</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Lintworm</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arasiet</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Gastheer</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Contaminatie</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Incubatietijd</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Infectiecyclu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Ontstekingsverschijnsele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Fagocytose</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bacteriële 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virus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schimmel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MRSA en Norovirus</a:t>
            </a:r>
            <a:endParaRPr b="0" lang="en-US" sz="12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0" name="PlaceHolder 1"/>
          <p:cNvSpPr>
            <a:spLocks noGrp="1"/>
          </p:cNvSpPr>
          <p:nvPr>
            <p:ph type="title"/>
          </p:nvPr>
        </p:nvSpPr>
        <p:spPr>
          <a:xfrm>
            <a:off x="394920" y="835200"/>
            <a:ext cx="7056360" cy="86328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Theorie: </a:t>
            </a:r>
            <a:endParaRPr b="1" lang="en-US" sz="2800" spc="-1" strike="noStrike">
              <a:solidFill>
                <a:srgbClr val="24126e"/>
              </a:solidFill>
              <a:latin typeface="Trebuchet MS"/>
            </a:endParaRPr>
          </a:p>
        </p:txBody>
      </p:sp>
      <p:sp>
        <p:nvSpPr>
          <p:cNvPr id="3401"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rgpad:</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rgpad, branches, lesmateriaal algemeen ziekenhuis, 10. Infecties en infectieziekten, theorie.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or diegene die het boek hebben als aanvulling:</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sisboek pathologie:</a:t>
            </a:r>
            <a:br>
              <a:rPr sz="2200"/>
            </a:br>
            <a:r>
              <a:rPr b="0" lang="nl-NL" sz="2200" spc="-1" strike="noStrike">
                <a:solidFill>
                  <a:srgbClr val="000000"/>
                </a:solidFill>
                <a:latin typeface="Trebuchet MS"/>
              </a:rPr>
              <a:t>hoofdstuk 6 infectieziek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Pathogene micro-organismen</a:t>
            </a:r>
            <a:endParaRPr b="1" lang="en-US" sz="2800" spc="-1" strike="noStrike">
              <a:solidFill>
                <a:srgbClr val="24126e"/>
              </a:solidFill>
              <a:latin typeface="Trebuchet MS"/>
            </a:endParaRPr>
          </a:p>
        </p:txBody>
      </p:sp>
      <p:sp>
        <p:nvSpPr>
          <p:cNvPr id="3403" name=""/>
          <p:cNvSpPr txBox="1"/>
          <p:nvPr/>
        </p:nvSpPr>
        <p:spPr>
          <a:xfrm>
            <a:off x="539640" y="1557360"/>
            <a:ext cx="6336000" cy="352728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icro-organismen: niet met blote oog te zi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athogeen = ziekmakend</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cterië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iruss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chimmels en gis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rotozoë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verleven van micro-organismen</a:t>
            </a:r>
            <a:endParaRPr b="1" lang="en-US" sz="2800" spc="-1" strike="noStrike">
              <a:solidFill>
                <a:srgbClr val="24126e"/>
              </a:solidFill>
              <a:latin typeface="Trebuchet MS"/>
            </a:endParaRPr>
          </a:p>
        </p:txBody>
      </p:sp>
      <p:sp>
        <p:nvSpPr>
          <p:cNvPr id="3405"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est op lichaamstemperatuur of kamertemperatuur</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cht nodig om te overlev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eding nodig: suikers/eiwitte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539640" y="907920"/>
            <a:ext cx="7056720" cy="8654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acterie</a:t>
            </a:r>
            <a:endParaRPr b="1" lang="en-US" sz="2800" spc="-1" strike="noStrike">
              <a:solidFill>
                <a:srgbClr val="24126e"/>
              </a:solidFill>
              <a:latin typeface="Trebuchet MS"/>
            </a:endParaRPr>
          </a:p>
        </p:txBody>
      </p:sp>
      <p:sp>
        <p:nvSpPr>
          <p:cNvPr id="3407" name=""/>
          <p:cNvSpPr txBox="1"/>
          <p:nvPr/>
        </p:nvSpPr>
        <p:spPr>
          <a:xfrm>
            <a:off x="539280" y="1844640"/>
            <a:ext cx="8309160" cy="446400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éncellig organisme, te zien onder een gewone microscoop</a:t>
            </a:r>
            <a:br>
              <a:rPr sz="2200"/>
            </a:br>
            <a:r>
              <a:rPr b="0" lang="nl-NL" sz="2200" spc="-1" strike="noStrike">
                <a:solidFill>
                  <a:srgbClr val="000000"/>
                </a:solidFill>
                <a:latin typeface="Trebuchet MS"/>
              </a:rPr>
              <a:t>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an zelfstandig leven en zich voortplanten</a:t>
            </a:r>
            <a:br>
              <a:rPr sz="2200"/>
            </a:br>
            <a:r>
              <a:rPr b="0" lang="nl-NL" sz="2200" spc="-1" strike="noStrike">
                <a:solidFill>
                  <a:srgbClr val="000000"/>
                </a:solidFill>
                <a:latin typeface="Trebuchet MS"/>
              </a:rPr>
              <a:t>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b: pneumokok, stafylokok, streptokok</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4126e"/>
                </a:solidFill>
                <a:latin typeface="Trebuchet MS"/>
              </a:rPr>
              <a:t>Voorbeelden van bacteriële infectieziekten</a:t>
            </a:r>
            <a:endParaRPr b="1" lang="en-US" sz="3600" spc="-1" strike="noStrike">
              <a:solidFill>
                <a:srgbClr val="24126e"/>
              </a:solidFill>
              <a:latin typeface="Trebuchet MS"/>
            </a:endParaRPr>
          </a:p>
        </p:txBody>
      </p:sp>
      <p:sp>
        <p:nvSpPr>
          <p:cNvPr id="3409" name=""/>
          <p:cNvSpPr txBox="1"/>
          <p:nvPr/>
        </p:nvSpPr>
        <p:spPr>
          <a:xfrm>
            <a:off x="539280" y="1698120"/>
            <a:ext cx="8309160" cy="4464360"/>
          </a:xfrm>
          <a:prstGeom prst="rect">
            <a:avLst/>
          </a:prstGeom>
          <a:noFill/>
          <a:ln w="0">
            <a:noFill/>
          </a:ln>
        </p:spPr>
        <p:txBody>
          <a:bodyPr lIns="0" rIns="0" tIns="0" bIns="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Blaasontsteking </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Nierbekken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Long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Kinkhoest</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Ziekte van Lyme</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Hersenvlies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ondroos</a:t>
            </a:r>
            <a:endParaRPr b="0" lang="en-US" sz="2800" spc="-1" strike="noStrike">
              <a:solidFill>
                <a:srgbClr val="000000"/>
              </a:solidFill>
              <a:latin typeface="Trebuchet MS"/>
            </a:endParaRPr>
          </a:p>
        </p:txBody>
      </p:sp>
      <p:pic>
        <p:nvPicPr>
          <p:cNvPr id="3410" name="Picture 5" descr=""/>
          <p:cNvPicPr/>
          <p:nvPr/>
        </p:nvPicPr>
        <p:blipFill>
          <a:blip r:embed="rId1"/>
          <a:stretch/>
        </p:blipFill>
        <p:spPr>
          <a:xfrm>
            <a:off x="6875640" y="2414520"/>
            <a:ext cx="2166840" cy="2166840"/>
          </a:xfrm>
          <a:prstGeom prst="rect">
            <a:avLst/>
          </a:prstGeom>
          <a:ln w="0">
            <a:noFill/>
          </a:ln>
        </p:spPr>
      </p:pic>
      <p:pic>
        <p:nvPicPr>
          <p:cNvPr id="3411" name="Picture 6" descr=""/>
          <p:cNvPicPr/>
          <p:nvPr/>
        </p:nvPicPr>
        <p:blipFill>
          <a:blip r:embed="rId2"/>
          <a:stretch/>
        </p:blipFill>
        <p:spPr>
          <a:xfrm>
            <a:off x="324000" y="3500280"/>
            <a:ext cx="235584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irus</a:t>
            </a:r>
            <a:endParaRPr b="1" lang="en-US" sz="2800" spc="-1" strike="noStrike">
              <a:solidFill>
                <a:srgbClr val="24126e"/>
              </a:solidFill>
              <a:latin typeface="Trebuchet MS"/>
            </a:endParaRPr>
          </a:p>
        </p:txBody>
      </p:sp>
      <p:sp>
        <p:nvSpPr>
          <p:cNvPr id="3413"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t>
            </a:r>
            <a:r>
              <a:rPr b="0" lang="nl-NL" sz="2200" spc="-1" strike="noStrike">
                <a:solidFill>
                  <a:srgbClr val="000000"/>
                </a:solidFill>
                <a:latin typeface="Trebuchet MS"/>
              </a:rPr>
              <a:t>stukje” levend materiaal + eiwit, geen ker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an niet zelfstandig leve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bruikt voor de voortplanting materiaal uit de celkern van andere levende cell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ntibiotica werkt alleen voor bacteriën niet voor viruss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ichaam kan immuun worden voor viruss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14" name="Picture 5" descr="https://zorgpad.pulseweb.nl/mbo4/Manuals/MAN_20160621102631_3b009026-40c8-40f3-8/Images/4e5f3c4b-78a1-11e5-80e1-6f0ab1de0e0b/809529C7.jpeg"/>
          <p:cNvPicPr/>
          <p:nvPr/>
        </p:nvPicPr>
        <p:blipFill>
          <a:blip r:embed="rId1"/>
          <a:stretch/>
        </p:blipFill>
        <p:spPr>
          <a:xfrm>
            <a:off x="6543720" y="4951440"/>
            <a:ext cx="249552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19:24:38Z</dcterms:created>
  <dc:creator>Gebruiker</dc:creator>
  <dc:description/>
  <dc:language>en-US</dc:language>
  <cp:lastModifiedBy>Jolanda Vermeulen</cp:lastModifiedBy>
  <cp:lastPrinted>2017-09-13T22:29:21Z</cp:lastPrinted>
  <dcterms:modified xsi:type="dcterms:W3CDTF">2020-01-26T01:11:12Z</dcterms:modified>
  <cp:revision>94</cp:revision>
  <dc:subject/>
  <dc:title>Infectieziekten</dc:title>
</cp:coreProperties>
</file>