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19DA3-E31C-42D9-82CA-43073D1B7D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EE116-A560-49AA-B3C1-EB2130E71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4A281-A1CC-4EEE-8AA5-EDE76ED3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DD33B-6ED8-4540-8DD3-D649C49109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7CF32-FD5A-468B-8407-A318B72E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2EBA3-448C-4122-BD17-93799A9A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6D35-0312-4DC8-909F-36F0F2D33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E48678-3051-4BEF-A47E-342E13A8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A7B65-D4E9-4FE4-8878-EA9E2E5F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25829-5F6C-485F-BC46-698012F6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D1D5-8987-40EF-BE59-CE79F455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D55C9-1E70-41B8-A3DA-1076186E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nl-NL" sz="1200" spc="-1" strike="noStrike">
                <a:solidFill>
                  <a:srgbClr val="898989"/>
                </a:solidFill>
                <a:latin typeface="Calibri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836B6A-32E6-4396-AAF6-550BF3C2FAC4}" type="slidenum">
              <a:rPr b="0" lang="nl-NL" sz="1200" spc="-1" strike="noStrike">
                <a:solidFill>
                  <a:srgbClr val="898989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4442" t="0" r="67241" b="55225"/>
          <a:stretch/>
        </p:blipFill>
        <p:spPr>
          <a:xfrm>
            <a:off x="395280" y="0"/>
            <a:ext cx="5472000" cy="6507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599160" y="692280"/>
            <a:ext cx="136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ij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6667560" y="1306440"/>
            <a:ext cx="10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788160" y="312588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6810480" y="48988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la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6907320" y="59151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 bu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"/>
          <p:cNvCxnSpPr>
            <a:endCxn id="42" idx="1"/>
          </p:cNvCxnSpPr>
          <p:nvPr/>
        </p:nvCxnSpPr>
        <p:spPr>
          <a:xfrm flipV="1">
            <a:off x="3850920" y="921960"/>
            <a:ext cx="27486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8" name=""/>
          <p:cNvCxnSpPr/>
          <p:nvPr/>
        </p:nvCxnSpPr>
        <p:spPr>
          <a:xfrm>
            <a:off x="4140000" y="1557360"/>
            <a:ext cx="2448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49" name=""/>
          <p:cNvCxnSpPr/>
          <p:nvPr/>
        </p:nvCxnSpPr>
        <p:spPr>
          <a:xfrm>
            <a:off x="3708360" y="3357720"/>
            <a:ext cx="30693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0" name=""/>
          <p:cNvCxnSpPr/>
          <p:nvPr/>
        </p:nvCxnSpPr>
        <p:spPr>
          <a:xfrm>
            <a:off x="3708360" y="5157360"/>
            <a:ext cx="306936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1" name=""/>
          <p:cNvCxnSpPr/>
          <p:nvPr/>
        </p:nvCxnSpPr>
        <p:spPr>
          <a:xfrm>
            <a:off x="3038400" y="6237360"/>
            <a:ext cx="398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0111" t="0" r="16625" b="13555"/>
          <a:stretch/>
        </p:blipFill>
        <p:spPr>
          <a:xfrm>
            <a:off x="108000" y="189000"/>
            <a:ext cx="5381640" cy="553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662880" y="204624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448320" y="2622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6094440" y="458136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Urinelei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6829920" y="325584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slag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5905440" y="364500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ad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8" name=""/>
          <p:cNvCxnSpPr/>
          <p:nvPr/>
        </p:nvCxnSpPr>
        <p:spPr>
          <a:xfrm>
            <a:off x="3952800" y="2276640"/>
            <a:ext cx="273600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59" name=""/>
          <p:cNvCxnSpPr/>
          <p:nvPr/>
        </p:nvCxnSpPr>
        <p:spPr>
          <a:xfrm>
            <a:off x="3990960" y="2852280"/>
            <a:ext cx="244980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0" name=""/>
          <p:cNvCxnSpPr>
            <a:endCxn id="61" idx="1"/>
          </p:cNvCxnSpPr>
          <p:nvPr/>
        </p:nvCxnSpPr>
        <p:spPr>
          <a:xfrm>
            <a:off x="4108320" y="4221000"/>
            <a:ext cx="2648880" cy="151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2" name=""/>
          <p:cNvCxnSpPr>
            <a:endCxn id="55" idx="1"/>
          </p:cNvCxnSpPr>
          <p:nvPr/>
        </p:nvCxnSpPr>
        <p:spPr>
          <a:xfrm>
            <a:off x="4990680" y="4805280"/>
            <a:ext cx="1104120" cy="720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3" name=""/>
          <p:cNvCxnSpPr/>
          <p:nvPr/>
        </p:nvCxnSpPr>
        <p:spPr>
          <a:xfrm>
            <a:off x="5235480" y="3595680"/>
            <a:ext cx="164376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cxnSp>
        <p:nvCxnSpPr>
          <p:cNvPr id="64" name=""/>
          <p:cNvCxnSpPr/>
          <p:nvPr/>
        </p:nvCxnSpPr>
        <p:spPr>
          <a:xfrm>
            <a:off x="5320800" y="3933360"/>
            <a:ext cx="577080" cy="252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1" name=""/>
          <p:cNvSpPr/>
          <p:nvPr/>
        </p:nvSpPr>
        <p:spPr>
          <a:xfrm>
            <a:off x="6755040" y="400536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1590840"/>
            <a:ext cx="1511280" cy="647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6" name=""/>
          <p:cNvCxnSpPr/>
          <p:nvPr/>
        </p:nvCxnSpPr>
        <p:spPr>
          <a:xfrm flipH="1">
            <a:off x="2123640" y="4005360"/>
            <a:ext cx="1681920" cy="2160"/>
          </a:xfrm>
          <a:prstGeom prst="straightConnector1">
            <a:avLst/>
          </a:prstGeom>
          <a:ln cap="sq" w="38160">
            <a:solidFill>
              <a:srgbClr val="604a7b"/>
            </a:solidFill>
            <a:miter/>
            <a:tailEnd len="med" type="arrow" w="med"/>
          </a:ln>
        </p:spPr>
      </p:cxnSp>
      <p:sp>
        <p:nvSpPr>
          <p:cNvPr id="67" name=""/>
          <p:cNvSpPr/>
          <p:nvPr/>
        </p:nvSpPr>
        <p:spPr>
          <a:xfrm>
            <a:off x="909720" y="3795840"/>
            <a:ext cx="12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50015" t="18015" r="-787" b="14364"/>
          <a:stretch/>
        </p:blipFill>
        <p:spPr>
          <a:xfrm>
            <a:off x="108000" y="449280"/>
            <a:ext cx="3279600" cy="3286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27497" t="10782" r="30183" b="13009"/>
          <a:stretch/>
        </p:blipFill>
        <p:spPr>
          <a:xfrm>
            <a:off x="3278160" y="0"/>
            <a:ext cx="3600360" cy="487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12960" y="66816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1966680" y="26449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/>
          <p:nvPr/>
        </p:nvSpPr>
        <p:spPr>
          <a:xfrm>
            <a:off x="7061400" y="259884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erzamelbu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/>
          <p:nvPr/>
        </p:nvSpPr>
        <p:spPr>
          <a:xfrm>
            <a:off x="7304040" y="137160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lag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7429680" y="109224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ader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"/>
          <p:cNvCxnSpPr/>
          <p:nvPr/>
        </p:nvCxnSpPr>
        <p:spPr>
          <a:xfrm>
            <a:off x="5054760" y="54936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"/>
          <p:cNvCxnSpPr/>
          <p:nvPr/>
        </p:nvCxnSpPr>
        <p:spPr>
          <a:xfrm>
            <a:off x="5040360" y="2095560"/>
            <a:ext cx="24498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7" name=""/>
          <p:cNvCxnSpPr/>
          <p:nvPr/>
        </p:nvCxnSpPr>
        <p:spPr>
          <a:xfrm>
            <a:off x="3104640" y="4775040"/>
            <a:ext cx="150732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8" name=""/>
          <p:cNvCxnSpPr/>
          <p:nvPr/>
        </p:nvCxnSpPr>
        <p:spPr>
          <a:xfrm>
            <a:off x="6878160" y="1557360"/>
            <a:ext cx="4294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9" name=""/>
          <p:cNvCxnSpPr/>
          <p:nvPr/>
        </p:nvCxnSpPr>
        <p:spPr>
          <a:xfrm>
            <a:off x="5435640" y="2828520"/>
            <a:ext cx="164376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"/>
          <p:cNvCxnSpPr/>
          <p:nvPr/>
        </p:nvCxnSpPr>
        <p:spPr>
          <a:xfrm>
            <a:off x="6878160" y="1413000"/>
            <a:ext cx="57708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1" name=""/>
          <p:cNvSpPr/>
          <p:nvPr/>
        </p:nvSpPr>
        <p:spPr>
          <a:xfrm>
            <a:off x="2143080" y="4559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el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/>
          <p:nvPr/>
        </p:nvSpPr>
        <p:spPr>
          <a:xfrm>
            <a:off x="-117360" y="189000"/>
            <a:ext cx="755640" cy="9604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030480" y="333360"/>
            <a:ext cx="149400" cy="1079640"/>
          </a:xfrm>
          <a:custGeom>
            <a:avLst/>
            <a:gdLst>
              <a:gd name="textAreaLeft" fmla="*/ 95400 w 149400"/>
              <a:gd name="textAreaRight" fmla="*/ 149760 w 14940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030480" y="1413000"/>
            <a:ext cx="247680" cy="2952720"/>
          </a:xfrm>
          <a:custGeom>
            <a:avLst/>
            <a:gdLst>
              <a:gd name="textAreaLeft" fmla="*/ 158400 w 247680"/>
              <a:gd name="textAreaRight" fmla="*/ 248040 w 24768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7780680" y="227160"/>
            <a:ext cx="83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p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7475400" y="1741320"/>
            <a:ext cx="10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anaaltj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4356000" y="449280"/>
            <a:ext cx="216000" cy="4110120"/>
          </a:xfrm>
          <a:custGeom>
            <a:avLst/>
            <a:gdLst>
              <a:gd name="textAreaLeft" fmla="*/ 137880 w 216000"/>
              <a:gd name="textAreaRight" fmla="*/ 216360 w 216000"/>
              <a:gd name="textAreaTop" fmla="*/ 5400 h 4110120"/>
              <a:gd name="textAreaBottom" fmla="*/ 4104720 h 411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"/>
                  <a:pt x="10800" y="95"/>
                </a:cubicBezTo>
                <a:lnTo>
                  <a:pt x="10800" y="10705"/>
                </a:lnTo>
                <a:cubicBezTo>
                  <a:pt x="10800" y="10753"/>
                  <a:pt x="5400" y="10800"/>
                  <a:pt x="0" y="10800"/>
                </a:cubicBezTo>
                <a:cubicBezTo>
                  <a:pt x="5400" y="10800"/>
                  <a:pt x="10800" y="10848"/>
                  <a:pt x="10800" y="10895"/>
                </a:cubicBezTo>
                <a:lnTo>
                  <a:pt x="10800" y="21505"/>
                </a:lnTo>
                <a:cubicBezTo>
                  <a:pt x="10800" y="21553"/>
                  <a:pt x="16200" y="21600"/>
                  <a:pt x="21600" y="21600"/>
                </a:cubicBezTo>
              </a:path>
            </a:pathLst>
          </a:custGeom>
          <a:noFill/>
          <a:ln cap="sq"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"/>
          <p:cNvCxnSpPr>
            <a:stCxn id="87" idx="1"/>
          </p:cNvCxnSpPr>
          <p:nvPr/>
        </p:nvCxnSpPr>
        <p:spPr>
          <a:xfrm flipV="1" rot="10800000">
            <a:off x="2913840" y="2504520"/>
            <a:ext cx="1443960" cy="1068480"/>
          </a:xfrm>
          <a:prstGeom prst="bentConnector3">
            <a:avLst>
              <a:gd name="adj1" fmla="val 57855"/>
            </a:avLst>
          </a:prstGeom>
          <a:ln cap="sq"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633680" y="3387600"/>
            <a:ext cx="140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eenhe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3289320" y="708120"/>
            <a:ext cx="2736000" cy="216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94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5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6026400" y="385920"/>
            <a:ext cx="27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ltrafiltratie: 10% va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plasma wordt in h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kapsel geper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>
            <a:off x="6029280" y="1413000"/>
            <a:ext cx="27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bij ontstaat 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150 liter per da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059520" y="2233440"/>
            <a:ext cx="302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 bevat: water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uten, ureum, aminozuren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5668560" y="3429000"/>
            <a:ext cx="28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iwitten en bloedcell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ijven in het bloed acht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omen normaal niet i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oor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6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7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/>
          <p:nvPr/>
        </p:nvSpPr>
        <p:spPr>
          <a:xfrm>
            <a:off x="5654520" y="550800"/>
            <a:ext cx="264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glucos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minozuren en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/>
          <p:nvPr/>
        </p:nvSpPr>
        <p:spPr>
          <a:xfrm>
            <a:off x="5941800" y="1550880"/>
            <a:ext cx="24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erugresorptie zout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(actief transpor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"/>
          <p:cNvCxnSpPr/>
          <p:nvPr/>
        </p:nvCxnSpPr>
        <p:spPr>
          <a:xfrm>
            <a:off x="2916360" y="1034640"/>
            <a:ext cx="273600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"/>
          <p:cNvCxnSpPr/>
          <p:nvPr/>
        </p:nvCxnSpPr>
        <p:spPr>
          <a:xfrm>
            <a:off x="3287880" y="1736280"/>
            <a:ext cx="2737080" cy="25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dur="indefinite" fill="hold">
                      <p:stCondLst>
                        <p:cond delay="indefinite"/>
                      </p:stCondLst>
                      <p:childTnLst>
                        <p:par>
                          <p:cTn id="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27497" t="10782" r="30183" b="13009"/>
          <a:stretch/>
        </p:blipFill>
        <p:spPr>
          <a:xfrm>
            <a:off x="1512720" y="160200"/>
            <a:ext cx="3600720" cy="4876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7520" y="8287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sch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/>
          <p:nvPr/>
        </p:nvSpPr>
        <p:spPr>
          <a:xfrm>
            <a:off x="201240" y="28036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mer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"/>
          <p:cNvCxnSpPr/>
          <p:nvPr/>
        </p:nvCxnSpPr>
        <p:spPr>
          <a:xfrm>
            <a:off x="1414080" y="4933800"/>
            <a:ext cx="1430640" cy="3060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"/>
          <p:cNvSpPr/>
          <p:nvPr/>
        </p:nvSpPr>
        <p:spPr>
          <a:xfrm>
            <a:off x="36720" y="4749840"/>
            <a:ext cx="13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/>
          <p:nvPr/>
        </p:nvSpPr>
        <p:spPr>
          <a:xfrm>
            <a:off x="1265400" y="492120"/>
            <a:ext cx="149040" cy="1079640"/>
          </a:xfrm>
          <a:custGeom>
            <a:avLst/>
            <a:gdLst>
              <a:gd name="textAreaLeft" fmla="*/ 95400 w 149040"/>
              <a:gd name="textAreaRight" fmla="*/ 149400 w 149040"/>
              <a:gd name="textAreaTop" fmla="*/ 3600 h 1079640"/>
              <a:gd name="textAreaBottom" fmla="*/ 107604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4"/>
                  <a:pt x="10800" y="247"/>
                </a:cubicBezTo>
                <a:lnTo>
                  <a:pt x="10800" y="10553"/>
                </a:lnTo>
                <a:cubicBezTo>
                  <a:pt x="10800" y="10677"/>
                  <a:pt x="5400" y="10800"/>
                  <a:pt x="0" y="10800"/>
                </a:cubicBezTo>
                <a:cubicBezTo>
                  <a:pt x="5400" y="10800"/>
                  <a:pt x="10800" y="10924"/>
                  <a:pt x="10800" y="11047"/>
                </a:cubicBezTo>
                <a:lnTo>
                  <a:pt x="10800" y="21353"/>
                </a:lnTo>
                <a:cubicBezTo>
                  <a:pt x="10800" y="21477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/>
          <p:nvPr/>
        </p:nvSpPr>
        <p:spPr>
          <a:xfrm>
            <a:off x="1265400" y="1571760"/>
            <a:ext cx="247320" cy="2952720"/>
          </a:xfrm>
          <a:custGeom>
            <a:avLst/>
            <a:gdLst>
              <a:gd name="textAreaLeft" fmla="*/ 158040 w 247320"/>
              <a:gd name="textAreaRight" fmla="*/ 247680 w 247320"/>
              <a:gd name="textAreaTop" fmla="*/ 6120 h 2952720"/>
              <a:gd name="textAreaBottom" fmla="*/ 294660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cap="sq"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/>
          <p:nvPr/>
        </p:nvSpPr>
        <p:spPr>
          <a:xfrm>
            <a:off x="5807160" y="690480"/>
            <a:ext cx="27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 van water na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loed (osmos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/>
          <p:nvPr/>
        </p:nvSpPr>
        <p:spPr>
          <a:xfrm>
            <a:off x="5325840" y="3825720"/>
            <a:ext cx="35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Hierdoor wordt de voorur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Uiteindelijk 100 x geconcentree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tot ur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3" name=""/>
          <p:cNvCxnSpPr>
            <a:endCxn id="121" idx="1"/>
          </p:cNvCxnSpPr>
          <p:nvPr/>
        </p:nvCxnSpPr>
        <p:spPr>
          <a:xfrm flipV="1">
            <a:off x="3058920" y="1010880"/>
            <a:ext cx="2748600" cy="241848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4" name=""/>
          <p:cNvCxnSpPr>
            <a:endCxn id="121" idx="1"/>
          </p:cNvCxnSpPr>
          <p:nvPr/>
        </p:nvCxnSpPr>
        <p:spPr>
          <a:xfrm flipV="1">
            <a:off x="3313080" y="1010880"/>
            <a:ext cx="2496240" cy="2488320"/>
          </a:xfrm>
          <a:prstGeom prst="straightConnector1">
            <a:avLst/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125" name=""/>
          <p:cNvGrpSpPr/>
          <p:nvPr/>
        </p:nvGrpSpPr>
        <p:grpSpPr>
          <a:xfrm>
            <a:off x="3634920" y="1700280"/>
            <a:ext cx="5376240" cy="1739880"/>
            <a:chOff x="3634920" y="1700280"/>
            <a:chExt cx="5376240" cy="1739880"/>
          </a:xfrm>
        </p:grpSpPr>
        <p:sp>
          <p:nvSpPr>
            <p:cNvPr id="126" name=""/>
            <p:cNvSpPr/>
            <p:nvPr/>
          </p:nvSpPr>
          <p:spPr>
            <a:xfrm>
              <a:off x="5700240" y="1700280"/>
              <a:ext cx="331092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nsport van water naa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loed (osmose) geregeld door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rmoon ADH (uit hypofy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H verhoogt d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orlaatbaarheid van de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Verzamelbuisje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127" name=""/>
            <p:cNvCxnSpPr>
              <a:endCxn id="126" idx="1"/>
            </p:cNvCxnSpPr>
            <p:nvPr/>
          </p:nvCxnSpPr>
          <p:spPr>
            <a:xfrm flipV="1">
              <a:off x="3634920" y="2569680"/>
              <a:ext cx="2066040" cy="713520"/>
            </a:xfrm>
            <a:prstGeom prst="straightConnector1">
              <a:avLst/>
            </a:prstGeom>
            <a:ln cap="sq"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fill="hold">
                      <p:stCondLst>
                        <p:cond delay="indefinite"/>
                      </p:stCondLst>
                      <p:childTnLst>
                        <p:par>
                          <p:cTn id="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1116000" y="260280"/>
            <a:ext cx="7775640" cy="6407280"/>
            <a:chOff x="1116000" y="260280"/>
            <a:chExt cx="7775640" cy="6407280"/>
          </a:xfrm>
        </p:grpSpPr>
        <p:pic>
          <p:nvPicPr>
            <p:cNvPr id="129" name="" descr=""/>
            <p:cNvPicPr/>
            <p:nvPr/>
          </p:nvPicPr>
          <p:blipFill>
            <a:blip r:embed="rId1"/>
            <a:srcRect l="15081" t="0" r="11477" b="9229"/>
            <a:stretch/>
          </p:blipFill>
          <p:spPr>
            <a:xfrm>
              <a:off x="1116000" y="260280"/>
              <a:ext cx="7775640" cy="640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 rot="16200000">
              <a:off x="3912840" y="3381480"/>
              <a:ext cx="111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5083560" y="3438000"/>
              <a:ext cx="103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scending limb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94040" y="520524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1400" y="55706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1400" y="48974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92320" y="41911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692320" y="38163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692320" y="34862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92320" y="31161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92320" y="279072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6240" y="20048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1320" y="452268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Ure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38080" y="2597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36640" y="329076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36640" y="398304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38080" y="465300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360" y="486900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59760" y="4430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20160" y="384336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567680" y="31528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526640" y="243828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561560" y="162252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43840" y="1832040"/>
              <a:ext cx="46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Cl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686200" y="18208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638240" y="1981080"/>
              <a:ext cx="41220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1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67360" y="5559480"/>
              <a:ext cx="239400" cy="255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78200" y="446040"/>
            <a:ext cx="289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zoek door een labo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/>
          <p:nvPr/>
        </p:nvSpPr>
        <p:spPr>
          <a:xfrm>
            <a:off x="174600" y="907920"/>
            <a:ext cx="1107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in een vloeistof uit een gezond persoon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Geen eiwit en geen bloedcellen: Waar komt deze vloeistof vandaan? Nierkapsel, nierader, nierslagader of nierbekk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lke vloeistof onderzoekt hij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/>
          <p:nvPr/>
        </p:nvSpPr>
        <p:spPr>
          <a:xfrm>
            <a:off x="348840" y="4797360"/>
            <a:ext cx="773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eiw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 Nierschors, niermerg, nierbekk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ierkapsel/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/>
          <p:nvPr/>
        </p:nvSpPr>
        <p:spPr>
          <a:xfrm>
            <a:off x="349200" y="2841480"/>
            <a:ext cx="8331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en laborant treft aan: ureum, zout, water en gluc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at is er aan de han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 welk gedeelte van de nier gaat er iets fout? Nierkapsel.nierkanaaltje/verzamelbuisje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dur="indefinite" fill="hold">
                      <p:stCondLst>
                        <p:cond delay="indefinite"/>
                      </p:stCondLst>
                      <p:childTnLst>
                        <p:par>
                          <p:cTn id="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12:54:05Z</dcterms:created>
  <dc:creator>x</dc:creator>
  <dc:description/>
  <dc:language>en-US</dc:language>
  <cp:lastModifiedBy>Dick</cp:lastModifiedBy>
  <dcterms:modified xsi:type="dcterms:W3CDTF">2011-10-23T11:29:44Z</dcterms:modified>
  <cp:revision>6</cp:revision>
  <dc:subject/>
  <dc:title>PowerPoint-presentatie</dc:title>
</cp:coreProperties>
</file>