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ED00-7737-44F3-918B-3C64ECCED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7E9F-8F2F-4542-8B2C-BA329BAD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E2BD-ADCE-4A6D-BC39-7209248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A981-B042-44CE-9869-91E8CEE48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67B4-4D34-4A0A-A2B7-C85D6927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EBDE-8286-489E-9879-AEDF63C5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603D-9F85-462C-BA4E-BDE4F182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99136-8516-4493-ACA3-B624F7C6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133A-F77C-41C2-BD34-2862D63F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37D1-A6AC-42AB-B998-A649B95A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33B6-5B9F-43CE-A414-0CB95DF4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FC9B-02E2-4E6C-A47E-B824F4C3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1220AE-E8C2-4172-A06C-DC2A586E8EB6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2" t="0" r="67241" b="55225"/>
          <a:stretch/>
        </p:blipFill>
        <p:spPr>
          <a:xfrm>
            <a:off x="395280" y="0"/>
            <a:ext cx="5472000" cy="650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99160" y="6922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3064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788160" y="31258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10480" y="48988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907320" y="5915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 b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"/>
          <p:cNvCxnSpPr>
            <a:endCxn id="42" idx="1"/>
          </p:cNvCxnSpPr>
          <p:nvPr/>
        </p:nvCxnSpPr>
        <p:spPr>
          <a:xfrm flipV="1">
            <a:off x="3850920" y="921960"/>
            <a:ext cx="27486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8" name=""/>
          <p:cNvCxnSpPr/>
          <p:nvPr/>
        </p:nvCxnSpPr>
        <p:spPr>
          <a:xfrm>
            <a:off x="4140000" y="1557360"/>
            <a:ext cx="2448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9" name=""/>
          <p:cNvCxnSpPr/>
          <p:nvPr/>
        </p:nvCxnSpPr>
        <p:spPr>
          <a:xfrm>
            <a:off x="3708360" y="3357720"/>
            <a:ext cx="3069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0" name=""/>
          <p:cNvCxnSpPr/>
          <p:nvPr/>
        </p:nvCxnSpPr>
        <p:spPr>
          <a:xfrm>
            <a:off x="3708360" y="5157360"/>
            <a:ext cx="306936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1" name=""/>
          <p:cNvCxnSpPr/>
          <p:nvPr/>
        </p:nvCxnSpPr>
        <p:spPr>
          <a:xfrm>
            <a:off x="3038400" y="6237360"/>
            <a:ext cx="398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0111" t="0" r="16625" b="13555"/>
          <a:stretch/>
        </p:blipFill>
        <p:spPr>
          <a:xfrm>
            <a:off x="108000" y="189000"/>
            <a:ext cx="5381640" cy="55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62880" y="20462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48320" y="2622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094440" y="4581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29920" y="32558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lag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905440" y="3645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3952800" y="2276640"/>
            <a:ext cx="27360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9" name=""/>
          <p:cNvCxnSpPr/>
          <p:nvPr/>
        </p:nvCxnSpPr>
        <p:spPr>
          <a:xfrm>
            <a:off x="3990960" y="2852280"/>
            <a:ext cx="244980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0" name=""/>
          <p:cNvCxnSpPr>
            <a:endCxn id="61" idx="1"/>
          </p:cNvCxnSpPr>
          <p:nvPr/>
        </p:nvCxnSpPr>
        <p:spPr>
          <a:xfrm>
            <a:off x="4108320" y="4221000"/>
            <a:ext cx="2648880" cy="151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2" name=""/>
          <p:cNvCxnSpPr>
            <a:endCxn id="55" idx="1"/>
          </p:cNvCxnSpPr>
          <p:nvPr/>
        </p:nvCxnSpPr>
        <p:spPr>
          <a:xfrm>
            <a:off x="4990680" y="4805280"/>
            <a:ext cx="1104120" cy="720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5235480" y="3595680"/>
            <a:ext cx="164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4" name=""/>
          <p:cNvCxnSpPr/>
          <p:nvPr/>
        </p:nvCxnSpPr>
        <p:spPr>
          <a:xfrm>
            <a:off x="5320800" y="3933360"/>
            <a:ext cx="57708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>
            <a:off x="6755040" y="40053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590840"/>
            <a:ext cx="1511280" cy="6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"/>
          <p:cNvCxnSpPr/>
          <p:nvPr/>
        </p:nvCxnSpPr>
        <p:spPr>
          <a:xfrm flipH="1">
            <a:off x="2123640" y="4005360"/>
            <a:ext cx="168192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909720" y="3795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0015" t="18015" r="-787" b="14364"/>
          <a:stretch/>
        </p:blipFill>
        <p:spPr>
          <a:xfrm>
            <a:off x="108000" y="449280"/>
            <a:ext cx="327960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7497" t="10782" r="30183" b="13009"/>
          <a:stretch/>
        </p:blipFill>
        <p:spPr>
          <a:xfrm>
            <a:off x="3278160" y="0"/>
            <a:ext cx="360036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2960" y="668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66680" y="2644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061400" y="25988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zamelbu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137160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lag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10922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5054760" y="54936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"/>
          <p:cNvCxnSpPr/>
          <p:nvPr/>
        </p:nvCxnSpPr>
        <p:spPr>
          <a:xfrm>
            <a:off x="5040360" y="2095560"/>
            <a:ext cx="24498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"/>
          <p:cNvCxnSpPr/>
          <p:nvPr/>
        </p:nvCxnSpPr>
        <p:spPr>
          <a:xfrm>
            <a:off x="3104640" y="4775040"/>
            <a:ext cx="150732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"/>
          <p:cNvCxnSpPr/>
          <p:nvPr/>
        </p:nvCxnSpPr>
        <p:spPr>
          <a:xfrm>
            <a:off x="6878160" y="1557360"/>
            <a:ext cx="4294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/>
          <p:nvPr/>
        </p:nvCxnSpPr>
        <p:spPr>
          <a:xfrm>
            <a:off x="5435640" y="2828520"/>
            <a:ext cx="164376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"/>
          <p:cNvCxnSpPr/>
          <p:nvPr/>
        </p:nvCxnSpPr>
        <p:spPr>
          <a:xfrm>
            <a:off x="6878160" y="1413000"/>
            <a:ext cx="5770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214308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-117360" y="189000"/>
            <a:ext cx="755640" cy="960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030480" y="333360"/>
            <a:ext cx="149400" cy="1079640"/>
          </a:xfrm>
          <a:custGeom>
            <a:avLst/>
            <a:gdLst>
              <a:gd name="textAreaLeft" fmla="*/ 95400 w 149400"/>
              <a:gd name="textAreaRight" fmla="*/ 149760 w 14940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030480" y="141300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780680" y="22716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p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475400" y="17413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naal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9280"/>
            <a:ext cx="216000" cy="41101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110120"/>
              <a:gd name="textAreaBottom" fmla="*/ 4104720 h 411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>
            <a:stCxn id="87" idx="1"/>
          </p:cNvCxnSpPr>
          <p:nvPr/>
        </p:nvCxnSpPr>
        <p:spPr>
          <a:xfrm flipV="1" rot="10800000">
            <a:off x="2913840" y="2504520"/>
            <a:ext cx="1443960" cy="1068480"/>
          </a:xfrm>
          <a:prstGeom prst="bentConnector3">
            <a:avLst>
              <a:gd name="adj1" fmla="val 57855"/>
            </a:avLst>
          </a:prstGeom>
          <a:ln cap="sq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633680" y="33876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e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3289320" y="70812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026400" y="38592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ltrafiltratie: 10% v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plasma wordt in h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apsel gepe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029280" y="141300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bij ontstaat 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150 liter per d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059520" y="2233440"/>
            <a:ext cx="30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 bevat: wat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uten, ureum, aminozu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668560" y="3429000"/>
            <a:ext cx="28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iwitten en bloedcell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ijven in het bloed ach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omen normaal niet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50800"/>
            <a:ext cx="26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glucos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minozuren en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5941800" y="15508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"/>
          <p:cNvCxnSpPr/>
          <p:nvPr/>
        </p:nvCxnSpPr>
        <p:spPr>
          <a:xfrm>
            <a:off x="3287880" y="1736280"/>
            <a:ext cx="273708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807160" y="69048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van water na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(osmo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325840" y="3825720"/>
            <a:ext cx="35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door wordt de voorur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iteindelijk 100 x geconcentree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t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"/>
          <p:cNvCxnSpPr>
            <a:endCxn id="121" idx="1"/>
          </p:cNvCxnSpPr>
          <p:nvPr/>
        </p:nvCxnSpPr>
        <p:spPr>
          <a:xfrm flipV="1">
            <a:off x="3058920" y="1010880"/>
            <a:ext cx="2748600" cy="24184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"/>
          <p:cNvCxnSpPr>
            <a:endCxn id="121" idx="1"/>
          </p:cNvCxnSpPr>
          <p:nvPr/>
        </p:nvCxnSpPr>
        <p:spPr>
          <a:xfrm flipV="1">
            <a:off x="3313080" y="1010880"/>
            <a:ext cx="2496240" cy="2488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"/>
          <p:cNvGrpSpPr/>
          <p:nvPr/>
        </p:nvGrpSpPr>
        <p:grpSpPr>
          <a:xfrm>
            <a:off x="3634920" y="1700280"/>
            <a:ext cx="5376240" cy="1739880"/>
            <a:chOff x="3634920" y="1700280"/>
            <a:chExt cx="5376240" cy="1739880"/>
          </a:xfrm>
        </p:grpSpPr>
        <p:sp>
          <p:nvSpPr>
            <p:cNvPr id="126" name=""/>
            <p:cNvSpPr/>
            <p:nvPr/>
          </p:nvSpPr>
          <p:spPr>
            <a:xfrm>
              <a:off x="5700240" y="1700280"/>
              <a:ext cx="331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 van water na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ed (osmose) geregeld doo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moon ADH (uit hypofy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H verhoogt 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orlaatbaarheid van d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zamelbuisj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7" name=""/>
            <p:cNvCxnSpPr>
              <a:endCxn id="126" idx="1"/>
            </p:cNvCxnSpPr>
            <p:nvPr/>
          </p:nvCxnSpPr>
          <p:spPr>
            <a:xfrm flipV="1">
              <a:off x="3634920" y="2569680"/>
              <a:ext cx="2066040" cy="713520"/>
            </a:xfrm>
            <a:prstGeom prst="straightConnector1">
              <a:avLst/>
            </a:prstGeom>
            <a:ln cap="sq"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16000" y="260280"/>
            <a:ext cx="7775640" cy="6407280"/>
            <a:chOff x="1116000" y="260280"/>
            <a:chExt cx="7775640" cy="64072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15081" t="0" r="11477" b="9229"/>
            <a:stretch/>
          </p:blipFill>
          <p:spPr>
            <a:xfrm>
              <a:off x="1116000" y="260280"/>
              <a:ext cx="77756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6200000">
              <a:off x="3912840" y="338148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5083560" y="3438000"/>
              <a:ext cx="103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4040" y="520524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400" y="55706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400" y="48974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92320" y="41911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320" y="38163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92320" y="34862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2320" y="311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92320" y="27907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6240" y="20048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1320" y="45226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8080" y="2597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6640" y="32907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6640" y="3983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8080" y="4653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360" y="4869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9760" y="4430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0160" y="38433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7680" y="3152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6640" y="24382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1560" y="162252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3840" y="1832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200" y="1820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8240" y="19810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67360" y="5559480"/>
              <a:ext cx="239400" cy="255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8200" y="44604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zoek door een labo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4600" y="907920"/>
            <a:ext cx="110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in een vloeistof uit een gezond persoon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en eiwit en geen bloedcellen: Waar komt deze vloeistof vandaan? Nierkapsel, nierader, nierslagader of 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lke vloeistof onderzoekt h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48840" y="479736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eiw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 Nierschors, niermerg, nierbekk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rkapsel/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2841480"/>
            <a:ext cx="833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Nierkapsel.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2:54:05Z</dcterms:created>
  <dc:creator>x</dc:creator>
  <dc:description/>
  <dc:language>en-US</dc:language>
  <cp:lastModifiedBy>Dick</cp:lastModifiedBy>
  <dcterms:modified xsi:type="dcterms:W3CDTF">2011-10-23T11:29:44Z</dcterms:modified>
  <cp:revision>6</cp:revision>
  <dc:subject/>
  <dc:title>PowerPoint-presentatie</dc:title>
</cp:coreProperties>
</file>