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4F6F-940C-4D21-8B31-59C057B015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D85B-4CD8-4708-B8AC-7A6E82D4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1F4BB-7E97-4DB0-9447-791EBB2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38DB-E097-4004-91EB-4D695F1492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AA29-9CCD-4BF9-99BB-1468AFD9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B023-ED2E-4865-87FB-CB5B419E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1DC3-DA2C-43EB-90B2-6282CA76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A27A-9E6E-45AD-851A-7994BCC7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6F06-7EB3-43BC-8DAB-447FA05A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190E-FFE1-4587-AC01-F938771D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326F-AD97-49D1-B68E-9B2280B7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1E4D-526A-4864-9934-6D3A396C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380D78-3802-4694-9E4F-2BF239DA252F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42" t="0" r="67241" b="55225"/>
          <a:stretch/>
        </p:blipFill>
        <p:spPr>
          <a:xfrm>
            <a:off x="395280" y="0"/>
            <a:ext cx="5472000" cy="650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99160" y="69228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667560" y="13064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788160" y="31258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10480" y="48988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l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907320" y="59151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 bu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"/>
          <p:cNvCxnSpPr>
            <a:endCxn id="42" idx="1"/>
          </p:cNvCxnSpPr>
          <p:nvPr/>
        </p:nvCxnSpPr>
        <p:spPr>
          <a:xfrm flipV="1">
            <a:off x="3850920" y="921960"/>
            <a:ext cx="27486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8" name=""/>
          <p:cNvCxnSpPr/>
          <p:nvPr/>
        </p:nvCxnSpPr>
        <p:spPr>
          <a:xfrm>
            <a:off x="4140000" y="1557360"/>
            <a:ext cx="2448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9" name=""/>
          <p:cNvCxnSpPr/>
          <p:nvPr/>
        </p:nvCxnSpPr>
        <p:spPr>
          <a:xfrm>
            <a:off x="3708360" y="3357720"/>
            <a:ext cx="3069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0" name=""/>
          <p:cNvCxnSpPr/>
          <p:nvPr/>
        </p:nvCxnSpPr>
        <p:spPr>
          <a:xfrm>
            <a:off x="3708360" y="5157360"/>
            <a:ext cx="306936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1" name=""/>
          <p:cNvCxnSpPr/>
          <p:nvPr/>
        </p:nvCxnSpPr>
        <p:spPr>
          <a:xfrm>
            <a:off x="3038400" y="6237360"/>
            <a:ext cx="398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0111" t="0" r="16625" b="13555"/>
          <a:stretch/>
        </p:blipFill>
        <p:spPr>
          <a:xfrm>
            <a:off x="108000" y="189000"/>
            <a:ext cx="5381640" cy="553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62880" y="20462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448320" y="2622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094440" y="458136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29920" y="32558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lag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905440" y="3645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3952800" y="2276640"/>
            <a:ext cx="27360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9" name=""/>
          <p:cNvCxnSpPr/>
          <p:nvPr/>
        </p:nvCxnSpPr>
        <p:spPr>
          <a:xfrm>
            <a:off x="3990960" y="2852280"/>
            <a:ext cx="244980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0" name=""/>
          <p:cNvCxnSpPr>
            <a:endCxn id="61" idx="1"/>
          </p:cNvCxnSpPr>
          <p:nvPr/>
        </p:nvCxnSpPr>
        <p:spPr>
          <a:xfrm>
            <a:off x="4108320" y="4221000"/>
            <a:ext cx="2648880" cy="151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2" name=""/>
          <p:cNvCxnSpPr>
            <a:endCxn id="55" idx="1"/>
          </p:cNvCxnSpPr>
          <p:nvPr/>
        </p:nvCxnSpPr>
        <p:spPr>
          <a:xfrm>
            <a:off x="4990680" y="4805280"/>
            <a:ext cx="1104120" cy="720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3" name=""/>
          <p:cNvCxnSpPr/>
          <p:nvPr/>
        </p:nvCxnSpPr>
        <p:spPr>
          <a:xfrm>
            <a:off x="5235480" y="3595680"/>
            <a:ext cx="164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4" name=""/>
          <p:cNvCxnSpPr/>
          <p:nvPr/>
        </p:nvCxnSpPr>
        <p:spPr>
          <a:xfrm>
            <a:off x="5320800" y="3933360"/>
            <a:ext cx="57708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1" name=""/>
          <p:cNvSpPr/>
          <p:nvPr/>
        </p:nvSpPr>
        <p:spPr>
          <a:xfrm>
            <a:off x="6755040" y="400536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1590840"/>
            <a:ext cx="1511280" cy="647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"/>
          <p:cNvCxnSpPr/>
          <p:nvPr/>
        </p:nvCxnSpPr>
        <p:spPr>
          <a:xfrm flipH="1">
            <a:off x="2123640" y="4005360"/>
            <a:ext cx="168192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7" name=""/>
          <p:cNvSpPr/>
          <p:nvPr/>
        </p:nvSpPr>
        <p:spPr>
          <a:xfrm>
            <a:off x="909720" y="37958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50015" t="18015" r="-787" b="14364"/>
          <a:stretch/>
        </p:blipFill>
        <p:spPr>
          <a:xfrm>
            <a:off x="108000" y="449280"/>
            <a:ext cx="3279600" cy="3286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7497" t="10782" r="30183" b="13009"/>
          <a:stretch/>
        </p:blipFill>
        <p:spPr>
          <a:xfrm>
            <a:off x="3278160" y="0"/>
            <a:ext cx="360036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12960" y="6681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966680" y="2644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061400" y="25988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zamelbu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304040" y="137160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lag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429680" y="10922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"/>
          <p:cNvCxnSpPr/>
          <p:nvPr/>
        </p:nvCxnSpPr>
        <p:spPr>
          <a:xfrm>
            <a:off x="5054760" y="54936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"/>
          <p:cNvCxnSpPr/>
          <p:nvPr/>
        </p:nvCxnSpPr>
        <p:spPr>
          <a:xfrm>
            <a:off x="5040360" y="2095560"/>
            <a:ext cx="24498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"/>
          <p:cNvCxnSpPr/>
          <p:nvPr/>
        </p:nvCxnSpPr>
        <p:spPr>
          <a:xfrm>
            <a:off x="3104640" y="4775040"/>
            <a:ext cx="150732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"/>
          <p:cNvCxnSpPr/>
          <p:nvPr/>
        </p:nvCxnSpPr>
        <p:spPr>
          <a:xfrm>
            <a:off x="6878160" y="1557360"/>
            <a:ext cx="4294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"/>
          <p:cNvCxnSpPr/>
          <p:nvPr/>
        </p:nvCxnSpPr>
        <p:spPr>
          <a:xfrm>
            <a:off x="5435640" y="2828520"/>
            <a:ext cx="164376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"/>
          <p:cNvCxnSpPr/>
          <p:nvPr/>
        </p:nvCxnSpPr>
        <p:spPr>
          <a:xfrm>
            <a:off x="6878160" y="1413000"/>
            <a:ext cx="5770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"/>
          <p:cNvSpPr/>
          <p:nvPr/>
        </p:nvSpPr>
        <p:spPr>
          <a:xfrm>
            <a:off x="214308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-117360" y="189000"/>
            <a:ext cx="755640" cy="960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030480" y="333360"/>
            <a:ext cx="149400" cy="1079640"/>
          </a:xfrm>
          <a:custGeom>
            <a:avLst/>
            <a:gdLst>
              <a:gd name="textAreaLeft" fmla="*/ 95400 w 149400"/>
              <a:gd name="textAreaRight" fmla="*/ 149760 w 14940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030480" y="1413000"/>
            <a:ext cx="247680" cy="295272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7780680" y="22716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p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475400" y="17413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naal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49280"/>
            <a:ext cx="216000" cy="41101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4110120"/>
              <a:gd name="textAreaBottom" fmla="*/ 4104720 h 411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"/>
          <p:cNvCxnSpPr>
            <a:stCxn id="87" idx="1"/>
          </p:cNvCxnSpPr>
          <p:nvPr/>
        </p:nvCxnSpPr>
        <p:spPr>
          <a:xfrm flipV="1" rot="10800000">
            <a:off x="2913840" y="2504520"/>
            <a:ext cx="1443960" cy="1068480"/>
          </a:xfrm>
          <a:prstGeom prst="bentConnector3">
            <a:avLst>
              <a:gd name="adj1" fmla="val 57855"/>
            </a:avLst>
          </a:prstGeom>
          <a:ln cap="sq"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633680" y="33876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een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3289320" y="70812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026400" y="38592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ltrafiltratie: 10% v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plasma wordt in h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apsel gepe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6029280" y="141300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bij ontstaat 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150 liter per da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059520" y="2233440"/>
            <a:ext cx="302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 bevat: water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uten, ureum, aminozur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668560" y="3429000"/>
            <a:ext cx="28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iwitten en bloedcell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ijven in het bloed ach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omen normaal niet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50800"/>
            <a:ext cx="26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glucos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minozuren en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5941800" y="155088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"/>
          <p:cNvCxnSpPr/>
          <p:nvPr/>
        </p:nvCxnSpPr>
        <p:spPr>
          <a:xfrm>
            <a:off x="3287880" y="1736280"/>
            <a:ext cx="273708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807160" y="69048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van water na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 (osmo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325840" y="3825720"/>
            <a:ext cx="35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door wordt de voorur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iteindelijk 100 x geconcentree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t 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"/>
          <p:cNvCxnSpPr>
            <a:endCxn id="121" idx="1"/>
          </p:cNvCxnSpPr>
          <p:nvPr/>
        </p:nvCxnSpPr>
        <p:spPr>
          <a:xfrm flipV="1">
            <a:off x="3058920" y="1010880"/>
            <a:ext cx="2748600" cy="24184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"/>
          <p:cNvCxnSpPr>
            <a:endCxn id="121" idx="1"/>
          </p:cNvCxnSpPr>
          <p:nvPr/>
        </p:nvCxnSpPr>
        <p:spPr>
          <a:xfrm flipV="1">
            <a:off x="3313080" y="1010880"/>
            <a:ext cx="2496240" cy="24883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5" name=""/>
          <p:cNvGrpSpPr/>
          <p:nvPr/>
        </p:nvGrpSpPr>
        <p:grpSpPr>
          <a:xfrm>
            <a:off x="3634920" y="1700280"/>
            <a:ext cx="5376240" cy="1739880"/>
            <a:chOff x="3634920" y="1700280"/>
            <a:chExt cx="5376240" cy="1739880"/>
          </a:xfrm>
        </p:grpSpPr>
        <p:sp>
          <p:nvSpPr>
            <p:cNvPr id="126" name=""/>
            <p:cNvSpPr/>
            <p:nvPr/>
          </p:nvSpPr>
          <p:spPr>
            <a:xfrm>
              <a:off x="5700240" y="1700280"/>
              <a:ext cx="3310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ort van water na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oed (osmose) geregeld doo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rmoon ADH (uit hypofy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H verhoogt 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orlaatbaarheid van d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zamelbuisj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7" name=""/>
            <p:cNvCxnSpPr>
              <a:endCxn id="126" idx="1"/>
            </p:cNvCxnSpPr>
            <p:nvPr/>
          </p:nvCxnSpPr>
          <p:spPr>
            <a:xfrm flipV="1">
              <a:off x="3634920" y="2569680"/>
              <a:ext cx="2066040" cy="713520"/>
            </a:xfrm>
            <a:prstGeom prst="straightConnector1">
              <a:avLst/>
            </a:prstGeom>
            <a:ln cap="sq"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16000" y="260280"/>
            <a:ext cx="7775640" cy="6407280"/>
            <a:chOff x="1116000" y="260280"/>
            <a:chExt cx="7775640" cy="64072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rcRect l="15081" t="0" r="11477" b="9229"/>
            <a:stretch/>
          </p:blipFill>
          <p:spPr>
            <a:xfrm>
              <a:off x="1116000" y="260280"/>
              <a:ext cx="7775640" cy="640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6200000">
              <a:off x="3912840" y="3381480"/>
              <a:ext cx="111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5083560" y="3438000"/>
              <a:ext cx="103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4040" y="520524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1400" y="55706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1400" y="48974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92320" y="41911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2320" y="38163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92320" y="34862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92320" y="31161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92320" y="27907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6240" y="20048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1320" y="452268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38080" y="2597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6640" y="32907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36640" y="3983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8080" y="46530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360" y="486900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9760" y="4430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20160" y="38433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7680" y="3152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26640" y="24382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1560" y="162252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43840" y="1832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6200" y="18208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8240" y="19810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67360" y="5559480"/>
              <a:ext cx="239400" cy="255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78200" y="44604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zoek door een labo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74600" y="907920"/>
            <a:ext cx="1107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in een vloeistof uit een gezond persoon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een eiwit en geen bloedcellen: Waar komt deze vloeistof vandaan? Nierkapsel, nierader, nierslagader of 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lke vloeistof onderzoekt h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48840" y="4797360"/>
            <a:ext cx="773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eiw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 Nierschors, niermerg, nierbekk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rkapsel/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349200" y="2841480"/>
            <a:ext cx="833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Nierkapsel.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2:54:05Z</dcterms:created>
  <dc:creator>x</dc:creator>
  <dc:description/>
  <dc:language>en-US</dc:language>
  <cp:lastModifiedBy>Dick</cp:lastModifiedBy>
  <dcterms:modified xsi:type="dcterms:W3CDTF">2011-10-23T11:29:44Z</dcterms:modified>
  <cp:revision>6</cp:revision>
  <dc:subject/>
  <dc:title>PowerPoint-presentatie</dc:title>
</cp:coreProperties>
</file>