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07FEB-F0D8-4D2C-A808-EA854C6190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ABD2B-7B6D-4B5F-950E-8E597EBF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DCDCE-84D1-4D6B-8F09-FD7738F2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5F143-9710-4032-8B40-041D8F6265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55D8-0F6F-4488-A849-1A90B6F4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7501-6BCF-430B-A20C-99E19F54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69520-B4E4-44A1-85A8-CF3CAA5B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560D-12B9-4975-B146-3B4763E7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3695C-449B-48FC-B7CB-D01CC189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DF15-850E-4EDE-8E36-F48F7071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96007-5E9A-4413-970C-A5196B86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78874-937C-417F-B84C-41082F5E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9AE446-CA20-4570-97DD-50756D373F6E}" type="slidenum">
              <a:rPr b="0" lang="nl-NL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442" t="0" r="67241" b="55225"/>
          <a:stretch/>
        </p:blipFill>
        <p:spPr>
          <a:xfrm>
            <a:off x="395280" y="0"/>
            <a:ext cx="5472000" cy="650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99160" y="69228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n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667560" y="13064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788160" y="312588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le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6810480" y="48988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l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6907320" y="59151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 bu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"/>
          <p:cNvCxnSpPr>
            <a:endCxn id="42" idx="1"/>
          </p:cNvCxnSpPr>
          <p:nvPr/>
        </p:nvCxnSpPr>
        <p:spPr>
          <a:xfrm flipV="1">
            <a:off x="3850920" y="921960"/>
            <a:ext cx="274860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48" name=""/>
          <p:cNvCxnSpPr/>
          <p:nvPr/>
        </p:nvCxnSpPr>
        <p:spPr>
          <a:xfrm>
            <a:off x="4140000" y="1557360"/>
            <a:ext cx="24483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49" name=""/>
          <p:cNvCxnSpPr/>
          <p:nvPr/>
        </p:nvCxnSpPr>
        <p:spPr>
          <a:xfrm>
            <a:off x="3708360" y="3357720"/>
            <a:ext cx="30693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0" name=""/>
          <p:cNvCxnSpPr/>
          <p:nvPr/>
        </p:nvCxnSpPr>
        <p:spPr>
          <a:xfrm>
            <a:off x="3708360" y="5157360"/>
            <a:ext cx="306936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1" name=""/>
          <p:cNvCxnSpPr/>
          <p:nvPr/>
        </p:nvCxnSpPr>
        <p:spPr>
          <a:xfrm>
            <a:off x="3038400" y="6237360"/>
            <a:ext cx="39837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0111" t="0" r="16625" b="13555"/>
          <a:stretch/>
        </p:blipFill>
        <p:spPr>
          <a:xfrm>
            <a:off x="108000" y="189000"/>
            <a:ext cx="5381640" cy="553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62880" y="204624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448320" y="2622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6094440" y="458136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le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829920" y="32558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slag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905440" y="3645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"/>
          <p:cNvCxnSpPr/>
          <p:nvPr/>
        </p:nvCxnSpPr>
        <p:spPr>
          <a:xfrm>
            <a:off x="3952800" y="2276640"/>
            <a:ext cx="273600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9" name=""/>
          <p:cNvCxnSpPr/>
          <p:nvPr/>
        </p:nvCxnSpPr>
        <p:spPr>
          <a:xfrm>
            <a:off x="3990960" y="2852280"/>
            <a:ext cx="244980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0" name=""/>
          <p:cNvCxnSpPr>
            <a:endCxn id="61" idx="1"/>
          </p:cNvCxnSpPr>
          <p:nvPr/>
        </p:nvCxnSpPr>
        <p:spPr>
          <a:xfrm>
            <a:off x="4108320" y="4221000"/>
            <a:ext cx="2648880" cy="151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2" name=""/>
          <p:cNvCxnSpPr>
            <a:endCxn id="55" idx="1"/>
          </p:cNvCxnSpPr>
          <p:nvPr/>
        </p:nvCxnSpPr>
        <p:spPr>
          <a:xfrm>
            <a:off x="4990680" y="4805280"/>
            <a:ext cx="1104120" cy="720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3" name=""/>
          <p:cNvCxnSpPr/>
          <p:nvPr/>
        </p:nvCxnSpPr>
        <p:spPr>
          <a:xfrm>
            <a:off x="5235480" y="3595680"/>
            <a:ext cx="16437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4" name=""/>
          <p:cNvCxnSpPr/>
          <p:nvPr/>
        </p:nvCxnSpPr>
        <p:spPr>
          <a:xfrm>
            <a:off x="5320800" y="3933360"/>
            <a:ext cx="57708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61" name=""/>
          <p:cNvSpPr/>
          <p:nvPr/>
        </p:nvSpPr>
        <p:spPr>
          <a:xfrm>
            <a:off x="6755040" y="400536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1590840"/>
            <a:ext cx="1511280" cy="647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"/>
          <p:cNvCxnSpPr/>
          <p:nvPr/>
        </p:nvCxnSpPr>
        <p:spPr>
          <a:xfrm flipH="1">
            <a:off x="2123640" y="4005360"/>
            <a:ext cx="168192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67" name=""/>
          <p:cNvSpPr/>
          <p:nvPr/>
        </p:nvSpPr>
        <p:spPr>
          <a:xfrm>
            <a:off x="909720" y="379584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ke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50015" t="18015" r="-787" b="14364"/>
          <a:stretch/>
        </p:blipFill>
        <p:spPr>
          <a:xfrm>
            <a:off x="108000" y="449280"/>
            <a:ext cx="3279600" cy="3286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7497" t="10782" r="30183" b="13009"/>
          <a:stretch/>
        </p:blipFill>
        <p:spPr>
          <a:xfrm>
            <a:off x="3278160" y="0"/>
            <a:ext cx="360036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12960" y="6681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966680" y="26449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7061400" y="259884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zamelbu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7304040" y="137160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lagader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7429680" y="10922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ader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"/>
          <p:cNvCxnSpPr/>
          <p:nvPr/>
        </p:nvCxnSpPr>
        <p:spPr>
          <a:xfrm>
            <a:off x="5054760" y="549360"/>
            <a:ext cx="27360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"/>
          <p:cNvCxnSpPr/>
          <p:nvPr/>
        </p:nvCxnSpPr>
        <p:spPr>
          <a:xfrm>
            <a:off x="5040360" y="2095560"/>
            <a:ext cx="24498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"/>
          <p:cNvCxnSpPr/>
          <p:nvPr/>
        </p:nvCxnSpPr>
        <p:spPr>
          <a:xfrm>
            <a:off x="3104640" y="4775040"/>
            <a:ext cx="150732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"/>
          <p:cNvCxnSpPr/>
          <p:nvPr/>
        </p:nvCxnSpPr>
        <p:spPr>
          <a:xfrm>
            <a:off x="6878160" y="1557360"/>
            <a:ext cx="42948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"/>
          <p:cNvCxnSpPr/>
          <p:nvPr/>
        </p:nvCxnSpPr>
        <p:spPr>
          <a:xfrm>
            <a:off x="5435640" y="2828520"/>
            <a:ext cx="164376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"/>
          <p:cNvCxnSpPr/>
          <p:nvPr/>
        </p:nvCxnSpPr>
        <p:spPr>
          <a:xfrm>
            <a:off x="6878160" y="1413000"/>
            <a:ext cx="57708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"/>
          <p:cNvSpPr/>
          <p:nvPr/>
        </p:nvSpPr>
        <p:spPr>
          <a:xfrm>
            <a:off x="2143080" y="455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kel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-117360" y="189000"/>
            <a:ext cx="755640" cy="9604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030480" y="333360"/>
            <a:ext cx="149400" cy="1079640"/>
          </a:xfrm>
          <a:custGeom>
            <a:avLst/>
            <a:gdLst>
              <a:gd name="textAreaLeft" fmla="*/ 95400 w 149400"/>
              <a:gd name="textAreaRight" fmla="*/ 149760 w 14940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030480" y="1413000"/>
            <a:ext cx="247680" cy="2952720"/>
          </a:xfrm>
          <a:custGeom>
            <a:avLst/>
            <a:gdLst>
              <a:gd name="textAreaLeft" fmla="*/ 158400 w 247680"/>
              <a:gd name="textAreaRight" fmla="*/ 248040 w 24768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7780680" y="22716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ap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7475400" y="17413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anaal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49280"/>
            <a:ext cx="216000" cy="41101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4110120"/>
              <a:gd name="textAreaBottom" fmla="*/ 4104720 h 411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"/>
          <p:cNvCxnSpPr>
            <a:stCxn id="87" idx="1"/>
          </p:cNvCxnSpPr>
          <p:nvPr/>
        </p:nvCxnSpPr>
        <p:spPr>
          <a:xfrm flipV="1" rot="10800000">
            <a:off x="2913840" y="2504520"/>
            <a:ext cx="1443960" cy="1068480"/>
          </a:xfrm>
          <a:prstGeom prst="bentConnector3">
            <a:avLst>
              <a:gd name="adj1" fmla="val 57855"/>
            </a:avLst>
          </a:prstGeom>
          <a:ln cap="sq"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633680" y="33876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een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3289320" y="708120"/>
            <a:ext cx="27360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6026400" y="38592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ltrafiltratie: 10% va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plasma wordt in h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kapsel gepe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6029280" y="141300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bij ontstaat voor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150 liter per da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059520" y="2233440"/>
            <a:ext cx="302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urine bevat: water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uten, ureum, aminozur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668560" y="3429000"/>
            <a:ext cx="28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iwitten en bloedcell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ijven in het bloed acht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omen normaal niet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2916360" y="1034640"/>
            <a:ext cx="273600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50800"/>
            <a:ext cx="26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erugresorptie glucos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minozuren en zo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Actief trans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5941800" y="155088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erugresorptie zo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actief trans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"/>
          <p:cNvCxnSpPr/>
          <p:nvPr/>
        </p:nvCxnSpPr>
        <p:spPr>
          <a:xfrm>
            <a:off x="2916360" y="1034640"/>
            <a:ext cx="273600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"/>
          <p:cNvCxnSpPr/>
          <p:nvPr/>
        </p:nvCxnSpPr>
        <p:spPr>
          <a:xfrm>
            <a:off x="3287880" y="1736280"/>
            <a:ext cx="273708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5807160" y="690480"/>
            <a:ext cx="27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van water na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 (osmos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325840" y="3825720"/>
            <a:ext cx="35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door wordt de voorur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iteindelijk 100 x geconcentree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t 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"/>
          <p:cNvCxnSpPr>
            <a:endCxn id="121" idx="1"/>
          </p:cNvCxnSpPr>
          <p:nvPr/>
        </p:nvCxnSpPr>
        <p:spPr>
          <a:xfrm flipV="1">
            <a:off x="3058920" y="1010880"/>
            <a:ext cx="2748600" cy="24184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"/>
          <p:cNvCxnSpPr>
            <a:endCxn id="121" idx="1"/>
          </p:cNvCxnSpPr>
          <p:nvPr/>
        </p:nvCxnSpPr>
        <p:spPr>
          <a:xfrm flipV="1">
            <a:off x="3313080" y="1010880"/>
            <a:ext cx="2496240" cy="24883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5" name=""/>
          <p:cNvGrpSpPr/>
          <p:nvPr/>
        </p:nvGrpSpPr>
        <p:grpSpPr>
          <a:xfrm>
            <a:off x="3634920" y="1700280"/>
            <a:ext cx="5376240" cy="1739880"/>
            <a:chOff x="3634920" y="1700280"/>
            <a:chExt cx="5376240" cy="1739880"/>
          </a:xfrm>
        </p:grpSpPr>
        <p:sp>
          <p:nvSpPr>
            <p:cNvPr id="126" name=""/>
            <p:cNvSpPr/>
            <p:nvPr/>
          </p:nvSpPr>
          <p:spPr>
            <a:xfrm>
              <a:off x="5700240" y="1700280"/>
              <a:ext cx="3310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port van water na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loed (osmose) geregeld doo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rmoon ADH (uit hypofys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H verhoogt d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orlaatbaarheid van d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zamelbuisj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27" name=""/>
            <p:cNvCxnSpPr>
              <a:endCxn id="126" idx="1"/>
            </p:cNvCxnSpPr>
            <p:nvPr/>
          </p:nvCxnSpPr>
          <p:spPr>
            <a:xfrm flipV="1">
              <a:off x="3634920" y="2569680"/>
              <a:ext cx="2066040" cy="713520"/>
            </a:xfrm>
            <a:prstGeom prst="straightConnector1">
              <a:avLst/>
            </a:prstGeom>
            <a:ln cap="sq"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116000" y="260280"/>
            <a:ext cx="7775640" cy="6407280"/>
            <a:chOff x="1116000" y="260280"/>
            <a:chExt cx="7775640" cy="640728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rcRect l="15081" t="0" r="11477" b="9229"/>
            <a:stretch/>
          </p:blipFill>
          <p:spPr>
            <a:xfrm>
              <a:off x="1116000" y="260280"/>
              <a:ext cx="7775640" cy="640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 rot="16200000">
              <a:off x="3912840" y="3381480"/>
              <a:ext cx="111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cending lim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5083560" y="3438000"/>
              <a:ext cx="103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cending lim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94040" y="520524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1400" y="55706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1400" y="48974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92320" y="41911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2320" y="38163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92320" y="34862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92320" y="31161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92320" y="27907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6240" y="20048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1320" y="452268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38080" y="2597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6640" y="32907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36640" y="3983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38080" y="465300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360" y="486900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59760" y="44308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20160" y="38433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7680" y="31528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26640" y="24382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1560" y="162252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43840" y="1832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86200" y="18208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8240" y="19810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67360" y="5559480"/>
              <a:ext cx="239400" cy="255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78200" y="44604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zoek door een labo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74600" y="907920"/>
            <a:ext cx="1107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in een vloeistof uit een gezond persoon aan: ureum, zout, water en 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een eiwit en geen bloedcellen: Waar komt deze vloeistof vandaan? Nierkapsel, nierader, nierslagader of 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lke vloeistof onderzoekt h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48840" y="4797360"/>
            <a:ext cx="773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aan: ureum, zout, water en eiw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t is er aan de han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welk gedeelte van de nier gaat er iets fout?  Nierschors, niermerg, nierbekk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ierkapsel/nierkanaaltje/verzamelbuisj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349200" y="2841480"/>
            <a:ext cx="833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aan: ureum, zout, water en 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t is er aan de han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welk gedeelte van de nier gaat er iets fout? Nierkapsel.nierkanaaltje/verzamelbuisj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2:54:05Z</dcterms:created>
  <dc:creator>x</dc:creator>
  <dc:description/>
  <dc:language>en-US</dc:language>
  <cp:lastModifiedBy>Dick</cp:lastModifiedBy>
  <dcterms:modified xsi:type="dcterms:W3CDTF">2011-10-23T11:29:44Z</dcterms:modified>
  <cp:revision>6</cp:revision>
  <dc:subject/>
  <dc:title>PowerPoint-presentatie</dc:title>
</cp:coreProperties>
</file>