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AE41-D3FA-468F-AC02-6D96437C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FE5-6007-4A2F-8386-C37E5B20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70F-99E3-4343-A7E1-712323CA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399-99FC-4632-A922-A2AF6B69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E39F-2975-4EE7-8FB3-9C135B49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577C-4B46-48C2-8483-7AEEC1D8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1CC-C89D-4594-922C-C2B00CF1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8DBD-4A15-4CEB-882B-9D450036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D33-1F6A-45E5-9F9B-C1515FB5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339A-1B49-4D73-89D5-585B2B6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2405-BF0E-4E08-A126-F651792F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15B-DB8C-4B13-94AE-01AD6AE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67F6-390D-4E2C-A937-F0E7D42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D2AC-D277-462F-82A4-3ECFC01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184-F4F0-4FAF-899E-57517451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B858-B0A0-46F1-B4DC-62E31825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5D89-3356-4E4A-86B7-5BC39D2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24857-A169-42BD-AC25-D1F5206E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739F8-94D9-4ED4-ADBE-1A186C03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B8C19-D245-4DDE-8965-41C7B591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C332B-8697-418B-9EA5-6901519E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A9333-40BF-468D-B0F4-DA4FFCD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57AA-58D0-4FFF-ADB8-8930C8C4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ED543-0D9C-4667-954E-74B3E99D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912A7-0F9E-49DA-A422-94B8B8A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853B3-1454-4E14-A50D-20DEC565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5C813B-6073-4523-8ED4-4F7C7269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26626-10A6-4F3C-B86E-F430C3B8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E60B3-D402-4EFE-A107-456950B1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7BF50C-859A-4164-925D-4DB19A4C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813C56-42C1-4A0B-870A-90CA35264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18346-F246-40DE-9079-CC56E7C0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BEFD32-F734-49DF-9FEC-20AA3A6A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2333-0221-4CC7-8E90-F06C6673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74100C-70A0-436C-86A0-60B43F96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3D76FE-5400-4ABF-B6F2-C2D0891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48159E-4A17-45FD-8024-E44C7E36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8F970-0498-4BE9-ADFA-2E70D655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B1FC56-7B0C-4A61-B434-A211E755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2431F-7CCF-42AA-A8A7-E646EC0A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D8DF79-F3D1-4A49-BC92-3EECA34C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25601-12B1-44FE-81E0-FAC0BF5D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37E02E-8738-4D1E-A5AD-79363765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CE87D-13A1-497C-9322-C4ADBF3B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069-5905-4817-8F7E-2EEBD84C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D443E8-0DDD-4AF7-9D85-AA9418DC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A9B7E-F28C-4EB6-B712-036E763F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8473-3EB3-4BB8-9D4E-42114E4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C9C8E2-D300-45B7-B423-EC8E2C1D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3D73C-9DC1-47CC-8775-1119E26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FE0107-66F9-4E09-ACDB-0E843E3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4BE37-6DB8-4856-87F3-341FEC6A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AF2D2-8CAC-4524-A8DA-31AC38E0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1BF699-07A4-4003-9822-724892AE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A9A79-7D72-48FE-92C3-2927CD10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0D4-48F2-4382-9F32-10309A9B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33CA7-6FF0-411F-8751-20C382BF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3660A-ED1A-4844-8BB5-9E787941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3170-390D-426D-A9B0-AE253A44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4E24C-896D-4A41-88DF-066178FA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194F7-3E34-4F89-8933-C00A7B1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FD2A-32CA-405B-BCB1-95CD3428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227DB-34AF-40F7-B2FC-162CBACF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4B90B-12F3-41B8-AF1E-4F03C1E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4F362-6601-446C-8DB6-CBAF40C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2B134-EE11-451D-9F33-875E32D2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420-FACA-40E3-AC73-D5A68E53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549E5-BDC1-47A6-8073-C9C00682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93F18-7FA3-4434-BD1F-3742243D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E4078-42FF-47C4-9AB1-2CD7F22C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1B502-B0A1-4FFD-9855-1DF52FAC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0A973-377D-4A21-A5E2-A6A17D9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AB9FD-50B6-4CD4-B0BD-895E993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A58ABA-E887-4F03-A8B2-3EA40694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0C27E-B912-4958-B1AB-32B9EF90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7D634E-435C-433B-88BA-797397C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3BB53-0E07-422D-B7C0-4E5C50A1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47-AB65-4D14-8B21-0DCF02D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3A530-F295-4E7B-BAC2-7E11FE75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50D65-413C-416C-87AF-758804BC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7B98A-CD56-4021-A218-D2F750E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29AA24-4B28-4E27-9A79-169681E7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8FD0C-B488-4E2C-91E4-7F534AA3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28C19-FEE3-48E0-AC03-C4783039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AB537-48A0-401D-BB8E-9CA9AD51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53075-80A0-4B7A-9E7C-C9FF4117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91C10-F694-46E2-BD71-31FB32DA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5F6E3-80C0-4DD5-A90C-003DF94F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2EB3-2A02-4E0F-A58E-12979A8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1F82C-0EF3-4D67-9761-F3652AB8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94BA9-0673-46F2-8F31-DA01FF21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178C0-5915-4663-A2C1-1B633257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58F9-C7A1-426D-80DC-A922FB5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7700-BE47-475A-8384-CEA5DCEB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3FD51-1A24-4BC0-863F-0CC3C0C1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B36F-A0B4-4503-A31B-616061BB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A92C-4192-479D-972F-12EA3ED5975D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861F-7919-44BC-900D-99D348E4EB0E}" type="slidenum">
              <a:rPr b="1" lang="nl-NL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0F9D-7F5B-4B35-87D3-071453EA8CE9}" type="slidenum"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2C5A-C0C7-4AA2-8216-DEE15F9172D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8942-4E07-4CCA-9D3C-F4888102D60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F8C0-7978-46FE-AC83-C8825F216804}" type="slidenum">
              <a:rPr b="1" lang="nl-NL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48EC-6D6B-4D1F-9372-1FF7B0B92627}" type="slidenum"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EE9-2902-40A5-BC07-BF12DFF916F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WERKOMSCHRIJVING</a:t>
            </a:r>
            <a:br>
              <a:rPr sz="5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&amp;</a:t>
            </a:r>
            <a:br>
              <a:rPr sz="4400"/>
            </a:br>
            <a:r>
              <a:rPr b="0" lang="nl-NL" sz="4400" spc="-1" strike="noStrike">
                <a:solidFill>
                  <a:srgbClr val="ebddc3"/>
                </a:solidFill>
                <a:latin typeface="Tw Cen MT"/>
              </a:rPr>
              <a:t>BESTEK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nl-NL" sz="3600" spc="-1" strike="noStrike">
                <a:solidFill>
                  <a:srgbClr val="ebddc3"/>
                </a:solidFill>
                <a:latin typeface="Tw Cen MT"/>
              </a:rPr>
              <a:t>NIVEAU 4</a:t>
            </a:r>
            <a:br>
              <a:rPr sz="3600"/>
            </a:b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ise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uele gelijkwaardig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Uitvoeringswijze en machinekeuze is vrijgela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duidige bestek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houd en omvang van project is correct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richte inform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en voorwaarden duidelijk verwoord in beste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Kostenhomogeniteit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 de geleverde productie en meer- en minderwerk te meten en te verreken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bouw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1 Bestek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1 Bestek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onderverdeeld in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1 Algeme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ie, wat, waar, wanneer en ho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2 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1 Algemene gegeve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ekeningen, hoogtes, pei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Besteksposten, resultaatverplichtin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el 3 Standaardbepa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Vastgestelde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passingen en verandering van bepalin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stekspost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Geen vaste codes, aannemer past a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atalogusnummer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ofd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Uniformitei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fic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oor CROW vastgestelde cod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euzes bepalen cod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Indien keuze niet vermeld; nummer 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Tw Cen MT"/>
              </a:rPr>
              <a:t>CROW: kenniscentrum voor verkeer, vervoer en infrastructuu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m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Toelichting op resultaa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  <a:ea typeface="Arial"/>
              </a:rPr>
              <a:t>¹, m², m³, stuks, rol, zak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resultaatverp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baar (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achteraf vaststell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en door omstandigheden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verrekenbaar (NV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voor aanbesteding controleerba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is niet aanwezi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accorderen (A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Hoeveelheden na opdracht en voor uitvoering op papier controleerbaar vaststellen in overleg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ans op afwijking t.g.v. uittrekfout is gro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el 2.2 Nadere be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id ter inlicht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 leveren (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aannem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Ter beschikking stellen (TB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De opdrachtgever lever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2 Inschrijvingsstaa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Samenvatting van bestekspo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nemer geeft per bestekpost de prijs per eenheid en de totaalpr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nderdeel 3 Inschrijvingsbilje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actdocument voor aanbi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gevens aanneme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neemso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errekenprijs meer- en minderwer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bar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lgemene bekendmak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voor iedere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HOU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omschrijv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ventarisatie en analy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nodigde inform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Bestek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unct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bouw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oor twee tot zes uitgeno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nderhandse aanbesteding met selec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Aanmelding op uitnodiging van minimaal twee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schrijving op uitnodiging van één of meer gegadig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kelvoudige uitnodig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ijsaanbieding op uitnodiging door één uitgenodig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rkwijze geregeld in het Uniform Aanbestedings-Regelement (UA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Genoemd in dagen, betekent kalenderdage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Tw Cen MT"/>
              </a:rPr>
              <a:t>Werkwijze bij openbare aanbesteding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dvertentie geplaatst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10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Verkrijgen bestek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  minimaal 36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19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Inzage nota van inlichtin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inimaal 7 dagen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Aanbesteding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***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aximaal 30 dage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pdracht na aanbested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Motiveren afwijzing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binnen 14 dagen na 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w Cen MT"/>
              </a:rPr>
              <a:t>ontvangst verzoek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w Cen MT"/>
              </a:rPr>
              <a:t>Nota van inlichtingen is aanvullende informatie op bestek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Werkwijz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schrijvingsbiljet wordt voor een bepaalde datum ingeleverd in een bus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penen van de bus is stipt op de aangekondigde datum en tijdstip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veloppen worden geteld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Openen enveloppen en noemen van namen en bedrag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aagste bedrag krijgt opdracht, indien er geen onregelmatigheden zijn voorgekomen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overheidsinstelling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inister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vinci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meen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Van toepassing op publiekrechtelijke organisatie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utssecto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nergie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aterschapp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enbaar vervoerbedrij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rempelbedrag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Uitschrijven van een opdracht boven het onderstaande bedrag verplicht Europees Aanbestede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everingen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iens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25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ecentrale overheid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4.845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€ 193.000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elijke behandel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lke aanbesteding is gelijk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Transparan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dure moet controleerbaar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Regels geldend voor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oportionalitei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isen aan aannemer moeten in verhouding met de opdracht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derzijdse erkenn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idstaten van de EU moeten goederen en diensten van ondernemingen van andere lidstaten toelaten indien de goederen en diensten gelijkwaardig zij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rd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rk, levering of diens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vor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totale geraamde waarde van de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Kostenraming ivm drempelbedrage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970560" indent="-522720">
              <a:spcBef>
                <a:spcPts val="550"/>
              </a:spcBef>
              <a:buClr>
                <a:srgbClr val="94b6d2"/>
              </a:buClr>
              <a:buSzPct val="70000"/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palen aanbestedingsproced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717200" indent="-372960">
              <a:spcBef>
                <a:spcPts val="400"/>
              </a:spcBef>
              <a:buClr>
                <a:srgbClr val="a5ab81"/>
              </a:buClr>
              <a:buSzPct val="75000"/>
              <a:buFont typeface="Tw Cen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Aanbestedingsprocedure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Stappenplan van een Europese aanbested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4. Aankondig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Opdracht melden Europese Gemeenschap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publiceerd in publicatieblad van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5. Keuze selectie- en gunningscriteri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Financiële-economische en technische minimumeis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Laagste prijs of economisch voordeligste aanbied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6. Gunning opdrach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kend gemaakt in publicatieblad E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Alle werkzaamheden die nodig zij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m het project aan te leggen of te onderhoud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op </a:t>
            </a:r>
            <a:r>
              <a:rPr b="0" lang="nl-NL" sz="2800" spc="-1" strike="noStrike" u="sng">
                <a:solidFill>
                  <a:srgbClr val="000000"/>
                </a:solidFill>
                <a:uFillTx/>
                <a:latin typeface="Tw Cen MT"/>
              </a:rPr>
              <a:t>volgorde van uitvoer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AANBESTED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Proces verbaa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en adres aanbestedende diens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et onderwerp en de waarde van de opdrach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koz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men van de uitgesloten gegadig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naam van de gegadigde aan wie de opdracht is gegund met motiv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INFORMATI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Bestekken in de grond-, water- en wegenbou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CROW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ISBN: 90 11 07536 6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ww.europeseaanbesteding.eu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asis van een werkomschrijving is de inventarisatie en analyse van het projec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Tips voor de inventaris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Werk nauwkeurig en systematisch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Noteer de gegevens per hoeveelheid (m</a:t>
            </a: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², m³, stu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  <a:ea typeface="Arial"/>
              </a:rPr>
              <a:t>Gebruik standaard inventarisatielijst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benodigde informatie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 te verwerken material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Bereikbaarhe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ndsoor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Fas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Enz.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WERKOMSCHRIJV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werkwijze voor het opstellen van een werkomschrijving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Inventariseren van de werkzaamhede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Groeperen op werkvolgord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Detailleren per werkzaamheid op: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Hoeveel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Eenhe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Machin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Werkmethod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en beschrijving van het werk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daarbij behorende tekening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voor het werk gestelde voorwaarden,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de nota van inlichtinge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en proces verbaal van aanwijz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Geschreven bij grote project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Zakelijke en juridisch bewij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chten, plichten en risico’s van beide partijen benoem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mmunicatiemid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Informatiestroom benoemd</a:t>
            </a: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Uitgangspunt verantwoorde raming en calculati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Bestek geeft de benodigde informatie voor de calculati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BESTE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w Cen MT"/>
              </a:rPr>
              <a:t>Functi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Leidraad uitvoer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Resultaat is beschrev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at wil de opdrachtgev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materialen worden gebruik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w Cen MT"/>
              </a:rPr>
              <a:t>Welke voorwaarden zijn er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Prestatiebeschrijving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Duidelijke en eenduidig beschrijving op resultaat en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niet op werkwijz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Tw Cen MT"/>
              </a:rPr>
              <a:t>Controlemiddel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Voldoen aan de gestelde voorwaard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lnSpc>
                <a:spcPct val="9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w Cen MT"/>
              </a:rPr>
              <a:t>Controle tussentijds en na oplevering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01Z</dcterms:created>
  <dc:creator>Wellantcollege</dc:creator>
  <dc:description/>
  <dc:language>en-US</dc:language>
  <cp:lastModifiedBy>jan van der wiele</cp:lastModifiedBy>
  <dcterms:modified xsi:type="dcterms:W3CDTF">2014-09-08T18:55:43Z</dcterms:modified>
  <cp:revision>38</cp:revision>
  <dc:subject/>
  <dc:title>WERKOMSCHRIJVING &amp; BESTEK</dc:title>
</cp:coreProperties>
</file>