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15A6-44CA-4C6C-BDC3-AFC4C0A98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BD7C-300D-40F3-B8DA-46782CE95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E3D5-B147-4D0E-AE1C-F638433A1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345D-A4E5-4D9C-B9CC-67746DC77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9CD8D-6B87-4CC1-844E-43CB3A7C1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14BDA-3380-4E0A-9FAA-0AE1E4D1E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4C283-5B06-4B5B-BFF2-D323F6E79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F1590-DD53-44DE-B141-881863C10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F164C-5C12-409E-9BF8-AC91447DD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E9242-28B8-461C-BA66-5EA1620DF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AB870-021C-4F16-820A-0660A18BA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F712-0D83-4200-AE61-84C392F78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8D00B-31A7-4061-8FBD-A98D3A8EF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C0175-A7C6-433C-8EE2-DD3AAB12C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BC6E5-5864-4171-BA72-2F9312599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2DAFA-40F3-4AE4-B5EA-9C64BE6ED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A3C64-7A9F-47B9-89B2-B53E6AECD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50712F-FC4B-4FC9-8A76-DC293DC58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C56927-AF95-4237-BD23-B3E3B76B2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68DD9A-3C1A-453F-ACC9-8481D0357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697355-B9AB-4CA2-B73F-50003F236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A0008B-576B-4300-A1B1-184970C5D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8947-EDDB-426E-A9B5-BBADF3255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057DC8-2F48-4AB5-A289-F27D38596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5AAF71-C012-41F6-815F-2AD1840DB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D87849-DE09-4DDE-B64B-7C386DF58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E04828-0128-4D75-A2B2-37BF9C564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D0286A-392B-4107-A55A-A7B32D962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201100-336A-48D9-BCC8-086E9EC45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160371-DC35-4186-B81D-C286A436F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894E8BF-BCB2-4AB5-9205-1AE38C485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91264B1-9F01-4C1C-91A5-817EE88DE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E0204C1-9873-4884-9304-65C10F167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0B2C-2487-44CF-ADFB-323C92D1E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B1428F5-79E9-4ED4-A578-15997EA06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CD80360-9F3D-4416-810F-370E5CF51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9269712-F669-4B87-AE6A-81E5C5270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C07703F-365C-4FAF-BE4E-3BD1ADCE3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403300A-D052-4159-9A56-3FA3C7C76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686EFB7-1A9F-4312-A849-87040C7B1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790A732-7242-42CC-BD36-054610EE7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98371F8-6134-4BB8-84EA-C8F2F3925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9FF3030-5BB5-4EA7-B242-64BA8B85E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DBF345-CF78-40DD-BB23-03CD7BAE0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AFEF-288B-4EDB-814C-F46115563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5A37C8-E561-486A-AF69-AAA04EAF9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9FEB34-27BF-4A78-AEF6-48D8378A6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982B5A-2BA7-4404-8C96-F69EF37A4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627C55-291B-479F-9BB0-AE92A27DD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8FDD73-CAF9-4EAE-A084-C5E3D2B17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3FD36B-5AA3-4AEF-AF0B-B98B6B358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105BC3-C1BF-470A-81BC-6AF029372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C0A4F7-22E2-4558-A226-C4A291CE3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B0BD972-3D7C-4D94-9A4C-7C00494F3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F5D1DE-4084-4A85-B497-6AE9A9C69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6571-EBF9-4205-BC46-2DE92BEF7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EFCEDE-CE6E-47EB-A09F-7C47B4861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3714F1-8B67-4A4A-AECE-6FD254220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D650CD-936C-4160-85D3-4BCB107F5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BDB8BD-B1B7-461B-86A4-66BFD49B9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60B533-FC5C-42EA-9C0A-7721D9DF5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44EE74-4982-4B8B-B314-F4C25B730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3E2D5A-3ECB-43E2-A077-723611ECD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DD7B1C-B71D-48C1-A5C6-4C54E632F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41C026-FC9A-435D-A5E2-D3D0C5AC4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CE1D67-4162-4BD1-8893-E75C4C2F7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1E6B-5618-4181-8ED4-EE55BAD7D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35D8B3-C110-4177-8DD7-6EE00FCA4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C0019B-5F82-4887-B31C-249B57965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F6AC83-4937-4DE9-9202-85151B783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1EA4694-F8B5-45EB-AB6B-B4C0F79DA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8488369-03FD-4831-821D-48EBA59F9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305DBB2-0554-4C64-8345-AA00D5286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A09E926-D0BC-4800-BEA9-637887353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4B72BA2-52E1-46D9-8764-A2C9676E6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C6AB4AE-255C-4570-ADE9-3E19AD292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311E17A-2A03-4F05-A166-33E237F90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0519-3628-4434-8062-976F82B47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473A21E-B0E6-4539-9382-C43D5EBCA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0FA341D-C3D9-4CD0-88F5-BF875CFD0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21D0C84-EC6A-4AAD-8283-E64825314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34F38A4-B934-487E-9BCC-60FD73A2E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AAA8D92-AA56-44C2-A8DF-6ACCCA825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7F58E2-8E09-446F-95A7-38D6FF266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01CCAF-6B5E-41D6-B202-E040F69CE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167221-FF9E-4C83-8EEE-106F35F4B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976CA7-8759-4512-B1DD-41E35FD28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BF2630-BCA2-4588-A9F3-152003EC0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DF35-525B-400A-AE54-4DA1C21F1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2B5B3C-B551-4DA4-A8A8-3F863FE62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3E5FB3-90EB-4E12-B34C-47D4D755A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BB04D1-8EEE-4991-9F21-061F3B6C7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E766B2-E6D3-4C89-B9AE-903EB491E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C0E71A-A796-4537-B0D0-D2175D879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5B2B7F-3FC5-4ED5-BE47-41FE5C023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5315E7-3207-40D1-A358-B0BD16C09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hthoek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hthoek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hthoek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B98C4-F837-44C3-A6E6-5309627578A7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hthoek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hthoek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hthoek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0DDF8-C880-4C6C-920F-01B33C89E0F7}" type="slidenum">
              <a:rPr b="1" lang="nl-NL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hthoek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hthoek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hthoek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B2790-BCF0-4E6A-BB7A-950C625BDB27}" type="slidenum">
              <a:rPr b="1" lang="nl-NL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hthoek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hthoek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hthoek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EAE1C-4CD3-4CB4-B58F-DF352F9D59E4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hthoek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hthoek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hthoek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492BE-7726-4CD2-9003-A00761888379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B9B63-0FAD-4391-B12E-05173A229FBE}" type="slidenum">
              <a:rPr b="1" lang="nl-NL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hthoek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hthoek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hthoek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hthoek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56D48-6EBB-4AA2-B3C3-7B7CA461896D}" type="slidenum">
              <a:rPr b="1" lang="nl-NL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hthoek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hthoek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hthoek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83B28-9039-48BE-A08C-54630C74F72D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nl-NL" sz="4400" spc="-1" strike="noStrike">
                <a:solidFill>
                  <a:srgbClr val="ebddc3"/>
                </a:solidFill>
                <a:latin typeface="Tw Cen MT"/>
              </a:rPr>
              <a:t>WERKOMSCHRIJVING</a:t>
            </a:r>
            <a:br>
              <a:rPr sz="5400"/>
            </a:br>
            <a:r>
              <a:rPr b="0" lang="nl-NL" sz="4400" spc="-1" strike="noStrike">
                <a:solidFill>
                  <a:srgbClr val="ebddc3"/>
                </a:solidFill>
                <a:latin typeface="Tw Cen MT"/>
              </a:rPr>
              <a:t>&amp;</a:t>
            </a:r>
            <a:br>
              <a:rPr sz="4400"/>
            </a:br>
            <a:r>
              <a:rPr b="0" lang="nl-NL" sz="4400" spc="-1" strike="noStrike">
                <a:solidFill>
                  <a:srgbClr val="ebddc3"/>
                </a:solidFill>
                <a:latin typeface="Tw Cen MT"/>
              </a:rPr>
              <a:t>BESTEK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nl-NL" sz="3600" spc="-1" strike="noStrike">
                <a:solidFill>
                  <a:srgbClr val="ebddc3"/>
                </a:solidFill>
                <a:latin typeface="Tw Cen MT"/>
              </a:rPr>
              <a:t>NIVEAU 4</a:t>
            </a:r>
            <a:br>
              <a:rPr sz="3600"/>
            </a:br>
            <a:endParaRPr b="0" lang="en-US" sz="3600" spc="-1" strike="noStrike">
              <a:solidFill>
                <a:srgbClr val="ebddc3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BESTEK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Eisen: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Contractuele gelijkwaardigheid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Uitvoeringswijze en machinekeuze is vrijgelat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Eenduidige bestekinformatie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Inhoud en omvang van project is correct beschrev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Gerichte informatie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Eisen en voorwaarden duidelijk verwoord in bestek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Kostenhomogeniteit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Hoe de geleverde productie en meer- en minderwerk te meten en te verreken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BESTEK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Opbouw: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Onderdeel 1 Bestek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Onderdeel 2 Inschrijvingsstaat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Onderdeel 3 Inschrijvingsbiljet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BESTEK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Onderdeel 1 Bestek </a:t>
            </a: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onderverdeeld in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Deel 1 Algemeen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Wie, wat, waar, wanneer en hoe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Deel 2 Beschrijving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Deel 2.1 Algemene gegeven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Tekeningen, hoogtes, peilen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Deel 2.2 Nadere beschrijving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Besteksposten, resultaatverplichting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Deel 3 Standaardbepalingen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Vastgestelde bepalingen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Aanpassingen en verandering van bepalingen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BESTEK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Deel 2.2 Nadere beschrijving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Bestekspostnummer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90000"/>
              </a:lnSpc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Geen vaste codes, aannemer past aan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Catalogusnummer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9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Hoofdcod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90000"/>
              </a:lnSpc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Door CROW vastgestelde codes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90000"/>
              </a:lnSpc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Uniformiteit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9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Deficod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90000"/>
              </a:lnSpc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Door CROW vastgestelde codes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90000"/>
              </a:lnSpc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Keuzes bepalen code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90000"/>
              </a:lnSpc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Indien keuze niet vermeld; nummer 9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Tw Cen MT"/>
              </a:rPr>
              <a:t>CROW: kenniscentrum voor verkeer, vervoer en infrastructuur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BESTEK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Deel 2.2 Nadere beschrijving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Omschrijving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Toelichting op resultaat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Eenheid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  <a:ea typeface="Arial"/>
              </a:rPr>
              <a:t>¹, m², m³, stuks, rol, zak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Hoeveelheid resultaatverplichting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Verrekenbaar (V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Niet verrekenbaar (NV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Te accorderen (A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BESTEK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Deel 2.2 Nadere beschrijving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Hoeveelheid resultaatverplichting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Verrekenbaar (V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Hoeveelheden achteraf vaststellen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Kans op afwijkingen door omstandigheden is groot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Niet verrekenbaar (NV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Hoeveelheden voor aanbesteding controleerbaar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Kans op afwijking is niet aanwezig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Te accorderen (A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Hoeveelheden na opdracht en voor uitvoering op papier controleerbaar vaststellen in overleg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Kans op afwijking t.g.v. uittrekfout is groot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BESTEK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Deel 2.2 Nadere beschrijving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Hoeveelheid ter inlichting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Te leveren (L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De aannemer levert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Ter beschikking stellen (TB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De opdrachtgever levert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BESTEK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Onderdeel 2 Inschrijvingsstaat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Samenvatting van besteksposten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Aannemer geeft per bestekpost de prijs per eenheid en de totaalprij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BESTEK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Onderdeel 3 Inschrijvingsbiljet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Contractdocument voor aanbieding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Gegevens aannemer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Aanneemsom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Verrekenprijs meer- en minderwerk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AANBESTED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Openbare aanbesteding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Algemene bekendmaking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Inschrijving voor iedere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Aanbesteding met selectie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Algemene bekendmaking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Aanmelding voor iedere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Inschrijving op uitnodiging voor één of meer gegadigd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INHOUD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Werkomschrijving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Inventarisatie en analys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Benodigde informati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Werkwijz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Bestek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Functie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Eis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Opbouw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Aanbesteding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Procedure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Werkwijz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Europese aanbesteding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AANBESTED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Onderhandse aanbesteding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Inschrijving op uitnodiging voor twee tot zes uitgenodigd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Onderhandse aanbesteding met selectie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Aanmelding op uitnodiging van minimaal twee gegadigd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Inschrijving op uitnodiging van één of meer gegadigd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Enkelvoudige uitnodiging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Prijsaanbieding op uitnodiging door één uitgenodigd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AANBESTED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Werkwijze geregeld in het Uniform Aanbestedings-Regelement (UAR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Genoemd in dagen, betekent kalenderdagen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AANBESTED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7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Tw Cen MT"/>
              </a:rPr>
              <a:t>Werkwijze bij openbare aanbesteding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Advertentie geplaatst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***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maximaal 10 dagen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***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Verkrijgen bestek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  minimaal 36 dagen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minimaal 19 dagen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***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Inlichtingen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***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***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Inzage nota van inlichtingen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***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minimaal 7 dagen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***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Aanbesteding 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***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maximaal 30 dagen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Opdracht na aanbesteding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Motiveren afwijzing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binnen 14 dagen na 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ontvangst verzoek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w Cen MT"/>
              </a:rPr>
              <a:t>Nota van inlichtingen is aanvullende informatie op bestek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AANBESTED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Werkwijze aanbesteding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Inschrijvingsbiljet wordt voor een bepaalde datum ingeleverd in een bus.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Het openen van de bus is stipt op de aangekondigde datum en tijdstip.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Enveloppen worden geteld.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Openen enveloppen en noemen van namen en bedragen.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Laagste bedrag krijgt opdracht, indien er geen onregelmatigheden zijn voorgekomen.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AANBESTED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Europese aanbesteding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Van toepassing op overheidsinstellingen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Ministerie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Provincie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Gemeent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Van toepassing op publiekrechtelijke organisatie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Nutssector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Energiebedrijv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Waterschapp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Openbaar vervoerbedrijv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AANBESTED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Drempelbedragen Europese aanbesteding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Uitschrijven van een opdracht boven het onderstaande bedrag verplicht Europees Aanbesteden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Werken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Leveringen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Dienst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Centrale overheid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€ 4.845.000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€ 125.000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€ 125.000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Decentrale overheid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€ 4.845.000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€ 193.000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€ 193.000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AANBESTED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Regels geldend voor Europese aanbesteding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Gelijke behandeling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Elke aanbesteding is gelijk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Transparantie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Procedure moet controleerbaar zij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AANBESTED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Regels geldend voor Europese aanbesteding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Proportionaliteit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Eisen aan aannemer moeten in verhouding met de opdracht zij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Wederzijdse erkenning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Lidstaten van de EU moeten goederen en diensten van ondernemingen van andere lidstaten toelaten indien de goederen en diensten gelijkwaardig zij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AANBESTED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Stappenplan van een Europese aanbesteding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970560" indent="-522720">
              <a:spcBef>
                <a:spcPts val="550"/>
              </a:spcBef>
              <a:buClr>
                <a:srgbClr val="94b6d2"/>
              </a:buClr>
              <a:buSzPct val="70000"/>
              <a:buFont typeface="Tw Cen M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Bepalen aard van de opdracht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3" marL="1717200" indent="-372960">
              <a:spcBef>
                <a:spcPts val="400"/>
              </a:spcBef>
              <a:buClr>
                <a:srgbClr val="a5ab81"/>
              </a:buClr>
              <a:buSzPct val="75000"/>
              <a:buFont typeface="Tw Cen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Werk, levering of dienst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3" marL="1717200" indent="-372960">
              <a:spcBef>
                <a:spcPts val="400"/>
              </a:spcBef>
              <a:buClr>
                <a:srgbClr val="a5ab81"/>
              </a:buClr>
              <a:buSzPct val="75000"/>
              <a:buFont typeface="Tw Cen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Aanbestedingsvorm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3" marL="1717200" indent="-37296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970560" indent="-522720">
              <a:spcBef>
                <a:spcPts val="550"/>
              </a:spcBef>
              <a:buClr>
                <a:srgbClr val="94b6d2"/>
              </a:buClr>
              <a:buSzPct val="70000"/>
              <a:buFont typeface="Tw Cen M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Bepalen totale geraamde waarde van de opdracht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3" marL="1717200" indent="-372960">
              <a:spcBef>
                <a:spcPts val="400"/>
              </a:spcBef>
              <a:buClr>
                <a:srgbClr val="a5ab81"/>
              </a:buClr>
              <a:buSzPct val="75000"/>
              <a:buFont typeface="Tw Cen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Kostenraming ivm drempelbedragen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3" marL="1717200" indent="-37296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970560" indent="-522720">
              <a:spcBef>
                <a:spcPts val="550"/>
              </a:spcBef>
              <a:buClr>
                <a:srgbClr val="94b6d2"/>
              </a:buClr>
              <a:buSzPct val="70000"/>
              <a:buFont typeface="Tw Cen M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Bepalen aanbestedingsprocedur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3" marL="1717200" indent="-372960">
              <a:spcBef>
                <a:spcPts val="400"/>
              </a:spcBef>
              <a:buClr>
                <a:srgbClr val="a5ab81"/>
              </a:buClr>
              <a:buSzPct val="75000"/>
              <a:buFont typeface="Tw Cen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Aanbestedingsprocedure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AANBESTED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Stappenplan van een Europese aanbesteding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4. Aankondiging opdracht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Opdracht melden Europese Gemeenschap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Gepubliceerd in publicatieblad van EG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5. Keuze selectie- en gunningscriteri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Financiële-economische en technische minimumeis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Laagste prijs of economisch voordeligste aanbieding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6. Gunning opdracht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Bekend gemaakt in publicatieblad EG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Proces verbaa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WERKOMSCHRIJV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Alle werkzaamheden die nodig zijn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om het project aan te leggen of te onderhouden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op </a:t>
            </a:r>
            <a:r>
              <a:rPr b="0" lang="nl-NL" sz="2800" spc="-1" strike="noStrike" u="sng">
                <a:solidFill>
                  <a:srgbClr val="000000"/>
                </a:solidFill>
                <a:uFillTx/>
                <a:latin typeface="Tw Cen MT"/>
              </a:rPr>
              <a:t>volgorde van uitvoering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AANBESTED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Proces verbaal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De naam en adres aanbestedende dienst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Het onderwerp en de waarde van de opdracht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De namen van de uitgekozen gegadigden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De namen van de uitgesloten gegadigden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De naam van de gegadigde aan wie de opdracht is gegund met motivering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INFORMATI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Bestekken in de grond-, water- en wegenbouw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CROW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ISBN: 90 11 07536 6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www.europeseaanbesteding.eu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WERKOMSCHRIJV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De basis van een werkomschrijving is de inventarisatie en analyse van het project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Tips voor de inventarisatie: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Werk nauwkeurig en systematisch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Noteer de gegevens per hoeveelheid (m</a:t>
            </a:r>
            <a:r>
              <a:rPr b="0" lang="nl-NL" sz="2300" spc="-1" strike="noStrike">
                <a:solidFill>
                  <a:srgbClr val="000000"/>
                </a:solidFill>
                <a:latin typeface="Tw Cen MT"/>
                <a:ea typeface="Arial"/>
              </a:rPr>
              <a:t>², m³, stuk)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  <a:ea typeface="Arial"/>
              </a:rPr>
              <a:t>Gebruik standaard inventarisatielijsten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WERKOMSCHRIJV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De benodigde informatie: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Eenheden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Hoeveelheden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De te verwerken materialen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Bereikbaarheid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Grondsoort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Fasering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Enz.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WERKOMSCHRIJV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De werkwijze voor het opstellen van een werkomschrijving: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Inventariseren van de werkzaamheden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Groeperen op werkvolgorde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Detailleren per werkzaamheid op: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Hoeveelhed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Eenhed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Machine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Werkmethod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BESTEK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Een beschrijving van het werk,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de daarbij behorende tekeningen,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de voor het werk gestelde voorwaarden,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de nota van inlichtingen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en proces verbaal van aanwijzing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Geschreven bij grote project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BESTEK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Functies: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Zakelijke en juridisch bewij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Contrac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Rechten, plichten en risico’s van beide partijen benoemd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Communicatiemiddel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Informatiestroom benoemd</a:t>
            </a: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Uitgangspunt verantwoorde raming en calculatie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Bestek geeft de benodigde informatie voor de calculati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BESTEK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Functies: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Leidraad uitvoering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9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Resultaat is beschrev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90000"/>
              </a:lnSpc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Wat wil de opdrachtgever?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90000"/>
              </a:lnSpc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Welke materialen worden gebruikt?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90000"/>
              </a:lnSpc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Welke voorwaarden zijn er?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Prestatiebeschrijving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9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Duidelijke en eenduidig beschrijving op resultaat en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niet op werkwijz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9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Controlemiddel 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9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Voldoen aan de gestelde voorwaard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9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Controle tussentijds en na oplevering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1T12:50:01Z</dcterms:created>
  <dc:creator>Wellantcollege</dc:creator>
  <dc:description/>
  <dc:language>en-US</dc:language>
  <cp:lastModifiedBy>jan van der wiele</cp:lastModifiedBy>
  <dcterms:modified xsi:type="dcterms:W3CDTF">2014-09-08T18:55:43Z</dcterms:modified>
  <cp:revision>38</cp:revision>
  <dc:subject/>
  <dc:title>WERKOMSCHRIJVING &amp; BESTEK</dc:title>
</cp:coreProperties>
</file>