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0DDA-F0D6-4A76-BF09-67D8D53A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598-7E08-42D9-89B6-2A70274C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D24-9883-4AD4-86DC-6655704C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811-369E-4962-AD46-E85F0D7B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7693-859A-45BE-8C34-B684F76A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86CA-88FA-4479-85E6-7F30AC03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595D-AB68-446B-B1C5-321EEFFF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264E-E946-4288-B92C-DE8A9C3D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A272-97F1-437E-8FC9-096F32B6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284D-D2E1-4123-ACAF-CD7D388F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F8CE-314C-4BCC-95AC-AC39D158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23AF-9595-4566-917B-AAB9D7A2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A9E9-92C6-4978-95E1-CE61C84F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2C98-DBE1-40DB-A067-1A61FC79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0A54-BC71-4274-B745-D0D2F786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FE57-28D5-4F43-8C6F-DAC2E589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3A33-8A00-4A2E-A62B-352A93DA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B0EE3-F41C-46E7-9B2F-7C863D27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ECF57-FC8C-4782-B165-FDF2C019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CD491-6AE2-45E9-A87A-92CE9589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C27C1-24D5-408F-A7DE-95F85F1E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4A4A8-55C4-4069-ABD3-DE1D544D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F61-2EDD-4403-8790-09D7484C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520CB-4141-49C3-B953-3CE88A3A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1F51A-8929-4DF0-8CDE-DCB695AF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39725-57B4-4981-803A-FCB6C320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BE435-1A3E-4794-BD22-E100A444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0E7AD-18D0-49FB-B0E1-F6AFF345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BDD9D-DB92-47D9-86A2-7495793A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A27DC-1C6F-49DA-901D-49A99E97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2A50D-617C-4253-A828-CB06BA76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CBF68-864B-4981-BBEA-25D52DE4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DD169-91FA-483F-9DF1-52DC931C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22F-DC05-4008-BF5D-698329BD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B1DAB-12F6-4DB4-9658-B02F4FFE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D72E5-2DBD-41FA-8015-5653D9D9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F7B28-1267-437C-ACF7-61C7E7D8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F9357-2008-4D39-9515-58F6329B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74A29-D792-48A7-8CEE-E7473725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B55EB-6D8B-4ABC-89B4-8785ECFF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2F749-C5E3-4C9D-A91F-DCCAC0C2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8900D-1FEA-4FFB-93E5-43242483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61E1A-C98A-4ABB-89FA-088A82CE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B18-FEEB-4C7E-9724-4C1F3199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C824-4446-4ABD-B732-B749C18C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CB8-67CA-4954-A302-C86E94EC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5A2-874A-46C3-8691-3BBC0125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3C9-83A9-4C21-8C25-743AB633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5B5CE-EC1F-492D-B8E8-93B9C84E6DF3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26A5F-6534-406B-8720-C8C6DD57819D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CC315-686A-4D73-8348-B67E9A9A00E4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789E2-F963-4725-8330-5A5DED84DDD7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OY4wwAW1Zko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5agOnV0gvfA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8800" spc="-1" strike="noStrike">
                <a:solidFill>
                  <a:srgbClr val="ff0000"/>
                </a:solidFill>
                <a:latin typeface="Verdana"/>
                <a:ea typeface="Verdana"/>
              </a:rPr>
              <a:t>REUMA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il_fi" descr="http://primawebshop.nl/medias/sys_master/8451887846401664.jpg"/>
          <p:cNvPicPr/>
          <p:nvPr/>
        </p:nvPicPr>
        <p:blipFill>
          <a:blip r:embed="rId1"/>
          <a:stretch/>
        </p:blipFill>
        <p:spPr>
          <a:xfrm>
            <a:off x="684360" y="1268280"/>
            <a:ext cx="5975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iekte van het bewegingsapparaat die zich meestal op hogere leeftijd openbaar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 is een reumatische aandoening waarbij het gewrichtskraakbeen in kwaliteit achteruitgaat en dunner en zachter word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en degeneratieve 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3488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gebeurt 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raakbeen verand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 ontstaan kleine scheurtjes spleten en groeven in het kraakbeen en botwoekeringen aan de randen van de aangedane gewri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Irritatie van het gewrichtskap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één gewric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il_fi" descr="http://www.reumafonds.nl/_sana_/handlers/getfile.ashx/de582bf1-cad6-400a-a9dc-61472e104712/Artrose_gezond_en_artrotisch_gewricht.jpg"/>
          <p:cNvPicPr/>
          <p:nvPr/>
        </p:nvPicPr>
        <p:blipFill>
          <a:blip r:embed="rId1"/>
          <a:stretch/>
        </p:blipFill>
        <p:spPr>
          <a:xfrm>
            <a:off x="4788000" y="4149720"/>
            <a:ext cx="41400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Meest voorkome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n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onderru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knieë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heupen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du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ving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il_fi" descr="http://groesland.nl/images/Artrose.jpg"/>
          <p:cNvPicPr/>
          <p:nvPr/>
        </p:nvPicPr>
        <p:blipFill>
          <a:blip r:embed="rId1"/>
          <a:stretch/>
        </p:blipFill>
        <p:spPr>
          <a:xfrm>
            <a:off x="3995640" y="1413000"/>
            <a:ext cx="43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ntstaan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, gaat niet o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felijke oorzaak(mogelijk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schadiging van gewricht door langdurige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spo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we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vergew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klach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 bij bewegen, vooral na 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oeite met be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wel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houdingsafwij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ff0000"/>
                </a:solidFill>
                <a:latin typeface="Verdana"/>
                <a:ea typeface="Verdana"/>
              </a:rPr>
              <a:t>Voorkome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overbelasting van 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il_fi" descr="http://ikslijtsnel.punt.nl/upload/verkeerde_houding.jpg"/>
          <p:cNvPicPr/>
          <p:nvPr/>
        </p:nvPicPr>
        <p:blipFill>
          <a:blip r:embed="rId1"/>
          <a:stretch/>
        </p:blipFill>
        <p:spPr>
          <a:xfrm>
            <a:off x="755640" y="2997360"/>
            <a:ext cx="2664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en om te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el medicijnen voor symptom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stillers,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contractu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contractuur= 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il_fi" descr="http://www.pedicure-asten.nl/attachments/Image/reuma1.jpg"/>
          <p:cNvPicPr/>
          <p:nvPr/>
        </p:nvPicPr>
        <p:blipFill>
          <a:blip r:embed="rId1"/>
          <a:stretch/>
        </p:blipFill>
        <p:spPr>
          <a:xfrm>
            <a:off x="3708360" y="3789360"/>
            <a:ext cx="4464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efenen en fysiotherap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m belasting van gewrichten te vermind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atie (kunst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il_fi" descr="http://www.stop-artrose.org/wp-content/uploads/2010/01/heup-kunstgewricht.jpg"/>
          <p:cNvPicPr/>
          <p:nvPr/>
        </p:nvPicPr>
        <p:blipFill>
          <a:blip r:embed="rId2"/>
          <a:stretch/>
        </p:blipFill>
        <p:spPr>
          <a:xfrm>
            <a:off x="6012000" y="4653000"/>
            <a:ext cx="2808000" cy="1989000"/>
          </a:xfrm>
          <a:prstGeom prst="rect">
            <a:avLst/>
          </a:prstGeom>
          <a:ln w="0">
            <a:noFill/>
          </a:ln>
        </p:spPr>
      </p:pic>
      <p:pic>
        <p:nvPicPr>
          <p:cNvPr id="255" name="il_fi" descr="http://webserv.nhl.nl/~oostmeij/fig-map/cartoons/obelix_ik%20ben%20niet%20dik_b.jpg"/>
          <p:cNvPicPr/>
          <p:nvPr/>
        </p:nvPicPr>
        <p:blipFill>
          <a:blip r:embed="rId3"/>
          <a:stretch/>
        </p:blipFill>
        <p:spPr>
          <a:xfrm>
            <a:off x="684360" y="1916280"/>
            <a:ext cx="3456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mgaan met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dersteuning bij huishoudelijk verzorgende werkzaamh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bukken en rei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passingen (verhoogd toilet, stoel, wandelstok, looprekje, rolstoel, orthopedisch schoeisel) 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il_fi" descr="http://www.blessurewinkel.nl/html/afbeeldingen_specifiek/specifiek_18.jpg"/>
          <p:cNvPicPr/>
          <p:nvPr/>
        </p:nvPicPr>
        <p:blipFill>
          <a:blip r:embed="rId1"/>
          <a:stretch/>
        </p:blipFill>
        <p:spPr>
          <a:xfrm>
            <a:off x="4967280" y="3716280"/>
            <a:ext cx="4176720" cy="3141720"/>
          </a:xfrm>
          <a:prstGeom prst="rect">
            <a:avLst/>
          </a:prstGeom>
          <a:ln w="0">
            <a:noFill/>
          </a:ln>
        </p:spPr>
      </p:pic>
      <p:pic>
        <p:nvPicPr>
          <p:cNvPr id="259" name="il_fi" descr="http://www.remicade.nl/images/foto036_134x239.jpg"/>
          <p:cNvPicPr/>
          <p:nvPr/>
        </p:nvPicPr>
        <p:blipFill>
          <a:blip r:embed="rId2"/>
          <a:stretch/>
        </p:blipFill>
        <p:spPr>
          <a:xfrm>
            <a:off x="2367000" y="4121280"/>
            <a:ext cx="12762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hoefte aan warmte dus niet wassen met koud water (vaak warm in hui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arme wollen kl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ociale contac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il_fi" descr="http://www.nijha.nl/cache/paragraphs/718516_f1_800x600.jpg"/>
          <p:cNvPicPr/>
          <p:nvPr/>
        </p:nvPicPr>
        <p:blipFill>
          <a:blip r:embed="rId1"/>
          <a:stretch/>
        </p:blipFill>
        <p:spPr>
          <a:xfrm>
            <a:off x="3203640" y="328464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is reum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: verzamelnaam voor vele gewrichtsaandoen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toïde artritis (artritis is ontsteking van 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Reumatoïde artriti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e vorm van reuma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uto-immuun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vanaf 4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Verdana"/>
                <a:ea typeface="Verdana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jaar, vaker bij vrouwen dan ma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van de weefsels die de binnenkant van de gewrichten bekl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orzaak niet bek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Gewri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in gewrichtskapsel, gewrichtskapsel wordt dikker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pijn,zwelling,w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Kraakbeen verdwijnt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bewegingen pijnlij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het botweef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il_fi" descr="http://www.reumafonds.nl/_sana_/handlers/getfile.ashx/b70910e5-59d6-4013-9084-772c151284aa/Gezond%20en%20ontstoken%20gewricht.JPG"/>
          <p:cNvPicPr/>
          <p:nvPr/>
        </p:nvPicPr>
        <p:blipFill>
          <a:blip r:embed="rId1"/>
          <a:stretch/>
        </p:blipFill>
        <p:spPr>
          <a:xfrm>
            <a:off x="1187280" y="1413000"/>
            <a:ext cx="44802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kleine gewrichten in handen en voe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(vooral s’ochtends,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ren(dwangsta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nobb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il_fi" descr="http://www.bndestem.nl/multimedia/archive/00737/reuma_737805b.jpg"/>
          <p:cNvPicPr/>
          <p:nvPr/>
        </p:nvPicPr>
        <p:blipFill>
          <a:blip r:embed="rId1"/>
          <a:stretch/>
        </p:blipFill>
        <p:spPr>
          <a:xfrm>
            <a:off x="5076720" y="3789360"/>
            <a:ext cx="3816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Nog meer 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oeid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armoe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erk zweten, vooral `s nach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il_fi" descr="http://www.nutrigenerics.com/UserFiles/Uploads/vermoeide-vrouw.gif"/>
          <p:cNvPicPr/>
          <p:nvPr/>
        </p:nvPicPr>
        <p:blipFill>
          <a:blip r:embed="rId1"/>
          <a:stretch/>
        </p:blipFill>
        <p:spPr>
          <a:xfrm>
            <a:off x="5219640" y="3213000"/>
            <a:ext cx="3529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Onderzoeken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melijk 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öntgenfo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il_fi" descr="http://www.kennislink.nl/system/files/000/031/861/small/RheumatoideArthritisAP.jpg?1257332167"/>
          <p:cNvPicPr/>
          <p:nvPr/>
        </p:nvPicPr>
        <p:blipFill>
          <a:blip r:embed="rId1"/>
          <a:stretch/>
        </p:blipFill>
        <p:spPr>
          <a:xfrm>
            <a:off x="6732720" y="2060640"/>
            <a:ext cx="1942920" cy="2520720"/>
          </a:xfrm>
          <a:prstGeom prst="rect">
            <a:avLst/>
          </a:prstGeom>
          <a:ln w="0">
            <a:noFill/>
          </a:ln>
        </p:spPr>
      </p:pic>
      <p:pic>
        <p:nvPicPr>
          <p:cNvPr id="230" name="il_fi" descr="http://www.sleutelstad.nl/public/images/241962265.434485-rontgenfoto%20jpg.jpg"/>
          <p:cNvPicPr/>
          <p:nvPr/>
        </p:nvPicPr>
        <p:blipFill>
          <a:blip r:embed="rId2"/>
          <a:stretch/>
        </p:blipFill>
        <p:spPr>
          <a:xfrm>
            <a:off x="4356000" y="2060640"/>
            <a:ext cx="2016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 voor genez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él medicijn voor sympto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Pijnstillende 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Gebruik van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Ziekte vertragende reuma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eefregels: gedoseerde rust, oefeningen om stijfheid en contracturen tegen te gaan, geschikt matras, voeding met voldoende eiwit en ka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eren: kunst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Aandachtspunten bij zorgvragers met chronische reuma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999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dhouding bij bed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amshouding (aangepaste sto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urprev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choei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Temperatuur en vochtig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Wat is reuma? - YouTub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2:50:28Z</dcterms:created>
  <dc:creator>Gebruiker</dc:creator>
  <dc:description/>
  <dc:language>en-US</dc:language>
  <cp:lastModifiedBy>Sandra Kreuning</cp:lastModifiedBy>
  <dcterms:modified xsi:type="dcterms:W3CDTF">2017-10-10T08:29:43Z</dcterms:modified>
  <cp:revision>58</cp:revision>
  <dc:subject/>
  <dc:title>RHEUMA</dc:title>
</cp:coreProperties>
</file>