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4ABA-A190-43BE-B5A5-F822CF0D431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1A48-7037-41F9-A91A-AAB40150601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625-F858-4D12-9710-5FFA9700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F29-3998-41F3-936E-371A5C67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617-141C-48C2-B1FB-311E2BD9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6645-8F4D-4507-B4D5-45B241BE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BC3-A0EC-463D-99E0-CE6F62FE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498-019F-4771-8D4E-44A549A2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011-DDF9-43F1-8C94-D42DCD9E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E3E-3E51-488E-89E8-7758E54F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A54-EA21-4A05-A461-A0D6AAA8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C0B-5080-405A-8A2F-5DD142C4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524-1AC2-4603-8E59-6438BCB5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B52-E9CF-48B2-8916-C44C6CE2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4B9C-4E39-48AE-B5CF-92AA8255369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095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Afbeelding:Insulin_pump_with_infusion_set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nl.wikipedia.org/wiki/Afbeelding:Glucose_test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Hartinfarct" TargetMode="External"/><Relationship Id="rId4" Type="http://schemas.openxmlformats.org/officeDocument/2006/relationships/hyperlink" Target="http://nl.wikipedia.org/wiki/Cerebrovasculair_accident" TargetMode="External"/><Relationship Id="rId5" Type="http://schemas.openxmlformats.org/officeDocument/2006/relationships/hyperlink" Target="http://nl.wikipedia.org/wiki/Nierfalen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nl.wikipedia.org/wiki/Netvlies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Glucose" TargetMode="External"/><Relationship Id="rId3" Type="http://schemas.openxmlformats.org/officeDocument/2006/relationships/hyperlink" Target="http://nl.wikipedia.org/wiki/Bloed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Diabetes_mellitu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Stofwisselingsziekte" TargetMode="External"/><Relationship Id="rId3" Type="http://schemas.openxmlformats.org/officeDocument/2006/relationships/hyperlink" Target="http://nl.wikipedia.org/wiki/Glucose" TargetMode="External"/><Relationship Id="rId4" Type="http://schemas.openxmlformats.org/officeDocument/2006/relationships/hyperlink" Target="http://nl.wikipedia.org/wiki/Sacharose" TargetMode="External"/><Relationship Id="rId5" Type="http://schemas.openxmlformats.org/officeDocument/2006/relationships/hyperlink" Target="http://nl.wikipedia.org/wiki/Cel_%28biologie%29" TargetMode="External"/><Relationship Id="rId6" Type="http://schemas.openxmlformats.org/officeDocument/2006/relationships/hyperlink" Target="http://nl.wikipedia.org/wiki/Insuline" TargetMode="External"/><Relationship Id="rId7" Type="http://schemas.openxmlformats.org/officeDocument/2006/relationships/hyperlink" Target="http://nl.wikipedia.org/wiki/Receptor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Polyurie" TargetMode="External"/><Relationship Id="rId4" Type="http://schemas.openxmlformats.org/officeDocument/2006/relationships/hyperlink" Target="http://nl.wikipedia.org/wiki/Polydipsie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Blaasontsteking" TargetMode="External"/><Relationship Id="rId7" Type="http://schemas.openxmlformats.org/officeDocument/2006/relationships/hyperlink" Target="http://nl.wikipedia.org/wiki/Witte_vloed" TargetMode="External"/><Relationship Id="rId8" Type="http://schemas.openxmlformats.org/officeDocument/2006/relationships/hyperlink" Target="http://nl.wikipedia.org/wiki/Steenpuist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Aceton" TargetMode="External"/><Relationship Id="rId3" Type="http://schemas.openxmlformats.org/officeDocument/2006/relationships/hyperlink" Target="http://nl.wikipedia.org/wiki/Keton" TargetMode="External"/><Relationship Id="rId4" Type="http://schemas.openxmlformats.org/officeDocument/2006/relationships/hyperlink" Target="http://nl.wikipedia.org/wiki/Coma_%28geneeskunde%29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nl.wikipedia.org/wiki/Glucosurie" TargetMode="External"/><Relationship Id="rId5" Type="http://schemas.openxmlformats.org/officeDocument/2006/relationships/hyperlink" Target="http://nl.wikipedia.org/wiki/Polyurie" TargetMode="External"/><Relationship Id="rId6" Type="http://schemas.openxmlformats.org/officeDocument/2006/relationships/hyperlink" Target="http://nl.wikipedia.org/wiki/Polydipsie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‘</a:t>
            </a: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Suikerziekte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Gezondheidskunde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09EE-4263-47AB-8A45-EFCD05EBFE76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Insu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 verlaagt het glucosegehalte van het bloed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SS ‘meter’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pic>
        <p:nvPicPr>
          <p:cNvPr id="116" name="Picture 6" descr="Een insulinepo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292640"/>
            <a:ext cx="219060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et zelf meten van de bloedsuikerspiege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80000" y="2276640"/>
            <a:ext cx="2190600" cy="1647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3709440" y="4941720"/>
            <a:ext cx="217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pomp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B52F-6097-4060-93F6-34C0140B48AA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volgen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derverkalking (bloedvaten sluiten af)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ierdoor meer kans op;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artinfarct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roer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ierfa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</a:rPr>
              <a:t>amputatie</a:t>
            </a:r>
            <a:r>
              <a:rPr b="1" lang="nl-NL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an bijvoorbeeld een voet, dan bij gezonde mens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ok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etvlie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kan schade lijden waardoor op den duur blindheid kan ontstaa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mpotentie en incontinentie is eveneens een vaak voorkomend gevolg van diabetes door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neuropathie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= het niet goed functioneren van zenuw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340C-5150-4FB6-B7E5-F0ED9BC780AA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zonde levensstijl met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iet roken,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al gewicht handhaven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an lichaamsbeweging doen en een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ventuele hoge bloeddruk en hoog cholesterol laten behandel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5C3B-A285-474C-A7C3-5F1F87E130E7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s een maat voor de hoeveelheid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brandstof voor je lichaam) die opgelost is in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wordt uitgedrukt in millimol per liter (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le nuchtere waarde ligt tussen de 4 en de 6,4 mmol/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dien de 'nuchtere' waarden bij een onbehandeld persoon boven de 6,9 mmol/l en 'niet-nuchter' boven de 11,0 mmol/l liggen, spreekt men van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iabetes mellitu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suikerziekte)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577C-0A33-48E9-B8D7-30E102BE9209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Oorzaak 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iabetes is een ongeneeslijk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ofwisselingsziek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et lichaam haalt onvoldoende energie ui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uiker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uikers kunnen in de meest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l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leen opgenomen worden in aanwezigheid van voldoend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sul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hormoon), als er tevens werkende insuline-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recepto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 die cellen aanwezig zij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556F-584C-4BCE-AD7C-39478960A452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oort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nvoldoende of geen productie van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probleem met betrekking tot de insuline-receptoren;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r wordt voldoende insuline gemaakt , maar lichaamscellen reageren onvoldoende op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A1C7-F98A-43F0-861C-81C2532580DA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Behandeling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insuline), dieet en beweg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tabletten), dieet en bewegen.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2E98-E9AC-4410-AF44-A615CC0FF5EB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eel mensen met lichte diabetes zijn geheel of nagenoeg symptoomloos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Veel plass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treedt op bij hoge tot zeer hoge bloedglucosewaarden (boven de 13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Patiënten hebben bij slechte glucoseinstelling (te hoog) vaker dan gemiddeld last va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laasontsteking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tte v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en/of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steenpuist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494A-99A2-4833-AC69-20299917B5E7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oms kan m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ceto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rui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in de adem van patiënten met diabetes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nl. als glucose door het insulinetekort zo slecht kan worden verwerkt dat het lichaam overgeschakeld is op vetverbranding, waarbij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keton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s nevenproducten ontstaan, waarvan aceton er </a:t>
            </a:r>
            <a:r>
              <a:rPr b="1" lang="en-US" sz="2000" spc="-1" strike="noStrike">
                <a:solidFill>
                  <a:srgbClr val="2c4274"/>
                </a:solidFill>
                <a:latin typeface="Arial"/>
                <a:ea typeface="Arial"/>
              </a:rPr>
              <a:t>éé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 is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n het bloed is dan meestal veel te hoog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ij hoge bloedsuikers en ernstige uitdroging kan een levensgevaarlijk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oma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tre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88FF-2496-46E3-BB7D-5795121D12F9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er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hoge bloedsuikerspiegel (BSS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vermij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zijn de gevaren?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SS veroorzaakt als hij hoog genoeg i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glucos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suikerverlies via de ur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wat in ernstige gevallen een merkbar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ly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urine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zowel al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olydips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ten gevolge heeft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 het meest erge geval kan dit leiden tot coma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5CA8-B615-48BD-A04A-6696AC7B92F8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o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lage bloedglucosespiege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 voordat je gaat sport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eten, zodat je bloedsuikerspiegel goed is en je voldoende energie hebt om te sport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2:24:21Z</dcterms:created>
  <dc:creator>willemh</dc:creator>
  <dc:description/>
  <dc:language>en-US</dc:language>
  <cp:lastModifiedBy>Sandra Kreuning</cp:lastModifiedBy>
  <dcterms:modified xsi:type="dcterms:W3CDTF">2017-04-04T06:46:41Z</dcterms:modified>
  <cp:revision>22</cp:revision>
  <dc:subject/>
  <dc:title>PowerPoint-presentatie</dc:title>
</cp:coreProperties>
</file>