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350-8CD2-43AA-9650-6E640A1D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A2E-8000-4E0F-9625-D5DAD745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8BA-4D62-4022-97FB-F87058FF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778-1082-482B-AAFD-43454C9A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46D5-4F3B-4A09-BE29-4FA81FED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98FB-DFD0-4EA2-9D3E-AE28C4EE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70C8-71DF-4E4B-B613-7D9917B9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DE7-B67E-4D6D-975D-4C2697D2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73BA-0A2B-429B-8BE1-308BBF88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5F6F-4721-4A44-8F98-D4E10284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3D76-8E0E-4DEF-AE1E-B8D5EE74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8B4-020E-4EB0-BCE7-6C0BCF8C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97AA-B4B8-4B5D-9C05-48DC4380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7741-E313-482B-8DB4-AD23CDA5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FD97-71E6-454C-B629-223D4EC3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D63B-9746-431C-B93E-7F5BCF9C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8AFD-D1C4-4DAD-B5C4-69D90E41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19D7-C748-439B-AB42-8976BAE3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3E87-4CC4-4DCE-B0FB-EB8E6AF7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B5ED6-8CB7-46CA-9130-860A784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81C9-80DB-476E-B3C6-4E815198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6EAA-D2B5-4255-AAD4-8E88E4E4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802-32E5-4523-A6A1-4EA1866E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6A2C6-3C0E-452B-AA08-BE2D809C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A921-77EE-42B1-90C1-35F10E23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CB86-9657-4FCE-9A31-A95D4A46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5E55-D63C-42B5-9EE1-200E094B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82421-752E-4C65-A047-F79C170E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8D3EC-A45F-4474-88A4-9EB094C5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A974-F287-48A5-8885-5098E05B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B6897-BE8E-4105-95A6-50F80640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1FF4E-D280-4902-8833-8747196F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032FE-03BB-4367-B178-FBB8B125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2BB-CD18-4E4B-934B-2CC15E15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F9BAE-FC92-415C-B264-424DB278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EEA0-1B82-4E48-9E06-1C11EF60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1213-245A-43C7-807C-B2E5EF60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BF9D4-0D5D-4ED0-A025-87F9CCFE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80B4-A426-40B5-ACE3-ECD640FF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770B2-BBF0-4162-B6AF-05A0423A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5E9C0-6D66-4E0E-9D8A-79B1DA09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7B2D6-9738-4AC4-B461-49F13C3D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48FD-317E-49ED-BA6E-EA7B0E13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CDB-1C5B-4A9A-B8B6-63877735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585-CA06-4B35-8285-52E234A1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091-CD62-4960-BC81-3A087FB5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9E6-C385-4088-8396-6F20BD64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3D6-55A9-422D-8D92-4525FDCC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9CC72-98CB-4E1F-8448-C8192747F35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02252-8524-4886-A0B6-0FFF5BDA827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508B4-56F0-4413-9FF5-D5F1901FDF4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07B5F-93F3-40E7-8395-4B1D8056A73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OY4wwAW1Zko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agOnV0gvf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2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3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de weef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öntgenfo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Wat is reuma? - YouTub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17-10-10T08:29:43Z</dcterms:modified>
  <cp:revision>58</cp:revision>
  <dc:subject/>
  <dc:title>RHEUMA</dc:title>
</cp:coreProperties>
</file>