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1AA7-2178-407D-B86D-45E736A62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F690-7313-4A47-AE24-EB23D554F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9DD7-C5DE-4ED9-A300-578AF896C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7F98-828D-45E6-A1AA-E0CCFF3DD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D3DB0-AAF5-4921-956C-547CA64AF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9FAE3-58D5-4700-95BC-74DB53620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48459-CC6B-4E19-AF79-095ADF4DA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916BE-E38D-495F-9BE7-49C7622EF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81280-DE54-4484-9062-A5398BFAF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437B8-2928-4B14-9A22-82EF2DF34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330CD-93A0-421F-BBC3-373D4A53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7582-CE19-4A95-9BB6-3C5392560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0027A-CF3D-4D79-BFCE-9D0862CE6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D0B96-A66D-41F3-A793-D93850057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6BD5B-9968-4233-B34B-7E028413F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98199-33CB-4BAA-9D7E-A8F919E42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9B49A-27C0-4CB6-8ACC-9903FA5AA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C04B4-A089-4FAE-980E-DBA9E634A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F9168-6E62-4551-8939-CF0B12963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CA290-7B4B-4361-88C2-D883DC574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9079E-8F8A-458E-A908-060599D64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77FC3-96CD-4C78-B541-BB20FBBEF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957A-BD75-4767-9866-F0112CA8D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2BB58-9929-4A03-B4F6-11BBD73F9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20F78-E72C-4DE7-848C-DBE8E42D0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0CA7A-6C22-4921-A71E-B9510B2A8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ABD1F-EE82-4F59-BC32-6ADF8F4D2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20B7A-548E-46DB-AB30-832CA520F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A25C2-F650-4536-B28C-A04965CDA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8A48B-376D-48C3-BE8D-C3CFB25FD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B662E-8E74-4F51-A94D-6B35D25D9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0FAC5-2FFE-4DCB-9435-20E7A1D52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07E65-250D-4944-B825-F9E6FB6A5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0BDF-04FA-4378-8AC8-CECE38523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4D25E-58A1-41BD-AE20-3D9261B8D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A6208-C482-4009-9BD6-B812A7CCB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DBE69-DFFF-4A07-854D-3F65EBCAF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7497D-8BC6-472A-BC42-15DF9DE3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86B1D-9C20-4484-A665-68872723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FC2F1-316E-431A-9F0F-F4C39287A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98A14-CCC2-402B-951F-9EF43BD5B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5DA2D-81D2-4204-BF3D-2443E112D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84F4B-10E2-4D09-AB60-86F37CA45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D142-B808-4C3E-9D24-2029CF56D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DD41-CB3E-41D2-B1D8-006C7BF91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4A11-4266-4BB2-8B29-2B30DC2CF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A5AD-FEE1-428A-B790-BE12BD257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C524-30B1-4982-AB4F-C4080B23B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1AE4B9-99DD-4D0D-8420-93E290E36E14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38320A-5A27-4868-9C0F-6D3D70D3940B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3D33A9-3596-4E56-8D02-97AFFEC0CD06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02B8DD-7160-40EA-8483-D8C04D29FBC8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OY4wwAW1Zko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5agOnV0gvfA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8800" spc="-1" strike="noStrike">
                <a:solidFill>
                  <a:srgbClr val="ff0000"/>
                </a:solidFill>
                <a:latin typeface="Verdana"/>
                <a:ea typeface="Verdana"/>
              </a:rPr>
              <a:t>REUMA</a:t>
            </a:r>
            <a:endParaRPr b="0" lang="en-US" sz="8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3" name="il_fi" descr="http://primawebshop.nl/medias/sys_master/8451887846401664.jpg"/>
          <p:cNvPicPr/>
          <p:nvPr/>
        </p:nvPicPr>
        <p:blipFill>
          <a:blip r:embed="rId1"/>
          <a:stretch/>
        </p:blipFill>
        <p:spPr>
          <a:xfrm>
            <a:off x="684360" y="1268280"/>
            <a:ext cx="597528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Artros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Ziekte van het bewegingsapparaat die zich meestal op hogere leeftijd openbaart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Artrose is een reumatische aandoening waarbij het gewrichtskraakbeen in kwaliteit achteruitgaat en dunner en zachter wordt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Een degeneratieve ziekt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3488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Wat gebeurt er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Gewrichtskraakbeen verander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Er ontstaan kleine scheurtjes spleten en groeven in het kraakbeen en botwoekeringen aan de randen van de aangedane gewrich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Irritatie van het gewrichtskaps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Vaak één gewricht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9" name="il_fi" descr="http://www.reumafonds.nl/_sana_/handlers/getfile.ashx/de582bf1-cad6-400a-a9dc-61472e104712/Artrose_gezond_en_artrotisch_gewricht.jpg"/>
          <p:cNvPicPr/>
          <p:nvPr/>
        </p:nvPicPr>
        <p:blipFill>
          <a:blip r:embed="rId1"/>
          <a:stretch/>
        </p:blipFill>
        <p:spPr>
          <a:xfrm>
            <a:off x="4788000" y="4149720"/>
            <a:ext cx="4140000" cy="25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Meest voorkomend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ne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onderru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knieë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heupen        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dui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vinger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2" name="il_fi" descr="http://groesland.nl/images/Artrose.jpg"/>
          <p:cNvPicPr/>
          <p:nvPr/>
        </p:nvPicPr>
        <p:blipFill>
          <a:blip r:embed="rId1"/>
          <a:stretch/>
        </p:blipFill>
        <p:spPr>
          <a:xfrm>
            <a:off x="3995640" y="1413000"/>
            <a:ext cx="43214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Ontstaan artros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Chronisch, gaat niet ov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Erfelijke oorzaak(mogelijk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Beschadiging van gewricht door langdurige verkeerde belast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  </a:t>
            </a: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spor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  </a:t>
            </a: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wer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overgewich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klacht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Stijfhei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Pijn bij bewegen, vooral na ru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Moeite met bewe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Zwell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houdingsafwijkin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ff0000"/>
                </a:solidFill>
                <a:latin typeface="Verdana"/>
                <a:ea typeface="Verdana"/>
              </a:rPr>
              <a:t>Voorkomen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Voorkomen van verkeerde belast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Voorkomen van overbelasting van gewrich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9" name="il_fi" descr="http://ikslijtsnel.punt.nl/upload/verkeerde_houding.jpg"/>
          <p:cNvPicPr/>
          <p:nvPr/>
        </p:nvPicPr>
        <p:blipFill>
          <a:blip r:embed="rId1"/>
          <a:stretch/>
        </p:blipFill>
        <p:spPr>
          <a:xfrm>
            <a:off x="755640" y="2997360"/>
            <a:ext cx="266400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Behandelin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Geen medicijnen om te genez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Wel medicijnen voor symptomen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Pijnstillers, ontstekingsremmer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Voorkomen van contractu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  </a:t>
            </a: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contractuur= ………………………………………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2" name="il_fi" descr="http://www.pedicure-asten.nl/attachments/Image/reuma1.jpg"/>
          <p:cNvPicPr/>
          <p:nvPr/>
        </p:nvPicPr>
        <p:blipFill>
          <a:blip r:embed="rId1"/>
          <a:stretch/>
        </p:blipFill>
        <p:spPr>
          <a:xfrm>
            <a:off x="3708360" y="3789360"/>
            <a:ext cx="44640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457200" y="98064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Oefenen en fysiotherap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om belasting van gewrichten te vermind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Operatie (kunstgewricht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99ca3c"/>
                </a:solidFill>
                <a:uFillTx/>
                <a:latin typeface="Verdana"/>
                <a:ea typeface="Verdana"/>
                <a:hlinkClick r:id="rId1"/>
              </a:rPr>
              <a:t>artros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4" name="il_fi" descr="http://www.stop-artrose.org/wp-content/uploads/2010/01/heup-kunstgewricht.jpg"/>
          <p:cNvPicPr/>
          <p:nvPr/>
        </p:nvPicPr>
        <p:blipFill>
          <a:blip r:embed="rId2"/>
          <a:stretch/>
        </p:blipFill>
        <p:spPr>
          <a:xfrm>
            <a:off x="6012000" y="4653000"/>
            <a:ext cx="2808000" cy="1989000"/>
          </a:xfrm>
          <a:prstGeom prst="rect">
            <a:avLst/>
          </a:prstGeom>
          <a:ln w="0">
            <a:noFill/>
          </a:ln>
        </p:spPr>
      </p:pic>
      <p:pic>
        <p:nvPicPr>
          <p:cNvPr id="255" name="il_fi" descr="http://webserv.nhl.nl/~oostmeij/fig-map/cartoons/obelix_ik%20ben%20niet%20dik_b.jpg"/>
          <p:cNvPicPr/>
          <p:nvPr/>
        </p:nvPicPr>
        <p:blipFill>
          <a:blip r:embed="rId3"/>
          <a:stretch/>
        </p:blipFill>
        <p:spPr>
          <a:xfrm>
            <a:off x="684360" y="1916280"/>
            <a:ext cx="3456000" cy="23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Omgaan met artros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Ondersteuning bij huishoudelijk verzorgende werkzaamhed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Voorkomen van bukken en reik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Aanpassingen (verhoogd toilet, stoel, wandelstok, looprekje, rolstoel, orthopedisch schoeisel) 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8" name="il_fi" descr="http://www.blessurewinkel.nl/html/afbeeldingen_specifiek/specifiek_18.jpg"/>
          <p:cNvPicPr/>
          <p:nvPr/>
        </p:nvPicPr>
        <p:blipFill>
          <a:blip r:embed="rId1"/>
          <a:stretch/>
        </p:blipFill>
        <p:spPr>
          <a:xfrm>
            <a:off x="4967280" y="3716280"/>
            <a:ext cx="4176720" cy="3141720"/>
          </a:xfrm>
          <a:prstGeom prst="rect">
            <a:avLst/>
          </a:prstGeom>
          <a:ln w="0">
            <a:noFill/>
          </a:ln>
        </p:spPr>
      </p:pic>
      <p:pic>
        <p:nvPicPr>
          <p:cNvPr id="259" name="il_fi" descr="http://www.remicade.nl/images/foto036_134x239.jpg"/>
          <p:cNvPicPr/>
          <p:nvPr/>
        </p:nvPicPr>
        <p:blipFill>
          <a:blip r:embed="rId2"/>
          <a:stretch/>
        </p:blipFill>
        <p:spPr>
          <a:xfrm>
            <a:off x="2367000" y="4121280"/>
            <a:ext cx="1276200" cy="22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457200" y="836640"/>
            <a:ext cx="8229600" cy="51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Behoefte aan warmte dus niet wassen met koud water (vaak warm in huis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Warme wollen kled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Sociale contac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61" name="il_fi" descr="http://www.nijha.nl/cache/paragraphs/718516_f1_800x600.jpg"/>
          <p:cNvPicPr/>
          <p:nvPr/>
        </p:nvPicPr>
        <p:blipFill>
          <a:blip r:embed="rId1"/>
          <a:stretch/>
        </p:blipFill>
        <p:spPr>
          <a:xfrm>
            <a:off x="3203640" y="3284640"/>
            <a:ext cx="38163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Wat is reuma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Reuma: verzamelnaam voor vele gewrichtsaandoenin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Reumatoïde artritis (artritis is ontsteking van gewricht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artros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Reumatoïde artriti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Chronische vorm van reuma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Auto-immuunziekt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Vaak vanaf 40</a:t>
            </a:r>
            <a:r>
              <a:rPr b="0" lang="nl-NL" sz="1800" spc="-1" strike="noStrike" baseline="30000">
                <a:solidFill>
                  <a:srgbClr val="404040"/>
                </a:solidFill>
                <a:latin typeface="Verdana"/>
                <a:ea typeface="Verdana"/>
              </a:rPr>
              <a:t>e</a:t>
            </a: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 jaar, vaker bij vrouwen dan mann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Ontsteking van de weefsels die de binnenkant van de gewrichten bekled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Oorzaak niet beken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Gewrich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12536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Ontsteking in gewrichtskapsel, gewrichtskapsel wordt dikker</a:t>
            </a:r>
            <a:r>
              <a:rPr b="0" lang="nl-NL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 pijn,zwelling,war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Kraakbeen verdwijnt</a:t>
            </a:r>
            <a:r>
              <a:rPr b="0" lang="nl-NL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 bewegingen pijnlij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Aantasting van het botweefs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0" name="il_fi" descr="http://www.reumafonds.nl/_sana_/handlers/getfile.ashx/b70910e5-59d6-4013-9084-772c151284aa/Gezond%20en%20ontstoken%20gewricht.JPG"/>
          <p:cNvPicPr/>
          <p:nvPr/>
        </p:nvPicPr>
        <p:blipFill>
          <a:blip r:embed="rId1"/>
          <a:stretch/>
        </p:blipFill>
        <p:spPr>
          <a:xfrm>
            <a:off x="1187280" y="1413000"/>
            <a:ext cx="448020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Verschijnsel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Aantasting van kleine gewrichten in handen en voe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Minder kracht en beweeglijkhei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Stijfheid(vooral s’ochtends,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Contracturen(dwangstand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Gewrichtsknobbel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pij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3" name="il_fi" descr="http://www.bndestem.nl/multimedia/archive/00737/reuma_737805b.jpg"/>
          <p:cNvPicPr/>
          <p:nvPr/>
        </p:nvPicPr>
        <p:blipFill>
          <a:blip r:embed="rId1"/>
          <a:stretch/>
        </p:blipFill>
        <p:spPr>
          <a:xfrm>
            <a:off x="5076720" y="3789360"/>
            <a:ext cx="38163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Nog meer verschijnsel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Vermoeidhei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Minder kracht en beweeglijkhei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Verminderde eetlu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Bloedarmoe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Sterk zweten, vooral `s nacht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6" name="il_fi" descr="http://www.nutrigenerics.com/UserFiles/Uploads/vermoeide-vrouw.gif"/>
          <p:cNvPicPr/>
          <p:nvPr/>
        </p:nvPicPr>
        <p:blipFill>
          <a:blip r:embed="rId1"/>
          <a:stretch/>
        </p:blipFill>
        <p:spPr>
          <a:xfrm>
            <a:off x="5219640" y="3213000"/>
            <a:ext cx="352908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0" lang="nl-NL" sz="3200" spc="-1" strike="noStrike">
                <a:solidFill>
                  <a:srgbClr val="ff0000"/>
                </a:solidFill>
                <a:latin typeface="Verdana"/>
                <a:ea typeface="Verdana"/>
              </a:rPr>
              <a:t>Onderzoeken</a:t>
            </a: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052640"/>
            <a:ext cx="8229600" cy="49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lichamelijk onderzoe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bloedonderzoe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Röntgenfoto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                     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9" name="il_fi" descr="http://www.kennislink.nl/system/files/000/031/861/small/RheumatoideArthritisAP.jpg?1257332167"/>
          <p:cNvPicPr/>
          <p:nvPr/>
        </p:nvPicPr>
        <p:blipFill>
          <a:blip r:embed="rId1"/>
          <a:stretch/>
        </p:blipFill>
        <p:spPr>
          <a:xfrm>
            <a:off x="6732720" y="2060640"/>
            <a:ext cx="1942920" cy="2520720"/>
          </a:xfrm>
          <a:prstGeom prst="rect">
            <a:avLst/>
          </a:prstGeom>
          <a:ln w="0">
            <a:noFill/>
          </a:ln>
        </p:spPr>
      </p:pic>
      <p:pic>
        <p:nvPicPr>
          <p:cNvPr id="230" name="il_fi" descr="http://www.sleutelstad.nl/public/images/241962265.434485-rontgenfoto%20jpg.jpg"/>
          <p:cNvPicPr/>
          <p:nvPr/>
        </p:nvPicPr>
        <p:blipFill>
          <a:blip r:embed="rId2"/>
          <a:stretch/>
        </p:blipFill>
        <p:spPr>
          <a:xfrm>
            <a:off x="4356000" y="2060640"/>
            <a:ext cx="201636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Behandelin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125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Geen medicijn voor genez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Wél medicijn voor symptom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Pijnstillende geneesmiddel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Gebruik van ontstekingsremmer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Ziekte vertragende reumageneesmiddel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Leefregels: gedoseerde rust, oefeningen om stijfheid en contracturen tegen te gaan, geschikt matras, voeding met voldoende eiwit en kal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Opereren: kunstgewrich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Verdana"/>
                <a:ea typeface="Verdana"/>
              </a:rPr>
              <a:t>Aandachtspunten bij zorgvragers met chronische reuma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69992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Bedhouding bij bedru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Lichaamshouding (aangepaste stoel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Contractuurpreven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Voed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Schoeis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Temperatuur en vochtighei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99ca3c"/>
                </a:solidFill>
                <a:uFillTx/>
                <a:latin typeface="Verdana"/>
                <a:ea typeface="Verdana"/>
                <a:hlinkClick r:id="rId1"/>
              </a:rPr>
              <a:t>Wat is reuma? - YouTub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2:50:28Z</dcterms:created>
  <dc:creator>Gebruiker</dc:creator>
  <dc:description/>
  <dc:language>en-US</dc:language>
  <cp:lastModifiedBy>Sandra Kreuning</cp:lastModifiedBy>
  <dcterms:modified xsi:type="dcterms:W3CDTF">2017-10-10T08:29:43Z</dcterms:modified>
  <cp:revision>58</cp:revision>
  <dc:subject/>
  <dc:title>RHEUMA</dc:title>
</cp:coreProperties>
</file>