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4F8-1C07-46EE-9F8B-749ABBCD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D6A-3C07-46B6-8CFC-900713AD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F0D080-8E6E-4F18-A3A9-C67B92D1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445808-D230-4F70-81F5-076BFD21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3CB137-7BC6-41D9-80E9-A742178B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2A899-899E-4777-972E-C6C2E8EC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FFFAC-18A4-4005-93F9-C740A7F9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9B2CC-4010-41E7-B403-FD9EC8C6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9DA188-B05D-4190-98CE-4AB4252F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7E34E-B1C0-4414-BA0D-049CABCB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37E94-F4FF-4EE0-AA57-DDF71A6D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8FF69-D625-436E-8118-C0863C18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1F1-61DB-406C-B588-27218660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FF91A-9855-4139-A238-2704ED0E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DD755-D5B7-498E-B1D8-1DEC7A90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5D4DF-4E93-4601-8C88-8F9FC1B2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D8CCF-A95C-4ABC-97FB-BCE77D15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FA1FB-DF9F-44DE-9407-5A503C1B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7A2960-7C6A-4D09-A48A-BE924D26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406E27-658D-4A0A-A8DA-6E50CF4D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9A1C6-961E-4331-B4B5-D2467560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D0D55-40C9-4696-85A5-FB7CDEB3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A1702-D974-49DD-BBFF-A97F8A32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DED8-593A-46A5-B7A9-07F6ABBC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30808-F8A2-4A1F-B1D2-8BDE9323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F2A59-96A9-4B47-A84B-0A37142B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CFB64-D413-412B-8AB0-B1B4B331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AC4FD-87C9-42A3-B058-1BD671E8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5B38C-86FE-418D-A10B-158A37F0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929F3-7D38-486F-8CB6-D3B5711F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4C23F-F798-42E0-89B1-F4C65DD6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53A15-B781-440F-8AE4-B39D61E0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B6311-F192-488F-AC91-D35B0469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F452A-C18C-4196-879A-F19873FE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BB16-D0C7-4F86-9D16-0DA99BFB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344B2-D4E1-4EF9-9A08-065193B9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0FE4B-D3B3-4288-A440-4C2FB1F0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877B0-AF32-4B18-9D91-CD89FBEB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1525A-3ECD-415C-AC84-B9A63E42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3D6E7F-C314-4031-8A2A-E748A567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8D61FD-0255-488A-8692-6BB5BBE1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4501F1-7481-452C-9029-1EF5741F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6D8C6-3008-40E1-A16B-85C56CDD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F4FED1-22AD-47E4-90B2-E66E2B5F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065EDD-479E-498C-A490-60C41461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7DFC-5563-49FA-B301-8013EBC0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17B7F-D0F7-4D7E-A094-7521DDB4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AFF91E-A3B9-4017-BFB1-C8558098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AF7D9-7D6B-4625-B0C8-C113084C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864D3-98FB-4AC3-9B4B-DD986C67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38097-9B63-4981-A31D-3D7EBBEF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29E8-AC74-4972-ACAC-C5EF2B13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A20B-66C9-45D0-9124-8E164EB1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23F8-E05A-49BF-A9A4-F8FD36EE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7E72-F56D-463F-BD61-9CA959B3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2499-55C4-467C-B0A2-33494298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EC0-E9A3-4ABE-B4AC-7633A576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DAB8-1BD0-495B-AD8C-4C359636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D682-520A-4ADF-AFA1-98816EA5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A9DD-B92C-435E-AE15-FD354109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5CE3-7360-4CED-A3C3-51E9D8B1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6FC5-BB7F-44BF-A8ED-46ED6A9B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E8F96-BFBC-4BF3-B812-A9FAA5ED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6E7B6-9F71-4E2F-9A9F-3C98FB3C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E6DD8-D9EB-47D0-889E-246E23A5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802D0-5434-4E6B-A438-3C336F7C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E8B29-EE96-4504-9294-8E454839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C5C0-DFE5-4D1A-8E22-99DA2FEA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B14A5-E207-4C03-B6EA-4552BF7F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96C2F-0B9B-4DC0-A7FD-3B07DA5F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4D552-B94C-49DD-ACEC-A68F5C0A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62A5E-025A-4209-A73E-13B7552D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C0D07-16A3-4758-8165-BA832B46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4815A-AA1D-41CC-8A57-94698241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55F00-C4B2-4179-B637-F1CF93C8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C6CA9-DE49-4432-BA0A-0D381388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2B36B-085C-4BA0-BF5C-17216A24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D978D-88B4-4831-BD9B-5BACA197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D5D-9E68-4AD5-8902-07E27398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7E484-A893-4602-84BF-AE13FBD9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7A633-CAA8-4260-88A9-2A0DDEF2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C0B02-2542-4E33-BDF3-B98394D8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87E0C-64B2-4771-AF3F-5C8EE904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AF13B-A998-48A8-87E4-04EE6B8C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C1AFC-ED86-4FDA-8B34-E2CB8411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7F7CF-359A-47EF-9400-186A1300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7947A-1C2C-4655-A761-67142A18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A95AB-7A52-4DBE-BC91-69DADA1A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1309A-7C29-4E9E-B159-B63272B5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DD00-671E-41B1-B78C-98996BE1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8B0B2-CDB1-4FB2-B67B-85413957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B3248-4EF9-4F1B-A468-8AF04DC7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ED77D-0260-4FC6-A305-4D21E7A6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E6D4A-5A42-42E2-8E02-3666C04A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69518-963A-491F-BD9C-FFBB2E7F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4008B-BF0E-4389-9B66-E3E0BC47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9D5ED-B4FF-476E-B797-8A4C9DAB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387CF-E3CD-452D-9E87-D65241B5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F04C0-79B4-475C-815B-2B452123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6F0CA-CD6A-4027-AEBA-BF51DDC3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1797-2538-4A63-8306-0830769D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1155C-14B1-4C44-9B05-AE93AA4E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AC56D-74EA-43B1-8B8D-39A57017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10D3D-6CAB-4586-B4B9-2AD0331C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E7FCA-F769-4DFF-B4C5-676D7BDC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2B0EF-24C4-4128-9899-1C32EECD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A32D8-440D-4948-826F-62FD5EB9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4EC61-B30D-431B-8F92-E0FD9010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D1D54-84DE-47D8-BC14-C5FE09D1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681D2-D68C-45D0-AAB3-022A61B3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F08A7-0097-4D68-8E9C-0BDE356E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283-3BEB-4BB2-BE3E-97B24F15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65A4E-D2EB-40D1-9043-AF8DD5F3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394CC-0FBD-45C0-9C08-105D87CC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03635-A41D-4A58-B577-733BE028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A3271-E4C2-4348-813D-52394198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8428B-6E65-4B13-84AC-1963A255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2A693-C8B5-407D-BDB8-1357E05A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F4683-51A3-43A9-8B56-673298F8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8CAB7-2EEA-406E-A876-72C6F0BC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65288-5D49-4B62-996A-4B3C1738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478B9-0B9C-4656-8FC9-CE59AEEF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0947-A562-48FE-95A3-AC794EF8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87B30-FCBD-4F46-B0E1-70E9A2BA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82CCB-2178-4A60-A4B6-BC8FD5A3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7048F-2628-4A9A-A2ED-F6639736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FA556-FAF1-446B-95A0-19474DE8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B9B9B-0E7D-4C5A-8CA1-FBAF2859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EC834-0B3D-4B55-A4E6-3B74F3E8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3D62F-ECED-49E4-A18B-3C1F1C83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4A7CF-EFA5-4C62-8E7C-6A6FCFEA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EE9A5-D7E5-4204-9255-AAB22154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6247F-0D7C-4E5D-A770-19EECCFA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9253-F032-410A-A309-3006F725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C9CCF-55F0-48FF-8AC2-E98E82AC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5A989-87D5-4DC9-902E-DE106D6F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F9BE1-CF00-49CF-AD59-088BB4BB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F40E9-6237-47A2-B438-0398C55A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AC421-66AD-439E-BDF2-BF4C84B2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ED9C9-61FC-4BC2-B36B-6682182E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BA662-DD7C-47D4-8FDC-0D581D99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7572B-689B-484B-9448-A52FD5DA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F93AE-4610-44C7-8130-47B6A408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D0931-0108-4082-9FFF-09C8AF87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431D-9F77-4650-B9DB-785617C7FAD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968A-ED1D-442F-95C0-9817CFBD1C1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AB00-958F-4EED-AAA8-10B5C302358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F14C-159B-40C7-A391-8C808DE1F608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E55E-E71D-4DA4-B308-186EA9684368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99FA-F6DF-4C1D-BDE3-AB0FC96D8FBC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15B9-06F0-4F3B-9268-77C321F3E00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340E-25FF-4164-A73A-3C73A8822E9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B1CE-F7AE-44D5-9A04-C7D053DCABB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FACB-07A0-4BC2-BDFC-51ECEB43DC9B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F041-C07B-44C9-A423-D30078F2F197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89F6-27CB-4326-8F16-2AFF1965289F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d16349"/>
                </a:solidFill>
                <a:latin typeface="Georgia"/>
              </a:rPr>
              <a:t>Infectie en ontsteking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3059280" y="3860640"/>
            <a:ext cx="3097080" cy="23241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eorgia"/>
              </a:rPr>
              <a:t>Wat kun je er aan doen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68360" y="2276280"/>
            <a:ext cx="8051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ichaam zelf: aanmaak antistoffen (immuu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ymptomatische behan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 viruss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rkoudheid, griep (influenza), acute darminfectie, waterpokken, gordelroos, koortslip, Pfeiffer, AIDS, meningit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Schimmels en gist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onder microscoop als dra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op aanwezig op licha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schimmels = commensale schimmel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 plaats van ziekte te veroorzaken, beschermt de commensale flora het lichaam tegen ziekteverwekkende organismen. Indien de commensale flora wordt verstoord, herstelt deze zich weer snel.   Spruw - ba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enwicht raakt verstoord door allerlei oorz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 (een ziekteverwekker van biologische oorsprong) schimmel, bijv. voetschimm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plaats, last, jeuk, week, n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8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schimmel: medic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Worm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met blote oo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Aarsmade (enterobi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Spoel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ia vingers en mo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s in omge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uw varkensvlees/ rundvle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gewassen gro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deren in de zand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komen van zelf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ygië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ijnen: mebendazol = Vermox, madic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recept verkrijgba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Passieve en actieve immunis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Georgia"/>
              </a:rPr>
              <a:t>Pass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krijgt antistoffen van een and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kind van moeder via de placenta en moedermelk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Inenting met antistoffen. Werkt niet heel la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Georgia"/>
              </a:rPr>
              <a:t>Act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lichaam maakt zelf antistoffen aa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maakt een infectie doo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Vaccinatie met dode of verzwakte ziekteverwekke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Georgia"/>
              </a:rPr>
              <a:t>Vaccin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750960" y="1527120"/>
            <a:ext cx="760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Ontsteking / infec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ontsteking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is een (plaatselijke) reactie van het lichaam op een willekeurige schadelijke prikk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infectie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 na infectie handhaven en vermenigvuldigen van een ziekteverwekker = bacterie, virus, schimmel of gist, worm of protoz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Bacterië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ééncellig, onder gewone microscoop te 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werpig (staaf) of rond (ko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bacteriën = commensal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adelijke bacteriën = pathoge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n in het lichaam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26920" y="1557360"/>
            <a:ext cx="76932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ijn, zwelling, roodheid, warmte, gestoorde functi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ukocyten als afwe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= leukocyt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+ bacteriën = infiltra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usvorming (dode leuko’s + bac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in holte = ab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angs gangetje = fistel (geneest niet goed zelf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84000" y="549000"/>
            <a:ext cx="7908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afsterven leuko’s + bacteriën komen stoffen vrij die onze lich.temp doen stijgen = koor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orts = lichaamstemperatuur van 38°Cof hog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rectaal gemeten) oor en oraal kan is niet zo prec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acteriën in bloedbaan = sepsis = zeer hoge koorts + levensgevaar / bloedvergiftig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853452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Wat kun je er aan doen</a:t>
            </a: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lichaam zelf, aanmaak antistoffen (immuun)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Antibiotica: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esistentie / overgevoelighei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Voorbeelden bacteriee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laas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rbekkenontsteking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teenpuist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ndroo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bc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e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ingitis (nekkramp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Viruss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, alleen te zien onder sterke electronenmicr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nigvuldigt zich ten koste van lichaamcel, cel breekt a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rijgekomen virus gaat naar volgende cellen, etc.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pgezette lymfeklieren, soms koorts, verder afhankelijk van ple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focyten als afwe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worden gemaakt in lymfekliere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9:00:12Z</dcterms:created>
  <dc:creator>vredelust</dc:creator>
  <dc:description/>
  <dc:language>en-US</dc:language>
  <cp:lastModifiedBy>Sandra Kreuning</cp:lastModifiedBy>
  <dcterms:modified xsi:type="dcterms:W3CDTF">2018-07-11T10:20:32Z</dcterms:modified>
  <cp:revision>54</cp:revision>
  <dc:subject/>
  <dc:title>infectieziekten</dc:title>
</cp:coreProperties>
</file>