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3649-6A52-4FB4-958B-6975D3D1B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5CB4-AFCB-4BF3-A857-AC961A08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36E5-703A-4B8C-9031-7347AA33B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230C-BAB9-4F18-86E2-766F4A928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B299A-CB0F-443C-B368-516E86480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CFFB-030F-4AB9-851F-88399333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BBC4-6E68-498E-AA73-C269CBE8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D833-8912-4CE6-BF74-2849EDCD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EF71-F1E1-42D3-AA93-4450CE7E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D012D-741C-4196-8CC3-9401B5B1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64F2-D6C6-4C84-AF0D-3674F3CC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9605-B544-489C-86F9-C9E8F8D5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F34F-9F62-4E22-AAF7-D4CE4A48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0D2D8-385D-4254-B883-ED7547D4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F4A8-6124-48CC-AB6C-379D05EE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E418-6C03-4173-A1BC-DACA0867A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00396-CE04-4771-9F12-3039B1FB3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85CE8-9021-47D5-BF2D-A3F773715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7B5FE-E76A-412C-98A0-1E755F1B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19A9A-FEB0-4CCD-B6AA-BAFA8222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75ED1-89D9-43CD-937C-D487A85D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CB594-7175-42E2-B8E6-12DD979F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A29F-9EDE-4214-A526-088C3365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462F1-6A5A-43D6-B5F2-A8631CC0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AE50D-B21A-40DB-AD5C-D762F256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6BFF7-D3E3-4010-9651-E95276DA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FFA18-9C01-46C5-B272-EFBA0489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F733C-E6E7-42E1-8594-C96DE92E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F8873-216C-401E-B796-98330AD85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D8D3B-4587-44EE-9BEC-F77E28748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7860F-8BF2-472C-9294-C46827AB2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B8174-68C7-47C7-BB9F-C0AB318D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2E1DC-1918-4EE5-8A31-65CFF57A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7A0C-09BE-4ADE-BC04-6BE6C1A0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52827-1CF0-4266-8624-B3969F99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187C8-C60A-497D-9614-E4718770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C312B-1DA7-49AB-BA7C-00A1C435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0D801-BAC5-4F84-8D17-D29ECAA3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5C086-0DD6-41B4-8FEF-4F8D4748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61F25-4598-4DB7-AAD6-819D5F96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D0CEF-E36E-4C47-B47F-3ACDCFAF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B4BD2-D93F-4786-B8AF-0C39A4251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F8E12-438C-4804-BAC1-57F149C68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55C5-BC81-43BF-82A7-5968E10B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9E7E-0604-4CDA-A6AE-E1455454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0F3F-ECBF-4734-9BD0-D8C517E6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21FE-57A5-4666-BF12-9D35B49A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9A8E-0167-4193-9F5C-36A6BEF1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4B5A0A-C889-4300-88A3-B2F3F225B859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98F80E-7BF9-492C-A55E-CEED71B24874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953008-3BD4-4B7C-8F5A-F07575F90781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809A98-A098-474F-9AF1-647249DA6B9C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OY4wwAW1Zko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5agOnV0gvfA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8800" spc="-1" strike="noStrike">
                <a:solidFill>
                  <a:srgbClr val="ff0000"/>
                </a:solidFill>
                <a:latin typeface="Verdana"/>
                <a:ea typeface="Verdana"/>
              </a:rPr>
              <a:t>REUMA</a:t>
            </a:r>
            <a:endParaRPr b="0" lang="en-US" sz="8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3" name="il_fi" descr="http://primawebshop.nl/medias/sys_master/8451887846401664.jpg"/>
          <p:cNvPicPr/>
          <p:nvPr/>
        </p:nvPicPr>
        <p:blipFill>
          <a:blip r:embed="rId1"/>
          <a:stretch/>
        </p:blipFill>
        <p:spPr>
          <a:xfrm>
            <a:off x="684360" y="1268280"/>
            <a:ext cx="59752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Artros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Ziekte van het bewegingsapparaat die zich meestal op hogere leeftijd openbaart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rtrose is een reumatische aandoening waarbij het gewrichtskraakbeen in kwaliteit achteruitgaat en dunner en zachter wordt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Een degeneratieve ziekt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3488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Wat gebeurt er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Gewrichtskraakbeen verander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Er ontstaan kleine scheurtjes spleten en groeven in het kraakbeen en botwoekeringen aan de randen van de aangedane gewrich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Irritatie van het gewrichtskaps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aak één gewricht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9" name="il_fi" descr="http://www.reumafonds.nl/_sana_/handlers/getfile.ashx/de582bf1-cad6-400a-a9dc-61472e104712/Artrose_gezond_en_artrotisch_gewricht.jpg"/>
          <p:cNvPicPr/>
          <p:nvPr/>
        </p:nvPicPr>
        <p:blipFill>
          <a:blip r:embed="rId1"/>
          <a:stretch/>
        </p:blipFill>
        <p:spPr>
          <a:xfrm>
            <a:off x="4788000" y="4149720"/>
            <a:ext cx="414000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Meest voorkomend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ne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onderru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knieë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heupen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dui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vinger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2" name="il_fi" descr="http://groesland.nl/images/Artrose.jpg"/>
          <p:cNvPicPr/>
          <p:nvPr/>
        </p:nvPicPr>
        <p:blipFill>
          <a:blip r:embed="rId1"/>
          <a:stretch/>
        </p:blipFill>
        <p:spPr>
          <a:xfrm>
            <a:off x="3995640" y="1413000"/>
            <a:ext cx="4321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Ontstaan artros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Chronisch, gaat niet ov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Erfelijke oorzaak(mogelijk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eschadiging van gewricht door langdurige verkeerde belast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 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spor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 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wer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vergewi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klacht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tijf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Pijn bij bewegen, vooral na r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Moeite met bewe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Zwel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houdingsafwijki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ff0000"/>
                </a:solidFill>
                <a:latin typeface="Verdana"/>
                <a:ea typeface="Verdana"/>
              </a:rPr>
              <a:t>Voorkomen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orkomen van verkeerde belast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orkomen van overbelasting van gewri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9" name="il_fi" descr="http://ikslijtsnel.punt.nl/upload/verkeerde_houding.jpg"/>
          <p:cNvPicPr/>
          <p:nvPr/>
        </p:nvPicPr>
        <p:blipFill>
          <a:blip r:embed="rId1"/>
          <a:stretch/>
        </p:blipFill>
        <p:spPr>
          <a:xfrm>
            <a:off x="755640" y="2997360"/>
            <a:ext cx="2664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Behandel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Geen medicijnen om te genez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Wel medicijnen voor symptomen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Pijnstillers, ontstekingsremmer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orkomen van contractu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 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contractuur= 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2" name="il_fi" descr="http://www.pedicure-asten.nl/attachments/Image/reuma1.jpg"/>
          <p:cNvPicPr/>
          <p:nvPr/>
        </p:nvPicPr>
        <p:blipFill>
          <a:blip r:embed="rId1"/>
          <a:stretch/>
        </p:blipFill>
        <p:spPr>
          <a:xfrm>
            <a:off x="3708360" y="3789360"/>
            <a:ext cx="4464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57200" y="9806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efenen en fysiotherap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m belasting van gewrichten te vermind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peratie (kunstgewricht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99ca3c"/>
                </a:solidFill>
                <a:uFillTx/>
                <a:latin typeface="Verdana"/>
                <a:ea typeface="Verdana"/>
                <a:hlinkClick r:id="rId1"/>
              </a:rPr>
              <a:t>artros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4" name="il_fi" descr="http://www.stop-artrose.org/wp-content/uploads/2010/01/heup-kunstgewricht.jpg"/>
          <p:cNvPicPr/>
          <p:nvPr/>
        </p:nvPicPr>
        <p:blipFill>
          <a:blip r:embed="rId2"/>
          <a:stretch/>
        </p:blipFill>
        <p:spPr>
          <a:xfrm>
            <a:off x="6012000" y="4653000"/>
            <a:ext cx="2808000" cy="1989000"/>
          </a:xfrm>
          <a:prstGeom prst="rect">
            <a:avLst/>
          </a:prstGeom>
          <a:ln w="0">
            <a:noFill/>
          </a:ln>
        </p:spPr>
      </p:pic>
      <p:pic>
        <p:nvPicPr>
          <p:cNvPr id="255" name="il_fi" descr="http://webserv.nhl.nl/~oostmeij/fig-map/cartoons/obelix_ik%20ben%20niet%20dik_b.jpg"/>
          <p:cNvPicPr/>
          <p:nvPr/>
        </p:nvPicPr>
        <p:blipFill>
          <a:blip r:embed="rId3"/>
          <a:stretch/>
        </p:blipFill>
        <p:spPr>
          <a:xfrm>
            <a:off x="684360" y="1916280"/>
            <a:ext cx="3456000" cy="23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Omgaan met artros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ndersteuning bij huishoudelijk verzorgende werkzaamhed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orkomen van bukken en reik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anpassingen (verhoogd toilet, stoel, wandelstok, looprekje, rolstoel, orthopedisch schoeisel) 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8" name="il_fi" descr="http://www.blessurewinkel.nl/html/afbeeldingen_specifiek/specifiek_18.jpg"/>
          <p:cNvPicPr/>
          <p:nvPr/>
        </p:nvPicPr>
        <p:blipFill>
          <a:blip r:embed="rId1"/>
          <a:stretch/>
        </p:blipFill>
        <p:spPr>
          <a:xfrm>
            <a:off x="4967280" y="3716280"/>
            <a:ext cx="4176720" cy="3141720"/>
          </a:xfrm>
          <a:prstGeom prst="rect">
            <a:avLst/>
          </a:prstGeom>
          <a:ln w="0">
            <a:noFill/>
          </a:ln>
        </p:spPr>
      </p:pic>
      <p:pic>
        <p:nvPicPr>
          <p:cNvPr id="259" name="il_fi" descr="http://www.remicade.nl/images/foto036_134x239.jpg"/>
          <p:cNvPicPr/>
          <p:nvPr/>
        </p:nvPicPr>
        <p:blipFill>
          <a:blip r:embed="rId2"/>
          <a:stretch/>
        </p:blipFill>
        <p:spPr>
          <a:xfrm>
            <a:off x="2367000" y="4121280"/>
            <a:ext cx="127620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836640"/>
            <a:ext cx="822960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ehoefte aan warmte dus niet wassen met koud water (vaak warm in huis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Warme wollen kle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ociale contac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1" name="il_fi" descr="http://www.nijha.nl/cache/paragraphs/718516_f1_800x600.jpg"/>
          <p:cNvPicPr/>
          <p:nvPr/>
        </p:nvPicPr>
        <p:blipFill>
          <a:blip r:embed="rId1"/>
          <a:stretch/>
        </p:blipFill>
        <p:spPr>
          <a:xfrm>
            <a:off x="3203640" y="3284640"/>
            <a:ext cx="3816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Wat is reuma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Reuma: verzamelnaam voor vele gewrichtsaandoeni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Reumatoïde artritis (artritis is ontsteking van gewricht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rtros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Reumatoïde artriti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Chronische vorm van reuma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uto-immuunziekt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aak vanaf 40</a:t>
            </a:r>
            <a:r>
              <a:rPr b="0" lang="nl-NL" sz="1800" spc="-1" strike="noStrike" baseline="30000">
                <a:solidFill>
                  <a:srgbClr val="404040"/>
                </a:solidFill>
                <a:latin typeface="Verdana"/>
                <a:ea typeface="Verdana"/>
              </a:rPr>
              <a:t>e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jaar, vaker bij vrouwen dan man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ntsteking van de weefsels die de binnenkant van de gewrichten bekled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orzaak niet beken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Gewrich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12536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ntsteking in gewrichtskapsel, gewrichtskapsel wordt dikker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pijn,zwelling,war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Kraakbeen verdwijnt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bewegingen pijnlij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antasting van het botweefs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0" name="il_fi" descr="http://www.reumafonds.nl/_sana_/handlers/getfile.ashx/b70910e5-59d6-4013-9084-772c151284aa/Gezond%20en%20ontstoken%20gewricht.JPG"/>
          <p:cNvPicPr/>
          <p:nvPr/>
        </p:nvPicPr>
        <p:blipFill>
          <a:blip r:embed="rId1"/>
          <a:stretch/>
        </p:blipFill>
        <p:spPr>
          <a:xfrm>
            <a:off x="1187280" y="1413000"/>
            <a:ext cx="448020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Verschijns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antasting van kleine gewrichten in handen en voe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Minder kracht en beweeglijk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tijfheid(vooral s’ochtends,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Contracturen(dwangstand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Gewrichtsknobbe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pij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3" name="il_fi" descr="http://www.bndestem.nl/multimedia/archive/00737/reuma_737805b.jpg"/>
          <p:cNvPicPr/>
          <p:nvPr/>
        </p:nvPicPr>
        <p:blipFill>
          <a:blip r:embed="rId1"/>
          <a:stretch/>
        </p:blipFill>
        <p:spPr>
          <a:xfrm>
            <a:off x="5076720" y="3789360"/>
            <a:ext cx="38163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Nog meer verschijns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ermoeid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Minder kracht en beweeglijk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erminderde eetl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loedarmoe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terk zweten, vooral `s nach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6" name="il_fi" descr="http://www.nutrigenerics.com/UserFiles/Uploads/vermoeide-vrouw.gif"/>
          <p:cNvPicPr/>
          <p:nvPr/>
        </p:nvPicPr>
        <p:blipFill>
          <a:blip r:embed="rId1"/>
          <a:stretch/>
        </p:blipFill>
        <p:spPr>
          <a:xfrm>
            <a:off x="5219640" y="3213000"/>
            <a:ext cx="35290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0000"/>
                </a:solidFill>
                <a:latin typeface="Verdana"/>
                <a:ea typeface="Verdana"/>
              </a:rPr>
              <a:t>Onderzoeken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052640"/>
            <a:ext cx="822960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lichamelijk onderzoe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loedonderzoe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Röntgenfoto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            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il_fi" descr="http://www.kennislink.nl/system/files/000/031/861/small/RheumatoideArthritisAP.jpg?1257332167"/>
          <p:cNvPicPr/>
          <p:nvPr/>
        </p:nvPicPr>
        <p:blipFill>
          <a:blip r:embed="rId1"/>
          <a:stretch/>
        </p:blipFill>
        <p:spPr>
          <a:xfrm>
            <a:off x="6732720" y="2060640"/>
            <a:ext cx="1942920" cy="2520720"/>
          </a:xfrm>
          <a:prstGeom prst="rect">
            <a:avLst/>
          </a:prstGeom>
          <a:ln w="0">
            <a:noFill/>
          </a:ln>
        </p:spPr>
      </p:pic>
      <p:pic>
        <p:nvPicPr>
          <p:cNvPr id="230" name="il_fi" descr="http://www.sleutelstad.nl/public/images/241962265.434485-rontgenfoto%20jpg.jpg"/>
          <p:cNvPicPr/>
          <p:nvPr/>
        </p:nvPicPr>
        <p:blipFill>
          <a:blip r:embed="rId2"/>
          <a:stretch/>
        </p:blipFill>
        <p:spPr>
          <a:xfrm>
            <a:off x="4356000" y="2060640"/>
            <a:ext cx="20163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Behandel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Geen medicijn voor genez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Wél medicijn voor symptom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Pijnstillende geneesmiddel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Gebruik van ontstekingsremmer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Ziekte vertragende reumageneesmiddel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Leefregels: gedoseerde rust, oefeningen om stijfheid en contracturen tegen te gaan, geschikt matras, voeding met voldoende eiwit en kal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pereren: kunstgewri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Verdana"/>
                <a:ea typeface="Verdana"/>
              </a:rPr>
              <a:t>Aandachtspunten bij zorgvragers met chronische reuma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9992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edhouding bij bedr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Lichaamshouding (aangepaste stoel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Contractuurpreven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e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choeis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Temperatuur en vochtig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99ca3c"/>
                </a:solidFill>
                <a:uFillTx/>
                <a:latin typeface="Verdana"/>
                <a:ea typeface="Verdana"/>
                <a:hlinkClick r:id="rId1"/>
              </a:rPr>
              <a:t>Wat is reuma? - YouTub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2:50:28Z</dcterms:created>
  <dc:creator>Gebruiker</dc:creator>
  <dc:description/>
  <dc:language>en-US</dc:language>
  <cp:lastModifiedBy>Sandra Kreuning</cp:lastModifiedBy>
  <dcterms:modified xsi:type="dcterms:W3CDTF">2017-10-10T08:29:43Z</dcterms:modified>
  <cp:revision>58</cp:revision>
  <dc:subject/>
  <dc:title>RHEUMA</dc:title>
</cp:coreProperties>
</file>