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Symposium Sport &amp; Bewegen Ensche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5480B-C3B5-4819-AF73-70B901440F3A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Symposium Sport &amp; Bewegen Enschede</a:t>
            </a:r>
            <a:endParaRPr b="1" lang="en-US" sz="12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0F594-D2CA-4B0C-9F46-EEDA5BF1786E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1F69F-CA5C-4A87-B40B-76694F265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743200" y="1447560"/>
            <a:ext cx="58672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743200" y="3875400"/>
            <a:ext cx="58672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CE73A-4B5F-4649-9486-5B139E4FC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43200" y="1447560"/>
            <a:ext cx="28630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749920" y="1447560"/>
            <a:ext cx="28630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743200" y="3875400"/>
            <a:ext cx="28630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749920" y="3875400"/>
            <a:ext cx="28630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372AA-F426-456F-80C6-35B2A3127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743200" y="1447560"/>
            <a:ext cx="18889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26800" y="1447560"/>
            <a:ext cx="18889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710760" y="1447560"/>
            <a:ext cx="18889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743200" y="3875400"/>
            <a:ext cx="18889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726800" y="3875400"/>
            <a:ext cx="18889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710760" y="3875400"/>
            <a:ext cx="18889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02A49-5B6C-47BD-956C-AADF84A52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2743200" y="1447560"/>
            <a:ext cx="586728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743200" y="1447560"/>
            <a:ext cx="58672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743200" y="1447560"/>
            <a:ext cx="28630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749920" y="1447560"/>
            <a:ext cx="28630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228600" y="685440"/>
            <a:ext cx="86868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743200" y="1447560"/>
            <a:ext cx="28630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749920" y="1447560"/>
            <a:ext cx="28630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2743200" y="3875400"/>
            <a:ext cx="28630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743200" y="1447560"/>
            <a:ext cx="586728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6D5AB-5263-434B-A73D-8C60F11A0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43200" y="1447560"/>
            <a:ext cx="28630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749920" y="1447560"/>
            <a:ext cx="28630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749920" y="3875400"/>
            <a:ext cx="28630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743200" y="1447560"/>
            <a:ext cx="28630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749920" y="1447560"/>
            <a:ext cx="28630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2743200" y="3875400"/>
            <a:ext cx="58672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743200" y="1447560"/>
            <a:ext cx="58672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2743200" y="3875400"/>
            <a:ext cx="58672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743200" y="1447560"/>
            <a:ext cx="28630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749920" y="1447560"/>
            <a:ext cx="28630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743200" y="3875400"/>
            <a:ext cx="28630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5749920" y="3875400"/>
            <a:ext cx="28630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743200" y="1447560"/>
            <a:ext cx="18889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26800" y="1447560"/>
            <a:ext cx="18889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710760" y="1447560"/>
            <a:ext cx="18889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2743200" y="3875400"/>
            <a:ext cx="18889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4726800" y="3875400"/>
            <a:ext cx="18889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710760" y="3875400"/>
            <a:ext cx="18889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743200" y="1447560"/>
            <a:ext cx="58672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2F637-115E-4634-B61F-16A175485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743200" y="1447560"/>
            <a:ext cx="28630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749920" y="1447560"/>
            <a:ext cx="28630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4AB1C-596D-43A7-93CF-759BB641B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98073-528F-4634-97F6-EC27057AE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685440"/>
            <a:ext cx="86868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6E3EF-ABF9-41A7-9D43-1E402D50F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743200" y="1447560"/>
            <a:ext cx="28630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749920" y="1447560"/>
            <a:ext cx="28630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743200" y="3875400"/>
            <a:ext cx="28630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23A16-DE4B-4103-B376-31043E74C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743200" y="1447560"/>
            <a:ext cx="28630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749920" y="1447560"/>
            <a:ext cx="28630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749920" y="3875400"/>
            <a:ext cx="28630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0B685-CF73-42E8-A739-1D34180E2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743200" y="1447560"/>
            <a:ext cx="28630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749920" y="1447560"/>
            <a:ext cx="28630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743200" y="3875400"/>
            <a:ext cx="58672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CA8D3-C5C4-421E-AD4A-995155A1F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743200" y="1447560"/>
            <a:ext cx="58672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c4274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c4274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2c42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c4274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c4274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c4274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c4274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c4274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066680" y="647676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714640" y="6400440"/>
            <a:ext cx="2895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360" y="0"/>
            <a:ext cx="685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D30FE-07D4-47D3-92D7-CF2523110FF4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743200" y="1447560"/>
            <a:ext cx="58672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c4274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c4274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2c42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c4274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c4274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c4274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c4274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c4274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4"/>
          </p:nvPr>
        </p:nvSpPr>
        <p:spPr>
          <a:xfrm>
            <a:off x="60958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hyperlink" Target="http://nl.wikipedia.org/wiki/Afbeelding:Insulin_pump_with_infusion_set.jpg" TargetMode="External"/><Relationship Id="rId7" Type="http://schemas.openxmlformats.org/officeDocument/2006/relationships/image" Target="../media/image5.jpeg"/><Relationship Id="rId8" Type="http://schemas.openxmlformats.org/officeDocument/2006/relationships/hyperlink" Target="http://nl.wikipedia.org/wiki/Afbeelding:Glucose_test.JPG" TargetMode="External"/><Relationship Id="rId9" Type="http://schemas.openxmlformats.org/officeDocument/2006/relationships/image" Target="../media/image6.jpeg"/><Relationship Id="rId1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hyperlink" Target="http://nl.wikipedia.org/wiki/Hartinfarct" TargetMode="External"/><Relationship Id="rId4" Type="http://schemas.openxmlformats.org/officeDocument/2006/relationships/hyperlink" Target="http://nl.wikipedia.org/wiki/Cerebrovasculair_accident" TargetMode="External"/><Relationship Id="rId5" Type="http://schemas.openxmlformats.org/officeDocument/2006/relationships/hyperlink" Target="http://nl.wikipedia.org/wiki/Nierfalen" TargetMode="External"/><Relationship Id="rId6" Type="http://schemas.openxmlformats.org/officeDocument/2006/relationships/image" Target="../media/image2.jpeg"/><Relationship Id="rId7" Type="http://schemas.openxmlformats.org/officeDocument/2006/relationships/hyperlink" Target="http://nl.wikipedia.org/wiki/Netvlies" TargetMode="External"/><Relationship Id="rId8" Type="http://schemas.openxmlformats.org/officeDocument/2006/relationships/image" Target="../media/image2.jpeg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nl.wikipedia.org/wiki/Glucose" TargetMode="External"/><Relationship Id="rId3" Type="http://schemas.openxmlformats.org/officeDocument/2006/relationships/hyperlink" Target="http://nl.wikipedia.org/wiki/Bloed" TargetMode="External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hyperlink" Target="http://nl.wikipedia.org/wiki/Diabetes_mellitus" TargetMode="External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nl.wikipedia.org/wiki/Stofwisselingsziekte" TargetMode="External"/><Relationship Id="rId3" Type="http://schemas.openxmlformats.org/officeDocument/2006/relationships/hyperlink" Target="http://nl.wikipedia.org/wiki/Glucose" TargetMode="External"/><Relationship Id="rId4" Type="http://schemas.openxmlformats.org/officeDocument/2006/relationships/hyperlink" Target="http://nl.wikipedia.org/wiki/Sacharose" TargetMode="External"/><Relationship Id="rId5" Type="http://schemas.openxmlformats.org/officeDocument/2006/relationships/hyperlink" Target="http://nl.wikipedia.org/wiki/Cel_%28biologie%29" TargetMode="External"/><Relationship Id="rId6" Type="http://schemas.openxmlformats.org/officeDocument/2006/relationships/hyperlink" Target="http://nl.wikipedia.org/wiki/Insuline" TargetMode="External"/><Relationship Id="rId7" Type="http://schemas.openxmlformats.org/officeDocument/2006/relationships/hyperlink" Target="http://nl.wikipedia.org/wiki/Receptor" TargetMode="External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hyperlink" Target="http://nl.wikipedia.org/wiki/Polyurie" TargetMode="External"/><Relationship Id="rId4" Type="http://schemas.openxmlformats.org/officeDocument/2006/relationships/hyperlink" Target="http://nl.wikipedia.org/wiki/Polydipsie" TargetMode="External"/><Relationship Id="rId5" Type="http://schemas.openxmlformats.org/officeDocument/2006/relationships/image" Target="../media/image2.jpeg"/><Relationship Id="rId6" Type="http://schemas.openxmlformats.org/officeDocument/2006/relationships/hyperlink" Target="http://nl.wikipedia.org/wiki/Blaasontsteking" TargetMode="External"/><Relationship Id="rId7" Type="http://schemas.openxmlformats.org/officeDocument/2006/relationships/hyperlink" Target="http://nl.wikipedia.org/wiki/Witte_vloed" TargetMode="External"/><Relationship Id="rId8" Type="http://schemas.openxmlformats.org/officeDocument/2006/relationships/hyperlink" Target="http://nl.wikipedia.org/wiki/Steenpuist" TargetMode="External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nl.wikipedia.org/wiki/Aceton" TargetMode="External"/><Relationship Id="rId3" Type="http://schemas.openxmlformats.org/officeDocument/2006/relationships/hyperlink" Target="http://nl.wikipedia.org/wiki/Keton" TargetMode="External"/><Relationship Id="rId4" Type="http://schemas.openxmlformats.org/officeDocument/2006/relationships/hyperlink" Target="http://nl.wikipedia.org/wiki/Coma_%28geneeskunde%29" TargetMode="External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hyperlink" Target="http://nl.wikipedia.org/wiki/Glucosurie" TargetMode="External"/><Relationship Id="rId5" Type="http://schemas.openxmlformats.org/officeDocument/2006/relationships/hyperlink" Target="http://nl.wikipedia.org/wiki/Polyurie" TargetMode="External"/><Relationship Id="rId6" Type="http://schemas.openxmlformats.org/officeDocument/2006/relationships/hyperlink" Target="http://nl.wikipedia.org/wiki/Polydipsie" TargetMode="External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c40011"/>
                </a:solidFill>
                <a:latin typeface="Arial"/>
              </a:rPr>
              <a:t>‘</a:t>
            </a:r>
            <a:r>
              <a:rPr b="1" lang="nl-NL" sz="3200" spc="-1" strike="noStrike">
                <a:solidFill>
                  <a:srgbClr val="c40011"/>
                </a:solidFill>
                <a:latin typeface="Arial"/>
              </a:rPr>
              <a:t>Suikerziekte’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6840" y="510516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Gezondheidskunde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ijdelijke aanduiding voor dianummer 5"/>
          <p:cNvSpPr/>
          <p:nvPr/>
        </p:nvSpPr>
        <p:spPr>
          <a:xfrm>
            <a:off x="0" y="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84944-6252-4BDF-A1D9-20BA34C776C3}" type="slidenum">
              <a:rPr b="1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nl-NL" sz="2000" spc="-1" strike="noStrike">
                <a:solidFill>
                  <a:srgbClr val="ffffff"/>
                </a:solidFill>
                <a:latin typeface="Arial"/>
              </a:rPr>
              <a:t>Insulin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186920" y="1557360"/>
            <a:ext cx="7201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Insuline verlaagt het glucosegehalte van het bloed 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BSS ‘meter’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pic>
        <p:nvPicPr>
          <p:cNvPr id="116" name="Picture 6" descr="Een insulinepomp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6372360" y="4292640"/>
            <a:ext cx="2190600" cy="21146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8" descr="Het zelf meten van de bloedsuikerspiegel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3780000" y="2276640"/>
            <a:ext cx="2190600" cy="164772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9"/>
          <p:cNvSpPr/>
          <p:nvPr/>
        </p:nvSpPr>
        <p:spPr>
          <a:xfrm>
            <a:off x="3709440" y="4941720"/>
            <a:ext cx="217584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c42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Insulinepomp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ijdelijke aanduiding voor dianummer 5"/>
          <p:cNvSpPr/>
          <p:nvPr/>
        </p:nvSpPr>
        <p:spPr>
          <a:xfrm>
            <a:off x="0" y="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E1283-2E2B-4F84-BFB2-BEB347E09D02}" type="slidenum">
              <a:rPr b="1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ffff"/>
                </a:solidFill>
                <a:latin typeface="Arial"/>
              </a:rPr>
              <a:t>Gevolgen D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1186920" y="1557360"/>
            <a:ext cx="7201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Aderverkalking (bloedvaten sluiten af) 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Hierdoor meer kans op; </a:t>
            </a:r>
            <a:r>
              <a:rPr b="1" lang="nl-NL" sz="20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hartinfarct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, </a:t>
            </a:r>
            <a:r>
              <a:rPr b="1" lang="nl-NL" sz="20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beroerte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, </a:t>
            </a:r>
            <a:r>
              <a:rPr b="1" lang="nl-NL" sz="2000" spc="-1" strike="noStrike" u="sng">
                <a:solidFill>
                  <a:srgbClr val="ccccff"/>
                </a:solidFill>
                <a:uFillTx/>
                <a:latin typeface="Arial"/>
                <a:hlinkClick r:id="rId5"/>
              </a:rPr>
              <a:t>nierfalen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 en </a:t>
            </a:r>
            <a:r>
              <a:rPr b="1" lang="nl-NL" sz="2000" spc="-1" strike="noStrike" u="sng">
                <a:solidFill>
                  <a:srgbClr val="ccccff"/>
                </a:solidFill>
                <a:uFillTx/>
                <a:latin typeface="Arial"/>
              </a:rPr>
              <a:t>amputatie</a:t>
            </a:r>
            <a:r>
              <a:rPr b="1" lang="nl-NL" sz="2000" spc="-1" strike="noStrike">
                <a:solidFill>
                  <a:srgbClr val="ccccff"/>
                </a:solidFill>
                <a:latin typeface="Arial"/>
              </a:rPr>
              <a:t> 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van bijvoorbeeld een voet, dan bij gezonde mensen. 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Ook het </a:t>
            </a:r>
            <a:r>
              <a:rPr b="1" lang="nl-NL" sz="2000" spc="-1" strike="noStrike" u="sng">
                <a:solidFill>
                  <a:srgbClr val="ccccff"/>
                </a:solidFill>
                <a:uFillTx/>
                <a:latin typeface="Arial"/>
                <a:hlinkClick r:id="rId7"/>
              </a:rPr>
              <a:t>netvlies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 kan schade lijden waardoor op den duur blindheid kan ontstaan. 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SzPct val="10279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Impotentie en incontinentie is eveneens een vaak voorkomend gevolg van diabetes door </a:t>
            </a:r>
            <a:r>
              <a:rPr b="1" i="1" lang="nl-NL" sz="2000" spc="-1" strike="noStrike">
                <a:solidFill>
                  <a:srgbClr val="2c4274"/>
                </a:solidFill>
                <a:latin typeface="Arial"/>
              </a:rPr>
              <a:t>neuropathie 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	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( </a:t>
            </a:r>
            <a:r>
              <a:rPr b="1" i="1" lang="nl-NL" sz="2000" spc="-1" strike="noStrike">
                <a:solidFill>
                  <a:srgbClr val="2c4274"/>
                </a:solidFill>
                <a:latin typeface="Arial"/>
              </a:rPr>
              <a:t>= het niet goed functioneren van zenuwen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ijdelijke aanduiding voor dianummer 5"/>
          <p:cNvSpPr/>
          <p:nvPr/>
        </p:nvSpPr>
        <p:spPr>
          <a:xfrm>
            <a:off x="0" y="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C572A-64AD-43A2-97D6-490CDED2BF0F}" type="slidenum">
              <a:rPr b="1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nl-NL" sz="2000" spc="-1" strike="noStrike">
                <a:solidFill>
                  <a:srgbClr val="ffffff"/>
                </a:solidFill>
                <a:latin typeface="Arial"/>
              </a:rPr>
              <a:t>Gezonde levensstijl met D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1186920" y="1557360"/>
            <a:ext cx="7201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Niet roken,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een normaal gewicht handhaven, 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aan lichaamsbeweging doen en een 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eventuele hoge bloeddruk en hoog cholesterol laten behandelen.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ijdelijke aanduiding voor dianummer 5"/>
          <p:cNvSpPr/>
          <p:nvPr/>
        </p:nvSpPr>
        <p:spPr>
          <a:xfrm>
            <a:off x="0" y="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A7AE6-42BC-4B9D-9148-7BF878824221}" type="slidenum">
              <a:rPr b="1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ffff"/>
                </a:solidFill>
                <a:latin typeface="Arial"/>
              </a:rPr>
              <a:t>Diabetes Mellitu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186920" y="1557360"/>
            <a:ext cx="7201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De Bloedglucosespiegel is een maat voor de hoeveelheid </a:t>
            </a:r>
            <a:r>
              <a:rPr b="1" lang="nl-NL" sz="20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glucose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 (brandstof voor je lichaam) die opgelost is in het </a:t>
            </a:r>
            <a:r>
              <a:rPr b="1" lang="nl-NL" sz="20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bloed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 en wordt uitgedrukt in millimol per liter (mmol/l). 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Een normale nuchtere waarde ligt tussen de 4 en de 6,4 mmol/l. 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Indien de 'nuchtere' waarden bij een onbehandeld persoon boven de 6,9 mmol/l en 'niet-nuchter' boven de 11,0 mmol/l liggen, spreekt men van </a:t>
            </a:r>
            <a:r>
              <a:rPr b="0" lang="nl-NL" sz="2000" spc="-1" strike="noStrike" u="sng">
                <a:solidFill>
                  <a:srgbClr val="ccccff"/>
                </a:solidFill>
                <a:uFillTx/>
                <a:latin typeface="Arial"/>
                <a:hlinkClick r:id="rId6"/>
              </a:rPr>
              <a:t>diabetes mellitus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 (suikerziekte).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ijdelijke aanduiding voor dianummer 5"/>
          <p:cNvSpPr/>
          <p:nvPr/>
        </p:nvSpPr>
        <p:spPr>
          <a:xfrm>
            <a:off x="0" y="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12E22-CB10-4E18-AE09-261271ED709A}" type="slidenum">
              <a:rPr b="1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ffff"/>
                </a:solidFill>
                <a:latin typeface="Arial"/>
              </a:rPr>
              <a:t>Oorzaak Diabetes Mellitu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186920" y="1557360"/>
            <a:ext cx="7201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Diabetes is een ongeneeslijke </a:t>
            </a:r>
            <a:r>
              <a:rPr b="1" lang="nl-NL" sz="20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stofwisselingsziekte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: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	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Het lichaam haalt onvoldoende energie uit </a:t>
            </a:r>
            <a:r>
              <a:rPr b="1" lang="nl-NL" sz="20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glucose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 (</a:t>
            </a:r>
            <a:r>
              <a:rPr b="1" lang="nl-NL" sz="20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suikers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). 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	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Suikers kunnen in de meeste </a:t>
            </a:r>
            <a:r>
              <a:rPr b="1" lang="nl-NL" sz="2000" spc="-1" strike="noStrike" u="sng">
                <a:solidFill>
                  <a:srgbClr val="ccccff"/>
                </a:solidFill>
                <a:uFillTx/>
                <a:latin typeface="Arial"/>
                <a:hlinkClick r:id="rId5"/>
              </a:rPr>
              <a:t>cellen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 alleen opgenomen worden in aanwezigheid van voldoende </a:t>
            </a:r>
            <a:r>
              <a:rPr b="1" lang="nl-NL" sz="2000" spc="-1" strike="noStrike" u="sng">
                <a:solidFill>
                  <a:srgbClr val="ccccff"/>
                </a:solidFill>
                <a:uFillTx/>
                <a:latin typeface="Arial"/>
                <a:hlinkClick r:id="rId6"/>
              </a:rPr>
              <a:t>insuline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 (hormoon), als er tevens werkende insuline-</a:t>
            </a:r>
            <a:r>
              <a:rPr b="1" lang="nl-NL" sz="2000" spc="-1" strike="noStrike" u="sng">
                <a:solidFill>
                  <a:srgbClr val="ccccff"/>
                </a:solidFill>
                <a:uFillTx/>
                <a:latin typeface="Arial"/>
                <a:hlinkClick r:id="rId7"/>
              </a:rPr>
              <a:t>receptoren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 op die cellen aanwezig zijn.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ijdelijke aanduiding voor dianummer 5"/>
          <p:cNvSpPr/>
          <p:nvPr/>
        </p:nvSpPr>
        <p:spPr>
          <a:xfrm>
            <a:off x="0" y="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45FAB-DFC4-493D-896A-7D3EB9ABCC97}" type="slidenum">
              <a:rPr b="1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ffff"/>
                </a:solidFill>
                <a:latin typeface="Arial"/>
              </a:rPr>
              <a:t>Soorten Diabetus Mellitu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186920" y="1557360"/>
            <a:ext cx="7201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000" spc="-1" strike="noStrike" u="sng">
                <a:solidFill>
                  <a:srgbClr val="2c4274"/>
                </a:solidFill>
                <a:uFillTx/>
                <a:latin typeface="Arial"/>
              </a:rPr>
              <a:t>Diabetus Mellitus type 1:</a:t>
            </a:r>
            <a:r>
              <a:rPr b="1" i="1" lang="nl-NL" sz="2000" spc="-1" strike="noStrike">
                <a:solidFill>
                  <a:srgbClr val="2c4274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	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onvoldoende of geen productie van insuline.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000" spc="-1" strike="noStrike" u="sng">
                <a:solidFill>
                  <a:srgbClr val="2c4274"/>
                </a:solidFill>
                <a:uFillTx/>
                <a:latin typeface="Arial"/>
              </a:rPr>
              <a:t>Diabetus Mellitus type 2</a:t>
            </a:r>
            <a:r>
              <a:rPr b="1" lang="nl-NL" sz="2000" spc="-1" strike="noStrike" u="sng">
                <a:solidFill>
                  <a:srgbClr val="2c4274"/>
                </a:solidFill>
                <a:uFillTx/>
                <a:latin typeface="Arial"/>
              </a:rPr>
              <a:t>:</a:t>
            </a:r>
            <a:r>
              <a:rPr b="1" i="1" lang="nl-NL" sz="2000" spc="-1" strike="noStrike">
                <a:solidFill>
                  <a:srgbClr val="2c4274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	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een probleem met betrekking tot de insuline-receptoren;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	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Er wordt voldoende insuline gemaakt , maar lichaamscellen reageren onvoldoende op insuline.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ijdelijke aanduiding voor dianummer 5"/>
          <p:cNvSpPr/>
          <p:nvPr/>
        </p:nvSpPr>
        <p:spPr>
          <a:xfrm>
            <a:off x="0" y="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5F931-134D-4BCA-AF7C-B8A5085582FD}" type="slidenum">
              <a:rPr b="1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ffff"/>
                </a:solidFill>
                <a:latin typeface="Arial"/>
              </a:rPr>
              <a:t>Behandeling Diabetus Mellitu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186920" y="1557360"/>
            <a:ext cx="7201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000" spc="-1" strike="noStrike" u="sng">
                <a:solidFill>
                  <a:srgbClr val="2c4274"/>
                </a:solidFill>
                <a:uFillTx/>
                <a:latin typeface="Arial"/>
              </a:rPr>
              <a:t>Diabetus Mellitus type 1:</a:t>
            </a:r>
            <a:r>
              <a:rPr b="1" i="1" lang="nl-NL" sz="2000" spc="-1" strike="noStrike">
                <a:solidFill>
                  <a:srgbClr val="2c4274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	</a:t>
            </a:r>
            <a:r>
              <a:rPr b="1" i="1" lang="nl-NL" sz="2000" spc="-1" strike="noStrike">
                <a:solidFill>
                  <a:srgbClr val="2c4274"/>
                </a:solidFill>
                <a:latin typeface="Arial"/>
              </a:rPr>
              <a:t>Een combinatie van medicatie (insuline), dieet en bewegen.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000" spc="-1" strike="noStrike" u="sng">
                <a:solidFill>
                  <a:srgbClr val="2c4274"/>
                </a:solidFill>
                <a:uFillTx/>
                <a:latin typeface="Arial"/>
              </a:rPr>
              <a:t>Diabetus Mellitus type 2</a:t>
            </a:r>
            <a:r>
              <a:rPr b="1" lang="nl-NL" sz="2000" spc="-1" strike="noStrike" u="sng">
                <a:solidFill>
                  <a:srgbClr val="2c4274"/>
                </a:solidFill>
                <a:uFillTx/>
                <a:latin typeface="Arial"/>
              </a:rPr>
              <a:t>:</a:t>
            </a:r>
            <a:r>
              <a:rPr b="1" i="1" lang="nl-NL" sz="2000" spc="-1" strike="noStrike">
                <a:solidFill>
                  <a:srgbClr val="2c4274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000" spc="-1" strike="noStrike">
                <a:solidFill>
                  <a:srgbClr val="2c4274"/>
                </a:solidFill>
                <a:latin typeface="Arial"/>
              </a:rPr>
              <a:t>	</a:t>
            </a:r>
            <a:r>
              <a:rPr b="1" i="1" lang="nl-NL" sz="2000" spc="-1" strike="noStrike">
                <a:solidFill>
                  <a:srgbClr val="2c4274"/>
                </a:solidFill>
                <a:latin typeface="Arial"/>
              </a:rPr>
              <a:t>Een combinatie van medicatie (tabletten), dieet en bewegen.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ijdelijke aanduiding voor dianummer 5"/>
          <p:cNvSpPr/>
          <p:nvPr/>
        </p:nvSpPr>
        <p:spPr>
          <a:xfrm>
            <a:off x="0" y="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C9002-F502-48AF-81F3-13F28482D819}" type="slidenum">
              <a:rPr b="1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ffff"/>
                </a:solidFill>
                <a:latin typeface="Arial"/>
              </a:rPr>
              <a:t>Symptomen Diabetus Mellitu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186920" y="1557360"/>
            <a:ext cx="7201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Veel mensen met lichte diabetes zijn geheel of nagenoeg symptoomloos. 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Veel plassen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 en </a:t>
            </a:r>
            <a:r>
              <a:rPr b="1" lang="nl-NL" sz="20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veel drinken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 treedt op bij hoge tot zeer hoge bloedglucosewaarden (boven de 13mmol/l). 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Patiënten hebben bij slechte glucoseinstelling (te hoog) vaker dan gemiddeld last van </a:t>
            </a:r>
            <a:r>
              <a:rPr b="1" lang="nl-NL" sz="2000" spc="-1" strike="noStrike" u="sng">
                <a:solidFill>
                  <a:srgbClr val="ccccff"/>
                </a:solidFill>
                <a:uFillTx/>
                <a:latin typeface="Arial"/>
                <a:hlinkClick r:id="rId6"/>
              </a:rPr>
              <a:t>blaasontsteking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, </a:t>
            </a:r>
            <a:r>
              <a:rPr b="1" lang="nl-NL" sz="2000" spc="-1" strike="noStrike" u="sng">
                <a:solidFill>
                  <a:srgbClr val="ccccff"/>
                </a:solidFill>
                <a:uFillTx/>
                <a:latin typeface="Arial"/>
                <a:hlinkClick r:id="rId7"/>
              </a:rPr>
              <a:t>witte vloed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, en/of </a:t>
            </a:r>
            <a:r>
              <a:rPr b="1" lang="nl-NL" sz="2000" spc="-1" strike="noStrike" u="sng">
                <a:solidFill>
                  <a:srgbClr val="ccccff"/>
                </a:solidFill>
                <a:uFillTx/>
                <a:latin typeface="Arial"/>
                <a:hlinkClick r:id="rId8"/>
              </a:rPr>
              <a:t>steenpuisten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. 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ijdelijke aanduiding voor dianummer 5"/>
          <p:cNvSpPr/>
          <p:nvPr/>
        </p:nvSpPr>
        <p:spPr>
          <a:xfrm>
            <a:off x="0" y="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A2EAC-7338-43F4-A4D8-E65530598C73}" type="slidenum">
              <a:rPr b="1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ffff"/>
                </a:solidFill>
                <a:latin typeface="Arial"/>
              </a:rPr>
              <a:t>Symptomen Diabetus Mellitu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186920" y="1557360"/>
            <a:ext cx="7201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Soms kan men </a:t>
            </a:r>
            <a:r>
              <a:rPr b="1" lang="nl-NL" sz="20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aceton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 ruiken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 in de adem van patiënten met diabetes, 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	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(nl. als glucose door het insulinetekort zo slecht kan worden verwerkt dat het lichaam overgeschakeld is op vetverbranding, waarbij </a:t>
            </a:r>
            <a:r>
              <a:rPr b="1" lang="nl-NL" sz="20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ketonen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 als nevenproducten ontstaan, waarvan aceton er </a:t>
            </a:r>
            <a:r>
              <a:rPr b="1" lang="en-US" sz="2000" spc="-1" strike="noStrike">
                <a:solidFill>
                  <a:srgbClr val="2c4274"/>
                </a:solidFill>
                <a:latin typeface="Arial"/>
                <a:ea typeface="Arial"/>
              </a:rPr>
              <a:t>éé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n is). 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	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De bloedglucosespiegel in het bloed is dan meestal veel te hoog. 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	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Bij hoge bloedsuikers en ernstige uitdroging kan een levensgevaarlijk </a:t>
            </a:r>
            <a:r>
              <a:rPr b="1" lang="nl-NL" sz="20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coma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 optreden. 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ijdelijke aanduiding voor dianummer 5"/>
          <p:cNvSpPr/>
          <p:nvPr/>
        </p:nvSpPr>
        <p:spPr>
          <a:xfrm>
            <a:off x="0" y="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7DAE2-4D5E-4059-A160-74F9F2C965D6}" type="slidenum">
              <a:rPr b="1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nl-NL" sz="2000" spc="-1" strike="noStrike">
                <a:solidFill>
                  <a:srgbClr val="ffffff"/>
                </a:solidFill>
                <a:latin typeface="Arial"/>
              </a:rPr>
              <a:t>Hyperglykemi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186920" y="1557360"/>
            <a:ext cx="7201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Te hoge bloedsuikerspiegel (BSS)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 u="sng">
                <a:solidFill>
                  <a:srgbClr val="2c4274"/>
                </a:solidFill>
                <a:uFillTx/>
                <a:latin typeface="Arial"/>
              </a:rPr>
              <a:t>Wat kun je hieraan doen? 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	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Koolhydraten vermijden. 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 u="sng">
                <a:solidFill>
                  <a:srgbClr val="2c4274"/>
                </a:solidFill>
                <a:uFillTx/>
                <a:latin typeface="Arial"/>
              </a:rPr>
              <a:t>Wat zijn de gevaren?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	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De BSS veroorzaakt als hij hoog genoeg is </a:t>
            </a:r>
            <a:r>
              <a:rPr b="1" lang="nl-NL" sz="20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glucosurie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 (</a:t>
            </a:r>
            <a:r>
              <a:rPr b="1" i="1" lang="nl-NL" sz="2000" spc="-1" strike="noStrike">
                <a:solidFill>
                  <a:srgbClr val="2c4274"/>
                </a:solidFill>
                <a:latin typeface="Arial"/>
              </a:rPr>
              <a:t>suikerverlies via de urine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) wat in ernstige gevallen een merkbare </a:t>
            </a:r>
            <a:r>
              <a:rPr b="1" lang="nl-NL" sz="2000" spc="-1" strike="noStrike" u="sng">
                <a:solidFill>
                  <a:srgbClr val="ccccff"/>
                </a:solidFill>
                <a:uFillTx/>
                <a:latin typeface="Arial"/>
                <a:hlinkClick r:id="rId5"/>
              </a:rPr>
              <a:t>polyurie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 (</a:t>
            </a:r>
            <a:r>
              <a:rPr b="1" i="1" lang="nl-NL" sz="2000" spc="-1" strike="noStrike">
                <a:solidFill>
                  <a:srgbClr val="2c4274"/>
                </a:solidFill>
                <a:latin typeface="Arial"/>
              </a:rPr>
              <a:t>veel urineren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) zowel als </a:t>
            </a:r>
            <a:r>
              <a:rPr b="1" lang="nl-NL" sz="2000" spc="-1" strike="noStrike" u="sng">
                <a:solidFill>
                  <a:srgbClr val="ccccff"/>
                </a:solidFill>
                <a:uFillTx/>
                <a:latin typeface="Arial"/>
                <a:hlinkClick r:id="rId6"/>
              </a:rPr>
              <a:t>polydipsie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 (</a:t>
            </a:r>
            <a:r>
              <a:rPr b="1" i="1" lang="nl-NL" sz="2000" spc="-1" strike="noStrike">
                <a:solidFill>
                  <a:srgbClr val="2c4274"/>
                </a:solidFill>
                <a:latin typeface="Arial"/>
              </a:rPr>
              <a:t>veel drinken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) ten gevolge heeft. 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	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In het meest erge geval kan dit leiden tot coma.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ijdelijke aanduiding voor dianummer 5"/>
          <p:cNvSpPr/>
          <p:nvPr/>
        </p:nvSpPr>
        <p:spPr>
          <a:xfrm>
            <a:off x="0" y="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716A7-3775-4F99-BC0A-5CAE93DB281E}" type="slidenum">
              <a:rPr b="1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nl-NL" sz="2000" spc="-1" strike="noStrike">
                <a:solidFill>
                  <a:srgbClr val="ffffff"/>
                </a:solidFill>
                <a:latin typeface="Arial"/>
              </a:rPr>
              <a:t>Hypoglykemi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1186920" y="1557360"/>
            <a:ext cx="7201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Te lage bloedglucosespiegel. 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 u="sng">
                <a:solidFill>
                  <a:srgbClr val="2c4274"/>
                </a:solidFill>
                <a:uFillTx/>
                <a:latin typeface="Arial"/>
              </a:rPr>
              <a:t>Wat kun je hieraan doen voordat je gaat sporten? 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	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Koolhydraten eten, zodat je bloedsuikerspiegel goed is en je voldoende energie hebt om te sporten.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9T12:24:21Z</dcterms:created>
  <dc:creator>willemh</dc:creator>
  <dc:description/>
  <dc:language>en-US</dc:language>
  <cp:lastModifiedBy>Sandra Kreuning</cp:lastModifiedBy>
  <dcterms:modified xsi:type="dcterms:W3CDTF">2017-04-04T06:46:41Z</dcterms:modified>
  <cp:revision>22</cp:revision>
  <dc:subject/>
  <dc:title>PowerPoint-presentatie</dc:title>
</cp:coreProperties>
</file>