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CFF0-DE63-4F6A-89FA-7E8D12F8C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582A-40C0-4897-99DE-C35F582A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B892-CE5A-4116-BFFC-E695B6D44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869E-90AC-42E9-A7F9-30E470544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2AA5-2571-4CA2-B1CA-67AE42DC3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7361-2504-483A-BB6E-D332E8BF0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87443-60A0-4B0B-857B-8C528E9F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3BD6-C9DC-4A32-B3FE-599B4A7D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E9C0-A7AE-433B-BF76-2C8FE3AA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AE0A-A02C-42EA-A529-86E87FE4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D753-5B35-46AE-868C-6F966510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6576-CED5-4C83-BA7C-A5BA218C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7723B-24E3-4C5D-9FAA-68813DD2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D343-333C-4304-889E-DE4A8114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10A3-F465-4961-9619-C80FE164D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4A2CB-1FBF-4708-9D7C-A898A7F85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F695B-376F-4B8A-9A1E-7FB8892AD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BE065-F8C7-48E6-8F18-B3AB42CFC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40506-0020-43C9-95C3-F789BD5E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5F821-22C8-4A58-BB64-E3A0D2E5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7A3ADD-5360-417B-8204-990F94DF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B946D-A470-42C3-BCC2-DD23A25B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F724-C12E-47C1-B0A1-52ECB105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4F85A-6010-4489-B636-EE905E09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97211-8EFD-4E91-8626-F58D4DC1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643EB-A477-444F-9758-2B575D95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8E1CD-7B0E-4046-8509-9E67A363C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678BE-4EFB-4E49-9D34-DA96AC30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D0F4E-DE05-43EB-8518-4B28A71AC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9E52C-BFA8-4C1F-B4D1-B1FE7C0CB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99152-3100-478B-8C0F-492326E98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76C18-1D0D-44CC-8739-56A2E8408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5EA47-604C-4A67-AB08-F0413666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3996-8F48-4954-B522-0AB369235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D0A72-FD61-4967-8850-FEB2EED8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D2079-E56B-4D18-8FBA-9017C75A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C795F-BB29-4D9C-933D-26FDA34C1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169FA-1BE7-4807-81EC-30D95B47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74B6C-CA67-47AF-9A5A-2623B0E0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6CD71-88AA-4EB6-AA1D-3597C1DF2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8066B-AE42-42C9-8F51-CE1C630FA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936FD-A6DC-4EA7-91E8-969DDF503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B3D71-5DF2-4A28-B4C8-8BCFDFE3C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6B48-02A8-43BC-811F-179D6211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EB0A-B38C-45AB-A9A4-86C68866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3468-F0D7-44C6-B93C-9F51AA3B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D6BEE-7515-49A8-BAD0-AF17378D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C7DB-3747-4496-8592-E0E863FDB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0D2540-DD6D-4371-8055-5D6C2D74E812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8E0DD8-35FB-43E2-B934-4E61096DB06E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65C6FA-561E-47FA-8ED2-6CA26904C801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949481-CC49-40AE-800C-2F289A78844C}" type="slidenum">
              <a:rPr b="0" lang="nl-NL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OY4wwAW1Zko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5agOnV0gvfA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8800" spc="-1" strike="noStrike">
                <a:solidFill>
                  <a:srgbClr val="ff0000"/>
                </a:solidFill>
                <a:latin typeface="Verdana"/>
                <a:ea typeface="Verdana"/>
              </a:rPr>
              <a:t>REUMA</a:t>
            </a:r>
            <a:endParaRPr b="0" lang="en-US" sz="88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3" name="il_fi" descr="http://primawebshop.nl/medias/sys_master/8451887846401664.jpg"/>
          <p:cNvPicPr/>
          <p:nvPr/>
        </p:nvPicPr>
        <p:blipFill>
          <a:blip r:embed="rId1"/>
          <a:stretch/>
        </p:blipFill>
        <p:spPr>
          <a:xfrm>
            <a:off x="684360" y="1268280"/>
            <a:ext cx="59752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Artros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Ziekte van het bewegingsapparaat die zich meestal op hogere leeftijd openbaart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rtrose is een reumatische aandoening waarbij het gewrichtskraakbeen in kwaliteit achteruitgaat en dunner en zachter wordt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Een degeneratieve ziek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34880" y="56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Wat gebeurt er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wrichtskraakbeen verander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Er ontstaan kleine scheurtjes spleten en groeven in het kraakbeen en botwoekeringen aan de randen van de aangedane gewrich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Irritatie van het gewrichtskap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aak één gewrich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9" name="il_fi" descr="http://www.reumafonds.nl/_sana_/handlers/getfile.ashx/de582bf1-cad6-400a-a9dc-61472e104712/Artrose_gezond_en_artrotisch_gewricht.jpg"/>
          <p:cNvPicPr/>
          <p:nvPr/>
        </p:nvPicPr>
        <p:blipFill>
          <a:blip r:embed="rId1"/>
          <a:stretch/>
        </p:blipFill>
        <p:spPr>
          <a:xfrm>
            <a:off x="4788000" y="4149720"/>
            <a:ext cx="414000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Meest voorkomend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n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onderru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knieë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heupen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dui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vinge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2" name="il_fi" descr="http://groesland.nl/images/Artrose.jpg"/>
          <p:cNvPicPr/>
          <p:nvPr/>
        </p:nvPicPr>
        <p:blipFill>
          <a:blip r:embed="rId1"/>
          <a:stretch/>
        </p:blipFill>
        <p:spPr>
          <a:xfrm>
            <a:off x="3995640" y="1413000"/>
            <a:ext cx="43214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Ontstaan artros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hronisch, gaat niet ov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Erfelijke oorzaak(mogelijk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eschadiging van gewricht door langdurige verkeerde belast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spor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wer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vergewi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klacht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tijf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Pijn bij bewegen, vooral na r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Moeite met bewe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Zwel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houdingsafwijk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ff0000"/>
                </a:solidFill>
                <a:latin typeface="Verdana"/>
                <a:ea typeface="Verdana"/>
              </a:rPr>
              <a:t>Voorkomen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verkeerde belast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overbelasting van gewri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9" name="il_fi" descr="http://ikslijtsnel.punt.nl/upload/verkeerde_houding.jpg"/>
          <p:cNvPicPr/>
          <p:nvPr/>
        </p:nvPicPr>
        <p:blipFill>
          <a:blip r:embed="rId1"/>
          <a:stretch/>
        </p:blipFill>
        <p:spPr>
          <a:xfrm>
            <a:off x="755640" y="2997360"/>
            <a:ext cx="2664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Behandel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en medicijnen om te genez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Wel medicijnen voor symptome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Pijnstillers, ontstekingsremme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contractu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contractuur= …………………………………………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2" name="il_fi" descr="http://www.pedicure-asten.nl/attachments/Image/reuma1.jpg"/>
          <p:cNvPicPr/>
          <p:nvPr/>
        </p:nvPicPr>
        <p:blipFill>
          <a:blip r:embed="rId1"/>
          <a:stretch/>
        </p:blipFill>
        <p:spPr>
          <a:xfrm>
            <a:off x="3708360" y="3789360"/>
            <a:ext cx="44640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98064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efenen en fysiotherap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m belasting van gewrichten te vermind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peratie (kunstgewricht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99ca3c"/>
                </a:solidFill>
                <a:uFillTx/>
                <a:latin typeface="Verdana"/>
                <a:ea typeface="Verdana"/>
                <a:hlinkClick r:id="rId1"/>
              </a:rPr>
              <a:t>artros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il_fi" descr="http://www.stop-artrose.org/wp-content/uploads/2010/01/heup-kunstgewricht.jpg"/>
          <p:cNvPicPr/>
          <p:nvPr/>
        </p:nvPicPr>
        <p:blipFill>
          <a:blip r:embed="rId2"/>
          <a:stretch/>
        </p:blipFill>
        <p:spPr>
          <a:xfrm>
            <a:off x="6012000" y="4653000"/>
            <a:ext cx="2808000" cy="1989000"/>
          </a:xfrm>
          <a:prstGeom prst="rect">
            <a:avLst/>
          </a:prstGeom>
          <a:ln w="0">
            <a:noFill/>
          </a:ln>
        </p:spPr>
      </p:pic>
      <p:pic>
        <p:nvPicPr>
          <p:cNvPr id="255" name="il_fi" descr="http://webserv.nhl.nl/~oostmeij/fig-map/cartoons/obelix_ik%20ben%20niet%20dik_b.jpg"/>
          <p:cNvPicPr/>
          <p:nvPr/>
        </p:nvPicPr>
        <p:blipFill>
          <a:blip r:embed="rId3"/>
          <a:stretch/>
        </p:blipFill>
        <p:spPr>
          <a:xfrm>
            <a:off x="684360" y="1916280"/>
            <a:ext cx="3456000" cy="23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Omgaan met artros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ndersteuning bij huishoudelijk verzorgende werkzaamhed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orkomen van bukken en reik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anpassingen (verhoogd toilet, stoel, wandelstok, looprekje, rolstoel, orthopedisch schoeisel) 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8" name="il_fi" descr="http://www.blessurewinkel.nl/html/afbeeldingen_specifiek/specifiek_18.jpg"/>
          <p:cNvPicPr/>
          <p:nvPr/>
        </p:nvPicPr>
        <p:blipFill>
          <a:blip r:embed="rId1"/>
          <a:stretch/>
        </p:blipFill>
        <p:spPr>
          <a:xfrm>
            <a:off x="4967280" y="3716280"/>
            <a:ext cx="4176720" cy="3141720"/>
          </a:xfrm>
          <a:prstGeom prst="rect">
            <a:avLst/>
          </a:prstGeom>
          <a:ln w="0">
            <a:noFill/>
          </a:ln>
        </p:spPr>
      </p:pic>
      <p:pic>
        <p:nvPicPr>
          <p:cNvPr id="259" name="il_fi" descr="http://www.remicade.nl/images/foto036_134x239.jpg"/>
          <p:cNvPicPr/>
          <p:nvPr/>
        </p:nvPicPr>
        <p:blipFill>
          <a:blip r:embed="rId2"/>
          <a:stretch/>
        </p:blipFill>
        <p:spPr>
          <a:xfrm>
            <a:off x="2367000" y="4121280"/>
            <a:ext cx="1276200" cy="22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836640"/>
            <a:ext cx="8229600" cy="51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ehoefte aan warmte dus niet wassen met koud water (vaak warm in hui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Warme wollen kl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ociale contac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1" name="il_fi" descr="http://www.nijha.nl/cache/paragraphs/718516_f1_800x600.jpg"/>
          <p:cNvPicPr/>
          <p:nvPr/>
        </p:nvPicPr>
        <p:blipFill>
          <a:blip r:embed="rId1"/>
          <a:stretch/>
        </p:blipFill>
        <p:spPr>
          <a:xfrm>
            <a:off x="3203640" y="3284640"/>
            <a:ext cx="3816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Wat is reuma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Reuma: verzamelnaam voor vele gewrichtsaandoeni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Reumatoïde artritis (artritis is ontsteking van gewricht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rtros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Reumatoïde artriti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hronische vorm van reuma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uto-immuunziekt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aak vanaf 40</a:t>
            </a:r>
            <a:r>
              <a:rPr b="0" lang="nl-NL" sz="1800" spc="-1" strike="noStrike" baseline="30000">
                <a:solidFill>
                  <a:srgbClr val="404040"/>
                </a:solidFill>
                <a:latin typeface="Verdana"/>
                <a:ea typeface="Verdana"/>
              </a:rPr>
              <a:t>e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jaar, vaker bij vrouwen dan man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ntsteking van de weefsels die de binnenkant van de gewrichten bekled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orzaak niet beke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Gewrich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12536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ntsteking in gewrichtskapsel, gewrichtskapsel wordt dikker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pijn,zwelling,wa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Kraakbeen verdwijnt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bewegingen pijnlij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antasting van het botweef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0" name="il_fi" descr="http://www.reumafonds.nl/_sana_/handlers/getfile.ashx/b70910e5-59d6-4013-9084-772c151284aa/Gezond%20en%20ontstoken%20gewricht.JPG"/>
          <p:cNvPicPr/>
          <p:nvPr/>
        </p:nvPicPr>
        <p:blipFill>
          <a:blip r:embed="rId1"/>
          <a:stretch/>
        </p:blipFill>
        <p:spPr>
          <a:xfrm>
            <a:off x="1187280" y="1413000"/>
            <a:ext cx="448020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Verschijns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481040"/>
            <a:ext cx="822960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Aantasting van kleine gewrichten in handen en voe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Minder kracht en beweeglijk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tijfheid(vooral s’ochtends,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ontracturen(dwangstan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wrichtsknobb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pij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3" name="il_fi" descr="http://www.bndestem.nl/multimedia/archive/00737/reuma_737805b.jpg"/>
          <p:cNvPicPr/>
          <p:nvPr/>
        </p:nvPicPr>
        <p:blipFill>
          <a:blip r:embed="rId1"/>
          <a:stretch/>
        </p:blipFill>
        <p:spPr>
          <a:xfrm>
            <a:off x="5076720" y="3789360"/>
            <a:ext cx="3816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Nog meer verschijnselen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ermoeid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Minder kracht en beweeglijk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erminderde eetl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loedarmoe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terk zweten, vooral `s nacht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6" name="il_fi" descr="http://www.nutrigenerics.com/UserFiles/Uploads/vermoeide-vrouw.gif"/>
          <p:cNvPicPr/>
          <p:nvPr/>
        </p:nvPicPr>
        <p:blipFill>
          <a:blip r:embed="rId1"/>
          <a:stretch/>
        </p:blipFill>
        <p:spPr>
          <a:xfrm>
            <a:off x="5219640" y="3213000"/>
            <a:ext cx="352908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nl-NL" sz="3200" spc="-1" strike="noStrike">
                <a:solidFill>
                  <a:srgbClr val="ff0000"/>
                </a:solidFill>
                <a:latin typeface="Verdana"/>
                <a:ea typeface="Verdana"/>
              </a:rPr>
              <a:t>Onderzoeken</a:t>
            </a:r>
            <a:br>
              <a:rPr sz="3200"/>
            </a:b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052640"/>
            <a:ext cx="8229600" cy="49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lichamelijk onderzo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loedonderzoe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Röntgenfoto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                     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-25560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il_fi" descr="http://www.kennislink.nl/system/files/000/031/861/small/RheumatoideArthritisAP.jpg?1257332167"/>
          <p:cNvPicPr/>
          <p:nvPr/>
        </p:nvPicPr>
        <p:blipFill>
          <a:blip r:embed="rId1"/>
          <a:stretch/>
        </p:blipFill>
        <p:spPr>
          <a:xfrm>
            <a:off x="6732720" y="2060640"/>
            <a:ext cx="1942920" cy="2520720"/>
          </a:xfrm>
          <a:prstGeom prst="rect">
            <a:avLst/>
          </a:prstGeom>
          <a:ln w="0">
            <a:noFill/>
          </a:ln>
        </p:spPr>
      </p:pic>
      <p:pic>
        <p:nvPicPr>
          <p:cNvPr id="230" name="il_fi" descr="http://www.sleutelstad.nl/public/images/241962265.434485-rontgenfoto%20jpg.jpg"/>
          <p:cNvPicPr/>
          <p:nvPr/>
        </p:nvPicPr>
        <p:blipFill>
          <a:blip r:embed="rId2"/>
          <a:stretch/>
        </p:blipFill>
        <p:spPr>
          <a:xfrm>
            <a:off x="4356000" y="2060640"/>
            <a:ext cx="201636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Verdana"/>
                <a:ea typeface="Verdana"/>
              </a:rPr>
              <a:t>Behandel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Geen medicijn voor genez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Wél medicijn voor symptom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Pijnstillende geneesmidd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Gebruik van ontstekingsremmer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-Ziekte vertragende reumageneesmidd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Leefregels: gedoseerde rust, oefeningen om stijfheid en contracturen tegen te gaan, geschikt matras, voeding met voldoende eiwit en kalk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Opereren: kunstgewri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Verdana"/>
                <a:ea typeface="Verdana"/>
              </a:rPr>
              <a:t>Aandachtspunten bij zorgvragers met chronische reuma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9992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Bedhouding bij bedr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Lichaamshouding (aangepaste stoel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Contractuurprev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Vo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Schoei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Verdana"/>
                <a:ea typeface="Verdana"/>
              </a:rPr>
              <a:t>Temperatuur en vochtighei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99ca3c"/>
                </a:solidFill>
                <a:uFillTx/>
                <a:latin typeface="Verdana"/>
                <a:ea typeface="Verdana"/>
                <a:hlinkClick r:id="rId1"/>
              </a:rPr>
              <a:t>Wat is reuma? - YouTub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2:50:28Z</dcterms:created>
  <dc:creator>Gebruiker</dc:creator>
  <dc:description/>
  <dc:language>en-US</dc:language>
  <cp:lastModifiedBy>Sandra Kreuning</cp:lastModifiedBy>
  <dcterms:modified xsi:type="dcterms:W3CDTF">2017-10-10T08:29:43Z</dcterms:modified>
  <cp:revision>58</cp:revision>
  <dc:subject/>
  <dc:title>RHEUMA</dc:title>
</cp:coreProperties>
</file>