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2519-44A7-4E82-A1E2-E73C0F8EC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495C-3FB6-471F-8E2F-EBAE061D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98C3-B152-4292-84EF-BCB0EAB1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CBA8-9140-4A2B-AD16-AD127C62F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0E9F-B4EC-49A5-8754-2B1BAF0B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8DC9-C1E6-4369-B1D1-95CE304C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D12BB-9E9D-4323-9123-916FBEBD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6EC7-036F-4522-A7E4-16A67F00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FD95-BB5D-46FF-8C91-23D6B578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6E6D-F13C-4302-A3FE-71EAE936F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C2CE2-76D5-4F0F-993B-716CEC69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1BA0-23CB-4923-8584-CC5F35DE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D5922-0BC4-4CAB-ACD6-B7976867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4EA7-3F65-4C52-91D3-D9F6D0B9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0CBB-4A7E-4AB0-BA00-CF783706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6735-AC2C-451E-8827-207389A9D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DE0A-AF3F-4B61-88DD-2526D353A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BD28-7962-40E1-99FC-546FDCFE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2B42-B738-448B-A7EE-25E1A43BD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0B8-2E3F-4D42-998B-B9D01D80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1430-6C97-4081-AA24-98E4DCE7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3C7C-3518-4EE9-AE8C-A703EE23F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43B-E0EB-454C-9134-E80C0E9F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5C3E-9520-4134-9380-E292EBA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620D-9016-418C-B7D3-360A6F990E5F}" type="datetime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E2772-2FFE-4C33-A0B2-0147974955B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CD0-98AD-430B-B085-A05291AF588E}" type="datetime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FA7A-05A8-491F-A87D-92AF6FD42284}" type="slidenum">
              <a:rPr b="0" lang="nl-NL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2133360"/>
            <a:ext cx="380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87" name="Picture 4" descr="Illustratie"/>
          <p:cNvPicPr/>
          <p:nvPr/>
        </p:nvPicPr>
        <p:blipFill>
          <a:blip r:embed="rId1"/>
          <a:stretch/>
        </p:blipFill>
        <p:spPr>
          <a:xfrm>
            <a:off x="4622760" y="228600"/>
            <a:ext cx="4521240" cy="62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gnos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 in het identificeren van voorwerpen, geluiden, geu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emand ruikt wel goed (gas) maar herkent niet de geur van gas / gev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andenborstel / kam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ymptomen van de tweede ord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000" y="1981080"/>
            <a:ext cx="4319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dragsveranderingen/gedragsstoor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karaktertre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corum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contin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nfabul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03640" y="1916280"/>
            <a:ext cx="381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oede / agressie / ang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pathie / achterdoch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zamelwoed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perseverer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9" name="Picture 5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Soorte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55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ziekte van Alzheimer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0 %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asculaire Dementie (MID =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ulti - infarct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1907: voor het eerst beschrev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angzaam en geleidelijk worden hersencellen vernietig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rzaak: kluwens van eiwitten in de hersen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25" name="Picture 4" descr="alzheimer"/>
          <p:cNvPicPr/>
          <p:nvPr/>
        </p:nvPicPr>
        <p:blipFill>
          <a:blip r:embed="rId1"/>
          <a:stretch/>
        </p:blipFill>
        <p:spPr>
          <a:xfrm>
            <a:off x="7315200" y="609480"/>
            <a:ext cx="1590840" cy="2781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lzheimer eiwit"/>
          <p:cNvPicPr/>
          <p:nvPr/>
        </p:nvPicPr>
        <p:blipFill>
          <a:blip r:embed="rId2"/>
          <a:stretch/>
        </p:blipFill>
        <p:spPr>
          <a:xfrm>
            <a:off x="6019920" y="4186080"/>
            <a:ext cx="3124080" cy="2671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woman1"/>
          <p:cNvPicPr/>
          <p:nvPr/>
        </p:nvPicPr>
        <p:blipFill>
          <a:blip r:embed="rId3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rtical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frontale kwabdementie (o.a. ziekte van Pick)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mentie van het Lewy Body typ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Creutzfeldt - Jacob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Andere vormen va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ubcorticale dementie (secundaire dementies)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ziekte van Parkinso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ultiple sclero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IDS - demen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: stoornissen in recente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lijkt eerst op verstrooid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geheugen neemt steeds meer af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utonoom handelen wordt on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3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Risico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factoren: hoe ouder hoe meer ka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Ziekte van Alzheimer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pic>
        <p:nvPicPr>
          <p:cNvPr id="139" name="Picture 6" descr="alz-prev"/>
          <p:cNvPicPr/>
          <p:nvPr/>
        </p:nvPicPr>
        <p:blipFill>
          <a:blip r:embed="rId1"/>
          <a:stretch/>
        </p:blipFill>
        <p:spPr>
          <a:xfrm>
            <a:off x="3048120" y="198108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ltij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ommunicatiemoeilijkh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temmingswisselin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depress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allucinat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enmerkend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plots begin van het dementiesyndroo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sprongsgewijze achteruitga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nregelmatig verval van geestelijk vermogen: afhankelijk van de plaats van de infarct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zamelnaam voor een groep van ziekten met een vaste kern van verschijnsel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Geheugenverlie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lies van oriëntati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Moeilijkheden met denken 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Verandering van gedra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Vasculaire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Kan gevolg zijn van 1 of meerdere infarct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= plotselinge verstoring van doorbloeding van hersenweefsel, daardoor uitval van deel hersenwerkin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4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oorstadium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vergeetacht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laat steken vall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amouflage - gedra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ontkenning / rouw / verdriet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irrita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Beginnend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begeleiding nodig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confrontatie met andere werel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ang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- zoekt houvast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5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Milde of matig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opslaan of onthouden van info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lukt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orgvrager wordt apathisch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teeds meer zorg nodi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gaat verder terug in herinnering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heden / verleden loopt door 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elkaa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58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Fasen in dementie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ecff"/>
                </a:solidFill>
                <a:latin typeface="Comic Sans MS"/>
              </a:rPr>
              <a:t>Ernstige of diepe dementie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pleging en verzorging: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behoeften vervullen: eten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rinken / rust / geborgenheid /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warmte / veilighei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communicatie via taal niet meer 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mogelijk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61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" descr="alzheimer1"/>
          <p:cNvPicPr/>
          <p:nvPr/>
        </p:nvPicPr>
        <p:blipFill>
          <a:blip r:embed="rId2"/>
          <a:stretch/>
        </p:blipFill>
        <p:spPr>
          <a:xfrm>
            <a:off x="6568920" y="0"/>
            <a:ext cx="2575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Dementie</a:t>
            </a: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geleid van het Latijnse   de-mens = zonder geest zijn, ontgeestelijk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niet alleen achteruitgang van geestelijke vermogens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ook lichamelijke gevolgen.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kort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ecente gebeurteniss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ieuwe indruk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raakt sneller “de draad kwijt”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96" name="Picture 4" descr="dementie"/>
          <p:cNvPicPr/>
          <p:nvPr/>
        </p:nvPicPr>
        <p:blipFill>
          <a:blip r:embed="rId1"/>
          <a:stretch/>
        </p:blipFill>
        <p:spPr>
          <a:xfrm>
            <a:off x="6453360" y="2819520"/>
            <a:ext cx="2690640" cy="2714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woman1"/>
          <p:cNvPicPr/>
          <p:nvPr/>
        </p:nvPicPr>
        <p:blipFill>
          <a:blip r:embed="rId2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Stoornissen in het lange termijn geheug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in latere fase van dementie verdwijnt geheugen verder: recent verleden verdwij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ijv. oorlogsherinneringen / jeugdherinneringen blijven langer intac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0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8288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persoo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treedt op in latere fase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herkent voor hem bekende personen niet meer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soms ook eigen spiegelbeeld niet meer herken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3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tijd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elke dag / jaar / seiz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ochtend / avond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nachtelijke onrus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Desoriëntatie in ruimte 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woon ik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ben ik nu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13160" indent="-274320">
              <a:spcBef>
                <a:spcPts val="700"/>
              </a:spcBef>
              <a:buClr>
                <a:srgbClr val="0066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waar is het toilet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6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fasie: taalstoornis: wat hij ziet of hoort kan niet meer benoemd word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a. kan iets niet op de goede manier zegg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b. stroom van woorden zonder betekenis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c. gestoord taalbegrip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09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ffff"/>
                </a:solidFill>
                <a:latin typeface="Comic Sans MS"/>
              </a:rPr>
              <a:t>Kenmerkende symptomen</a:t>
            </a:r>
            <a:endParaRPr b="0" lang="en-US" sz="4400" spc="-1" strike="noStrike">
              <a:solidFill>
                <a:srgbClr val="ccffff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Apraxie: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cecff"/>
                </a:solidFill>
                <a:latin typeface="Comic Sans MS"/>
              </a:rPr>
              <a:t>verminderd vermogen om doelgericht handelingen uit te voeren</a:t>
            </a:r>
            <a:endParaRPr b="0" lang="en-US" sz="32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vlees snij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zich aankled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knopen dichtdo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	</a:t>
            </a:r>
            <a:r>
              <a:rPr b="0" lang="nl-NL" sz="2800" spc="-1" strike="noStrike">
                <a:solidFill>
                  <a:srgbClr val="ccecff"/>
                </a:solidFill>
                <a:latin typeface="Comic Sans MS"/>
              </a:rPr>
              <a:t>- schaar gebruiken</a:t>
            </a:r>
            <a:endParaRPr b="0" lang="en-US" sz="2800" spc="-1" strike="noStrike">
              <a:solidFill>
                <a:srgbClr val="ccecff"/>
              </a:solidFill>
              <a:latin typeface="Comic Sans MS"/>
            </a:endParaRPr>
          </a:p>
        </p:txBody>
      </p:sp>
      <p:pic>
        <p:nvPicPr>
          <p:cNvPr id="112" name="Picture 4" descr="woman1"/>
          <p:cNvPicPr/>
          <p:nvPr/>
        </p:nvPicPr>
        <p:blipFill>
          <a:blip r:embed="rId1"/>
          <a:stretch/>
        </p:blipFill>
        <p:spPr>
          <a:xfrm>
            <a:off x="0" y="0"/>
            <a:ext cx="1714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6:57:32Z</dcterms:created>
  <dc:creator>Rita de vries</dc:creator>
  <dc:description/>
  <dc:language>en-US</dc:language>
  <cp:lastModifiedBy>Sandra Kreuning</cp:lastModifiedBy>
  <dcterms:modified xsi:type="dcterms:W3CDTF">2018-03-27T09:53:36Z</dcterms:modified>
  <cp:revision>10</cp:revision>
  <dc:subject/>
  <dc:title>DEMENTIE</dc:title>
</cp:coreProperties>
</file>