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ymposium Sport &amp; Bewegen Ensche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A28A-3E47-4FFE-BA86-ED103AE19EE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ymposium Sport &amp; Bewegen Enschede</a:t>
            </a:r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A487-7F5C-4170-B652-B1097D38A2C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130B-63D7-4CE2-BCC6-ED398799B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E54E-5419-45FC-9D71-D0A8F0D0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AC4C-4752-4501-9E41-E456225E6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268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1076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32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268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1076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D7DF-9CA4-486F-83B3-69ABB8B05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8686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650F-80DD-4E1C-B7A2-A999E505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268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71076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7432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7268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71076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E106-5E76-40E2-8A0B-93C65B3A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CF28-4F5A-42CB-AF38-0129757C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6479-4522-4A9E-AF5C-20D69ABD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8686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A08A-6DC5-4DDE-B7CB-E136D217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6D39-3CA6-4BFE-B285-C0B5252E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ED64-6FD6-49D0-9D0B-3E46D416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559F-93F7-4778-9F75-9C36CAEA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42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146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360" y="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E46A-559D-45D3-87C8-04F4CFAF7F06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42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6095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hyperlink" Target="http://nl.wikipedia.org/wiki/Afbeelding:Insulin_pump_with_infusion_set.jpg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nl.wikipedia.org/wiki/Afbeelding:Glucose_test.JPG" TargetMode="Externa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nl.wikipedia.org/wiki/Hartinfarct" TargetMode="External"/><Relationship Id="rId4" Type="http://schemas.openxmlformats.org/officeDocument/2006/relationships/hyperlink" Target="http://nl.wikipedia.org/wiki/Cerebrovasculair_accident" TargetMode="External"/><Relationship Id="rId5" Type="http://schemas.openxmlformats.org/officeDocument/2006/relationships/hyperlink" Target="http://nl.wikipedia.org/wiki/Nierfalen" TargetMode="External"/><Relationship Id="rId6" Type="http://schemas.openxmlformats.org/officeDocument/2006/relationships/image" Target="../media/image2.jpeg"/><Relationship Id="rId7" Type="http://schemas.openxmlformats.org/officeDocument/2006/relationships/hyperlink" Target="http://nl.wikipedia.org/wiki/Netvlies" TargetMode="External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nl.wikipedia.org/wiki/Glucose" TargetMode="External"/><Relationship Id="rId3" Type="http://schemas.openxmlformats.org/officeDocument/2006/relationships/hyperlink" Target="http://nl.wikipedia.org/wiki/Bloed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hyperlink" Target="http://nl.wikipedia.org/wiki/Diabetes_mellitus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nl.wikipedia.org/wiki/Stofwisselingsziekte" TargetMode="External"/><Relationship Id="rId3" Type="http://schemas.openxmlformats.org/officeDocument/2006/relationships/hyperlink" Target="http://nl.wikipedia.org/wiki/Glucose" TargetMode="External"/><Relationship Id="rId4" Type="http://schemas.openxmlformats.org/officeDocument/2006/relationships/hyperlink" Target="http://nl.wikipedia.org/wiki/Sacharose" TargetMode="External"/><Relationship Id="rId5" Type="http://schemas.openxmlformats.org/officeDocument/2006/relationships/hyperlink" Target="http://nl.wikipedia.org/wiki/Cel_%28biologie%29" TargetMode="External"/><Relationship Id="rId6" Type="http://schemas.openxmlformats.org/officeDocument/2006/relationships/hyperlink" Target="http://nl.wikipedia.org/wiki/Insuline" TargetMode="External"/><Relationship Id="rId7" Type="http://schemas.openxmlformats.org/officeDocument/2006/relationships/hyperlink" Target="http://nl.wikipedia.org/wiki/Receptor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nl.wikipedia.org/wiki/Polyurie" TargetMode="External"/><Relationship Id="rId4" Type="http://schemas.openxmlformats.org/officeDocument/2006/relationships/hyperlink" Target="http://nl.wikipedia.org/wiki/Polydipsie" TargetMode="External"/><Relationship Id="rId5" Type="http://schemas.openxmlformats.org/officeDocument/2006/relationships/image" Target="../media/image2.jpeg"/><Relationship Id="rId6" Type="http://schemas.openxmlformats.org/officeDocument/2006/relationships/hyperlink" Target="http://nl.wikipedia.org/wiki/Blaasontsteking" TargetMode="External"/><Relationship Id="rId7" Type="http://schemas.openxmlformats.org/officeDocument/2006/relationships/hyperlink" Target="http://nl.wikipedia.org/wiki/Witte_vloed" TargetMode="External"/><Relationship Id="rId8" Type="http://schemas.openxmlformats.org/officeDocument/2006/relationships/hyperlink" Target="http://nl.wikipedia.org/wiki/Steenpuist" TargetMode="Externa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nl.wikipedia.org/wiki/Aceton" TargetMode="External"/><Relationship Id="rId3" Type="http://schemas.openxmlformats.org/officeDocument/2006/relationships/hyperlink" Target="http://nl.wikipedia.org/wiki/Keton" TargetMode="External"/><Relationship Id="rId4" Type="http://schemas.openxmlformats.org/officeDocument/2006/relationships/hyperlink" Target="http://nl.wikipedia.org/wiki/Coma_%28geneeskunde%29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hyperlink" Target="http://nl.wikipedia.org/wiki/Glucosurie" TargetMode="External"/><Relationship Id="rId5" Type="http://schemas.openxmlformats.org/officeDocument/2006/relationships/hyperlink" Target="http://nl.wikipedia.org/wiki/Polyurie" TargetMode="External"/><Relationship Id="rId6" Type="http://schemas.openxmlformats.org/officeDocument/2006/relationships/hyperlink" Target="http://nl.wikipedia.org/wiki/Polydipsie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40011"/>
                </a:solidFill>
                <a:latin typeface="Arial"/>
              </a:rPr>
              <a:t>‘</a:t>
            </a:r>
            <a:r>
              <a:rPr b="1" lang="nl-NL" sz="3200" spc="-1" strike="noStrike">
                <a:solidFill>
                  <a:srgbClr val="c40011"/>
                </a:solidFill>
                <a:latin typeface="Arial"/>
              </a:rPr>
              <a:t>Suikerziekte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51051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Gezondheidskunde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4723-515E-49DE-973C-9D83BE342852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Insulin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suline verlaagt het glucosegehalte van het bloed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BSS ‘meter’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pic>
        <p:nvPicPr>
          <p:cNvPr id="116" name="Picture 6" descr="Een insulinepomp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72360" y="4292640"/>
            <a:ext cx="2190600" cy="2114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Het zelf meten van de bloedsuikerspiegel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780000" y="2276640"/>
            <a:ext cx="2190600" cy="16477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3709440" y="4941720"/>
            <a:ext cx="21758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c42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sulinepomp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5627-2DF8-4DF9-A227-EF97D9D04BAC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Gevolgen D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Aderverkalking (bloedvaten sluiten af)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Hierdoor meer kans op;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artinfarct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roert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nierfal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e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</a:rPr>
              <a:t>amputatie</a:t>
            </a:r>
            <a:r>
              <a:rPr b="1" lang="nl-NL" sz="2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van bijvoorbeeld een voet, dan bij gezonde mense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Ook het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netvlies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kan schade lijden waardoor op den duur blindheid kan ontstaa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mpotentie en incontinentie is eveneens een vaak voorkomend gevolg van diabetes door 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neuropathie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( 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= het niet goed functioneren van zenuw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4C38-B74D-41B2-AB19-C3577698C75B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Gezonde levensstijl met D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Niet roken,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en normaal gewicht handhaven,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aan lichaamsbeweging doen en een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ventuele hoge bloeddruk en hoog cholesterol laten behandele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C06B-9292-44FF-AA75-DEAAAD0F2307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Diabete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e Bloedglucosespiegel is een maat voor de hoeveelheid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glucos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brandstof voor je lichaam) die opgelost is in het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bloed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en wordt uitgedrukt in millimol per liter (mmol/l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en normale nuchtere waarde ligt tussen de 4 en de 6,4 mmol/l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dien de 'nuchtere' waarden bij een onbehandeld persoon boven de 6,9 mmol/l en 'niet-nuchter' boven de 11,0 mmol/l liggen, spreekt men van </a:t>
            </a:r>
            <a:r>
              <a:rPr b="0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diabetes mellitus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suikerziekte)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36BB-5857-44B4-8EF3-F7F95FC7BD25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Oorzaak Diabete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iabetes is een ongeneeslijk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stofwisselingsziekt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Het lichaam haalt onvoldoende energie uit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glucos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suikers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Suikers kunnen in de meest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cell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alleen opgenomen worden in aanwezigheid van voldoend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insulin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hormoon), als er tevens werkende insuline-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receptor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op die cellen aanwezig zij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B9B5-324C-49BD-95EB-BBFC90943E86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Soorten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1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onvoldoende of geen productie van insuline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2</a:t>
            </a: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en probleem met betrekking tot de insuline-receptoren;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r wordt voldoende insuline gemaakt , maar lichaamscellen reageren onvoldoende op insuline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F0C1-DE07-467F-8665-F7A8B8BD22D6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Behandeling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1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Een combinatie van medicatie (insuline), dieet en bewege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2</a:t>
            </a: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Een combinatie van medicatie (tabletten), dieet en bewegen.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06AA-92A4-43DB-988B-B8C18B8FC03B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Symptomen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Veel mensen met lichte diabetes zijn geheel of nagenoeg symptoomloos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Veel plass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e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veel drink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treedt op bij hoge tot zeer hoge bloedglucosewaarden (boven de 13mmol/l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Patiënten hebben bij slechte glucoseinstelling (te hoog) vaker dan gemiddeld last va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blaasontsteking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witte vloed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en/of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steenpuist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AD18-0CCD-4B55-9F9C-AB9F6DD3CD54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Symptomen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Soms kan me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aceton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ruik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in de adem van patiënten met diabetes,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(nl. als glucose door het insulinetekort zo slecht kan worden verwerkt dat het lichaam overgeschakeld is op vetverbranding, waarbij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keton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als nevenproducten ontstaan, waarvan aceton er </a:t>
            </a:r>
            <a:r>
              <a:rPr b="1" lang="en-US" sz="2000" spc="-1" strike="noStrike">
                <a:solidFill>
                  <a:srgbClr val="2c4274"/>
                </a:solidFill>
                <a:latin typeface="Arial"/>
                <a:ea typeface="Arial"/>
              </a:rPr>
              <a:t>éé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n is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e bloedglucosespiegel in het bloed is dan meestal veel te hoog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Bij hoge bloedsuikers en ernstige uitdroging kan een levensgevaarlijk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coma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optrede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E16F-0B86-4787-8611-F43379BC22EA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Hyperglykemi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Te hoge bloedsuikerspiegel (BSS)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Wat kun je hieraan doen?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Koolhydraten vermijde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Wat zijn de gevaren?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e BSS veroorzaakt als hij hoog genoeg is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glucosuri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suikerverlies via de urin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 wat in ernstige gevallen een merkbar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polyuri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veel uriner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 zowel als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polydipsi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veel drink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 ten gevolge heeft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 het meest erge geval kan dit leiden tot coma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0063-A883-4CA4-BAD1-7B23046CE742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Hypoglykemi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Te lage bloedglucosespiegel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Wat kun je hieraan doen voordat je gaat sporten?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Koolhydraten eten, zodat je bloedsuikerspiegel goed is en je voldoende energie hebt om te sporte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12:24:21Z</dcterms:created>
  <dc:creator>willemh</dc:creator>
  <dc:description/>
  <dc:language>en-US</dc:language>
  <cp:lastModifiedBy>Sandra Kreuning</cp:lastModifiedBy>
  <dcterms:modified xsi:type="dcterms:W3CDTF">2017-04-04T06:46:41Z</dcterms:modified>
  <cp:revision>22</cp:revision>
  <dc:subject/>
  <dc:title>PowerPoint-presentatie</dc:title>
</cp:coreProperties>
</file>