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A6B-4E20-4752-8EEB-9C87F35C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DE1-9CF0-4EFF-B684-B420F73B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1E5-6A44-479D-8AC9-FB754412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38C-D7F0-4544-B9C3-350D6F86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EA9D-B77F-4F92-9CD1-CE2FAFBD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A1D3-D551-4B59-A5D0-9DE3EA93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CA9E-0F08-48CC-A28D-C50D6BFE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961E-6769-427F-A1A5-9C01A540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B767-C4B0-46E9-A4A1-E912893C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7517-BA74-4810-815B-82959B9A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C598-8B15-41FA-A655-E5D72975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44F-7F22-4C30-AF51-02D7D3B3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7D45-D423-45F1-9A9B-089DB35D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E26B-BE04-4A0E-8250-E8633F1A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04D3-2F21-439B-904C-16E1C00A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D6A3-3F2C-4554-BF00-97EBBD02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BFF5-2962-49FA-ACE9-866F65C7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C5A62-6636-4147-B0DF-69E65C3B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F52C6-608F-4549-8531-9847EF0A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30A83-388B-4828-B70B-33D5393F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DA2A5-34AA-4414-9AE9-57B75242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1A9E4-72B6-4936-AA63-70BE1CB0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C32-AF17-41A7-9BD3-2603C3FA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CABB-5C4B-4476-BBE5-620C1423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9974E-493B-4064-A1BF-19692E01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B9D67-3F7F-4F21-941C-3C7B2B36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99741-C1D9-46B6-83A3-FD47879B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6BE21-412F-4381-ACEC-0655082E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4151B-3919-434E-82F0-04543215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DDC86-DA49-4217-B620-CB87D082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C8FBF-2D35-4746-86FF-20198C42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52FC9-6605-4B1C-A219-8DB89588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F3A79-0287-4676-BFC7-0289321D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F12-A28E-4301-B366-713CC56D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648C5-EBF5-4045-B964-32EDAE05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C577D-ADA9-42B4-9005-FE3A374A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4FD54-73D0-4811-BDE8-B0865F1A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C58DD-AB96-423A-AF83-0F00A304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E06C2-8591-4062-8651-9DDB7FB5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63A01-4ED0-4AA9-B196-4126C2F9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B7978-9E1E-49B6-9FEA-B21A8D60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F5510-F682-40D8-B347-123048F6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ADC77-8E8C-408A-A5A6-9AC7E6A8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9F6-80DB-425B-8B91-2526D5B5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1D4-2D7F-42BF-8A60-ED58862A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434-41C0-46BD-89DC-DE464C01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4B8-A46C-4B60-89FC-A54FF4C5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3EC-600F-4EE9-89EC-E533862B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0EF39-CC13-4633-B334-B276E24C5CB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88302-6DBD-480F-B76E-D8836E06B09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ECC72-9E8B-43FF-8C63-CE706F361EB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F1B6F-3940-4382-94E6-1DBEBA41AAE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OY4wwAW1Zko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agOnV0gvfA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8800" spc="-1" strike="noStrike">
                <a:solidFill>
                  <a:srgbClr val="ff0000"/>
                </a:solidFill>
                <a:latin typeface="Verdana"/>
                <a:ea typeface="Verdana"/>
              </a:rPr>
              <a:t>REUMA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il_fi" descr="http://primawebshop.nl/medias/sys_master/8451887846401664.jpg"/>
          <p:cNvPicPr/>
          <p:nvPr/>
        </p:nvPicPr>
        <p:blipFill>
          <a:blip r:embed="rId1"/>
          <a:stretch/>
        </p:blipFill>
        <p:spPr>
          <a:xfrm>
            <a:off x="684360" y="1268280"/>
            <a:ext cx="5975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iekte van het bewegingsapparaat die zich meestal op hogere leeftijd openbaar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 is een reumatische aandoening waarbij het gewrichtskraakbeen in kwaliteit achteruitgaat en dunner en zachter word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en degeneratieve 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3488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gebeurt 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raakbeen verand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 ontstaan kleine scheurtjes spleten en groeven in het kraakbeen en botwoekeringen aan de randen van de aangedane gewri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Irritatie van het gewrichtskap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één gewric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il_fi" descr="http://www.reumafonds.nl/_sana_/handlers/getfile.ashx/de582bf1-cad6-400a-a9dc-61472e104712/Artrose_gezond_en_artrotisch_gewricht.jpg"/>
          <p:cNvPicPr/>
          <p:nvPr/>
        </p:nvPicPr>
        <p:blipFill>
          <a:blip r:embed="rId1"/>
          <a:stretch/>
        </p:blipFill>
        <p:spPr>
          <a:xfrm>
            <a:off x="4788000" y="4149720"/>
            <a:ext cx="41400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Meest voorkome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n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onderru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knieë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heupen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du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ving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il_fi" descr="http://groesland.nl/images/Artrose.jpg"/>
          <p:cNvPicPr/>
          <p:nvPr/>
        </p:nvPicPr>
        <p:blipFill>
          <a:blip r:embed="rId1"/>
          <a:stretch/>
        </p:blipFill>
        <p:spPr>
          <a:xfrm>
            <a:off x="3995640" y="1413000"/>
            <a:ext cx="43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ntstaan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, gaat niet o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felijke oorzaak(mogelijk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schadiging van gewricht door langdurige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spo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we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vergew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klach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 bij bewegen, vooral na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oeite met be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wel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houdingsafwij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ff0000"/>
                </a:solidFill>
                <a:latin typeface="Verdana"/>
                <a:ea typeface="Verdana"/>
              </a:rPr>
              <a:t>Voorkome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overbelasting van 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il_fi" descr="http://ikslijtsnel.punt.nl/upload/verkeerde_houding.jpg"/>
          <p:cNvPicPr/>
          <p:nvPr/>
        </p:nvPicPr>
        <p:blipFill>
          <a:blip r:embed="rId1"/>
          <a:stretch/>
        </p:blipFill>
        <p:spPr>
          <a:xfrm>
            <a:off x="755640" y="2997360"/>
            <a:ext cx="2664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en om te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el medicijnen voor symptom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stillers,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contrac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contractuur= 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il_fi" descr="http://www.pedicure-asten.nl/attachments/Image/reuma1.jpg"/>
          <p:cNvPicPr/>
          <p:nvPr/>
        </p:nvPicPr>
        <p:blipFill>
          <a:blip r:embed="rId1"/>
          <a:stretch/>
        </p:blipFill>
        <p:spPr>
          <a:xfrm>
            <a:off x="3708360" y="3789360"/>
            <a:ext cx="446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efenen en fysiotherap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m belasting van gewrichten te vermind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atie (kunst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il_fi" descr="http://www.stop-artrose.org/wp-content/uploads/2010/01/heup-kunstgewricht.jpg"/>
          <p:cNvPicPr/>
          <p:nvPr/>
        </p:nvPicPr>
        <p:blipFill>
          <a:blip r:embed="rId2"/>
          <a:stretch/>
        </p:blipFill>
        <p:spPr>
          <a:xfrm>
            <a:off x="6012000" y="4653000"/>
            <a:ext cx="2808000" cy="1989000"/>
          </a:xfrm>
          <a:prstGeom prst="rect">
            <a:avLst/>
          </a:prstGeom>
          <a:ln w="0">
            <a:noFill/>
          </a:ln>
        </p:spPr>
      </p:pic>
      <p:pic>
        <p:nvPicPr>
          <p:cNvPr id="255" name="il_fi" descr="http://webserv.nhl.nl/~oostmeij/fig-map/cartoons/obelix_ik%20ben%20niet%20dik_b.jpg"/>
          <p:cNvPicPr/>
          <p:nvPr/>
        </p:nvPicPr>
        <p:blipFill>
          <a:blip r:embed="rId3"/>
          <a:stretch/>
        </p:blipFill>
        <p:spPr>
          <a:xfrm>
            <a:off x="684360" y="1916280"/>
            <a:ext cx="3456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mgaan met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dersteuning bij huishoudelijk verzorgende werkzaamh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bukken en rei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passingen (verhoogd toilet, stoel, wandelstok, looprekje, rolstoel, orthopedisch schoeisel) 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il_fi" descr="http://www.blessurewinkel.nl/html/afbeeldingen_specifiek/specifiek_18.jpg"/>
          <p:cNvPicPr/>
          <p:nvPr/>
        </p:nvPicPr>
        <p:blipFill>
          <a:blip r:embed="rId1"/>
          <a:stretch/>
        </p:blipFill>
        <p:spPr>
          <a:xfrm>
            <a:off x="4967280" y="3716280"/>
            <a:ext cx="4176720" cy="3141720"/>
          </a:xfrm>
          <a:prstGeom prst="rect">
            <a:avLst/>
          </a:prstGeom>
          <a:ln w="0">
            <a:noFill/>
          </a:ln>
        </p:spPr>
      </p:pic>
      <p:pic>
        <p:nvPicPr>
          <p:cNvPr id="259" name="il_fi" descr="http://www.remicade.nl/images/foto036_134x239.jpg"/>
          <p:cNvPicPr/>
          <p:nvPr/>
        </p:nvPicPr>
        <p:blipFill>
          <a:blip r:embed="rId2"/>
          <a:stretch/>
        </p:blipFill>
        <p:spPr>
          <a:xfrm>
            <a:off x="2367000" y="4121280"/>
            <a:ext cx="12762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hoefte aan warmte dus niet wassen met koud water (vaak warm in hui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arme wollen kl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ociale contac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il_fi" descr="http://www.nijha.nl/cache/paragraphs/718516_f1_800x600.jpg"/>
          <p:cNvPicPr/>
          <p:nvPr/>
        </p:nvPicPr>
        <p:blipFill>
          <a:blip r:embed="rId1"/>
          <a:stretch/>
        </p:blipFill>
        <p:spPr>
          <a:xfrm>
            <a:off x="3203640" y="328464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is reum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: verzamelnaam voor vele gewrichtsaandoen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toïde artritis (artritis is ontsteking van 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Reumatoïde artriti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e vorm van reuma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uto-immuun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vanaf 4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Verdana"/>
                <a:ea typeface="Verdana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jaar, vaker bij vrouwen dan m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van de weefsels die de binnenkant van de gewrichten bekl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orzaak niet 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Gewri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in gewrichtskapsel, gewrichtskapsel wordt dikker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pijn,zwelling,w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Kraakbeen verdwijnt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bewegingen pijnlij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het botweef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il_fi" descr="http://www.reumafonds.nl/_sana_/handlers/getfile.ashx/b70910e5-59d6-4013-9084-772c151284aa/Gezond%20en%20ontstoken%20gewricht.JPG"/>
          <p:cNvPicPr/>
          <p:nvPr/>
        </p:nvPicPr>
        <p:blipFill>
          <a:blip r:embed="rId1"/>
          <a:stretch/>
        </p:blipFill>
        <p:spPr>
          <a:xfrm>
            <a:off x="1187280" y="1413000"/>
            <a:ext cx="44802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kleine gewrichten in handen en voe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(vooral s’ochtends,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ren(dwangsta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nobb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il_fi" descr="http://www.bndestem.nl/multimedia/archive/00737/reuma_737805b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16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Nog meer 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oeid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armoe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erk zweten, vooral `s nach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il_fi" descr="http://www.nutrigenerics.com/UserFiles/Uploads/vermoeide-vrouw.gif"/>
          <p:cNvPicPr/>
          <p:nvPr/>
        </p:nvPicPr>
        <p:blipFill>
          <a:blip r:embed="rId1"/>
          <a:stretch/>
        </p:blipFill>
        <p:spPr>
          <a:xfrm>
            <a:off x="5219640" y="3213000"/>
            <a:ext cx="3529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Onderzoeken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melijk 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öntgenfo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il_fi" descr="http://www.kennislink.nl/system/files/000/031/861/small/RheumatoideArthritisAP.jpg?1257332167"/>
          <p:cNvPicPr/>
          <p:nvPr/>
        </p:nvPicPr>
        <p:blipFill>
          <a:blip r:embed="rId1"/>
          <a:stretch/>
        </p:blipFill>
        <p:spPr>
          <a:xfrm>
            <a:off x="6732720" y="2060640"/>
            <a:ext cx="1942920" cy="2520720"/>
          </a:xfrm>
          <a:prstGeom prst="rect">
            <a:avLst/>
          </a:prstGeom>
          <a:ln w="0">
            <a:noFill/>
          </a:ln>
        </p:spPr>
      </p:pic>
      <p:pic>
        <p:nvPicPr>
          <p:cNvPr id="230" name="il_fi" descr="http://www.sleutelstad.nl/public/images/241962265.434485-rontgenfoto%20jpg.jpg"/>
          <p:cNvPicPr/>
          <p:nvPr/>
        </p:nvPicPr>
        <p:blipFill>
          <a:blip r:embed="rId2"/>
          <a:stretch/>
        </p:blipFill>
        <p:spPr>
          <a:xfrm>
            <a:off x="4356000" y="2060640"/>
            <a:ext cx="201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 voor genez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él medicijn voor sympto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Pijnstillende 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Gebruik van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Ziekte vertragende reuma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eefregels: gedoseerde rust, oefeningen om stijfheid en contracturen tegen te gaan, geschikt matras, voeding met voldoende eiwit en ka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eren: kunst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Aandachtspunten bij zorgvragers met chronische reum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dhouding bij bed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amshouding (aangepaste sto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urprev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choei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Temperatuur en vocht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Wat is reuma? - YouTub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2:50:28Z</dcterms:created>
  <dc:creator>Gebruiker</dc:creator>
  <dc:description/>
  <dc:language>en-US</dc:language>
  <cp:lastModifiedBy>Sandra Kreuning</cp:lastModifiedBy>
  <dcterms:modified xsi:type="dcterms:W3CDTF">2017-10-10T08:29:43Z</dcterms:modified>
  <cp:revision>58</cp:revision>
  <dc:subject/>
  <dc:title>RHEUMA</dc:title>
</cp:coreProperties>
</file>