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44E-990A-4C87-AD2D-DEC126BD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1D0-9311-4009-AA8F-D219EF53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B40-9726-4527-BB33-178CB03F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BB9-DB61-4C2B-8DD4-B9ED202B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D6E6-CE3E-420D-B686-3B09ED28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3A8D-AAC0-4463-86E5-076B2AD7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80CF-5677-4509-9976-06358D16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8E5B-48ED-4B7A-BE5B-BAD50358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94D6-BC82-46B3-981D-AA61A128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CC54-FBB5-49F7-A856-DA8D73DC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5840-FC71-4DDC-92AD-AF68E870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60F-36A3-40A2-9AAF-DC69C40A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17CF-8847-481E-9472-1092C30B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FA88-74CA-4548-8DC1-895473EA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EA61-C4EF-4C22-B38F-7A5151AE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E299-8936-401D-9532-577BA88F9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C9E2-7BA3-4396-AD0B-297497D9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A1516-FB08-4A8B-A215-12A42DAF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C951-0F1A-4C16-A897-D5E36627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EB14-6E01-4EBA-ABB3-97B0BEFA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776F0-6748-4FB3-AD7B-D347D884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D4429-057F-4DD0-AFDF-29531CDE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118-D642-460B-AAFB-D1AE471E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72B6C-2619-484C-A076-E75BBE11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9D231-B275-42AA-A236-0B819F60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A8BA2-F05D-44CB-96A9-1403AA05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09494-3D94-4D1B-8078-C3C44258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6C86-902C-47E5-9608-D6ED175C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26A9-A123-4062-9980-7464BBB6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12507-6230-48D5-83DC-7CFE8315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10810-5364-49E7-BDC6-AAE25398D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07E32-36F5-4BCC-8955-8A231FCC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57487-05DE-4479-BEAA-7B1CB57D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FD7-BD3F-4365-871E-69F84D37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E0487-FAFF-46A2-9CB1-A8753C48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8AB08-F0E0-4928-8253-9757B825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44708-6A18-4D68-855B-6079B875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62706-1D8A-4C6F-81A1-BF9587CC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4A9CD-F1AE-4B1F-89E0-989D7B81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FB8AD-0C58-47DA-9BB9-3E634DAB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66ADF-61E2-4A3B-BE96-DB934CC1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61543-EDFE-4118-BD79-0F87D9F8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B2E2D-501F-48AE-A0BC-12FC5BD8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153-783A-4AE7-BB76-99A4E863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6AE-6F81-4982-9FC7-0ADEDAF0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8A5-827D-45AE-B2D7-DE935B49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7DD-039F-43CB-945B-5AFE1B84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A02B-505E-4E2E-BEC2-DAD7D123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0B6BD-E74B-48F2-806A-80F646E8072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09A06-B2F5-4F7B-BFFB-694FA701166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CCBCA-8689-4A94-B377-70CAF9484E1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B5B35-FCE6-4795-B443-E0EBB5EFB66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OY4wwAW1Zko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agOnV0gvf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8800" spc="-1" strike="noStrike">
                <a:solidFill>
                  <a:srgbClr val="ff0000"/>
                </a:solidFill>
                <a:latin typeface="Verdana"/>
                <a:ea typeface="Verdana"/>
              </a:rPr>
              <a:t>REUMA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l_fi" descr="http://primawebshop.nl/medias/sys_master/8451887846401664.jpg"/>
          <p:cNvPicPr/>
          <p:nvPr/>
        </p:nvPicPr>
        <p:blipFill>
          <a:blip r:embed="rId1"/>
          <a:stretch/>
        </p:blipFill>
        <p:spPr>
          <a:xfrm>
            <a:off x="684360" y="1268280"/>
            <a:ext cx="5975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iekte van het bewegingsapparaat die zich meestal op hogere leeftijd openbaa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 is een reumatische aandoening waarbij het gewrichtskraakbeen in kwaliteit achteruitgaat en dunner en zachter word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en degeneratieve 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488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gebeurt 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raakbeen verand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 ontstaan kleine scheurtjes spleten en groeven in het kraakbeen en botwoekeringen aan de randen van de aangedan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Irritatie van het gewrichtskap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één gewri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il_fi" descr="http://www.reumafonds.nl/_sana_/handlers/getfile.ashx/de582bf1-cad6-400a-a9dc-61472e104712/Artrose_gezond_en_artrotisch_gewricht.jpg"/>
          <p:cNvPicPr/>
          <p:nvPr/>
        </p:nvPicPr>
        <p:blipFill>
          <a:blip r:embed="rId1"/>
          <a:stretch/>
        </p:blipFill>
        <p:spPr>
          <a:xfrm>
            <a:off x="4788000" y="4149720"/>
            <a:ext cx="41400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Meest voorkome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n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onderru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knieë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heupen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du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ving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il_fi" descr="http://groesland.nl/images/Artrose.jpg"/>
          <p:cNvPicPr/>
          <p:nvPr/>
        </p:nvPicPr>
        <p:blipFill>
          <a:blip r:embed="rId1"/>
          <a:stretch/>
        </p:blipFill>
        <p:spPr>
          <a:xfrm>
            <a:off x="3995640" y="1413000"/>
            <a:ext cx="43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ntstaan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, gaat niet o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felijke oorzaak(mogelijk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schadiging van gewricht door langdurige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spo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we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vergew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klach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, vooral na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oeite met be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wel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oudingsafwij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ff0000"/>
                </a:solidFill>
                <a:latin typeface="Verdana"/>
                <a:ea typeface="Verdana"/>
              </a:rPr>
              <a:t>Voorkome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overbelasting van 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il_fi" descr="http://ikslijtsnel.punt.nl/upload/verkeerde_houding.jpg"/>
          <p:cNvPicPr/>
          <p:nvPr/>
        </p:nvPicPr>
        <p:blipFill>
          <a:blip r:embed="rId1"/>
          <a:stretch/>
        </p:blipFill>
        <p:spPr>
          <a:xfrm>
            <a:off x="755640" y="2997360"/>
            <a:ext cx="266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en om te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el medicijnen voor symptom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stillers,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contrac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contractuur= 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l_fi" descr="http://www.pedicure-asten.nl/attachments/Image/reuma1.jpg"/>
          <p:cNvPicPr/>
          <p:nvPr/>
        </p:nvPicPr>
        <p:blipFill>
          <a:blip r:embed="rId1"/>
          <a:stretch/>
        </p:blipFill>
        <p:spPr>
          <a:xfrm>
            <a:off x="3708360" y="3789360"/>
            <a:ext cx="446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efenen en fysiotherap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m belasting van gewrichten te vermind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atie (kunst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il_fi" descr="http://www.stop-artrose.org/wp-content/uploads/2010/01/heup-kunstgewricht.jpg"/>
          <p:cNvPicPr/>
          <p:nvPr/>
        </p:nvPicPr>
        <p:blipFill>
          <a:blip r:embed="rId2"/>
          <a:stretch/>
        </p:blipFill>
        <p:spPr>
          <a:xfrm>
            <a:off x="6012000" y="4653000"/>
            <a:ext cx="2808000" cy="1989000"/>
          </a:xfrm>
          <a:prstGeom prst="rect">
            <a:avLst/>
          </a:prstGeom>
          <a:ln w="0">
            <a:noFill/>
          </a:ln>
        </p:spPr>
      </p:pic>
      <p:pic>
        <p:nvPicPr>
          <p:cNvPr id="255" name="il_fi" descr="http://webserv.nhl.nl/~oostmeij/fig-map/cartoons/obelix_ik%20ben%20niet%20dik_b.jpg"/>
          <p:cNvPicPr/>
          <p:nvPr/>
        </p:nvPicPr>
        <p:blipFill>
          <a:blip r:embed="rId3"/>
          <a:stretch/>
        </p:blipFill>
        <p:spPr>
          <a:xfrm>
            <a:off x="684360" y="1916280"/>
            <a:ext cx="3456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mgaan met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dersteuning bij huishoudelijk verzorgende werkzaam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bukken en rei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passingen (verhoogd toilet, stoel, wandelstok, looprekje, rolstoel, orthopedisch schoeisel)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l_fi" descr="http://www.blessurewinkel.nl/html/afbeeldingen_specifiek/specifiek_18.jpg"/>
          <p:cNvPicPr/>
          <p:nvPr/>
        </p:nvPicPr>
        <p:blipFill>
          <a:blip r:embed="rId1"/>
          <a:stretch/>
        </p:blipFill>
        <p:spPr>
          <a:xfrm>
            <a:off x="4967280" y="3716280"/>
            <a:ext cx="4176720" cy="3141720"/>
          </a:xfrm>
          <a:prstGeom prst="rect">
            <a:avLst/>
          </a:prstGeom>
          <a:ln w="0">
            <a:noFill/>
          </a:ln>
        </p:spPr>
      </p:pic>
      <p:pic>
        <p:nvPicPr>
          <p:cNvPr id="259" name="il_fi" descr="http://www.remicade.nl/images/foto036_134x239.jpg"/>
          <p:cNvPicPr/>
          <p:nvPr/>
        </p:nvPicPr>
        <p:blipFill>
          <a:blip r:embed="rId2"/>
          <a:stretch/>
        </p:blipFill>
        <p:spPr>
          <a:xfrm>
            <a:off x="2367000" y="4121280"/>
            <a:ext cx="1276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hoefte aan warmte dus niet wassen met koud water (vaak warm in hui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arme wollen kl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ociale contac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il_fi" descr="http://www.nijha.nl/cache/paragraphs/718516_f1_800x600.jpg"/>
          <p:cNvPicPr/>
          <p:nvPr/>
        </p:nvPicPr>
        <p:blipFill>
          <a:blip r:embed="rId1"/>
          <a:stretch/>
        </p:blipFill>
        <p:spPr>
          <a:xfrm>
            <a:off x="3203640" y="328464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is reum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: verzamelnaam voor vele gewrichtsaandoen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toïde artritis (artritis is ontsteking van 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Reumatoïde artrit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e vorm van reum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uto-immuun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vanaf 4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Verdana"/>
                <a:ea typeface="Verdana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jaar, vaker bij vrouwen dan m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van de weefsels die de binnenkant van de gewrichten bekl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orzaak niet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Gewri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in gewrichtskapsel, gewrichtskapsel wordt dikke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pijn,zwelling,w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Kraakbeen verdwijnt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bewegingen pijn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het botweef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il_fi" descr="http://www.reumafonds.nl/_sana_/handlers/getfile.ashx/b70910e5-59d6-4013-9084-772c151284aa/Gezond%20en%20ontstoken%20gewricht.JPG"/>
          <p:cNvPicPr/>
          <p:nvPr/>
        </p:nvPicPr>
        <p:blipFill>
          <a:blip r:embed="rId1"/>
          <a:stretch/>
        </p:blipFill>
        <p:spPr>
          <a:xfrm>
            <a:off x="1187280" y="1413000"/>
            <a:ext cx="448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kleine gewrichten in handen en vo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(vooral s’ochtends,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ren(dwangsta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nobb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l_fi" descr="http://www.bndestem.nl/multimedia/archive/00737/reuma_737805b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16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Nog meer 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oeid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armoe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erk zweten, vooral `s nach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il_fi" descr="http://www.nutrigenerics.com/UserFiles/Uploads/vermoeide-vrouw.gif"/>
          <p:cNvPicPr/>
          <p:nvPr/>
        </p:nvPicPr>
        <p:blipFill>
          <a:blip r:embed="rId1"/>
          <a:stretch/>
        </p:blipFill>
        <p:spPr>
          <a:xfrm>
            <a:off x="5219640" y="3213000"/>
            <a:ext cx="3529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Onderzoeken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melijk 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öntgenfo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l_fi" descr="http://www.kennislink.nl/system/files/000/031/861/small/RheumatoideArthritisAP.jpg?1257332167"/>
          <p:cNvPicPr/>
          <p:nvPr/>
        </p:nvPicPr>
        <p:blipFill>
          <a:blip r:embed="rId1"/>
          <a:stretch/>
        </p:blipFill>
        <p:spPr>
          <a:xfrm>
            <a:off x="6732720" y="2060640"/>
            <a:ext cx="1942920" cy="2520720"/>
          </a:xfrm>
          <a:prstGeom prst="rect">
            <a:avLst/>
          </a:prstGeom>
          <a:ln w="0">
            <a:noFill/>
          </a:ln>
        </p:spPr>
      </p:pic>
      <p:pic>
        <p:nvPicPr>
          <p:cNvPr id="230" name="il_fi" descr="http://www.sleutelstad.nl/public/images/241962265.434485-rontgenfoto%20jpg.jpg"/>
          <p:cNvPicPr/>
          <p:nvPr/>
        </p:nvPicPr>
        <p:blipFill>
          <a:blip r:embed="rId2"/>
          <a:stretch/>
        </p:blipFill>
        <p:spPr>
          <a:xfrm>
            <a:off x="4356000" y="2060640"/>
            <a:ext cx="201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 voor genez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él medicijn voor sympto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Pijnstillende 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Gebruik van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Ziekte vertragende reuma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eefregels: gedoseerde rust, oefeningen om stijfheid en contracturen tegen te gaan, geschikt matras, voeding met voldoende eiwit en ka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eren: kunst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Aandachtspunten bij zorgvragers met chronische reum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dhouding bij bed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amshouding (aangepaste sto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urpre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choei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Temperatuur en 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Wat is reuma? - YouTub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50:28Z</dcterms:created>
  <dc:creator>Gebruiker</dc:creator>
  <dc:description/>
  <dc:language>en-US</dc:language>
  <cp:lastModifiedBy>Sandra Kreuning</cp:lastModifiedBy>
  <dcterms:modified xsi:type="dcterms:W3CDTF">2017-10-10T08:29:43Z</dcterms:modified>
  <cp:revision>58</cp:revision>
  <dc:subject/>
  <dc:title>RHEUMA</dc:title>
</cp:coreProperties>
</file>