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ymposium Sport &amp; Bewegen Ensche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DFF6-AC07-416D-8B44-FB7DF60B4A1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ymposium Sport &amp; Bewegen Enschede</a:t>
            </a:r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8BAF-A993-4C6E-A259-66BC0AD350E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62D2-D278-434F-AE6B-D75E4533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6B15-E02C-4DE8-921E-F33EFA7A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1A9B-0A28-4204-BC58-2FA92D87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268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1076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32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268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1076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7161-1921-421C-ADA4-8427C1E3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8686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B8FA-354D-4D60-A36F-E74247AE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68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71076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7432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7268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71076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E595-05B2-4F19-BDC0-A246DA0D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4841-1D7E-4B52-865D-7937A7AC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B495-69D9-49D8-862E-1D2173D5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8686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0DEF-98D6-4D94-A252-3E717B0F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C698-74D4-499B-BE59-DAB4F498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08AC-2E72-451B-BADA-B196EEBD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50B4-6024-4FF0-9698-189439D1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42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146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97E2-E0D9-46AE-8068-D9E331FC7311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42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6095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hyperlink" Target="http://nl.wikipedia.org/wiki/Afbeelding:Insulin_pump_with_infusion_set.jpg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nl.wikipedia.org/wiki/Afbeelding:Glucose_test.JPG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nl.wikipedia.org/wiki/Hartinfarct" TargetMode="External"/><Relationship Id="rId4" Type="http://schemas.openxmlformats.org/officeDocument/2006/relationships/hyperlink" Target="http://nl.wikipedia.org/wiki/Cerebrovasculair_accident" TargetMode="External"/><Relationship Id="rId5" Type="http://schemas.openxmlformats.org/officeDocument/2006/relationships/hyperlink" Target="http://nl.wikipedia.org/wiki/Nierfalen" TargetMode="External"/><Relationship Id="rId6" Type="http://schemas.openxmlformats.org/officeDocument/2006/relationships/image" Target="../media/image2.jpeg"/><Relationship Id="rId7" Type="http://schemas.openxmlformats.org/officeDocument/2006/relationships/hyperlink" Target="http://nl.wikipedia.org/wiki/Netvlies" TargetMode="External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.wikipedia.org/wiki/Glucose" TargetMode="External"/><Relationship Id="rId3" Type="http://schemas.openxmlformats.org/officeDocument/2006/relationships/hyperlink" Target="http://nl.wikipedia.org/wiki/Bloed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hyperlink" Target="http://nl.wikipedia.org/wiki/Diabetes_mellitus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.wikipedia.org/wiki/Stofwisselingsziekte" TargetMode="External"/><Relationship Id="rId3" Type="http://schemas.openxmlformats.org/officeDocument/2006/relationships/hyperlink" Target="http://nl.wikipedia.org/wiki/Glucose" TargetMode="External"/><Relationship Id="rId4" Type="http://schemas.openxmlformats.org/officeDocument/2006/relationships/hyperlink" Target="http://nl.wikipedia.org/wiki/Sacharose" TargetMode="External"/><Relationship Id="rId5" Type="http://schemas.openxmlformats.org/officeDocument/2006/relationships/hyperlink" Target="http://nl.wikipedia.org/wiki/Cel_%28biologie%29" TargetMode="External"/><Relationship Id="rId6" Type="http://schemas.openxmlformats.org/officeDocument/2006/relationships/hyperlink" Target="http://nl.wikipedia.org/wiki/Insuline" TargetMode="External"/><Relationship Id="rId7" Type="http://schemas.openxmlformats.org/officeDocument/2006/relationships/hyperlink" Target="http://nl.wikipedia.org/wiki/Receptor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nl.wikipedia.org/wiki/Polyurie" TargetMode="External"/><Relationship Id="rId4" Type="http://schemas.openxmlformats.org/officeDocument/2006/relationships/hyperlink" Target="http://nl.wikipedia.org/wiki/Polydipsie" TargetMode="External"/><Relationship Id="rId5" Type="http://schemas.openxmlformats.org/officeDocument/2006/relationships/image" Target="../media/image2.jpeg"/><Relationship Id="rId6" Type="http://schemas.openxmlformats.org/officeDocument/2006/relationships/hyperlink" Target="http://nl.wikipedia.org/wiki/Blaasontsteking" TargetMode="External"/><Relationship Id="rId7" Type="http://schemas.openxmlformats.org/officeDocument/2006/relationships/hyperlink" Target="http://nl.wikipedia.org/wiki/Witte_vloed" TargetMode="External"/><Relationship Id="rId8" Type="http://schemas.openxmlformats.org/officeDocument/2006/relationships/hyperlink" Target="http://nl.wikipedia.org/wiki/Steenpuist" TargetMode="Externa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.wikipedia.org/wiki/Aceton" TargetMode="External"/><Relationship Id="rId3" Type="http://schemas.openxmlformats.org/officeDocument/2006/relationships/hyperlink" Target="http://nl.wikipedia.org/wiki/Keton" TargetMode="External"/><Relationship Id="rId4" Type="http://schemas.openxmlformats.org/officeDocument/2006/relationships/hyperlink" Target="http://nl.wikipedia.org/wiki/Coma_%28geneeskunde%29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hyperlink" Target="http://nl.wikipedia.org/wiki/Glucosurie" TargetMode="External"/><Relationship Id="rId5" Type="http://schemas.openxmlformats.org/officeDocument/2006/relationships/hyperlink" Target="http://nl.wikipedia.org/wiki/Polyurie" TargetMode="External"/><Relationship Id="rId6" Type="http://schemas.openxmlformats.org/officeDocument/2006/relationships/hyperlink" Target="http://nl.wikipedia.org/wiki/Polydipsie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40011"/>
                </a:solidFill>
                <a:latin typeface="Arial"/>
              </a:rPr>
              <a:t>‘</a:t>
            </a:r>
            <a:r>
              <a:rPr b="1" lang="nl-NL" sz="3200" spc="-1" strike="noStrike">
                <a:solidFill>
                  <a:srgbClr val="c40011"/>
                </a:solidFill>
                <a:latin typeface="Arial"/>
              </a:rPr>
              <a:t>Suikerziekte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5105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Gezondheidskunde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69D0-9AFF-4395-BEB3-0AB1915ECE45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Insuli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suline verlaagt het glucosegehalte van het bloed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BSS ‘meter’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pic>
        <p:nvPicPr>
          <p:cNvPr id="116" name="Picture 6" descr="Een insulinepomp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72360" y="4292640"/>
            <a:ext cx="2190600" cy="2114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Het zelf meten van de bloedsuikerspiegel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780000" y="2276640"/>
            <a:ext cx="2190600" cy="1647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3709440" y="4941720"/>
            <a:ext cx="21758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c42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sulinepomp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D129-3BA8-4165-BCB0-947D64488FC7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Gevolgen D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Aderverkalking (bloedvaten sluiten af)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Hierdoor meer kans op;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artinfarct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roert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nierfal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e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</a:rPr>
              <a:t>amputatie</a:t>
            </a:r>
            <a:r>
              <a:rPr b="1" lang="nl-NL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van bijvoorbeeld een voet, dan bij gezonde mense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Ook het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netvlies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kan schade lijden waardoor op den duur blindheid kan ontstaa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mpotentie en incontinentie is eveneens een vaak voorkomend gevolg van diabetes door 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neuropathie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( 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= het niet goed functioneren van zenuw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5163-7B9C-44E2-A50B-D60FFB8B2D84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Gezonde levensstijl met D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Niet roken,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en normaal gewicht handhaven,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aan lichaamsbeweging doen en een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ventuele hoge bloeddruk en hoog cholesterol laten behandele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C4F9-590F-4647-B9C5-26E3274A56AB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Diabete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e Bloedglucosespiegel is een maat voor de hoeveelheid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glucos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brandstof voor je lichaam) die opgelost is in het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bloed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en wordt uitgedrukt in millimol per liter (mmol/l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en normale nuchtere waarde ligt tussen de 4 en de 6,4 mmol/l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dien de 'nuchtere' waarden bij een onbehandeld persoon boven de 6,9 mmol/l en 'niet-nuchter' boven de 11,0 mmol/l liggen, spreekt men van 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diabetes mellitus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suikerziekte)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9E1B-88E0-4BA5-9962-1C7A63336A26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Oorzaak Diabete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iabetes is een ongeneeslijk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stofwisselingsziekt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Het lichaam haalt onvoldoende energie uit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glucos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suikers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Suikers kunnen in de meest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cell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alleen opgenomen worden in aanwezigheid van voldoend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insulin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hormoon), als er tevens werkende insuline-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receptor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op die cellen aanwezig zij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3CB3-ADF1-47D1-87E1-2C423CB24AA5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Soorten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1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onvoldoende of geen productie van insuline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2</a:t>
            </a: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en probleem met betrekking tot de insuline-receptoren;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r wordt voldoende insuline gemaakt , maar lichaamscellen reageren onvoldoende op insuline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4CF7-E635-4D21-8C6E-EA4502AD6D3E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Behandeling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1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Een combinatie van medicatie (insuline), dieet en bewege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2</a:t>
            </a: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Een combinatie van medicatie (tabletten), dieet en bewegen.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7A61-76D6-4B52-BE1F-4B4EDB31FFD3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Symptomen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Veel mensen met lichte diabetes zijn geheel of nagenoeg symptoomloos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Veel plass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e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veel drink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treedt op bij hoge tot zeer hoge bloedglucosewaarden (boven de 13mmol/l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Patiënten hebben bij slechte glucoseinstelling (te hoog) vaker dan gemiddeld last va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blaasontsteking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witte vloed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en/of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steenpuist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9432-3CB6-4E01-A514-616F346A108C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Symptomen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Soms kan me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aceton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ruik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in de adem van patiënten met diabetes,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(nl. als glucose door het insulinetekort zo slecht kan worden verwerkt dat het lichaam overgeschakeld is op vetverbranding, waarbij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keton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als nevenproducten ontstaan, waarvan aceton er </a:t>
            </a:r>
            <a:r>
              <a:rPr b="1" lang="en-US" sz="2000" spc="-1" strike="noStrike">
                <a:solidFill>
                  <a:srgbClr val="2c4274"/>
                </a:solidFill>
                <a:latin typeface="Arial"/>
                <a:ea typeface="Arial"/>
              </a:rPr>
              <a:t>éé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n is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e bloedglucosespiegel in het bloed is dan meestal veel te hoog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Bij hoge bloedsuikers en ernstige uitdroging kan een levensgevaarlijk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coma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optrede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45C6-6EFE-41E9-BAAC-B18316EE1019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Hyperglykemi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Te hoge bloedsuikerspiegel (BSS)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Wat kun je hieraan doen?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Koolhydraten vermijde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Wat zijn de gevaren?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e BSS veroorzaakt als hij hoog genoeg is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glucosuri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suikerverlies via de urin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 wat in ernstige gevallen een merkbar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olyuri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veel uriner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 zowel als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polydipsi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veel drink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 ten gevolge heeft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 het meest erge geval kan dit leiden tot coma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6D2E-C00B-40AF-825F-24EA2823A3FC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Hypoglykemi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Te lage bloedglucosespiegel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Wat kun je hieraan doen voordat je gaat sporten?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Koolhydraten eten, zodat je bloedsuikerspiegel goed is en je voldoende energie hebt om te sporte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12:24:21Z</dcterms:created>
  <dc:creator>willemh</dc:creator>
  <dc:description/>
  <dc:language>en-US</dc:language>
  <cp:lastModifiedBy>Sandra Kreuning</cp:lastModifiedBy>
  <dcterms:modified xsi:type="dcterms:W3CDTF">2017-04-04T06:46:41Z</dcterms:modified>
  <cp:revision>22</cp:revision>
  <dc:subject/>
  <dc:title>PowerPoint-presentatie</dc:title>
</cp:coreProperties>
</file>