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ymposium Sport &amp; Bewegen Ensche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CB315-904F-4ECE-919C-80FFA74CB7E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ymposium Sport &amp; Bewegen Enschede</a:t>
            </a:r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3AF38-F406-4592-B8B1-0517A5A5F7D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F7D7-E981-42C6-A03D-E2DB73CB0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58672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743200" y="3875400"/>
            <a:ext cx="58672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A693-B6A9-4F7B-9247-6271FCD7D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74320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4992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53B3-486F-4F9E-92EE-5ACE34C18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26800" y="144756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10760" y="144756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743200" y="387540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726800" y="387540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10760" y="387540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BACA-3D46-4A26-8D10-E6125B1D5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743200" y="1447560"/>
            <a:ext cx="586728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5867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28600" y="685440"/>
            <a:ext cx="8686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274320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743200" y="1447560"/>
            <a:ext cx="586728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6248-DF45-42B7-8370-07BEA0E52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74992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743200" y="3875400"/>
            <a:ext cx="58672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58672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2743200" y="3875400"/>
            <a:ext cx="58672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74320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74992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26800" y="144756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710760" y="144756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2743200" y="387540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726800" y="387540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710760" y="3875400"/>
            <a:ext cx="18889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5867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8CF5-AD97-4625-B5CF-92EBCEABA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EBD2-BE1F-4457-B738-3D0F3AEF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54F0-38E9-48CD-A09C-66B84F97A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685440"/>
            <a:ext cx="8686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C210-5212-4723-A206-8C92209E9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74320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C40F-3911-49CA-81FD-A556E0B9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49920" y="387540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9811-423A-4694-AC9C-827FC834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74320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49920" y="1447560"/>
            <a:ext cx="28630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743200" y="3875400"/>
            <a:ext cx="586728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2B3A-C8B4-4763-8F01-49BF5C58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743200" y="1447560"/>
            <a:ext cx="5867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c42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146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360" y="0"/>
            <a:ext cx="685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BFB19-67CF-4B13-B60B-4E549A777808}" type="slidenum">
              <a:rPr b="0" lang="nl-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743200" y="1447560"/>
            <a:ext cx="5867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2c42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c4274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60958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hyperlink" Target="http://nl.wikipedia.org/wiki/Afbeelding:Insulin_pump_with_infusion_set.jpg" TargetMode="External"/><Relationship Id="rId7" Type="http://schemas.openxmlformats.org/officeDocument/2006/relationships/image" Target="../media/image5.jpeg"/><Relationship Id="rId8" Type="http://schemas.openxmlformats.org/officeDocument/2006/relationships/hyperlink" Target="http://nl.wikipedia.org/wiki/Afbeelding:Glucose_test.JPG" TargetMode="External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hyperlink" Target="http://nl.wikipedia.org/wiki/Hartinfarct" TargetMode="External"/><Relationship Id="rId4" Type="http://schemas.openxmlformats.org/officeDocument/2006/relationships/hyperlink" Target="http://nl.wikipedia.org/wiki/Cerebrovasculair_accident" TargetMode="External"/><Relationship Id="rId5" Type="http://schemas.openxmlformats.org/officeDocument/2006/relationships/hyperlink" Target="http://nl.wikipedia.org/wiki/Nierfalen" TargetMode="External"/><Relationship Id="rId6" Type="http://schemas.openxmlformats.org/officeDocument/2006/relationships/image" Target="../media/image2.jpeg"/><Relationship Id="rId7" Type="http://schemas.openxmlformats.org/officeDocument/2006/relationships/hyperlink" Target="http://nl.wikipedia.org/wiki/Netvlies" TargetMode="External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nl.wikipedia.org/wiki/Glucose" TargetMode="External"/><Relationship Id="rId3" Type="http://schemas.openxmlformats.org/officeDocument/2006/relationships/hyperlink" Target="http://nl.wikipedia.org/wiki/Bloed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hyperlink" Target="http://nl.wikipedia.org/wiki/Diabetes_mellitus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nl.wikipedia.org/wiki/Stofwisselingsziekte" TargetMode="External"/><Relationship Id="rId3" Type="http://schemas.openxmlformats.org/officeDocument/2006/relationships/hyperlink" Target="http://nl.wikipedia.org/wiki/Glucose" TargetMode="External"/><Relationship Id="rId4" Type="http://schemas.openxmlformats.org/officeDocument/2006/relationships/hyperlink" Target="http://nl.wikipedia.org/wiki/Sacharose" TargetMode="External"/><Relationship Id="rId5" Type="http://schemas.openxmlformats.org/officeDocument/2006/relationships/hyperlink" Target="http://nl.wikipedia.org/wiki/Cel_%28biologie%29" TargetMode="External"/><Relationship Id="rId6" Type="http://schemas.openxmlformats.org/officeDocument/2006/relationships/hyperlink" Target="http://nl.wikipedia.org/wiki/Insuline" TargetMode="External"/><Relationship Id="rId7" Type="http://schemas.openxmlformats.org/officeDocument/2006/relationships/hyperlink" Target="http://nl.wikipedia.org/wiki/Receptor" TargetMode="External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hyperlink" Target="http://nl.wikipedia.org/wiki/Polyurie" TargetMode="External"/><Relationship Id="rId4" Type="http://schemas.openxmlformats.org/officeDocument/2006/relationships/hyperlink" Target="http://nl.wikipedia.org/wiki/Polydipsie" TargetMode="External"/><Relationship Id="rId5" Type="http://schemas.openxmlformats.org/officeDocument/2006/relationships/image" Target="../media/image2.jpeg"/><Relationship Id="rId6" Type="http://schemas.openxmlformats.org/officeDocument/2006/relationships/hyperlink" Target="http://nl.wikipedia.org/wiki/Blaasontsteking" TargetMode="External"/><Relationship Id="rId7" Type="http://schemas.openxmlformats.org/officeDocument/2006/relationships/hyperlink" Target="http://nl.wikipedia.org/wiki/Witte_vloed" TargetMode="External"/><Relationship Id="rId8" Type="http://schemas.openxmlformats.org/officeDocument/2006/relationships/hyperlink" Target="http://nl.wikipedia.org/wiki/Steenpuist" TargetMode="External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nl.wikipedia.org/wiki/Aceton" TargetMode="External"/><Relationship Id="rId3" Type="http://schemas.openxmlformats.org/officeDocument/2006/relationships/hyperlink" Target="http://nl.wikipedia.org/wiki/Keton" TargetMode="External"/><Relationship Id="rId4" Type="http://schemas.openxmlformats.org/officeDocument/2006/relationships/hyperlink" Target="http://nl.wikipedia.org/wiki/Coma_%28geneeskunde%29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hyperlink" Target="http://nl.wikipedia.org/wiki/Glucosurie" TargetMode="External"/><Relationship Id="rId5" Type="http://schemas.openxmlformats.org/officeDocument/2006/relationships/hyperlink" Target="http://nl.wikipedia.org/wiki/Polyurie" TargetMode="External"/><Relationship Id="rId6" Type="http://schemas.openxmlformats.org/officeDocument/2006/relationships/hyperlink" Target="http://nl.wikipedia.org/wiki/Polydipsie" TargetMode="Externa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c40011"/>
                </a:solidFill>
                <a:latin typeface="Arial"/>
              </a:rPr>
              <a:t>‘</a:t>
            </a:r>
            <a:r>
              <a:rPr b="1" lang="nl-NL" sz="3200" spc="-1" strike="noStrike">
                <a:solidFill>
                  <a:srgbClr val="c40011"/>
                </a:solidFill>
                <a:latin typeface="Arial"/>
              </a:rPr>
              <a:t>Suikerziekte’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510516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Gezondheidskunde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6774E-F9EE-44F9-8802-4C637DA32299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Insulin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Insuline verlaagt het glucosegehalte van het bloed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BSS ‘meter’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  <p:pic>
        <p:nvPicPr>
          <p:cNvPr id="116" name="Picture 6" descr="Een insulinepomp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372360" y="4292640"/>
            <a:ext cx="2190600" cy="2114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Het zelf meten van de bloedsuikerspiegel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3780000" y="2276640"/>
            <a:ext cx="2190600" cy="16477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3709440" y="4941720"/>
            <a:ext cx="21758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c42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Insulinepomp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40CD5-3622-4EB1-A805-4687FFBBBB7D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Gevolgen D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Aderverkalking (bloedvaten sluiten af)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Hierdoor meer kans op;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artinfarct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,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beroert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,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nierfal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en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</a:rPr>
              <a:t>amputatie</a:t>
            </a:r>
            <a:r>
              <a:rPr b="1" lang="nl-NL" sz="2000" spc="-1" strike="noStrike">
                <a:solidFill>
                  <a:srgbClr val="ccccff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van bijvoorbeeld een voet, dan bij gezonde mensen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Ook het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netvlies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kan schade lijden waardoor op den duur blindheid kan ontstaan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Impotentie en incontinentie is eveneens een vaak voorkomend gevolg van diabetes door 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neuropathie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( 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= het niet goed functioneren van zenuw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7BF8D-57D2-4C82-A17B-CA3E3FD1DA92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Gezonde levensstijl met D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Niet roken,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een normaal gewicht handhaven,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aan lichaamsbeweging doen en een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eventuele hoge bloeddruk en hoog cholesterol laten behandelen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1EEA1-8317-4AF3-A87B-525FF89F297A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Diabetes Melli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De Bloedglucosespiegel is een maat voor de hoeveelheid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glucos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(brandstof voor je lichaam) die opgelost is in het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bloed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en wordt uitgedrukt in millimol per liter (mmol/l)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Een normale nuchtere waarde ligt tussen de 4 en de 6,4 mmol/l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Indien de 'nuchtere' waarden bij een onbehandeld persoon boven de 6,9 mmol/l en 'niet-nuchter' boven de 11,0 mmol/l liggen, spreekt men van </a:t>
            </a:r>
            <a:r>
              <a:rPr b="0" lang="nl-NL" sz="20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diabetes mellitus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(suikerziekte)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65326-481F-433A-A6FD-27340B79EAA8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Oorzaak Diabetes Melli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Diabetes is een ongeneeslijke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stofwisselingsziekt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Het lichaam haalt onvoldoende energie uit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glucos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(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suikers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)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Suikers kunnen in de meeste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cell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alleen opgenomen worden in aanwezigheid van voldoende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insulin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(hormoon), als er tevens werkende insuline-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receptor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op die cellen aanwezig zijn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F2754-FE70-42F6-943A-25226D5BD940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Soorten Diabetus Melli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Diabetus Mellitus type 1: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onvoldoende of geen productie van insuline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Diabetus Mellitus type 2</a:t>
            </a:r>
            <a:r>
              <a:rPr b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: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een probleem met betrekking tot de insuline-receptoren;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Er wordt voldoende insuline gemaakt , maar lichaamscellen reageren onvoldoende op insuline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73B2C-30E5-4B54-8436-0EA55F2F28C8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Behandeling Diabetus Melli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Diabetus Mellitus type 1: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Een combinatie van medicatie (insuline), dieet en bewegen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Diabetus Mellitus type 2</a:t>
            </a:r>
            <a:r>
              <a:rPr b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: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Een combinatie van medicatie (tabletten), dieet en bewegen.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E6004-0578-4532-9813-14FC73049F66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Symptomen Diabetus Melli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Veel mensen met lichte diabetes zijn geheel of nagenoeg symptoomloos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Veel plass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en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veel drink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treedt op bij hoge tot zeer hoge bloedglucosewaarden (boven de 13mmol/l)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Patiënten hebben bij slechte glucoseinstelling (te hoog) vaker dan gemiddeld last van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blaasontsteking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,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witte vloed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, en/of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steenpuist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84057-5B08-4BE0-B20B-5D0111097317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Symptomen Diabetus Mellit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Soms kan men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aceton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 ruik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in de adem van patiënten met diabetes,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(nl. als glucose door het insulinetekort zo slecht kan worden verwerkt dat het lichaam overgeschakeld is op vetverbranding, waarbij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keton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als nevenproducten ontstaan, waarvan aceton er </a:t>
            </a:r>
            <a:r>
              <a:rPr b="1" lang="en-US" sz="2000" spc="-1" strike="noStrike">
                <a:solidFill>
                  <a:srgbClr val="2c4274"/>
                </a:solidFill>
                <a:latin typeface="Arial"/>
                <a:ea typeface="Arial"/>
              </a:rPr>
              <a:t>éé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n is)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De bloedglucosespiegel in het bloed is dan meestal veel te hoog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Bij hoge bloedsuikers en ernstige uitdroging kan een levensgevaarlijk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coma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optreden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0576C-6FEC-4F16-96C9-7821C8F913F9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Hyperglykemi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Te hoge bloedsuikerspiegel (BSS)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Wat kun je hieraan doen?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Koolhydraten vermijden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Wat zijn de gevaren?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De BSS veroorzaakt als hij hoog genoeg is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glucosuri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(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suikerverlies via de urin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) wat in ernstige gevallen een merkbare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polyuri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(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veel uriner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) zowel als </a:t>
            </a:r>
            <a:r>
              <a:rPr b="1" lang="nl-NL" sz="20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polydipsie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 (</a:t>
            </a:r>
            <a:r>
              <a:rPr b="1" i="1" lang="nl-NL" sz="2000" spc="-1" strike="noStrike">
                <a:solidFill>
                  <a:srgbClr val="2c4274"/>
                </a:solidFill>
                <a:latin typeface="Arial"/>
              </a:rPr>
              <a:t>veel drinken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) ten gevolge heeft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In het meest erge geval kan dit leiden tot coma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ijdelijke aanduiding voor dianummer 5"/>
          <p:cNvSpPr/>
          <p:nvPr/>
        </p:nvSpPr>
        <p:spPr>
          <a:xfrm>
            <a:off x="0" y="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A5B35-E54E-4025-9CF6-CAFFCD6FF65A}" type="slidenum">
              <a:rPr b="1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2c4274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nl-NL" sz="2000" spc="-1" strike="noStrike">
                <a:solidFill>
                  <a:srgbClr val="ffffff"/>
                </a:solidFill>
                <a:latin typeface="Arial"/>
              </a:rPr>
              <a:t>Hypoglykemi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186920" y="1557360"/>
            <a:ext cx="7201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Te lage bloedglucosespiegel.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2c4274"/>
                </a:solidFill>
                <a:uFillTx/>
                <a:latin typeface="Arial"/>
              </a:rPr>
              <a:t>Wat kun je hieraan doen voordat je gaat sporten? 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2c4274"/>
                </a:solidFill>
                <a:latin typeface="Arial"/>
              </a:rPr>
              <a:t>Koolhydraten eten, zodat je bloedsuikerspiegel goed is en je voldoende energie hebt om te sporten.</a:t>
            </a:r>
            <a:endParaRPr b="1" lang="en-US" sz="2000" spc="-1" strike="noStrike">
              <a:solidFill>
                <a:srgbClr val="2c427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9T12:24:21Z</dcterms:created>
  <dc:creator>willemh</dc:creator>
  <dc:description/>
  <dc:language>en-US</dc:language>
  <cp:lastModifiedBy>Sandra Kreuning</cp:lastModifiedBy>
  <dcterms:modified xsi:type="dcterms:W3CDTF">2017-04-04T06:46:41Z</dcterms:modified>
  <cp:revision>22</cp:revision>
  <dc:subject/>
  <dc:title>PowerPoint-presentatie</dc:title>
</cp:coreProperties>
</file>