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3CC-C121-49F0-9E70-9A2D4AAB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EDF-F2F2-4681-8DB1-9C43605E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ED6959-F258-4C2C-A734-DBE345E3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E711CD-AAD5-4DB6-890C-1C25D9F3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0907E-53C6-4813-84B4-667AE7C5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453E96-A450-4E94-BB91-1D683998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E622EB-F62F-4699-8852-DD57AF4E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94B96-05D5-469E-88A2-B33A4A5B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9EBFF-A612-44F6-AD96-75D850C5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B59662-790B-4CF3-ACA3-726746DC9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DDE194-449E-4AE8-9F17-E82DD7C4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B64F89-D7C5-4F10-9ECB-4BEE8398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42D8-5E9E-413A-BBE6-E5223BA3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499ACB-3F06-4A9F-9042-2C7BD934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189824-B687-449C-A0C4-CDE1804B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83A6B9-B05F-4145-8655-880AC3FD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1E5734-BA8E-4C50-B760-5A919068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AB23B-0D6C-4A41-B73B-C7A6A5D1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B4B0B-9F69-45E5-BDB8-E6BA66EA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506662-021B-433C-9DDA-260EEE83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92566-2ED6-4420-BDD2-8F6B3490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A7091-9436-4EE1-A7E0-16DC2575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0D9C94-9732-42EE-8F54-CBC00F50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A25-D0D6-4634-B1A4-5111962F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0ABBC-AEF8-4585-966A-ADB4EEB9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BCB4C-3544-40B7-BEBD-71F3220D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37BF2-BA70-4973-B321-82FA7E2D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626E1-A129-48AA-B172-8AF041F8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9CA9A-B8DD-4431-8256-F9405351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F929F-AA53-4742-B08F-CF30DA34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F3D0A-9F69-4E04-8A6F-B3F5E7D0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89314-54EC-4B30-97B1-4B123644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6F498-2BBB-445B-BDF5-47A8E24C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F663D-0051-45F5-9466-F192200A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F995-436B-4CD8-ABE5-9CBA6BBC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D306A-AF4F-4CE3-AB1E-67CA950A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4FB67-F131-442D-BC23-CF8C0ED9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7D7CA-0FD2-49A6-9398-F93EA153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7F42E1-0C38-4F08-A81F-8C769FB8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BE4EF-811D-41D6-8D91-507BC234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A4D632-8B08-489D-A321-7F0F46F6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03F4E-12B1-420C-9ECB-92F3A4F8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6CF414-F576-4656-BA07-A328D037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25784-F235-467C-918C-5E4FEAB8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C06396-9AAC-435E-BA12-52B04F6C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F983-74E7-4E6A-B306-07E34B11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5E5F00-6A1E-49D7-91E2-F99EA752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D01E08-320E-44E1-BB1D-95ABD6DD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1DDF48-D631-4DCC-98A5-D6B683E2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D8F97-CA84-489B-B503-E7996805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F54CE-2163-4988-A0F5-1644EA58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5861-BBF0-4CAC-8C4A-15D7F6DB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603E-34FA-4761-8FDB-7109CE81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C591-1DB8-4262-B5BC-8CC1553E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FDF5-9D8F-4D90-B37C-FB9046FD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1A58-7D55-4921-829F-24641B22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CC66-AE6C-411E-9FB9-880B7838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2771-BF1C-4C99-813F-C295A3D7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82BA-B439-480B-8802-4326264E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6088-C010-464F-BB10-9B371D93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F367-CAF6-4C7E-9493-FAE86F3D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62A9-89CD-4063-9078-3C90DF04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041A2-0872-43CB-9765-16148493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037D2-BAEF-48AC-A70D-382250C5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FA111-D2C1-4AC4-8633-2685AA86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9F9D7-2F9C-4102-B971-14B44C2C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051AF-3F53-46C1-BD80-0D6E7B0F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210-DE0C-4371-B8F8-E04C3E37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13430-0A74-409B-AC5A-E96CD345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56F30-0F6A-4BE6-8C94-9A1F348B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E63A4-2B1A-4840-8D8B-DE946ACB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5A20B-697A-49F7-9A2B-B7374E13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379E3-FB24-4E0C-B961-249C1284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A167A-1393-44A8-969C-66E80860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CEBDC-B8EF-4497-8016-D5A9DBBC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EA100-A818-4F38-94AD-52FDF518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EF441-CADA-47A6-A134-077CE429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7BCBC-2F3F-44BD-ABC1-C38D4014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658-8E10-4757-8873-2E783DAC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159D5-8788-404B-9D9B-24C23590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54843-BAC5-4E02-A705-EF36F734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1B0D5-6332-43C1-A439-77AAC47B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D851E-40F9-4F64-9107-6A816028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D319B-9B6C-461D-BDD6-B59EAFA3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89E69-406C-4101-A06C-6272F59C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D8C27-3371-49E2-82B7-F28DD5D6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E730D-188D-472A-9C76-B5C91D01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11B0E-C84B-46BF-860E-8386FB10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997E0-3822-4F8C-B617-271025F6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864-49B0-4383-A8DF-F5B31CEE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2985C-15E2-479C-9A70-D4A3C6C7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FCCFE-608A-4C18-89A8-8AC7201C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F458C-7EDF-417D-8F2D-0991FD48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798B6-824D-48D9-B79C-07B83613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09AE3-7579-42D6-852C-27C27AD4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7D447-D8AD-4C8B-8C37-ADC1FBC5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751E7-290F-4C78-8BD2-7FA50916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96147-692D-454F-AA3C-CFEB7F81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14084-B108-492D-B680-0AEF0EDE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BEF19-47FD-4D2B-A771-B0F1802B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66C-097C-4BFE-8F24-9DDC2BF8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46F2A-3783-47E6-B4B0-3C3B824C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57B67-2D20-4C77-93A3-13A80841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29553-4F74-4E5D-8A61-6CFCE901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48DEA-C273-466F-8E37-74A3376B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2E9CD-BBBA-4AEC-A0A2-42441CEB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14107-CDE8-4FB8-AE23-D7431FCB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5DA39-9781-4DAD-B4C6-C5FCA449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B9223-88F8-491E-AE45-9A66930D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45AAD-C0A8-4D8A-A5F9-DB179D75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4086A-2243-482E-9D41-46487A4D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3CA-8731-4F00-8A67-0F5AA57B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96032-70EA-4F4E-90EB-48034D83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2B8A5-80DB-425A-92B4-EED1383E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6D489-FD40-41DE-BA56-467461F3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586AB-7F4A-4393-A4CA-80BFA6B3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DAC41-69CA-46DF-A347-A6447528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94A82-DE1F-4604-875C-374B3BA1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87A4B-8FE3-4833-BA6A-B74EF30C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937EB-A2AB-467C-9122-D0E4AB0E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B35E6-D1A5-4C58-9CD3-2D55D36C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A9319-FCF5-4F36-B0B6-62B0261D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491B-1402-46CD-B5E6-5FC13AA2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B6214-40D4-498C-B54E-CB88B2F2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36328-4A8F-4A56-9BFB-5EFA8E87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01FD3-24AD-4E0B-BDE9-BC8CB278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CD421-3B4E-419B-85B0-0601F1DB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4DDBC-ED18-4B2A-91FE-7CB807C1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B2E36-9B89-459E-A33C-866E2A2C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DD615-BDAF-4B8A-B3B5-69159FB2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03F76-6BDA-413E-87AB-9C889975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F3978-1401-4DD7-B955-6067A73F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9DB2F-6263-4A12-9CB6-D0ADA3F9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0004-F512-4A72-AE1B-93C57CE2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13EC2-8A13-4D61-8047-72BD11E8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CE82C-2B55-4E2B-AEF8-8381C539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0BB9E-986D-4E83-8975-7B886C3F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418BB-6966-42D5-9448-755BB46A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B1638-A1C0-4025-94E3-75ED5DFE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612E5-EB01-415E-ADD1-6FC1EFE4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17948-16C0-4723-B395-7B39DA4D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9E269-4E6B-45FB-90C8-824F5A97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F700A-BB93-4569-AEE8-0407327C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93881-688B-4424-94A7-D35F2950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6807-149E-4EAB-ACD7-2EC2F2B2C97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BE17-E702-46FE-97A7-E6EA8111259A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C704-22F7-4998-9846-80466D564D56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6205-9B53-4C53-9B73-F32A1B5CB736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6B57-EF6E-41C8-B606-8E11A774E53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46DF-2855-4913-840C-5EA876710F3D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D99A-253A-4482-871F-3B777545B7CB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BFD1-C962-4E46-AFF7-E6246A178C99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C925-797C-4B65-8277-BA0221AC24E7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F3D5-5C2C-459F-B3C2-3B6070697D2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3084-CAAF-4ADC-B6F2-D11B07D660C6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16F5-C84A-4638-BBE2-B3BEC6665C94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d16349"/>
                </a:solidFill>
                <a:latin typeface="Georgia"/>
              </a:rPr>
              <a:t>Infectie en ontsteking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3059280" y="3860640"/>
            <a:ext cx="3097080" cy="23241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eorgia"/>
              </a:rPr>
              <a:t>Wat kun je er aan doen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68360" y="2276280"/>
            <a:ext cx="80517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ichaam zelf: aanmaak antistoffen (immuu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ymptomatische behand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 viruss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rkoudheid, griep (influenza), acute darminfectie, waterpokken, gordelroos, koortslip, Pfeiffer, AIDS, meningit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Schimmels en gist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onder microscoop als dra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op aanwezig op licha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schimmels = commensale schimmel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 plaats van ziekte te veroorzaken, beschermt de commensale flora het lichaam tegen ziekteverwekkende organismen. Indien de commensale flora wordt verstoord, herstelt deze zich weer snel.   Spruw - ba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venwicht raakt verstoord door allerlei oorz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 (een ziekteverwekker van biologische oorsprong) schimmel, bijv. voetschimm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plaats, last, jeuk, week, n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8920" y="16286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schimmel: medica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Worm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met blote oo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Aarsmade (enterobiu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Spoel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ia vingers en mo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s in omgev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uw varkensvlees/ rundvle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gewassen gro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deren in de zand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komen van zelf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ygië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ijnen: mebendazol = Vermox, madic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recept verkrijgba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Passieve en actieve immunis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Georgia"/>
              </a:rPr>
              <a:t>Pass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krijgt antistoffen van een and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kind van moeder via de placenta en moedermelk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Inenting met antistoffen. Werkt niet heel la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Georgia"/>
              </a:rPr>
              <a:t>Act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lichaam maakt zelf antistoffen aa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maakt een infectie doo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Vaccinatie met dode of verzwakte ziekteverwekker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Georgia"/>
              </a:rPr>
              <a:t>Vaccin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750960" y="1527120"/>
            <a:ext cx="760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Ontsteking / infec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ontsteking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is een (plaatselijke) reactie van het lichaam op een willekeurige schadelijke prikk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infectie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 na infectie handhaven en vermenigvuldigen van een ziekteverwekker = bacterie, virus, schimmel of gist, worm of protoz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Bacterië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ééncellig, onder gewone microscoop te 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werpig (staaf) of rond (kok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bacteriën = commensal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chadelijke bacteriën = pathoge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n in het lichaam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26920" y="1557360"/>
            <a:ext cx="76932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ijn, zwelling, roodheid, warmte, gestoorde functi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ukocyten als afwe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= leukocyt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+ bacteriën = infiltraa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usvorming (dode leuko’s + bac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in holte = ab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angs gangetje = fistel (geneest niet goed zelf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684000" y="549000"/>
            <a:ext cx="7908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afsterven leuko’s + bacteriën komen stoffen vrij die onze lich.temp doen stijgen = koor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orts = lichaamstemperatuur van 38°Cof hog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rectaal gemeten) oor en oraal kan is niet zo prec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acteriën in bloedbaan = sepsis = zeer hoge koorts + levensgevaar / bloedvergiftig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476280"/>
            <a:ext cx="853452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Wat kun je er aan doen</a:t>
            </a: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lichaam zelf, aanmaak antistoffen (immuun)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Antibiotica: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esistentie / overgevoelighei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Voorbeelden bacteriee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laas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rbekkenontsteking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teenpuist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ndroo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bc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e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ingitis (nekkramp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Viruss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, alleen te zien onder sterke electronenmicr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enigvuldigt zich ten koste van lichaamcel, cel breekt a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rijgekomen virus gaat naar volgende cellen, etc.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pgezette lymfeklieren, soms koorts, verder afhankelijk van ple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focyten als afwe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worden gemaakt in lymfekliere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9:00:12Z</dcterms:created>
  <dc:creator>vredelust</dc:creator>
  <dc:description/>
  <dc:language>en-US</dc:language>
  <cp:lastModifiedBy>Sandra Kreuning</cp:lastModifiedBy>
  <dcterms:modified xsi:type="dcterms:W3CDTF">2018-07-11T10:20:32Z</dcterms:modified>
  <cp:revision>54</cp:revision>
  <dc:subject/>
  <dc:title>infectieziekten</dc:title>
</cp:coreProperties>
</file>