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243F-FEF8-456D-87A5-BFDDA2945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36C4-31AD-4C9F-81C3-2975E8DE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758F45-964B-4CC5-94D0-FADA20C4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DCEF81-B1BE-4120-BFB0-07175766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E4099B-2E0C-4AFC-9070-928233DFB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12B2B-5779-4593-8FE7-D531DF84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31B31D-5FEC-4748-9B2B-35EBC10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98FC111-8DE1-4E0E-A857-A0C5408D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ABE3EF-4DCC-4BDF-8186-99CFDC75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C40E11-FD80-4F9B-BC50-DEEBAA0F2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D3E8D0-365A-449C-A75D-48A2738E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42F6F8-A5DD-47FC-BC8D-6F28DC40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7B1A-BC82-4F95-AAA6-2A2BE8AD3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4D65B2-4D16-4142-BEC5-C9E82735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7FC32A-A43B-4251-A1EC-2E0F4F1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0D6803-ABAE-45DD-9D99-41C2E8FF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282C51-3191-4174-BBF5-33D8E912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88B957-2F9B-44BA-A357-8DD1639F8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B7BF1-BA95-4738-AA97-E62620B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6EFCB8-6F54-455D-8014-D64E0491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33942E-6090-4E9C-AC26-87F43BF4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6FE352-49E8-4BF1-A9FE-5A8A4B32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6B1BB6-8408-49CC-8E40-22EEAFA85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5A4-E16A-419F-80EB-087BFFB97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783D37-12DF-4B3F-A3BB-42E64EE2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FBE0D2-3646-4659-8AF7-C9C78A07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C08DC-D985-4D80-80EA-2A26345EF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E21EB1-CF5E-4E43-A927-CF795FCDA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5833DB-B359-44DD-8A44-BF6ABC13D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2FD3E2-CC32-49CF-A393-225C31EA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214DA-DE61-455B-AFD6-EA8943F0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8C8FE-8A7A-437C-9D35-01341418A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EBB59-5409-4226-A134-0B274444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FF182B-6705-4E93-9D0E-A08143C7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A15C7-CA9F-45AA-8DAC-C60EE4594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89F5B-9E68-426F-992C-4E906E292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9537C-36BD-47FC-88DD-0BE229700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A075C-D0F0-42AE-AD22-4C65C3CE3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096D30-5759-4C69-8F1C-2BCFFD1AA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A52A6-FF75-4C8A-9CCA-5B175EAC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7540B8-7610-4E3F-A70B-14AEA4E61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488F24-0EB6-4E13-A163-ECB2BD41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90D0A4-B6CF-4A2A-ACCF-D5E67F59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41D06E-FCFB-4AC7-BA5D-DE0AEF80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CAD80D-CB53-49B9-808C-A987983A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D66-E71B-44C5-8730-B411F6F8F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5CE616-CBEB-45E3-9B26-3820D54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21047-642C-4BE9-B43D-5EDD2226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57A37-A68B-489F-A6BC-12E01E4B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EA9AC0-56EC-4873-9DB7-95BC8D50B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A677CC-F227-4AB4-96D8-735A5934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CA04-B612-4ED8-8783-ECBBE126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3BC5-A82C-479A-A8B8-E160AFD4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E2D-B96C-44E4-A8B4-868D0A586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B734-92FB-4F30-9CC6-660BD0399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E1A75-A270-4715-870E-2B9C89A4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6C7D-92C2-4721-9F9C-CF7AB1E75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437C-837A-4651-B326-7ADEF0DD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34EB1-D2D5-40D4-98A4-F6B935EF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46DE-DB84-4567-9351-3A6F12BC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4432-E387-499D-9FDA-15D0C88A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1AFF-2A79-4968-81FB-88028E8C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6D993-DED2-4ABC-8D42-7E936306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9C498-CC95-4A83-A44C-F6177654B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5D4EF-F7D1-4670-A1A4-450C9B09C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E8492-6A7B-4616-A28B-01942771B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FAFD4E-97E8-40BB-8085-E0571B8B0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1AB-581F-482D-8E69-875327FA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8027C-7578-40B6-80BC-84BEB1E6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E0B8A-AECE-4741-88FB-CBD0BE59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9B2ED-E868-43EF-9978-6BCA2DC3F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1B66-D371-4947-854C-7061A492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B5FF0-1522-4CB9-A365-71F12721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7D6F0-0987-4BAA-8080-AABE7E8BB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CE692-2D79-4EDC-9563-7391FC5B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ED28A-A796-4575-82E0-0017F263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58FF4-AFD5-48E1-B6A5-57032FFE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E0DE5-A46C-4E0D-B57F-525B8BBD6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5BA-B604-4AF9-9F58-7B2818645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CFF1E-CEE1-4257-8334-3A02C3DB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AE4C85-AEF4-4955-8DBB-9E1816DB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E0F85-347E-4D2F-ACF4-D78E6324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7E8A9-9B38-444E-AF2A-02E36C832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0C822-6905-43E8-9EC3-F7EFA06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ADD993-44AA-443C-9C58-E06F4CB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0AA60-645D-4FD2-ABEB-30EF1E0C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89BF-5433-4D2B-8EBC-B995770D6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FF202-D26C-4F7C-A677-D6AFD4C4F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62668-A220-4594-9702-65B3CB25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7AA4-C871-410B-986B-ECFA7406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5B5E9-D662-468E-A176-92EBF5D3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6E289-E929-48BC-BA5D-AE4C0BB9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9C52C-D328-4513-AE08-57A55FCB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4EE21-33DD-4362-B16E-7246DB63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55BB84-FC19-42C3-BA35-691ABFD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D32F2-92A1-4F52-AE40-6996BBAF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121351-FFB8-42DF-95B3-7C180786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BDA2F-0CB9-4DE0-AACD-42B536B5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7FD592-3D5A-44C4-9E67-FA979EAF7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319D1B-BA57-4FD7-8047-91EF2A9F5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4A30-8C11-4B78-8C00-243F96A8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687F59-EB1D-47AA-B1F7-3201A4A8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0537E-A0CE-45FE-B174-DBEA4B70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BC7357-CE84-4A19-BC55-AD3FB8F6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7AC6C-E1FC-46BC-AFAD-A472820CC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98DC8-061F-4735-9F97-9334D86E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24475-1554-41E7-B998-01D1FD6A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D1635-B6FA-48FF-A365-41EE4212C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10562-3052-4CF3-8487-8FC14136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4D18BB-E545-4DF3-AD57-4FE99243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E1CEB7-A6B3-4980-9639-5D6788BD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35C8-ECC0-4498-A5E4-2A4346FA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F6A69-94CE-4D97-B066-3B3873DF2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A4175-D477-4428-B798-1B27B86B9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F7C8E-28F4-4864-B1BC-985DD3919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58A86-A6BF-4376-ABB8-EB6287BF9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AA9EA-A325-44B3-90DF-DC2D831D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3C4E71-E32D-4335-8422-6627BD800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10CE-2B04-44A7-ABF5-9E8F264A8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C74548-2281-4FF1-8434-20C0248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8DAFF-8862-421D-AA52-1A16FA81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912E1-940D-49D7-9ECE-D30D94B2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29A5-6691-489D-A92D-25161C9D1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F8FDD-CF77-45D4-A790-392DD83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0FD4C-AEEA-498C-B649-C89DB60B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A0984-70BD-47D7-BF8A-73E810EC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0237E-FF39-4BA2-B60E-EFA2365E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8554D-FC63-40FC-AC88-1592F667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17A19-C454-4395-8851-9CA637020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04EA42-9CF4-4E6D-AD1D-F13E6412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0B3AE-F655-4F02-B988-A01136F0A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EFB2B-0D98-4F64-BD19-9A256E000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A6E46-7DB9-42DC-A417-D98A0BCEE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CE09-F1F0-484C-BD7B-9FEC4564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464B0-4963-47C6-A6E2-FC3FB563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8C5E47-199A-4E2F-9D80-B092625D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CB96B1-9B5D-4B94-AA5E-D34D6FAC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FF280-5D34-4710-A0C6-E44EA2CE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0E3D1-205B-45EC-8370-67E740EB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3CCE48-6AF2-47E6-8DF0-7FFDEE19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AD69F-940D-464E-BAC9-0D8D5547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DDED49-F81E-4ACC-97B1-0B5FA18EC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101EE7-1EC9-45DC-ABB6-8370B4BD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D54F57-5422-42A4-A1C9-ED7728B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2BE4-6C98-4DC5-BC87-E48ECAB2160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2B2A7-BB4B-45C3-8ED1-E922E9C30BAF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7491-E931-460A-8D37-EBC7E767BA33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D86E-7F73-4073-88C4-925E24801E9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EB2FF-3382-4294-AAB6-8C4AA3C89C99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B4AB-E219-45BF-BF8D-E067863B346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7EF2-611E-4D7C-AFFD-05DF1692B73B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B06D-374E-4E2C-809D-67DA24B6E49D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0B12B-A15B-4FAB-ACB4-9B98948C334E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C6FE-3DA1-4D18-80A8-A5405A5AEE52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4287-7038-492C-ABF5-F19862C1EE23}" type="slidenum">
              <a:rPr b="0" lang="nl-NL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996D9-E40B-4375-B7B8-A26355DA4A67}" type="slidenum">
              <a:rPr b="0" lang="nl-NL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d16349"/>
                </a:solidFill>
                <a:latin typeface="Georgia"/>
              </a:rPr>
              <a:t>Infectie en ontsteking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Picture 4" descr=""/>
          <p:cNvPicPr/>
          <p:nvPr/>
        </p:nvPicPr>
        <p:blipFill>
          <a:blip r:embed="rId1"/>
          <a:stretch/>
        </p:blipFill>
        <p:spPr>
          <a:xfrm>
            <a:off x="3059280" y="3860640"/>
            <a:ext cx="3097080" cy="2324160"/>
          </a:xfrm>
          <a:prstGeom prst="rect">
            <a:avLst/>
          </a:prstGeom>
          <a:ln w="0">
            <a:noFill/>
          </a:ln>
        </p:spPr>
      </p:pic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6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Georgia"/>
              </a:rPr>
              <a:t>Wat kun je er aan doen?</a:t>
            </a:r>
            <a:endParaRPr b="0" lang="en-US" sz="3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468360" y="2276280"/>
            <a:ext cx="80517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ichaam zelf: aanmaak antistoffen (immuu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ymptomatische behand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en virussen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rkoudheid, griep (influenza), acute darminfectie, waterpokken, gordelroos, koortslip, Pfeiffer, AIDS, meningiti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Schimmels en gist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onder microscoop als dra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op aanwezig op lichaam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schimmels = commensale schimmel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n plaats van ziekte te veroorzaken, beschermt de commensale flora het lichaam tegen ziekteverwekkende organismen. Indien de commensale flora wordt verstoord, herstelt deze zich weer snel.   Spruw - baby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venwicht raakt verstoord door allerlei oorz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 (een ziekteverwekker van biologische oorsprong) schimmel, bijv. voetschimm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plaats, last, jeuk, week, n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8920" y="162864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fhankelijk van schimmel: medic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Worm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ichtbaar met blote oo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voorbeeld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Aarsmade (enterobius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Spoel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Lintwor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499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b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ia vingers en mon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s in omgev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auw varkensvlees/ rundvle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gewassen groent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deren in de zandbak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Wat kun je eraan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orkomen van zelf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Hygiën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dicijnen: mebendazol = Vermox, madicur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recept verkrijgbaa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Passieve en actieve immunis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Georgia"/>
              </a:rPr>
              <a:t>Pass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krijgt antistoffen van een ande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kind van moeder via de placenta en moedermelk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Inenting met antistoffen. Werkt niet heel lang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500" spc="-1" strike="noStrike">
                <a:solidFill>
                  <a:srgbClr val="ff0000"/>
                </a:solidFill>
                <a:latin typeface="Georgia"/>
              </a:rPr>
              <a:t>Actief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lichaam maakt zelf antistoffen aan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Natuurlijk: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 je maakt een infectie doo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-</a:t>
            </a:r>
            <a:r>
              <a:rPr b="0" i="1" lang="nl-NL" sz="2500" spc="-1" strike="noStrike">
                <a:solidFill>
                  <a:srgbClr val="000000"/>
                </a:solidFill>
                <a:latin typeface="Georgia"/>
              </a:rPr>
              <a:t>Kunstmatig</a:t>
            </a:r>
            <a:r>
              <a:rPr b="0" lang="nl-NL" sz="2500" spc="-1" strike="noStrike">
                <a:solidFill>
                  <a:srgbClr val="000000"/>
                </a:solidFill>
                <a:latin typeface="Georgia"/>
              </a:rPr>
              <a:t>: Vaccinatie met dode of verzwakte ziekteverwekker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300" spc="-1" strike="noStrike">
                <a:solidFill>
                  <a:srgbClr val="000000"/>
                </a:solidFill>
                <a:latin typeface="Georgia"/>
              </a:rPr>
              <a:t>Vaccina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42" name="Picture 2" descr=""/>
          <p:cNvPicPr/>
          <p:nvPr/>
        </p:nvPicPr>
        <p:blipFill>
          <a:blip r:embed="rId1"/>
          <a:stretch/>
        </p:blipFill>
        <p:spPr>
          <a:xfrm>
            <a:off x="750960" y="1527120"/>
            <a:ext cx="76057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Ontsteking / infecti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ontsteking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is een (plaatselijke) reactie van het lichaam op een willekeurige schadelijke prikk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700" spc="-1" strike="noStrike" u="sng">
                <a:solidFill>
                  <a:srgbClr val="000000"/>
                </a:solidFill>
                <a:uFillTx/>
                <a:latin typeface="Georgia"/>
              </a:rPr>
              <a:t>infectie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:  na infectie handhaven en vermenigvuldigen van een ziekteverwekker = bacterie, virus, schimmel of gist, worm of protozo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Bacterië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ééncellig, onder gewone microscoop te zi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angwerpig (staaf) of rond (kok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uttige bacteriën = commensal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chadelijke bacteriën = pathoge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athogenen in het lichaam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826920" y="1557360"/>
            <a:ext cx="76932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pijn, zwelling, roodheid, warmte, gestoorde functi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ukocyten als afweer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= leukocytose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veel leuko’s + bacteriën = infiltraat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pusvorming (dode leuko’s + bact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in holte = abces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langs gangetje = fistel (geneest niet goed zelf)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 txBox="1"/>
          <p:nvPr/>
        </p:nvSpPr>
        <p:spPr>
          <a:xfrm>
            <a:off x="684000" y="549000"/>
            <a:ext cx="790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ij afsterven leuko’s + bacteriën komen stoffen vrij die onze lich.temp doen stijgen = koort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oorts = lichaamstemperatuur van 38°Cof hog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rectaal gemeten) oor en oraal kan is niet zo precie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acteriën in bloedbaan = sepsis = zeer hoge koorts + levensgevaar / bloedvergiftig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550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476280"/>
            <a:ext cx="8534520" cy="511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br>
              <a:rPr sz="3000"/>
            </a:b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Wat kun je er aan doen</a:t>
            </a:r>
            <a:r>
              <a:rPr b="0" lang="nl-NL" sz="3000" spc="-1" strike="noStrike">
                <a:solidFill>
                  <a:srgbClr val="7b9899"/>
                </a:solidFill>
                <a:latin typeface="Georgia"/>
              </a:rPr>
              <a:t>?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lichaam zelf, aanmaak antistoffen (immuun)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rust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1" marL="547560" indent="-272880">
              <a:lnSpc>
                <a:spcPct val="90000"/>
              </a:lnSpc>
              <a:spcBef>
                <a:spcPts val="70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Georgia"/>
              </a:rPr>
              <a:t>Antibiotica: </a:t>
            </a:r>
            <a:endParaRPr b="0" lang="en-US" sz="2800" spc="-1" strike="noStrike">
              <a:solidFill>
                <a:srgbClr val="646b86"/>
              </a:solidFill>
              <a:latin typeface="Georgia"/>
            </a:endParaRPr>
          </a:p>
          <a:p>
            <a:pPr lvl="3" marL="1096920" indent="-228600">
              <a:lnSpc>
                <a:spcPct val="90000"/>
              </a:lnSpc>
              <a:spcBef>
                <a:spcPts val="601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Georgia"/>
              </a:rPr>
              <a:t>Resistentie / overgevoeligheid</a:t>
            </a:r>
            <a:endParaRPr b="0" lang="en-US" sz="24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-360"/>
            <a:ext cx="853452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nl-NL" sz="3000" spc="-1" strike="noStrike">
                <a:solidFill>
                  <a:srgbClr val="000000"/>
                </a:solidFill>
                <a:latin typeface="Georgia"/>
              </a:rPr>
              <a:t>Voorbeelden bacterieel</a:t>
            </a:r>
            <a:endParaRPr b="0" lang="en-US" sz="3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laas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rbekkenontsteking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ongontsteking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teenpuist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inkhoest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ndroos,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bc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e,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meningitis (nekkramp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 u="sng">
                <a:solidFill>
                  <a:srgbClr val="ff0000"/>
                </a:solidFill>
                <a:uFillTx/>
                <a:latin typeface="Georgia"/>
              </a:rPr>
              <a:t>Virussen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iwit, alleen te zien onder sterke electronenmicroscoop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menigvuldigt zich ten koste van lichaamcel, cel breekt af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rijgekomen virus gaat naar volgende cellen, etc. = besmett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Georgia"/>
              </a:rPr>
              <a:t>Besmet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met maar je merkt nog niks: incubatietijd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ntstekingsreactie (infectie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550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646b86"/>
                </a:solidFill>
                <a:latin typeface="Georgia"/>
              </a:rPr>
              <a:t>opgezette lymfeklieren, soms koorts, verder afhankelijk van plek</a:t>
            </a:r>
            <a:endParaRPr b="0" lang="en-US" sz="2200" spc="-1" strike="noStrike">
              <a:solidFill>
                <a:srgbClr val="646b86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ymfocyten als afweer </a:t>
            </a: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(worden gemaakt in lymfeklieren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9:00:12Z</dcterms:created>
  <dc:creator>vredelust</dc:creator>
  <dc:description/>
  <dc:language>en-US</dc:language>
  <cp:lastModifiedBy>Sandra Kreuning</cp:lastModifiedBy>
  <dcterms:modified xsi:type="dcterms:W3CDTF">2018-07-11T10:20:32Z</dcterms:modified>
  <cp:revision>54</cp:revision>
  <dc:subject/>
  <dc:title>infectieziekten</dc:title>
</cp:coreProperties>
</file>