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2.xml.rels" ContentType="application/vnd.openxmlformats-package.relationships+xml"/>
  <Override PartName="/ppt/notesSlides/_rels/notesSlide42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6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10.jpeg" ContentType="image/jpeg"/>
  <Override PartName="/ppt/media/image30.png" ContentType="image/png"/>
  <Override PartName="/ppt/media/image34.png" ContentType="image/png"/>
  <Override PartName="/ppt/media/image12.jpeg" ContentType="image/jpeg"/>
  <Override PartName="/ppt/media/image5.png" ContentType="image/png"/>
  <Override PartName="/ppt/media/image35.png" ContentType="image/png"/>
  <Override PartName="/ppt/media/image23.png" ContentType="image/png"/>
  <Override PartName="/ppt/media/image13.jpeg" ContentType="image/jpeg"/>
  <Override PartName="/ppt/media/image9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36.png" ContentType="image/png"/>
  <Override PartName="/ppt/media/image18.jpeg" ContentType="image/jpeg"/>
  <Override PartName="/ppt/media/image37.png" ContentType="image/png"/>
  <Override PartName="/ppt/media/image28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5.jpeg" ContentType="image/jpe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CA4C-D035-4DD2-9838-47E6B389AD6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2AEE-A366-4D60-A796-F3704A9079E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 covalentie van een edelgas is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B368-7824-45C8-86A0-FFCD17BF39A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 covalentie van een edelgas is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4D7E-255A-42A3-9C60-6B99EF5DD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39E3-9130-4961-A813-19F9B872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D48C-98B6-498A-A78A-6D12E6568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FAC3-DB3C-4173-AC4C-FB099B803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CC9E-B52A-4B91-A0D3-C95A1A71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1B1B-7F99-4182-B6B2-52CE9535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B596-2F7B-4E7D-935A-B7218AA5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66B1-B690-4D48-84EF-C5807EC0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D31A-2DC0-4D9F-97BB-24762831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8E08-A816-4D91-A9EF-10742874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1BC1-0D84-447D-A9C7-37C8C840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B8C0-D261-4004-B9CC-94DC31E4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FBB2-62A7-4ABE-9938-BAB947F8282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maken.wikiwijs.nl/26461/basis_scheikunde#sub21141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1208_17_02covale" TargetMode="Externa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nl.wikipedia.org/wiki/Koolstofdisulfide" TargetMode="Externa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1208_17_02covale" TargetMode="Externa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http://nl.wikipedia.org/wiki/Koolstofdisulfide" TargetMode="External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hemie overal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oorten mengs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lossing: helder, doorzich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leurloos of gekleurd (nooit wi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uspensie: troebel, ondoorzich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t of gekleurd (nooit kleurlo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e stof in vloeistof die niet goed oplo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mulsie: troebel, ondoorzich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t of gekleurd (nooit kleurlo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loeistof in vloeistof die niet goed oplo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mulsie en Emulg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Content Placeholder 3" descr="240px-Emulsions.png"/>
          <p:cNvPicPr/>
          <p:nvPr/>
        </p:nvPicPr>
        <p:blipFill>
          <a:blip r:embed="rId1"/>
          <a:srcRect l="-139214" t="0" r="-139214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250px-Glas_melk.jpg"/>
          <p:cNvPicPr/>
          <p:nvPr/>
        </p:nvPicPr>
        <p:blipFill>
          <a:blip r:embed="rId2"/>
          <a:stretch/>
        </p:blipFill>
        <p:spPr>
          <a:xfrm>
            <a:off x="304920" y="3048120"/>
            <a:ext cx="3174840" cy="2387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250px-Zaanse_mayonaise.jpg"/>
          <p:cNvPicPr/>
          <p:nvPr/>
        </p:nvPicPr>
        <p:blipFill>
          <a:blip r:embed="rId3"/>
          <a:stretch/>
        </p:blipFill>
        <p:spPr>
          <a:xfrm>
            <a:off x="5657760" y="2585880"/>
            <a:ext cx="3362400" cy="2527560"/>
          </a:xfrm>
          <a:prstGeom prst="rect">
            <a:avLst/>
          </a:prstGeom>
          <a:ln w="0">
            <a:noFill/>
          </a:ln>
        </p:spPr>
      </p:pic>
      <p:sp>
        <p:nvSpPr>
          <p:cNvPr id="74" name="TextBox 6"/>
          <p:cNvSpPr/>
          <p:nvPr/>
        </p:nvSpPr>
        <p:spPr>
          <a:xfrm>
            <a:off x="921240" y="54212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iw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7145280" y="510552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ig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2979720" y="601992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wee vloeisto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9"/>
          <p:cNvSpPr/>
          <p:nvPr/>
        </p:nvSpPr>
        <p:spPr>
          <a:xfrm>
            <a:off x="676080" y="200664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er en o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e werkt een emulg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p en staart prin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p is hydrofiel en staart is hydrofo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Picture 10.png"/>
          <p:cNvPicPr/>
          <p:nvPr/>
        </p:nvPicPr>
        <p:blipFill>
          <a:blip r:embed="rId1"/>
          <a:stretch/>
        </p:blipFill>
        <p:spPr>
          <a:xfrm>
            <a:off x="5346720" y="3228840"/>
            <a:ext cx="278136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.3 Scheidingsmetho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thod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eigen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v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eltjesgroo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iltrer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eltjesgroo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amp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okp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stiller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okpu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xtraher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losbaar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zink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ch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e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Content Placeholder 3" descr="DownloadedFile.jpeg"/>
          <p:cNvPicPr/>
          <p:nvPr/>
        </p:nvPicPr>
        <p:blipFill>
          <a:blip r:embed="rId1"/>
          <a:srcRect l="-17217" t="0" r="-17217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3183480" y="6172200"/>
            <a:ext cx="29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eltjesgroo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iltr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Content Placeholder 3" descr="images.jpeg"/>
          <p:cNvPicPr/>
          <p:nvPr/>
        </p:nvPicPr>
        <p:blipFill>
          <a:blip r:embed="rId1"/>
          <a:srcRect l="-170997" t="0" r="-170997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>
            <a:off x="255960" y="3429000"/>
            <a:ext cx="35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groot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zinken of Centrifu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massa of dich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zink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Content Placeholder 3" descr="DownloadedFile-1.jpeg"/>
          <p:cNvPicPr/>
          <p:nvPr/>
        </p:nvPicPr>
        <p:blipFill>
          <a:blip r:embed="rId1"/>
          <a:srcRect l="-17822" t="0" r="-17822" b="0"/>
          <a:stretch/>
        </p:blipFill>
        <p:spPr>
          <a:xfrm>
            <a:off x="2057400" y="2514600"/>
            <a:ext cx="731520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dam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Content Placeholder 3" descr="DownloadedFile-2.jpeg"/>
          <p:cNvPicPr/>
          <p:nvPr/>
        </p:nvPicPr>
        <p:blipFill>
          <a:blip r:embed="rId1"/>
          <a:srcRect l="-59843" t="0" r="-59843" b="0"/>
          <a:stretch/>
        </p:blipFill>
        <p:spPr>
          <a:xfrm>
            <a:off x="457200" y="2854440"/>
            <a:ext cx="3124080" cy="1717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DownloadedFile.jpeg"/>
          <p:cNvPicPr/>
          <p:nvPr/>
        </p:nvPicPr>
        <p:blipFill>
          <a:blip r:embed="rId2"/>
          <a:stretch/>
        </p:blipFill>
        <p:spPr>
          <a:xfrm>
            <a:off x="1295280" y="2438280"/>
            <a:ext cx="1473480" cy="507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brander.jpg"/>
          <p:cNvPicPr/>
          <p:nvPr/>
        </p:nvPicPr>
        <p:blipFill>
          <a:blip r:embed="rId3"/>
          <a:stretch/>
        </p:blipFill>
        <p:spPr>
          <a:xfrm>
            <a:off x="4267080" y="2362320"/>
            <a:ext cx="4575240" cy="342720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892440" y="5722920"/>
            <a:ext cx="38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kookp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still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Content Placeholder 3" descr="DownloadedFile-1.jpeg"/>
          <p:cNvPicPr/>
          <p:nvPr/>
        </p:nvPicPr>
        <p:blipFill>
          <a:blip r:embed="rId1"/>
          <a:srcRect l="-23740" t="0" r="-2374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2575440" y="6248520"/>
            <a:ext cx="38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kookp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.1 Chemie om je h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ikunde is ov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eiden of zuiveren van st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anderen van grondstoffen in bruikbare st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rinkwater uit zee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et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h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wee vaste stoffen uit elkaar h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vaste stof eerst oplossen en daarna filtreren en indam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eld zand en z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oplosbaar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dsorb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paalde stoffen aan een stof onttrekk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ak kleursto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tieve kool en limonade sir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asmas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orrit (allemaal actieve ko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hromatograf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aanhechtingsvermogen en oplosbaarheid van het oplosmid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zuivere stof 1 vlek bij mengsel meerdere vle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Picture 1.png"/>
          <p:cNvPicPr/>
          <p:nvPr/>
        </p:nvPicPr>
        <p:blipFill>
          <a:blip r:embed="rId1"/>
          <a:stretch/>
        </p:blipFill>
        <p:spPr>
          <a:xfrm>
            <a:off x="5475240" y="3276720"/>
            <a:ext cx="366876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stenen va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2.2 De bouw van een at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dell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lton: een atoom is een massief bolletje. Elk atoomsoort heeft zijn eigen afmet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tabel atoommodel.png"/>
          <p:cNvPicPr/>
          <p:nvPr/>
        </p:nvPicPr>
        <p:blipFill>
          <a:blip r:embed="rId1"/>
          <a:stretch/>
        </p:blipFill>
        <p:spPr>
          <a:xfrm>
            <a:off x="1743120" y="2162160"/>
            <a:ext cx="58770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ommodel van Rutherf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toom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Klassieke%2Batoommodel"/>
          <p:cNvPicPr/>
          <p:nvPr/>
        </p:nvPicPr>
        <p:blipFill>
          <a:blip r:embed="rId2"/>
          <a:stretch/>
        </p:blipFill>
        <p:spPr>
          <a:xfrm>
            <a:off x="3564000" y="1628640"/>
            <a:ext cx="3809880" cy="38102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1138680" y="5661000"/>
            <a:ext cx="705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toomkern opgebouwd uit protonen en neutron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daar omheen een elektronenwo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om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onen (-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tonen (+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utronen (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Picture 2.png"/>
          <p:cNvPicPr/>
          <p:nvPr/>
        </p:nvPicPr>
        <p:blipFill>
          <a:blip r:embed="rId1"/>
          <a:stretch/>
        </p:blipFill>
        <p:spPr>
          <a:xfrm>
            <a:off x="119160" y="4363920"/>
            <a:ext cx="8916840" cy="1873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Klassieke%2Batoommodel"/>
          <p:cNvPicPr/>
          <p:nvPr/>
        </p:nvPicPr>
        <p:blipFill>
          <a:blip r:embed="rId2"/>
          <a:stretch/>
        </p:blipFill>
        <p:spPr>
          <a:xfrm>
            <a:off x="5796000" y="157464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omnummer en massage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omnummer geeft aan hoeveel protonen en elektronen in een atoom z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ssagetal geeft de som van protonen en neutronen 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Klassieke%2Batoommodel"/>
          <p:cNvPicPr/>
          <p:nvPr/>
        </p:nvPicPr>
        <p:blipFill>
          <a:blip r:embed="rId1"/>
          <a:stretch/>
        </p:blipFill>
        <p:spPr>
          <a:xfrm>
            <a:off x="6858000" y="4572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be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 atoomnummer: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 massagetal: 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tal protonen en elektronen=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tal neutronen= 39 -19=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.2 Zuivere stoffen en mengs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vere st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r 1 soort deeltjes (molecul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kleiner te krij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b: gedestilleerd water, sui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ngsel (onzuiver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dere soorten deeltjes (molecul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un je door scheiden uit elkaar h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b: suiker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onen-ver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elektronen zijn over schillen verdee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elektronen worden van binnenuit naar buiten toe opgev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 het periodiek systeem is de elektronen-verdeling (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elektronenconfigura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 per atoom af te lei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03280" y="2136600"/>
          <a:ext cx="5473800" cy="2671920"/>
        </p:xfrm>
        <a:graphic>
          <a:graphicData uri="http://schemas.openxmlformats.org/drawingml/2006/table">
            <a:tbl>
              <a:tblPr/>
              <a:tblGrid>
                <a:gridCol w="1584360"/>
                <a:gridCol w="1440000"/>
                <a:gridCol w="244944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aal aantal elektron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nl-NL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nl-NL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nl-NL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nl-NL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Binas%20T99"/>
          <p:cNvPicPr/>
          <p:nvPr/>
        </p:nvPicPr>
        <p:blipFill>
          <a:blip r:embed="rId1"/>
          <a:stretch/>
        </p:blipFill>
        <p:spPr>
          <a:xfrm>
            <a:off x="-228600" y="428760"/>
            <a:ext cx="9144000" cy="55926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2777760" y="1628640"/>
            <a:ext cx="6179040" cy="119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ff"/>
                </a:solidFill>
                <a:latin typeface="Arial"/>
              </a:rPr>
              <a:t>Het atoomnummer geeft het aantal protonen in de kern 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ff"/>
                </a:solidFill>
                <a:latin typeface="Arial"/>
              </a:rPr>
              <a:t>Dit komt overeen met de kernlading (+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ff"/>
                </a:solidFill>
                <a:latin typeface="Arial"/>
              </a:rPr>
              <a:t>en het aantal elektronen in de elektronenwolk (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5"/>
          <p:cNvSpPr/>
          <p:nvPr/>
        </p:nvSpPr>
        <p:spPr>
          <a:xfrm>
            <a:off x="1619280" y="1928880"/>
            <a:ext cx="720720" cy="2160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6"/>
          <p:cNvSpPr/>
          <p:nvPr/>
        </p:nvSpPr>
        <p:spPr>
          <a:xfrm>
            <a:off x="1573200" y="1527120"/>
            <a:ext cx="1224000" cy="11430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7"/>
          <p:cNvSpPr/>
          <p:nvPr/>
        </p:nvSpPr>
        <p:spPr>
          <a:xfrm>
            <a:off x="1763640" y="2349360"/>
            <a:ext cx="1008000" cy="2160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Binas%20T99"/>
          <p:cNvPicPr/>
          <p:nvPr/>
        </p:nvPicPr>
        <p:blipFill>
          <a:blip r:embed="rId1"/>
          <a:stretch/>
        </p:blipFill>
        <p:spPr>
          <a:xfrm>
            <a:off x="-577800" y="1440"/>
            <a:ext cx="16311600" cy="9980640"/>
          </a:xfrm>
          <a:prstGeom prst="rect">
            <a:avLst/>
          </a:prstGeom>
          <a:ln w="0">
            <a:noFill/>
          </a:ln>
        </p:spPr>
      </p:pic>
      <p:sp>
        <p:nvSpPr>
          <p:cNvPr id="138" name="Oval 4"/>
          <p:cNvSpPr/>
          <p:nvPr/>
        </p:nvSpPr>
        <p:spPr>
          <a:xfrm>
            <a:off x="1352520" y="2492280"/>
            <a:ext cx="42876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5"/>
          <p:cNvSpPr/>
          <p:nvPr/>
        </p:nvSpPr>
        <p:spPr>
          <a:xfrm>
            <a:off x="1246320" y="3957480"/>
            <a:ext cx="42840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2081160" y="4653000"/>
            <a:ext cx="428760" cy="288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480960" y="4673520"/>
            <a:ext cx="42876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0"/>
          <p:cNvSpPr/>
          <p:nvPr/>
        </p:nvSpPr>
        <p:spPr>
          <a:xfrm flipH="1">
            <a:off x="1763640" y="2205000"/>
            <a:ext cx="287280" cy="287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1"/>
          <p:cNvSpPr/>
          <p:nvPr/>
        </p:nvSpPr>
        <p:spPr>
          <a:xfrm flipH="1">
            <a:off x="1603440" y="3624120"/>
            <a:ext cx="287280" cy="28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 flipH="1">
            <a:off x="2445840" y="4332240"/>
            <a:ext cx="287640" cy="287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306360" y="4235400"/>
            <a:ext cx="289080" cy="358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4"/>
          <p:cNvSpPr/>
          <p:nvPr/>
        </p:nvSpPr>
        <p:spPr>
          <a:xfrm>
            <a:off x="2962440" y="3436920"/>
            <a:ext cx="1655640" cy="433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3006360" y="2205000"/>
            <a:ext cx="4923360" cy="703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ff"/>
                </a:solidFill>
                <a:latin typeface="Arial"/>
              </a:rPr>
              <a:t>Elektronenconfigatie: elektronenverdel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ff"/>
                </a:solidFill>
                <a:latin typeface="Arial"/>
              </a:rPr>
              <a:t>over de 4 schillen (banen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3847320" y="5084640"/>
            <a:ext cx="4172040" cy="703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ff"/>
                </a:solidFill>
                <a:latin typeface="Arial"/>
              </a:rPr>
              <a:t>Valentie-elektronen: De elektron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ff"/>
                </a:solidFill>
                <a:latin typeface="Arial"/>
              </a:rPr>
              <a:t>in de buitenste sch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soto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sotopen zijn elementen met hetzelfde atoomnummer maar met een verschillend massage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tal neutronen bij een atoom verschi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v waterst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woon” waterstof 1 proton geen neutr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waar” waterstof 1 proton 1 neu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itium 1 proton 2 neutr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h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Content Placeholder 3" descr="Picture 3.png"/>
          <p:cNvPicPr/>
          <p:nvPr/>
        </p:nvPicPr>
        <p:blipFill>
          <a:blip r:embed="rId1"/>
          <a:srcRect l="-11920" t="0" r="-11920" b="0"/>
          <a:stretch/>
        </p:blipFill>
        <p:spPr>
          <a:xfrm>
            <a:off x="1447920" y="1512720"/>
            <a:ext cx="990360" cy="544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Picture 2.png"/>
          <p:cNvPicPr/>
          <p:nvPr/>
        </p:nvPicPr>
        <p:blipFill>
          <a:blip r:embed="rId2"/>
          <a:stretch/>
        </p:blipFill>
        <p:spPr>
          <a:xfrm>
            <a:off x="2590920" y="1486080"/>
            <a:ext cx="761760" cy="5713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7"/>
          <p:cNvSpPr/>
          <p:nvPr/>
        </p:nvSpPr>
        <p:spPr>
          <a:xfrm>
            <a:off x="954720" y="2209680"/>
            <a:ext cx="7221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ichtere soort komt 3x zovaak v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gemiddelde massagetal wordt d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ssagetal: (3*35+1*37)/4 = 35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t is de atoommassa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25892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2.3 Periodiek syste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periodiek%20systeem"/>
          <p:cNvPicPr/>
          <p:nvPr/>
        </p:nvPicPr>
        <p:blipFill>
          <a:blip r:embed="rId2"/>
          <a:stretch/>
        </p:blipFill>
        <p:spPr>
          <a:xfrm>
            <a:off x="1104840" y="1523880"/>
            <a:ext cx="7245360" cy="5257800"/>
          </a:xfrm>
          <a:prstGeom prst="rect">
            <a:avLst/>
          </a:prstGeom>
          <a:ln w="0">
            <a:noFill/>
          </a:ln>
        </p:spPr>
      </p:pic>
      <p:sp>
        <p:nvSpPr>
          <p:cNvPr id="160" name="Down Arrow 4"/>
          <p:cNvSpPr/>
          <p:nvPr/>
        </p:nvSpPr>
        <p:spPr>
          <a:xfrm>
            <a:off x="264960" y="1600200"/>
            <a:ext cx="1084320" cy="4708440"/>
          </a:xfrm>
          <a:prstGeom prst="downArrow">
            <a:avLst>
              <a:gd name="adj1" fmla="val 50000"/>
              <a:gd name="adj2" fmla="val 49997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662040" y="2262240"/>
            <a:ext cx="442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ight Arrow 6"/>
          <p:cNvSpPr/>
          <p:nvPr/>
        </p:nvSpPr>
        <p:spPr>
          <a:xfrm>
            <a:off x="1349280" y="965160"/>
            <a:ext cx="6415200" cy="781200"/>
          </a:xfrm>
          <a:prstGeom prst="rightArrow">
            <a:avLst>
              <a:gd name="adj1" fmla="val 50000"/>
              <a:gd name="adj2" fmla="val 49994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i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e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p 1 Alkalimetalen (Fi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ageren heftig met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p 2 Aardalkalimet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ageren heftig met lucht (felle vl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p 17 Halogen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, Cl, Br, I reageren goed met met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p 18 Edelg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binden zich niet en tasten niets 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nste deeltjes van een molecu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ymbo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rste letter van de Latijnse na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voorbe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olstof = Carboneum dus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per = Cuprum dus 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nk aan hoofdletter kleine letter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me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ntje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l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dert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B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ne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kt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r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luor (F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loor (Cl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oom (Br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ood (I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uurstof (O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erstof (H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ikstof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wee atomige eleme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ofeigenschap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le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maak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meltpunt en kookpu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chtheid of soortelijke m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losbaarhe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baar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764-scheikunde-samenvatting"/>
          <p:cNvPicPr/>
          <p:nvPr/>
        </p:nvPicPr>
        <p:blipFill>
          <a:blip r:embed="rId1"/>
          <a:stretch/>
        </p:blipFill>
        <p:spPr>
          <a:xfrm>
            <a:off x="6478560" y="4156200"/>
            <a:ext cx="270180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5"/>
          <p:cNvSpPr/>
          <p:nvPr/>
        </p:nvSpPr>
        <p:spPr>
          <a:xfrm>
            <a:off x="3543480" y="2968560"/>
            <a:ext cx="1676160" cy="57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olecuul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8"/>
          <p:cNvSpPr/>
          <p:nvPr/>
        </p:nvSpPr>
        <p:spPr>
          <a:xfrm>
            <a:off x="611280" y="2031840"/>
            <a:ext cx="2089080" cy="936720"/>
          </a:xfrm>
          <a:prstGeom prst="wedgeRectCallout">
            <a:avLst>
              <a:gd name="adj1" fmla="val 96731"/>
              <a:gd name="adj2" fmla="val 791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ëfficië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eft het aantal moleculen 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9"/>
          <p:cNvSpPr/>
          <p:nvPr/>
        </p:nvSpPr>
        <p:spPr>
          <a:xfrm>
            <a:off x="4500720" y="4005360"/>
            <a:ext cx="3384360" cy="936360"/>
          </a:xfrm>
          <a:prstGeom prst="wedgeRectCallout">
            <a:avLst>
              <a:gd name="adj1" fmla="val -53703"/>
              <a:gd name="adj2" fmla="val -962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de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eft het aantal atomen dat in het molecuul voorkomt 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0" descr="ethanol_ruimt2"/>
          <p:cNvPicPr/>
          <p:nvPr/>
        </p:nvPicPr>
        <p:blipFill>
          <a:blip r:embed="rId1"/>
          <a:stretch/>
        </p:blipFill>
        <p:spPr>
          <a:xfrm>
            <a:off x="468360" y="4843440"/>
            <a:ext cx="1523880" cy="14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74" name="Picture 21" descr="ethanol_ruimt2"/>
          <p:cNvPicPr/>
          <p:nvPr/>
        </p:nvPicPr>
        <p:blipFill>
          <a:blip r:embed="rId2"/>
          <a:stretch/>
        </p:blipFill>
        <p:spPr>
          <a:xfrm>
            <a:off x="2340000" y="4843440"/>
            <a:ext cx="1523880" cy="14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75" name="Text Box 22"/>
          <p:cNvSpPr/>
          <p:nvPr/>
        </p:nvSpPr>
        <p:spPr>
          <a:xfrm>
            <a:off x="975960" y="436572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 moleculen eth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om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valenti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het aantal elektronen dat een atoom beschikbaar heeft voor de atoombin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ethanol_ruimt2"/>
          <p:cNvPicPr/>
          <p:nvPr/>
        </p:nvPicPr>
        <p:blipFill>
          <a:blip r:embed="rId2"/>
          <a:stretch/>
        </p:blipFill>
        <p:spPr>
          <a:xfrm>
            <a:off x="3348000" y="3213000"/>
            <a:ext cx="2143080" cy="19764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om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324000" y="1535040"/>
            <a:ext cx="8569080" cy="27846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682560" y="468468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Er zijn ook atomen die meer dan een covalentie hebb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Bijvoorbeeld: Zwavel (S) </a:t>
            </a:r>
            <a:r>
              <a:rPr b="0" lang="nl-NL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 covalentie 2, 4 en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olecuul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Koolstof en zw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C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valenti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tall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eenvoudig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1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ul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S</a:t>
            </a:r>
            <a:r>
              <a:rPr b="0" lang="nl-NL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oolstofdisulf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"/>
          <p:cNvSpPr/>
          <p:nvPr/>
        </p:nvSpPr>
        <p:spPr>
          <a:xfrm flipH="1">
            <a:off x="4843440" y="3513240"/>
            <a:ext cx="100800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5"/>
          <p:cNvSpPr/>
          <p:nvPr/>
        </p:nvSpPr>
        <p:spPr>
          <a:xfrm>
            <a:off x="4900680" y="3441600"/>
            <a:ext cx="100800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ructuur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structuurformule is een tekening van een molecu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ethanol_ruimt2"/>
          <p:cNvPicPr/>
          <p:nvPr/>
        </p:nvPicPr>
        <p:blipFill>
          <a:blip r:embed="rId1"/>
          <a:stretch/>
        </p:blipFill>
        <p:spPr>
          <a:xfrm>
            <a:off x="4191120" y="4648320"/>
            <a:ext cx="1523880" cy="14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89" name="Tijdelijke aanduiding voor inhoud 2"/>
          <p:cNvSpPr/>
          <p:nvPr/>
        </p:nvSpPr>
        <p:spPr>
          <a:xfrm>
            <a:off x="468360" y="2637000"/>
            <a:ext cx="82296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imtelijke structuur: hierbij kun je de hoeken en verbindingen goed zi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ijdelijke aanduiding voor inhoud 2"/>
          <p:cNvSpPr/>
          <p:nvPr/>
        </p:nvSpPr>
        <p:spPr>
          <a:xfrm>
            <a:off x="468360" y="3500280"/>
            <a:ext cx="82296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envoudiger is de structuurformule: deze zijn gemakkelijker te teken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ethanol_strc1"/>
          <p:cNvPicPr/>
          <p:nvPr/>
        </p:nvPicPr>
        <p:blipFill>
          <a:blip r:embed="rId2"/>
          <a:srcRect l="3221" t="4836" r="3221" b="8018"/>
          <a:stretch/>
        </p:blipFill>
        <p:spPr>
          <a:xfrm>
            <a:off x="1905120" y="4724280"/>
            <a:ext cx="1944720" cy="1208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92" name="Tekstvak 7"/>
          <p:cNvSpPr/>
          <p:nvPr/>
        </p:nvSpPr>
        <p:spPr>
          <a:xfrm>
            <a:off x="900000" y="5157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ethanol_strc12"/>
          <p:cNvPicPr/>
          <p:nvPr/>
        </p:nvPicPr>
        <p:blipFill>
          <a:blip r:embed="rId3"/>
          <a:srcRect l="4510" t="8269" r="4510" b="11439"/>
          <a:stretch/>
        </p:blipFill>
        <p:spPr>
          <a:xfrm>
            <a:off x="6084720" y="4653000"/>
            <a:ext cx="1905120" cy="91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94" name="Text Box 12"/>
          <p:cNvSpPr/>
          <p:nvPr/>
        </p:nvSpPr>
        <p:spPr>
          <a:xfrm>
            <a:off x="6084720" y="5589720"/>
            <a:ext cx="1905120" cy="39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-atomen worden voor het gemak vaak weggelat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2.4 Io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met een l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rkere aantrekkingskr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gere smeltpu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rn blijft altijd gelij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ektronen kunnen veran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onen willen lijken op edelg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o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kunnen elektronen opnemen of afstaan (buitenste schi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willen zijn als edel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 staan makkelijk 1 elektron af (elektron positie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7 nemen makkelijk 1 elektron op (elektron negatie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ijvoorbeeld 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omnummer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rnlading is dus +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1 protonen en 11 elektr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 kan 1 elektron afsta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itenste schil 1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1 P 10 E  (+11 -10= +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rium ion (Na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" descr="Picture 4.png"/>
          <p:cNvPicPr/>
          <p:nvPr/>
        </p:nvPicPr>
        <p:blipFill>
          <a:blip r:embed="rId1"/>
          <a:stretch/>
        </p:blipFill>
        <p:spPr>
          <a:xfrm>
            <a:off x="6121440" y="3809880"/>
            <a:ext cx="264168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t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Content Placeholder 4" descr="Picture 6.png"/>
          <p:cNvPicPr/>
          <p:nvPr/>
        </p:nvPicPr>
        <p:blipFill>
          <a:blip r:embed="rId1"/>
          <a:srcRect l="0" t="-5908" r="0" b="-5908"/>
          <a:stretch/>
        </p:blipFill>
        <p:spPr>
          <a:xfrm>
            <a:off x="914400" y="1676520"/>
            <a:ext cx="739152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oleculen en at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aantal-atomen"/>
          <p:cNvPicPr/>
          <p:nvPr/>
        </p:nvPicPr>
        <p:blipFill>
          <a:blip r:embed="rId1"/>
          <a:stretch/>
        </p:blipFill>
        <p:spPr>
          <a:xfrm>
            <a:off x="304920" y="2590920"/>
            <a:ext cx="8496360" cy="3022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ijvoorbeeld 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omnummer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rnlading is dus +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7 protonen en 17 elektr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l kan 1 elektron opne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7 P 18 E  (+17 -18= 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hloride (Cl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eriodiek systeem en io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afstaan dus lading van 1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 afstaan dus lading van 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 opnemen dus lading van 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opnemen dus lading van 1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ardigheid van at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k wel elektovale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digheid va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digheid van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digheid van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digheid va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2.5 naamgeving van io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sitieve ionen behouden dezelfde n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= Magnesium 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= Natrium 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= Kalium 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tal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zijn metalen die meerdere valenties kunnen heb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of Fe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ze geven we aan met romeinse cij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jzer(II) ion of ijzer(III)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en Cu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per(I)ion en Koper(II)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lenties van met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219320" y="1447920"/>
          <a:ext cx="6384960" cy="3778200"/>
        </p:xfrm>
        <a:graphic>
          <a:graphicData uri="http://schemas.openxmlformats.org/drawingml/2006/table">
            <a:tbl>
              <a:tblPr/>
              <a:tblGrid>
                <a:gridCol w="3192480"/>
                <a:gridCol w="319248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en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, K, 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 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, Ba, Ca, Zn, 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, Cr, A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+ en 3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, 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+ en 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, 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+ en 4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218" name="TextBox 4"/>
          <p:cNvSpPr/>
          <p:nvPr/>
        </p:nvSpPr>
        <p:spPr>
          <a:xfrm>
            <a:off x="762120" y="54864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zonder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erstof (enige niet metaal) positieve valentie: H</a:t>
            </a:r>
            <a:r>
              <a:rPr b="0" lang="nl-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lenties niet met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57200" y="1600200"/>
          <a:ext cx="7848720" cy="358128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t-meta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en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, Cl, Br,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, 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,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gatieve io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chtervoegsel –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lu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 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o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od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ulf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Nit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3.3 structuurformules en namen van moleculaire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lecuul bestaat altijd uit 2 of meer at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tijd niet-met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vale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ructuurform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ment of een ver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zuivere stof kan een element of een verbinding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ement bestaat uit 1 soort at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binding bestaat uit meerdere soorten at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aantal-atomen"/>
          <p:cNvPicPr/>
          <p:nvPr/>
        </p:nvPicPr>
        <p:blipFill>
          <a:blip r:embed="rId1"/>
          <a:stretch/>
        </p:blipFill>
        <p:spPr>
          <a:xfrm>
            <a:off x="2916360" y="4584600"/>
            <a:ext cx="6264000" cy="2229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5"/>
          <p:cNvSpPr/>
          <p:nvPr/>
        </p:nvSpPr>
        <p:spPr>
          <a:xfrm>
            <a:off x="3543480" y="2968560"/>
            <a:ext cx="1676160" cy="57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olecuul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8"/>
          <p:cNvSpPr/>
          <p:nvPr/>
        </p:nvSpPr>
        <p:spPr>
          <a:xfrm>
            <a:off x="611280" y="2031840"/>
            <a:ext cx="2089080" cy="936720"/>
          </a:xfrm>
          <a:prstGeom prst="wedgeRectCallout">
            <a:avLst>
              <a:gd name="adj1" fmla="val 96731"/>
              <a:gd name="adj2" fmla="val 791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ëfficië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eft het aantal moleculen 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9"/>
          <p:cNvSpPr/>
          <p:nvPr/>
        </p:nvSpPr>
        <p:spPr>
          <a:xfrm>
            <a:off x="4500720" y="4005360"/>
            <a:ext cx="3384360" cy="936360"/>
          </a:xfrm>
          <a:prstGeom prst="wedgeRectCallout">
            <a:avLst>
              <a:gd name="adj1" fmla="val -53703"/>
              <a:gd name="adj2" fmla="val -962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de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eft het aantal atomen dat in het molecuul voorkomt 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0" descr="ethanol_ruimt2"/>
          <p:cNvPicPr/>
          <p:nvPr/>
        </p:nvPicPr>
        <p:blipFill>
          <a:blip r:embed="rId1"/>
          <a:stretch/>
        </p:blipFill>
        <p:spPr>
          <a:xfrm>
            <a:off x="468360" y="4843440"/>
            <a:ext cx="1523880" cy="14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32" name="Picture 21" descr="ethanol_ruimt2"/>
          <p:cNvPicPr/>
          <p:nvPr/>
        </p:nvPicPr>
        <p:blipFill>
          <a:blip r:embed="rId2"/>
          <a:stretch/>
        </p:blipFill>
        <p:spPr>
          <a:xfrm>
            <a:off x="2340000" y="4843440"/>
            <a:ext cx="1523880" cy="14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33" name="Text Box 22"/>
          <p:cNvSpPr/>
          <p:nvPr/>
        </p:nvSpPr>
        <p:spPr>
          <a:xfrm>
            <a:off x="975960" y="436572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 moleculen eth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om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valenti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het aantal elektronen dat een atoom beschikbaar heeft voor de atoombin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ethanol_ruimt2"/>
          <p:cNvPicPr/>
          <p:nvPr/>
        </p:nvPicPr>
        <p:blipFill>
          <a:blip r:embed="rId2"/>
          <a:stretch/>
        </p:blipFill>
        <p:spPr>
          <a:xfrm>
            <a:off x="3348000" y="3213000"/>
            <a:ext cx="2143080" cy="19764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om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324000" y="1535040"/>
            <a:ext cx="8569080" cy="27846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4"/>
          <p:cNvSpPr/>
          <p:nvPr/>
        </p:nvSpPr>
        <p:spPr>
          <a:xfrm>
            <a:off x="682560" y="468468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Er zijn ook atomen die meer dan een covalentie hebb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Bijvoorbeeld: Zwavel (S) </a:t>
            </a:r>
            <a:r>
              <a:rPr b="0" lang="nl-NL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 covalentie 2, 4 en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ructuur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structuurformule is een tekening van een molecu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7" descr="ethanol_ruimt2"/>
          <p:cNvPicPr/>
          <p:nvPr/>
        </p:nvPicPr>
        <p:blipFill>
          <a:blip r:embed="rId1"/>
          <a:stretch/>
        </p:blipFill>
        <p:spPr>
          <a:xfrm>
            <a:off x="4191120" y="4648320"/>
            <a:ext cx="1523880" cy="14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43" name="Tijdelijke aanduiding voor inhoud 2"/>
          <p:cNvSpPr/>
          <p:nvPr/>
        </p:nvSpPr>
        <p:spPr>
          <a:xfrm>
            <a:off x="468360" y="2637000"/>
            <a:ext cx="82296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imtelijke structuur: hierbij kun je de hoeken en verbindingen goed zi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ijdelijke aanduiding voor inhoud 2"/>
          <p:cNvSpPr/>
          <p:nvPr/>
        </p:nvSpPr>
        <p:spPr>
          <a:xfrm>
            <a:off x="468360" y="3500280"/>
            <a:ext cx="82296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envoudiger is de structuurformule: deze zijn gemakkelijker te teken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ethanol_strc1"/>
          <p:cNvPicPr/>
          <p:nvPr/>
        </p:nvPicPr>
        <p:blipFill>
          <a:blip r:embed="rId2"/>
          <a:srcRect l="3221" t="4836" r="3221" b="8018"/>
          <a:stretch/>
        </p:blipFill>
        <p:spPr>
          <a:xfrm>
            <a:off x="1905120" y="4724280"/>
            <a:ext cx="1944720" cy="1208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46" name="Tekstvak 7"/>
          <p:cNvSpPr/>
          <p:nvPr/>
        </p:nvSpPr>
        <p:spPr>
          <a:xfrm>
            <a:off x="900000" y="5157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7" descr="ethanol_strc12"/>
          <p:cNvPicPr/>
          <p:nvPr/>
        </p:nvPicPr>
        <p:blipFill>
          <a:blip r:embed="rId3"/>
          <a:srcRect l="4510" t="8269" r="4510" b="11439"/>
          <a:stretch/>
        </p:blipFill>
        <p:spPr>
          <a:xfrm>
            <a:off x="6084720" y="4653000"/>
            <a:ext cx="1905120" cy="91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48" name="Text Box 12"/>
          <p:cNvSpPr/>
          <p:nvPr/>
        </p:nvSpPr>
        <p:spPr>
          <a:xfrm>
            <a:off x="6084720" y="5589720"/>
            <a:ext cx="1905120" cy="39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-atomen worden voor het gemak vaak weggelat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ructuur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761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bbele bind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ievoudige bind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ijdelijke aanduiding voor inhoud 2"/>
          <p:cNvSpPr/>
          <p:nvPr/>
        </p:nvSpPr>
        <p:spPr>
          <a:xfrm>
            <a:off x="468360" y="2637000"/>
            <a:ext cx="82296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ijdelijke aanduiding voor inhoud 2"/>
          <p:cNvSpPr/>
          <p:nvPr/>
        </p:nvSpPr>
        <p:spPr>
          <a:xfrm>
            <a:off x="468360" y="1371600"/>
            <a:ext cx="822960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1"/>
          <a:stretch/>
        </p:blipFill>
        <p:spPr>
          <a:xfrm>
            <a:off x="5791320" y="2362320"/>
            <a:ext cx="1361880" cy="2667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"/>
          <p:cNvPicPr/>
          <p:nvPr/>
        </p:nvPicPr>
        <p:blipFill>
          <a:blip r:embed="rId2"/>
          <a:stretch/>
        </p:blipFill>
        <p:spPr>
          <a:xfrm>
            <a:off x="6019920" y="3048120"/>
            <a:ext cx="77148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olecuul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Koolstof en zw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C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valenti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tall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eenvoudig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1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ul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S</a:t>
            </a:r>
            <a:r>
              <a:rPr b="0" lang="nl-NL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oolstofdisulf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4"/>
          <p:cNvSpPr/>
          <p:nvPr/>
        </p:nvSpPr>
        <p:spPr>
          <a:xfrm flipH="1">
            <a:off x="4843440" y="3513240"/>
            <a:ext cx="100800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"/>
          <p:cNvSpPr/>
          <p:nvPr/>
        </p:nvSpPr>
        <p:spPr>
          <a:xfrm>
            <a:off x="4900680" y="3441600"/>
            <a:ext cx="100800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dex en naamge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905120" y="1676520"/>
          <a:ext cx="3886200" cy="3733560"/>
        </p:xfrm>
        <a:graphic>
          <a:graphicData uri="http://schemas.openxmlformats.org/drawingml/2006/table">
            <a:tbl>
              <a:tblPr/>
              <a:tblGrid>
                <a:gridCol w="1431720"/>
                <a:gridCol w="245448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orvoegs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x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amge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waterstofmono-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fosforpenta-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nostikstof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uis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: 21 t/m 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maken: 22, 26, 2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me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ntje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l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dert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B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ne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kt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r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luor (F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loor (Cl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oom (Br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ood (I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uurstof (O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erstof (H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ikstof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wee atomige eleme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stof kan stroom geleiden wann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stof moet bestaan uit geladen deeltj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laden deeltjes moeten vrij kunnen bewe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3.2 elektrisch geleidingsvermog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derscheid i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leculaire sto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uten (opgebouwd uit ion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t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lke stoffen geleiden ni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destilleerd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sp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3"/>
          <p:cNvSpPr/>
          <p:nvPr/>
        </p:nvSpPr>
        <p:spPr>
          <a:xfrm>
            <a:off x="576360" y="4419720"/>
            <a:ext cx="841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leculaire stoffen (bestaan uit niet-metale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t komt doordat deze stoffen g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ije elektronen bevatten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ou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ffen opgebouwd uit positieve en negatieve i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Picture 7.png"/>
          <p:cNvPicPr/>
          <p:nvPr/>
        </p:nvPicPr>
        <p:blipFill>
          <a:blip r:embed="rId1"/>
          <a:stretch/>
        </p:blipFill>
        <p:spPr>
          <a:xfrm>
            <a:off x="533520" y="1219320"/>
            <a:ext cx="8229600" cy="25016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Picture 8.png"/>
          <p:cNvPicPr/>
          <p:nvPr/>
        </p:nvPicPr>
        <p:blipFill>
          <a:blip r:embed="rId2"/>
          <a:stretch/>
        </p:blipFill>
        <p:spPr>
          <a:xfrm>
            <a:off x="533520" y="3809880"/>
            <a:ext cx="82040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uten bestaan u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metaal en een niet-met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rium en Chl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trium staat steeds 1 elektron 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loor neemt steeds 1 elektron 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ontstaat Natriumchloride (keukenzou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onrooster en ion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der positief natrium ion is omgeven door 6 chloor ionen en ander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or de aantrekkingskracht tussen positieve en negatieve ionen blijven de ionen bij elk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on bi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8" descr="Picture 11.png"/>
          <p:cNvPicPr/>
          <p:nvPr/>
        </p:nvPicPr>
        <p:blipFill>
          <a:blip r:embed="rId1"/>
          <a:stretch/>
        </p:blipFill>
        <p:spPr>
          <a:xfrm>
            <a:off x="4800600" y="3886200"/>
            <a:ext cx="394956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t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igenschappen van met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lanzend uiter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g smeltp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leiden goed warm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leiden elektrische st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vervormbaar door walsen en sm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gesmolten toestand goed te me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ven teru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Jzer atoomnummer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tal protonen is d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tal elektronen is d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Jzer staat graag 2 elektronen 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n krijgt ijzer een lading v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t is het ijzer 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3"/>
          <p:cNvSpPr/>
          <p:nvPr/>
        </p:nvSpPr>
        <p:spPr>
          <a:xfrm>
            <a:off x="5271120" y="2209680"/>
            <a:ext cx="23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6 (positie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4"/>
          <p:cNvSpPr/>
          <p:nvPr/>
        </p:nvSpPr>
        <p:spPr>
          <a:xfrm>
            <a:off x="5425200" y="2819520"/>
            <a:ext cx="245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6 (negatie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5"/>
          <p:cNvSpPr/>
          <p:nvPr/>
        </p:nvSpPr>
        <p:spPr>
          <a:xfrm>
            <a:off x="6404760" y="459756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Jz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taat uit veel positieve ijzer ionen en uit twee keer zo veel vrije elektr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ijzerionen zijn gerangschikt in een roo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erin bewegen de vrije elektronen zich kris kras tussen de positieve ijzerionen d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ze zorgen voor de bi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3" descr="Picture 5.png"/>
          <p:cNvPicPr/>
          <p:nvPr/>
        </p:nvPicPr>
        <p:blipFill>
          <a:blip r:embed="rId1"/>
          <a:stretch/>
        </p:blipFill>
        <p:spPr>
          <a:xfrm>
            <a:off x="4114800" y="3822840"/>
            <a:ext cx="4686480" cy="3035160"/>
          </a:xfrm>
          <a:prstGeom prst="rect">
            <a:avLst/>
          </a:prstGeom>
          <a:ln w="0">
            <a:noFill/>
          </a:ln>
        </p:spPr>
      </p:pic>
      <p:sp>
        <p:nvSpPr>
          <p:cNvPr id="292" name="TextBox 4"/>
          <p:cNvSpPr/>
          <p:nvPr/>
        </p:nvSpPr>
        <p:spPr>
          <a:xfrm>
            <a:off x="1276560" y="5384880"/>
            <a:ext cx="26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taalroo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taalroos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taat dus uit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ositieve metaalion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en uit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rije elektron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die voor de binding (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etaalbinding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) in het rooster zor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nneer het metaal aangesloten wordt op stroom gaan alle elektronen dezelfde kant 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weging van vrije elektronen wordt ger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ngsel of zuiver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Content Placeholder 8" descr="image036.jpg"/>
          <p:cNvPicPr/>
          <p:nvPr/>
        </p:nvPicPr>
        <p:blipFill>
          <a:blip r:embed="rId1"/>
          <a:srcRect l="0" t="-15646" r="0" b="-15646"/>
          <a:stretch/>
        </p:blipFill>
        <p:spPr>
          <a:xfrm>
            <a:off x="179280" y="1681200"/>
            <a:ext cx="878544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ydrofiel/hydrofoo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ydro =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iel = houden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ob = vre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ydrofiel = houdt van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ost dus makkelijk op in water (z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ydrofoob = Houdt niet van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ost dus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nie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makkelijk op in water (Oli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10:01:23Z</dcterms:created>
  <dc:creator>drm</dc:creator>
  <dc:description/>
  <dc:language>en-US</dc:language>
  <cp:lastModifiedBy>Joyce Vonk</cp:lastModifiedBy>
  <dcterms:modified xsi:type="dcterms:W3CDTF">2019-11-04T09:41:00Z</dcterms:modified>
  <cp:revision>300</cp:revision>
  <dc:subject/>
  <dc:title>Doorstroom Scheikunde</dc:title>
</cp:coreProperties>
</file>