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0.jpeg" ContentType="image/jpe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1E19-BF54-42AE-A460-5B411BAD75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AC05-9332-4EC2-B6B4-B790B0EF2B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915A-259B-4B00-B9BF-53C20FE357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C50-CAD4-4E6D-9449-A6AC856C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57A-583A-465E-8D30-0D2563DC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AC7-ED85-414A-9B78-D7738794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EBD-789D-4B41-9EE7-A0F33A20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EB7-9F0C-430B-BB57-1467CCF4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B2D-1F12-495E-8968-429F0032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FAF-D058-45A8-970B-1E938280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D90-2EB0-4959-B79C-E748DAD3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25E-6FB3-4FBC-B7F0-24386456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FAC-F350-4867-9CCB-9C690A4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26C-38F0-4101-9A21-109E6297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B0A-4CEB-4F7E-BEB0-FF50AF74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D6F5-6CB3-4195-A13F-82BB7C896F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aken.wikiwijs.nl/26461/basis_scheikunde#sub2114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emie overa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sing: helder, 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loos of gekleurd (nooit w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spen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e 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mul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oei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ulsie 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240px-Emulsions.png"/>
          <p:cNvPicPr/>
          <p:nvPr/>
        </p:nvPicPr>
        <p:blipFill>
          <a:blip r:embed="rId1"/>
          <a:srcRect l="-139214" t="0" r="-1392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250px-Glas_melk.jpg"/>
          <p:cNvPicPr/>
          <p:nvPr/>
        </p:nvPicPr>
        <p:blipFill>
          <a:blip r:embed="rId2"/>
          <a:stretch/>
        </p:blipFill>
        <p:spPr>
          <a:xfrm>
            <a:off x="304920" y="304812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50px-Zaanse_mayonaise.jpg"/>
          <p:cNvPicPr/>
          <p:nvPr/>
        </p:nvPicPr>
        <p:blipFill>
          <a:blip r:embed="rId3"/>
          <a:stretch/>
        </p:blipFill>
        <p:spPr>
          <a:xfrm>
            <a:off x="5657760" y="2585880"/>
            <a:ext cx="3362400" cy="252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921240" y="5421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145280" y="5105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979720" y="6019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loei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76080" y="20066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werkt 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en staart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is hydrofiel en staart is hydrofo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0.png"/>
          <p:cNvPicPr/>
          <p:nvPr/>
        </p:nvPicPr>
        <p:blipFill>
          <a:blip r:embed="rId1"/>
          <a:stretch/>
        </p:blipFill>
        <p:spPr>
          <a:xfrm>
            <a:off x="5346720" y="3228840"/>
            <a:ext cx="278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3 Scheiding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ho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eig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tr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am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till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ah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DownloadedFile.jpeg"/>
          <p:cNvPicPr/>
          <p:nvPr/>
        </p:nvPicPr>
        <p:blipFill>
          <a:blip r:embed="rId1"/>
          <a:srcRect l="-17217" t="0" r="-17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183480" y="61722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images.jpeg"/>
          <p:cNvPicPr/>
          <p:nvPr/>
        </p:nvPicPr>
        <p:blipFill>
          <a:blip r:embed="rId1"/>
          <a:srcRect l="-170997" t="0" r="-1709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960" y="34290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groo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zinken of Centrifu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massa of 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DownloadedFile-1.jpeg"/>
          <p:cNvPicPr/>
          <p:nvPr/>
        </p:nvPicPr>
        <p:blipFill>
          <a:blip r:embed="rId1"/>
          <a:srcRect l="-17822" t="0" r="-17822" b="0"/>
          <a:stretch/>
        </p:blipFill>
        <p:spPr>
          <a:xfrm>
            <a:off x="2057400" y="2514600"/>
            <a:ext cx="7315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3" descr="DownloadedFile-2.jpeg"/>
          <p:cNvPicPr/>
          <p:nvPr/>
        </p:nvPicPr>
        <p:blipFill>
          <a:blip r:embed="rId1"/>
          <a:srcRect l="-59843" t="0" r="-59843" b="0"/>
          <a:stretch/>
        </p:blipFill>
        <p:spPr>
          <a:xfrm>
            <a:off x="457200" y="2854440"/>
            <a:ext cx="312408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ownloadedFile.jpeg"/>
          <p:cNvPicPr/>
          <p:nvPr/>
        </p:nvPicPr>
        <p:blipFill>
          <a:blip r:embed="rId2"/>
          <a:stretch/>
        </p:blipFill>
        <p:spPr>
          <a:xfrm>
            <a:off x="1295280" y="2438280"/>
            <a:ext cx="14734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rander.jpg"/>
          <p:cNvPicPr/>
          <p:nvPr/>
        </p:nvPicPr>
        <p:blipFill>
          <a:blip r:embed="rId3"/>
          <a:stretch/>
        </p:blipFill>
        <p:spPr>
          <a:xfrm>
            <a:off x="4267080" y="2362320"/>
            <a:ext cx="4575240" cy="342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92440" y="57229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DownloadedFile-1.jpeg"/>
          <p:cNvPicPr/>
          <p:nvPr/>
        </p:nvPicPr>
        <p:blipFill>
          <a:blip r:embed="rId1"/>
          <a:srcRect l="-23740" t="0" r="-237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75440" y="62485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1 Chemie om je h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kunde is ov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iden of zuiveren van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deren van grondstoffen in bruik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nkwater uit zee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e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aste stoffen uit elkaar h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aste stof eerst oplossen en daarna filtreren en ind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 zand en z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de stoffen aan een stof ont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kleur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ve kool en limonade sir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smas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rrit (allemaal actieve 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romatogra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aanhechtingsvermogen en oplosbaarheid van het oplos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zuivere stof 1 vlek bij mengsel meerdere vl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Picture 1.png"/>
          <p:cNvPicPr/>
          <p:nvPr/>
        </p:nvPicPr>
        <p:blipFill>
          <a:blip r:embed="rId1"/>
          <a:stretch/>
        </p:blipFill>
        <p:spPr>
          <a:xfrm>
            <a:off x="5475240" y="3276720"/>
            <a:ext cx="3668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stenen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2 De bouw van een at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lton: een atoom is een massief bolletje. Elk atoomsoort heeft zijn eigen afme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abel atoommodel.png"/>
          <p:cNvPicPr/>
          <p:nvPr/>
        </p:nvPicPr>
        <p:blipFill>
          <a:blip r:embed="rId1"/>
          <a:stretch/>
        </p:blipFill>
        <p:spPr>
          <a:xfrm>
            <a:off x="1743120" y="2162160"/>
            <a:ext cx="5877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model van Ruther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lassieke%2Batoommodel"/>
          <p:cNvPicPr/>
          <p:nvPr/>
        </p:nvPicPr>
        <p:blipFill>
          <a:blip r:embed="rId2"/>
          <a:stretch/>
        </p:blipFill>
        <p:spPr>
          <a:xfrm>
            <a:off x="356400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138680" y="566100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omkern opgebouwd uit protonen en neutron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daar omheen een elektronenw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nen (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onen (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utronen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Picture 2.png"/>
          <p:cNvPicPr/>
          <p:nvPr/>
        </p:nvPicPr>
        <p:blipFill>
          <a:blip r:embed="rId1"/>
          <a:stretch/>
        </p:blipFill>
        <p:spPr>
          <a:xfrm>
            <a:off x="119160" y="4363920"/>
            <a:ext cx="891684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Klassieke%2Batoommodel"/>
          <p:cNvPicPr/>
          <p:nvPr/>
        </p:nvPicPr>
        <p:blipFill>
          <a:blip r:embed="rId2"/>
          <a:stretch/>
        </p:blipFill>
        <p:spPr>
          <a:xfrm>
            <a:off x="5796000" y="1574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nummer en massag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geeft aan hoeveel protonen en elektronen in een atoom z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 geeft de som van protonen en neutron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Klassieke%2Batoommodel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atoomnummer: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massagetal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protonen en elektronen=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neutronen= 39 -19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2 Zuivere stoffen 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vere 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1 soort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leiner t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gedestilleerd water, su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 (onzuiv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soorten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door scheiden uit elkaar 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suik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onen-ver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zijn over schillen verde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worden van binnenuit naar buiten toe opgev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het periodiek systeem is de elektronen-verdeling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lektronenconfigu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er atoom af te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2136600"/>
          <a:ext cx="5473800" cy="267192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2449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al aantal elektr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nas%20T99"/>
          <p:cNvPicPr/>
          <p:nvPr/>
        </p:nvPicPr>
        <p:blipFill>
          <a:blip r:embed="rId1"/>
          <a:stretch/>
        </p:blipFill>
        <p:spPr>
          <a:xfrm>
            <a:off x="-228600" y="42876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777760" y="1628640"/>
            <a:ext cx="61790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Het atoomnummer geeft het aantal protonen in de ker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Dit komt overeen met de kernlading (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en het aantal elektronen in de elektronenwolk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619280" y="1928880"/>
            <a:ext cx="7207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573200" y="1527120"/>
            <a:ext cx="122400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1763640" y="2349360"/>
            <a:ext cx="100800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Binas%20T99"/>
          <p:cNvPicPr/>
          <p:nvPr/>
        </p:nvPicPr>
        <p:blipFill>
          <a:blip r:embed="rId1"/>
          <a:stretch/>
        </p:blipFill>
        <p:spPr>
          <a:xfrm>
            <a:off x="-577800" y="1440"/>
            <a:ext cx="16311600" cy="99806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1352520" y="249228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46320" y="3957480"/>
            <a:ext cx="42840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081160" y="4653000"/>
            <a:ext cx="4287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0960" y="467352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1763640" y="220500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1603440" y="3624120"/>
            <a:ext cx="28728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445840" y="4332240"/>
            <a:ext cx="2876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06360" y="4235400"/>
            <a:ext cx="28908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2962440" y="3436920"/>
            <a:ext cx="165564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006360" y="2205000"/>
            <a:ext cx="4923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Elektronenconfigatie: elektronenver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over de 4 schillen (bane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47320" y="5084640"/>
            <a:ext cx="417204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Valentie-elektronen: De elektr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in de buitenste sch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sot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topen zijn elementen met hetzelfde atoomnummer maar met een verschillend massag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neutronen bij een atoom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water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oon” waterstof 1 proton geen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” waterstof 1 proton 1 neu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tium 1 proton 2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ntent Placeholder 3" descr="Picture 3.png"/>
          <p:cNvPicPr/>
          <p:nvPr/>
        </p:nvPicPr>
        <p:blipFill>
          <a:blip r:embed="rId1"/>
          <a:srcRect l="-11920" t="0" r="-11920" b="0"/>
          <a:stretch/>
        </p:blipFill>
        <p:spPr>
          <a:xfrm>
            <a:off x="1447920" y="1512720"/>
            <a:ext cx="990360" cy="5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icture 2.png"/>
          <p:cNvPicPr/>
          <p:nvPr/>
        </p:nvPicPr>
        <p:blipFill>
          <a:blip r:embed="rId2"/>
          <a:stretch/>
        </p:blipFill>
        <p:spPr>
          <a:xfrm>
            <a:off x="2590920" y="148608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954720" y="2209680"/>
            <a:ext cx="722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tere soort komt 3x zovaak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emiddelde massagetal wordt d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: (3*35+1*37)/4 = 3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de atoommass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3 Periodiek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periodiek%20systeem"/>
          <p:cNvPicPr/>
          <p:nvPr/>
        </p:nvPicPr>
        <p:blipFill>
          <a:blip r:embed="rId2"/>
          <a:stretch/>
        </p:blipFill>
        <p:spPr>
          <a:xfrm>
            <a:off x="1104840" y="1523880"/>
            <a:ext cx="7245360" cy="5257800"/>
          </a:xfrm>
          <a:prstGeom prst="rect">
            <a:avLst/>
          </a:prstGeom>
          <a:ln w="0">
            <a:noFill/>
          </a:ln>
        </p:spPr>
      </p:pic>
      <p:sp>
        <p:nvSpPr>
          <p:cNvPr id="160" name="Down Arrow 4"/>
          <p:cNvSpPr/>
          <p:nvPr/>
        </p:nvSpPr>
        <p:spPr>
          <a:xfrm>
            <a:off x="264960" y="1600200"/>
            <a:ext cx="1084320" cy="470844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62040" y="22622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6"/>
          <p:cNvSpPr/>
          <p:nvPr/>
        </p:nvSpPr>
        <p:spPr>
          <a:xfrm>
            <a:off x="1349280" y="965160"/>
            <a:ext cx="6415200" cy="781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 Alkalimetalen (Fi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2 Aardalkali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lucht (felle vl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7 Haloge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, Cl, Br, I reageren goed met met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8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en zich niet en tasten niet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ste deeltjes van een molecu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mb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rste letter van de Latijnse n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olstof = Carboneum du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per = Cuprum dus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nk aan hoofdletter kleine lett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f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aa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eltpunt en kookp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htheid of soortelijke m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losbaar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4-scheikunde-samenvatting"/>
          <p:cNvPicPr/>
          <p:nvPr/>
        </p:nvPicPr>
        <p:blipFill>
          <a:blip r:embed="rId1"/>
          <a:stretch/>
        </p:blipFill>
        <p:spPr>
          <a:xfrm>
            <a:off x="6478560" y="4156200"/>
            <a:ext cx="27018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4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5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9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4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4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met een l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re aantrekkings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re smelt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 blijft altijd 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onen kunnen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onen willen lijken op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kunnen elektronen opnemen of afstaan (buitenste sch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willen zijn als edel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staan makkelijk 1 elektron af (elektron 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 nemen makkelijk 1 elektron op (elektron 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rotonen en 11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kan 1 elektron afst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ste schil 1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 10 E  (+11 -10= 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ion (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Picture 4.png"/>
          <p:cNvPicPr/>
          <p:nvPr/>
        </p:nvPicPr>
        <p:blipFill>
          <a:blip r:embed="rId1"/>
          <a:stretch/>
        </p:blipFill>
        <p:spPr>
          <a:xfrm>
            <a:off x="6121440" y="3809880"/>
            <a:ext cx="26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ontent Placeholder 4" descr="Picture 6.png"/>
          <p:cNvPicPr/>
          <p:nvPr/>
        </p:nvPicPr>
        <p:blipFill>
          <a:blip r:embed="rId1"/>
          <a:srcRect l="0" t="-5908" r="0" b="-5908"/>
          <a:stretch/>
        </p:blipFill>
        <p:spPr>
          <a:xfrm>
            <a:off x="914400" y="1676520"/>
            <a:ext cx="73915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len e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antal-atomen"/>
          <p:cNvPicPr/>
          <p:nvPr/>
        </p:nvPicPr>
        <p:blipFill>
          <a:blip r:embed="rId1"/>
          <a:stretch/>
        </p:blipFill>
        <p:spPr>
          <a:xfrm>
            <a:off x="304920" y="2590920"/>
            <a:ext cx="8496360" cy="302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rotonen en 17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 kan 1 elektron op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 18 E  (+17 -18=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loride (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riodiek systeem e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fstaan dus lading van 1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afstaan dus lading van 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opnemen dus lading van 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opnemen dus lading van 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digheid va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k wel elekt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5 naamgeving va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itieve ionen behouden dezelfde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= Magnes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Natr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Kal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talen die meerdere valenties kunn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f 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geven we aan met romeinse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(II) ion of ijzer(I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er(I)ion en Koper(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van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447920"/>
          <a:ext cx="6384960" cy="3778200"/>
        </p:xfrm>
        <a:graphic>
          <a:graphicData uri="http://schemas.openxmlformats.org/drawingml/2006/table">
            <a:tbl>
              <a:tblPr/>
              <a:tblGrid>
                <a:gridCol w="3192480"/>
                <a:gridCol w="3192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K,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, Ba, Ca, Zn, 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, Cr, 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,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en 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, 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4"/>
          <p:cNvSpPr/>
          <p:nvPr/>
        </p:nvSpPr>
        <p:spPr>
          <a:xfrm>
            <a:off x="762120" y="5486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onder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stof (enige niet metaal) positieve valentie: H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niet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7848720" cy="3581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-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gatieve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voegsel –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3 structuurformules en namen van moleculaire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ul bestaat altijd uit 2 of meer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ijd niet-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ctuurform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 of een ver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zuivere stof kan een element of een verbindin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ment bestaat uit 1 soort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ing bestaat uit meerdere soorten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antal-atomen"/>
          <p:cNvPicPr/>
          <p:nvPr/>
        </p:nvPicPr>
        <p:blipFill>
          <a:blip r:embed="rId1"/>
          <a:stretch/>
        </p:blipFill>
        <p:spPr>
          <a:xfrm>
            <a:off x="2916360" y="4584600"/>
            <a:ext cx="62640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2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33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3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8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bbel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voudig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jdelijke aanduiding voor inhoud 2"/>
          <p:cNvSpPr/>
          <p:nvPr/>
        </p:nvSpPr>
        <p:spPr>
          <a:xfrm>
            <a:off x="468360" y="1371600"/>
            <a:ext cx="82296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1361880" cy="26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771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x en naam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676520"/>
          <a:ext cx="3886200" cy="3733560"/>
        </p:xfrm>
        <a:graphic>
          <a:graphicData uri="http://schemas.openxmlformats.org/drawingml/2006/table">
            <a:tbl>
              <a:tblPr/>
              <a:tblGrid>
                <a:gridCol w="1431720"/>
                <a:gridCol w="2454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voeg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mge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waterstofmono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osforpenta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stikstof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: 21 t/m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maken: 22, 26,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of kan stroom geleiden wan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of moet bestaan uit geladen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laden deeltjes moeten vrij kunnen bew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2 elektrisch geleidingsvermo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scheid i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(opgebouwd uit i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stoffen geleiden n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estilleer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76360" y="4419720"/>
            <a:ext cx="84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 (bestaan uit niet-meta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komt doordat deze stoffen g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e elektronen bevatt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u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ffen opgebouwd uit positieve en negatieve 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Picture 7.png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2501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icture 8.png"/>
          <p:cNvPicPr/>
          <p:nvPr/>
        </p:nvPicPr>
        <p:blipFill>
          <a:blip r:embed="rId2"/>
          <a:stretch/>
        </p:blipFill>
        <p:spPr>
          <a:xfrm>
            <a:off x="533520" y="3809880"/>
            <a:ext cx="820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bestaan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taal en een niet-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en Ch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rium staat steeds 1 elektron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neemt steeds 1 elektro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ontstaat Natriumchloride (keukenz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rooster en ion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 positief natrium ion is omgeven door 6 chloor ionen en ander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aantrekkingskracht tussen positieve en negatieve ionen blijven de ionen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Picture 11.png"/>
          <p:cNvPicPr/>
          <p:nvPr/>
        </p:nvPicPr>
        <p:blipFill>
          <a:blip r:embed="rId1"/>
          <a:stretch/>
        </p:blipFill>
        <p:spPr>
          <a:xfrm>
            <a:off x="4800600" y="3886200"/>
            <a:ext cx="39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schappen van 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nzend uit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g smelt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goed 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elektrische s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vervormbaar door walsen en sm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smolten toestand goed te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ven te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atoomnummer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prot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elektr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staat graag 2 elektronen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rijgt ijzer een lading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 is het ijze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271120" y="22096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5425200" y="281952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404760" y="45975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Jz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uit veel positieve ijzer ionen en uit twee keer zo veel vrije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ijzerionen zijn gerangschikt in een 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in bewegen de vrije elektronen zich kris kras tussen de positieve ijzerion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en voor de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Picture 5.png"/>
          <p:cNvPicPr/>
          <p:nvPr/>
        </p:nvPicPr>
        <p:blipFill>
          <a:blip r:embed="rId1"/>
          <a:stretch/>
        </p:blipFill>
        <p:spPr>
          <a:xfrm>
            <a:off x="4114800" y="3822840"/>
            <a:ext cx="4686480" cy="3035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1276560" y="5384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al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alroos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dus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ositieve metaali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e elektr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ie voor de binding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aalb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in het rooster z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neer het metaal aangesloten wordt op stroom gaan alle elektronen dezelfde kan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weging van vrije elektronen wordt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gsel of zu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8" descr="image036.jpg"/>
          <p:cNvPicPr/>
          <p:nvPr/>
        </p:nvPicPr>
        <p:blipFill>
          <a:blip r:embed="rId1"/>
          <a:srcRect l="0" t="-15646" r="0" b="-15646"/>
          <a:stretch/>
        </p:blipFill>
        <p:spPr>
          <a:xfrm>
            <a:off x="179280" y="1681200"/>
            <a:ext cx="878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drofiel/hydrofo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 =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el = houde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ob = vr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iel = houdt v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makkelijk op in water (z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oob = Houdt niet v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makkelijk op in water (Ol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01:23Z</dcterms:created>
  <dc:creator>drm</dc:creator>
  <dc:description/>
  <dc:language>en-US</dc:language>
  <cp:lastModifiedBy>Joyce Vonk</cp:lastModifiedBy>
  <dcterms:modified xsi:type="dcterms:W3CDTF">2019-11-04T09:41:00Z</dcterms:modified>
  <cp:revision>300</cp:revision>
  <dc:subject/>
  <dc:title>Doorstroom Scheikunde</dc:title>
</cp:coreProperties>
</file>