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0.jpeg" ContentType="image/jpeg"/>
  <Override PartName="/ppt/media/image30.png" ContentType="image/pn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4CDB-9351-45AD-88D6-682D22C3C5F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4149-84FC-47AC-A3F8-223C717EE1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54A3-B235-4669-8C4C-C55446194F6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20F-933F-470E-BE78-4F3A1635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494-AE3E-4A1E-8778-16BFF2F7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38A-7DF4-47FA-9E43-85D3368E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67A-1614-4F5A-BE9D-3D6E6245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3E9-25CB-45EC-8A39-BCFB4561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9EC-89B9-4FF2-8321-C834BF83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5CE-C9ED-4656-AF08-D6D8A33F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171-2CFB-48C2-95DF-6D223C47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992-50BD-4C82-8E38-CDAE1BAA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CEC-3860-46E3-97E6-DDEC670A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A71-F9B6-4A1F-ABB8-B14F5EC0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BEE-57C7-4930-8B2A-05757669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4F28-D682-4977-8941-30B556AF62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aken.wikiwijs.nl/26461/basis_scheikunde#sub2114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emie overal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sing: helder, 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loos of gekleurd (nooit w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spen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e 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mul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oei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ulsie 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240px-Emulsions.png"/>
          <p:cNvPicPr/>
          <p:nvPr/>
        </p:nvPicPr>
        <p:blipFill>
          <a:blip r:embed="rId1"/>
          <a:srcRect l="-139214" t="0" r="-13921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250px-Glas_melk.jpg"/>
          <p:cNvPicPr/>
          <p:nvPr/>
        </p:nvPicPr>
        <p:blipFill>
          <a:blip r:embed="rId2"/>
          <a:stretch/>
        </p:blipFill>
        <p:spPr>
          <a:xfrm>
            <a:off x="304920" y="3048120"/>
            <a:ext cx="3174840" cy="238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50px-Zaanse_mayonaise.jpg"/>
          <p:cNvPicPr/>
          <p:nvPr/>
        </p:nvPicPr>
        <p:blipFill>
          <a:blip r:embed="rId3"/>
          <a:stretch/>
        </p:blipFill>
        <p:spPr>
          <a:xfrm>
            <a:off x="5657760" y="2585880"/>
            <a:ext cx="3362400" cy="2527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921240" y="5421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w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7145280" y="51055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979720" y="6019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loei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76080" y="20066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werkt 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en staart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is hydrofiel en staart is hydrofo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icture 10.png"/>
          <p:cNvPicPr/>
          <p:nvPr/>
        </p:nvPicPr>
        <p:blipFill>
          <a:blip r:embed="rId1"/>
          <a:stretch/>
        </p:blipFill>
        <p:spPr>
          <a:xfrm>
            <a:off x="5346720" y="3228840"/>
            <a:ext cx="2781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3 Scheiding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ho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eig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tr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am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till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ah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DownloadedFile.jpeg"/>
          <p:cNvPicPr/>
          <p:nvPr/>
        </p:nvPicPr>
        <p:blipFill>
          <a:blip r:embed="rId1"/>
          <a:srcRect l="-17217" t="0" r="-172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183480" y="617220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ltr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3" descr="images.jpeg"/>
          <p:cNvPicPr/>
          <p:nvPr/>
        </p:nvPicPr>
        <p:blipFill>
          <a:blip r:embed="rId1"/>
          <a:srcRect l="-170997" t="0" r="-17099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55960" y="34290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groot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zinken of Centrifu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massa of 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DownloadedFile-1.jpeg"/>
          <p:cNvPicPr/>
          <p:nvPr/>
        </p:nvPicPr>
        <p:blipFill>
          <a:blip r:embed="rId1"/>
          <a:srcRect l="-17822" t="0" r="-17822" b="0"/>
          <a:stretch/>
        </p:blipFill>
        <p:spPr>
          <a:xfrm>
            <a:off x="2057400" y="2514600"/>
            <a:ext cx="73152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3" descr="DownloadedFile-2.jpeg"/>
          <p:cNvPicPr/>
          <p:nvPr/>
        </p:nvPicPr>
        <p:blipFill>
          <a:blip r:embed="rId1"/>
          <a:srcRect l="-59843" t="0" r="-59843" b="0"/>
          <a:stretch/>
        </p:blipFill>
        <p:spPr>
          <a:xfrm>
            <a:off x="457200" y="2854440"/>
            <a:ext cx="3124080" cy="171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ownloadedFile.jpeg"/>
          <p:cNvPicPr/>
          <p:nvPr/>
        </p:nvPicPr>
        <p:blipFill>
          <a:blip r:embed="rId2"/>
          <a:stretch/>
        </p:blipFill>
        <p:spPr>
          <a:xfrm>
            <a:off x="1295280" y="2438280"/>
            <a:ext cx="1473480" cy="50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rander.jpg"/>
          <p:cNvPicPr/>
          <p:nvPr/>
        </p:nvPicPr>
        <p:blipFill>
          <a:blip r:embed="rId3"/>
          <a:stretch/>
        </p:blipFill>
        <p:spPr>
          <a:xfrm>
            <a:off x="4267080" y="2362320"/>
            <a:ext cx="4575240" cy="342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892440" y="57229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till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3" descr="DownloadedFile-1.jpeg"/>
          <p:cNvPicPr/>
          <p:nvPr/>
        </p:nvPicPr>
        <p:blipFill>
          <a:blip r:embed="rId1"/>
          <a:srcRect l="-23740" t="0" r="-2374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575440" y="62485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1 Chemie om je h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kunde is ov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iden of zuiveren van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anderen van grondstoffen in bruik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nkwater uit zee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e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h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aste stoffen uit elkaar h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aste stof eerst oplossen en daarna filtreren en inda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 zand en z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dsorb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de stoffen aan een stof ont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k kleur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ve kool en limonade sir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asmas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rrit (allemaal actieve 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romatogra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aanhechtingsvermogen en oplosbaarheid van het oplos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zuivere stof 1 vlek bij mengsel meerdere vl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Picture 1.png"/>
          <p:cNvPicPr/>
          <p:nvPr/>
        </p:nvPicPr>
        <p:blipFill>
          <a:blip r:embed="rId1"/>
          <a:stretch/>
        </p:blipFill>
        <p:spPr>
          <a:xfrm>
            <a:off x="5475240" y="3276720"/>
            <a:ext cx="366876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stenen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2 De bouw van een at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l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lton: een atoom is een massief bolletje. Elk atoomsoort heeft zijn eigen afme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abel atoommodel.png"/>
          <p:cNvPicPr/>
          <p:nvPr/>
        </p:nvPicPr>
        <p:blipFill>
          <a:blip r:embed="rId1"/>
          <a:stretch/>
        </p:blipFill>
        <p:spPr>
          <a:xfrm>
            <a:off x="1743120" y="2162160"/>
            <a:ext cx="5877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model van Ruther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lassieke%2Batoommodel"/>
          <p:cNvPicPr/>
          <p:nvPr/>
        </p:nvPicPr>
        <p:blipFill>
          <a:blip r:embed="rId2"/>
          <a:stretch/>
        </p:blipFill>
        <p:spPr>
          <a:xfrm>
            <a:off x="3564000" y="1628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1138680" y="566100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oomkern opgebouwd uit protonen en neutron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daar omheen een elektronenw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nen (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onen (+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utronen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Picture 2.png"/>
          <p:cNvPicPr/>
          <p:nvPr/>
        </p:nvPicPr>
        <p:blipFill>
          <a:blip r:embed="rId1"/>
          <a:stretch/>
        </p:blipFill>
        <p:spPr>
          <a:xfrm>
            <a:off x="119160" y="4363920"/>
            <a:ext cx="891684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Klassieke%2Batoommodel"/>
          <p:cNvPicPr/>
          <p:nvPr/>
        </p:nvPicPr>
        <p:blipFill>
          <a:blip r:embed="rId2"/>
          <a:stretch/>
        </p:blipFill>
        <p:spPr>
          <a:xfrm>
            <a:off x="5796000" y="1574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nummer en massag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geeft aan hoeveel protonen en elektronen in een atoom z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 geeft de som van protonen en neutron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Klassieke%2Batoommodel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atoomnummer: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massagetal: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protonen en elektronen=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neutronen= 39 -19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2 Zuivere stoffen 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vere 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1 soort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leiner t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gedestilleerd water, sui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 (onzuiv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soorten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 je door scheiden uit elkaar 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suiker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onen-ver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zijn over schillen verde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worden van binnenuit naar buiten toe opgev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 het periodiek systeem is de elektronen-verdeling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lektronenconfigu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per atoom af te l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03280" y="2136600"/>
          <a:ext cx="5473800" cy="2671920"/>
        </p:xfrm>
        <a:graphic>
          <a:graphicData uri="http://schemas.openxmlformats.org/drawingml/2006/table">
            <a:tbl>
              <a:tblPr/>
              <a:tblGrid>
                <a:gridCol w="1584360"/>
                <a:gridCol w="1440000"/>
                <a:gridCol w="24494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al aantal elektron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nas%20T99"/>
          <p:cNvPicPr/>
          <p:nvPr/>
        </p:nvPicPr>
        <p:blipFill>
          <a:blip r:embed="rId1"/>
          <a:stretch/>
        </p:blipFill>
        <p:spPr>
          <a:xfrm>
            <a:off x="-228600" y="428760"/>
            <a:ext cx="9144000" cy="5592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777760" y="1628640"/>
            <a:ext cx="61790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Het atoomnummer geeft het aantal protonen in de ker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Dit komt overeen met de kernlading (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en het aantal elektronen in de elektronenwolk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1619280" y="1928880"/>
            <a:ext cx="72072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1573200" y="1527120"/>
            <a:ext cx="1224000" cy="1143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1763640" y="2349360"/>
            <a:ext cx="100800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Binas%20T99"/>
          <p:cNvPicPr/>
          <p:nvPr/>
        </p:nvPicPr>
        <p:blipFill>
          <a:blip r:embed="rId1"/>
          <a:stretch/>
        </p:blipFill>
        <p:spPr>
          <a:xfrm>
            <a:off x="-577800" y="1440"/>
            <a:ext cx="16311600" cy="9980640"/>
          </a:xfrm>
          <a:prstGeom prst="rect">
            <a:avLst/>
          </a:prstGeom>
          <a:ln w="0">
            <a:noFill/>
          </a:ln>
        </p:spPr>
      </p:pic>
      <p:sp>
        <p:nvSpPr>
          <p:cNvPr id="138" name="Oval 4"/>
          <p:cNvSpPr/>
          <p:nvPr/>
        </p:nvSpPr>
        <p:spPr>
          <a:xfrm>
            <a:off x="1352520" y="249228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246320" y="3957480"/>
            <a:ext cx="42840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081160" y="4653000"/>
            <a:ext cx="4287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80960" y="467352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1763640" y="2205000"/>
            <a:ext cx="28728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H="1">
            <a:off x="1603440" y="3624120"/>
            <a:ext cx="28728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445840" y="4332240"/>
            <a:ext cx="28764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06360" y="4235400"/>
            <a:ext cx="289080" cy="35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2962440" y="3436920"/>
            <a:ext cx="1655640" cy="433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006360" y="2205000"/>
            <a:ext cx="4923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Elektronenconfigatie: elektronenver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over de 4 schillen (banen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847320" y="5084640"/>
            <a:ext cx="417204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Valentie-elektronen: De elektr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in de buitenste sch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sot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otopen zijn elementen met hetzelfde atoomnummer maar met een verschillend massag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neutronen bij een atoom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water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woon” waterstof 1 proton geen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” waterstof 1 proton 1 neu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tium 1 proton 2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ontent Placeholder 3" descr="Picture 3.png"/>
          <p:cNvPicPr/>
          <p:nvPr/>
        </p:nvPicPr>
        <p:blipFill>
          <a:blip r:embed="rId1"/>
          <a:srcRect l="-11920" t="0" r="-11920" b="0"/>
          <a:stretch/>
        </p:blipFill>
        <p:spPr>
          <a:xfrm>
            <a:off x="1447920" y="1512720"/>
            <a:ext cx="990360" cy="54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Picture 2.png"/>
          <p:cNvPicPr/>
          <p:nvPr/>
        </p:nvPicPr>
        <p:blipFill>
          <a:blip r:embed="rId2"/>
          <a:stretch/>
        </p:blipFill>
        <p:spPr>
          <a:xfrm>
            <a:off x="2590920" y="1486080"/>
            <a:ext cx="76176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954720" y="2209680"/>
            <a:ext cx="722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chtere soort komt 3x zovaak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emiddelde massagetal wordt d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: (3*35+1*37)/4 = 3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is de atoommass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3 Periodiek 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periodiek%20systeem"/>
          <p:cNvPicPr/>
          <p:nvPr/>
        </p:nvPicPr>
        <p:blipFill>
          <a:blip r:embed="rId2"/>
          <a:stretch/>
        </p:blipFill>
        <p:spPr>
          <a:xfrm>
            <a:off x="1104840" y="1523880"/>
            <a:ext cx="7245360" cy="5257800"/>
          </a:xfrm>
          <a:prstGeom prst="rect">
            <a:avLst/>
          </a:prstGeom>
          <a:ln w="0">
            <a:noFill/>
          </a:ln>
        </p:spPr>
      </p:pic>
      <p:sp>
        <p:nvSpPr>
          <p:cNvPr id="160" name="Down Arrow 4"/>
          <p:cNvSpPr/>
          <p:nvPr/>
        </p:nvSpPr>
        <p:spPr>
          <a:xfrm>
            <a:off x="264960" y="1600200"/>
            <a:ext cx="1084320" cy="4708440"/>
          </a:xfrm>
          <a:prstGeom prst="down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662040" y="2262240"/>
            <a:ext cx="44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6"/>
          <p:cNvSpPr/>
          <p:nvPr/>
        </p:nvSpPr>
        <p:spPr>
          <a:xfrm>
            <a:off x="1349280" y="965160"/>
            <a:ext cx="6415200" cy="7812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 Alkalimetalen (Fi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2 Aardalkali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lucht (felle vl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7 Haloge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, Cl, Br, I reageren goed met met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8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en zich niet en tasten niet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ste deeltjes van een molecu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ymbo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rste letter van de Latijnse n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olstof = Carboneum du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per = Cuprum dus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nk aan hoofdletter kleine lett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f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aa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eltpunt en kookp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chtheid of soortelijke m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losbaar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764-scheikunde-samenvatting"/>
          <p:cNvPicPr/>
          <p:nvPr/>
        </p:nvPicPr>
        <p:blipFill>
          <a:blip r:embed="rId1"/>
          <a:stretch/>
        </p:blipFill>
        <p:spPr>
          <a:xfrm>
            <a:off x="6478560" y="4156200"/>
            <a:ext cx="27018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4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5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9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2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4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4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met een l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re aantrekkings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gere smelt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 blijft altijd 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onen kunnen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onen willen lijken op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kunnen elektronen opnemen of afstaan (buitenste sch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willen zijn als edel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staan makkelijk 1 elektron af (elektron 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 nemen makkelijk 1 elektron op (elektron 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rotonen en 11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kan 1 elektron afst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ste schil 1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 10 E  (+11 -10= 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ion (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Picture 4.png"/>
          <p:cNvPicPr/>
          <p:nvPr/>
        </p:nvPicPr>
        <p:blipFill>
          <a:blip r:embed="rId1"/>
          <a:stretch/>
        </p:blipFill>
        <p:spPr>
          <a:xfrm>
            <a:off x="6121440" y="3809880"/>
            <a:ext cx="2641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Content Placeholder 4" descr="Picture 6.png"/>
          <p:cNvPicPr/>
          <p:nvPr/>
        </p:nvPicPr>
        <p:blipFill>
          <a:blip r:embed="rId1"/>
          <a:srcRect l="0" t="-5908" r="0" b="-5908"/>
          <a:stretch/>
        </p:blipFill>
        <p:spPr>
          <a:xfrm>
            <a:off x="914400" y="1676520"/>
            <a:ext cx="73915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len e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aantal-atomen"/>
          <p:cNvPicPr/>
          <p:nvPr/>
        </p:nvPicPr>
        <p:blipFill>
          <a:blip r:embed="rId1"/>
          <a:stretch/>
        </p:blipFill>
        <p:spPr>
          <a:xfrm>
            <a:off x="304920" y="2590920"/>
            <a:ext cx="8496360" cy="302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rotonen en 17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 kan 1 elektron opn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 18 E  (+17 -18=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loride (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eriodiek systeem e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fstaan dus lading van 1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afstaan dus lading van 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opnemen dus lading van 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opnemen dus lading van 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digheid va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k wel elekt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5 naamgeving va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itieve ionen behouden dezelfde n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= Magnes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Natr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Kal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metalen die meerdere valenties kunn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of 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geven we aan met romeinse cij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(II) ion of ijzer(I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er(I)ion en Koper(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van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19320" y="1447920"/>
          <a:ext cx="6384960" cy="3778200"/>
        </p:xfrm>
        <a:graphic>
          <a:graphicData uri="http://schemas.openxmlformats.org/drawingml/2006/table">
            <a:tbl>
              <a:tblPr/>
              <a:tblGrid>
                <a:gridCol w="3192480"/>
                <a:gridCol w="3192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, K,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, Ba, Ca, Zn, 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, Cr, 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, 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 en 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, 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18" name="TextBox 4"/>
          <p:cNvSpPr/>
          <p:nvPr/>
        </p:nvSpPr>
        <p:spPr>
          <a:xfrm>
            <a:off x="762120" y="5486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onder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stof (enige niet metaal) positieve valentie: H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niet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600200"/>
          <a:ext cx="7848720" cy="35812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-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Cl, Br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,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gatieve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voegsel –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3 structuurformules en namen van moleculaire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ul bestaat altijd uit 2 of meer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ijd niet-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ctuurform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 of een ver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zuivere stof kan een element of een verbindin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ment bestaat uit 1 soort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ing bestaat uit meerdere soorten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aantal-atomen"/>
          <p:cNvPicPr/>
          <p:nvPr/>
        </p:nvPicPr>
        <p:blipFill>
          <a:blip r:embed="rId1"/>
          <a:stretch/>
        </p:blipFill>
        <p:spPr>
          <a:xfrm>
            <a:off x="2916360" y="4584600"/>
            <a:ext cx="6264000" cy="222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2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33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3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6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8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bbel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voudig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jdelijke aanduiding voor inhoud 2"/>
          <p:cNvSpPr/>
          <p:nvPr/>
        </p:nvSpPr>
        <p:spPr>
          <a:xfrm>
            <a:off x="468360" y="1371600"/>
            <a:ext cx="82296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1361880" cy="26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2"/>
          <a:stretch/>
        </p:blipFill>
        <p:spPr>
          <a:xfrm>
            <a:off x="6019920" y="3048120"/>
            <a:ext cx="7714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x en naam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5120" y="1676520"/>
          <a:ext cx="3886200" cy="3733560"/>
        </p:xfrm>
        <a:graphic>
          <a:graphicData uri="http://schemas.openxmlformats.org/drawingml/2006/table">
            <a:tbl>
              <a:tblPr/>
              <a:tblGrid>
                <a:gridCol w="1431720"/>
                <a:gridCol w="24544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voeg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amge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waterstofmono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fosforpenta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ostikstof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: 21 t/m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maken: 22, 26, 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of kan stroom geleiden wan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of moet bestaan uit geladen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laden deeltjes moeten vrij kunnen bew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2 elektrisch geleidingsvermog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scheid i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(opgebouwd uit i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stoffen geleiden ni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estilleer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576360" y="4419720"/>
            <a:ext cx="841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 (bestaan uit niet-metal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komt doordat deze stoffen g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ije elektronen bevatte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u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ffen opgebouwd uit positieve en negatieve 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Picture 7.png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2501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Picture 8.png"/>
          <p:cNvPicPr/>
          <p:nvPr/>
        </p:nvPicPr>
        <p:blipFill>
          <a:blip r:embed="rId2"/>
          <a:stretch/>
        </p:blipFill>
        <p:spPr>
          <a:xfrm>
            <a:off x="533520" y="3809880"/>
            <a:ext cx="820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bestaan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taal en een niet-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en Ch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rium staat steeds 1 elektron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neemt steeds 1 elektro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ontstaat Natriumchloride (keukenz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rooster en ion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 positief natrium ion is omgeven door 6 chloor ionen en ander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aantrekkingskracht tussen positieve en negatieve ionen blijven de ionen bij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Picture 11.png"/>
          <p:cNvPicPr/>
          <p:nvPr/>
        </p:nvPicPr>
        <p:blipFill>
          <a:blip r:embed="rId1"/>
          <a:stretch/>
        </p:blipFill>
        <p:spPr>
          <a:xfrm>
            <a:off x="4800600" y="3886200"/>
            <a:ext cx="39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genschappen van 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nzend uiter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g smelt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goed 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elektrische st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vervormbaar door walsen en sm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smolten toestand goed te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ven te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atoomnummer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prot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elektr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staat graag 2 elektronen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rijgt ijzer een lading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 is het ijze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5271120" y="22096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5425200" y="281952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6404760" y="45975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Jz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uit veel positieve ijzer ionen en uit twee keer zo veel vrije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ijzerionen zijn gerangschikt in een 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in bewegen de vrije elektronen zich kris kras tussen de positieve ijzerionen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en voor de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Picture 5.png"/>
          <p:cNvPicPr/>
          <p:nvPr/>
        </p:nvPicPr>
        <p:blipFill>
          <a:blip r:embed="rId1"/>
          <a:stretch/>
        </p:blipFill>
        <p:spPr>
          <a:xfrm>
            <a:off x="4114800" y="3822840"/>
            <a:ext cx="4686480" cy="30351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1276560" y="538488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al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alroos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dus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ositieve metaali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e elektr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ie voor de binding (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aalbindin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 in het rooster zo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neer het metaal aangesloten wordt op stroom gaan alle elektronen dezelfde kant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weging van vrije elektronen wordt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gsel of zuiver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8" descr="image036.jpg"/>
          <p:cNvPicPr/>
          <p:nvPr/>
        </p:nvPicPr>
        <p:blipFill>
          <a:blip r:embed="rId1"/>
          <a:srcRect l="0" t="-15646" r="0" b="-15646"/>
          <a:stretch/>
        </p:blipFill>
        <p:spPr>
          <a:xfrm>
            <a:off x="179280" y="1681200"/>
            <a:ext cx="878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ydrofiel/hydrofo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 =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el = houden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ob = vr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iel = houdt van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makkelijk op in water (z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oob = Houdt niet va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makkelijk op in water (Ol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01:23Z</dcterms:created>
  <dc:creator>drm</dc:creator>
  <dc:description/>
  <dc:language>en-US</dc:language>
  <cp:lastModifiedBy>Joyce Vonk</cp:lastModifiedBy>
  <dcterms:modified xsi:type="dcterms:W3CDTF">2019-11-04T09:41:00Z</dcterms:modified>
  <cp:revision>300</cp:revision>
  <dc:subject/>
  <dc:title>Doorstroom Scheikunde</dc:title>
</cp:coreProperties>
</file>