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arrow.wav" ContentType="audio/x-wav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C722-44CF-4E0C-8197-70C91EB77765}" type="datetime3">
              <a:rPr b="0" lang="nl-NL" sz="1200" spc="-1" strike="noStrike">
                <a:solidFill>
                  <a:srgbClr val="000000"/>
                </a:solidFill>
                <a:latin typeface="Arial"/>
              </a:rPr>
              <a:t>29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ender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5F99-4461-4E57-9A77-82519228527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F608-C107-45BA-ADFF-4CA9D32E3514}" type="datetime3">
              <a:rPr b="0" lang="nl-NL" sz="1200" spc="-1" strike="noStrike">
                <a:solidFill>
                  <a:srgbClr val="000000"/>
                </a:solidFill>
                <a:latin typeface="Arial"/>
              </a:rPr>
              <a:t>29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ender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77D9-0A03-48C1-A5AC-5E0437653D8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7545-29EE-4C89-88A2-9293E8CD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FC88-2C6C-4194-9FA5-8EE60AB3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5D59-8322-4823-81D1-4F8361384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E7AE-A46B-4D77-90A9-9EA92469E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D5E0-0C99-46C6-89D7-E6099F23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9319-E09A-47D5-A264-0B0F8492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7842-AFCF-4D50-BBB5-4D04ECB8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A17F-5D5D-4316-8E17-59F5E2E4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AC22-2628-41E2-8287-D1146979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82D7-D680-47A6-8527-EBFB2C18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119F-57D7-46A0-83E4-B7E8B788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8FA4-ED32-4046-81C4-0D9CCDF4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r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F1A3-1FA7-40C3-A229-8AE5E4450610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eende Analy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Wat kun je er mee do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dere conclus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helft van de energie (Overige Koolhydraten) staat niet op de verpakking verme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ter en/of Droge Stof gehalten staan niet verme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Anorganische Stof is niet gespecificeerd weergegev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schema van de Weender Analyse is dus nodig om meer te weten te kom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pdrac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ak nu zelf een analyse van het onderstaande etike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3203640" y="4005360"/>
            <a:ext cx="302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ucc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4" name="Afbeelding 1" descr=""/>
          <p:cNvPicPr/>
          <p:nvPr/>
        </p:nvPicPr>
        <p:blipFill>
          <a:blip r:embed="rId3"/>
          <a:stretch/>
        </p:blipFill>
        <p:spPr>
          <a:xfrm>
            <a:off x="1763640" y="3562200"/>
            <a:ext cx="6197760" cy="23972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4" name="arrow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t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Organization Chart 11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53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7"/>
          <p:cNvSpPr/>
          <p:nvPr/>
        </p:nvSpPr>
        <p:spPr>
          <a:xfrm>
            <a:off x="611280" y="3573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eder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29"/>
          <p:cNvSpPr/>
          <p:nvPr/>
        </p:nvSpPr>
        <p:spPr>
          <a:xfrm flipV="1">
            <a:off x="2124000" y="3141720"/>
            <a:ext cx="576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0"/>
          <p:cNvSpPr/>
          <p:nvPr/>
        </p:nvSpPr>
        <p:spPr>
          <a:xfrm>
            <a:off x="2124000" y="371628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1"/>
          <p:cNvSpPr/>
          <p:nvPr/>
        </p:nvSpPr>
        <p:spPr>
          <a:xfrm>
            <a:off x="2610360" y="30160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rog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2"/>
          <p:cNvSpPr/>
          <p:nvPr/>
        </p:nvSpPr>
        <p:spPr>
          <a:xfrm>
            <a:off x="2700360" y="414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3"/>
          <p:cNvSpPr/>
          <p:nvPr/>
        </p:nvSpPr>
        <p:spPr>
          <a:xfrm flipV="1">
            <a:off x="3780000" y="263700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4"/>
          <p:cNvSpPr/>
          <p:nvPr/>
        </p:nvSpPr>
        <p:spPr>
          <a:xfrm>
            <a:off x="3780000" y="3213000"/>
            <a:ext cx="360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5"/>
          <p:cNvSpPr/>
          <p:nvPr/>
        </p:nvSpPr>
        <p:spPr>
          <a:xfrm>
            <a:off x="4211640" y="2492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6"/>
          <p:cNvSpPr/>
          <p:nvPr/>
        </p:nvSpPr>
        <p:spPr>
          <a:xfrm>
            <a:off x="3419640" y="4508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7"/>
          <p:cNvSpPr/>
          <p:nvPr/>
        </p:nvSpPr>
        <p:spPr>
          <a:xfrm flipV="1">
            <a:off x="4932360" y="1989000"/>
            <a:ext cx="576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8"/>
          <p:cNvSpPr/>
          <p:nvPr/>
        </p:nvSpPr>
        <p:spPr>
          <a:xfrm>
            <a:off x="5651640" y="1844640"/>
            <a:ext cx="24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houdende Stof = Ruw Eiw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39"/>
          <p:cNvSpPr/>
          <p:nvPr/>
        </p:nvSpPr>
        <p:spPr>
          <a:xfrm>
            <a:off x="5003640" y="285264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0"/>
          <p:cNvSpPr/>
          <p:nvPr/>
        </p:nvSpPr>
        <p:spPr>
          <a:xfrm>
            <a:off x="6064200" y="265572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1"/>
          <p:cNvSpPr/>
          <p:nvPr/>
        </p:nvSpPr>
        <p:spPr>
          <a:xfrm>
            <a:off x="5508720" y="2781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vrij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3"/>
          <p:cNvSpPr/>
          <p:nvPr/>
        </p:nvSpPr>
        <p:spPr>
          <a:xfrm flipV="1">
            <a:off x="6372360" y="263700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4"/>
          <p:cNvSpPr/>
          <p:nvPr/>
        </p:nvSpPr>
        <p:spPr>
          <a:xfrm>
            <a:off x="7359480" y="2297160"/>
            <a:ext cx="7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5"/>
          <p:cNvSpPr/>
          <p:nvPr/>
        </p:nvSpPr>
        <p:spPr>
          <a:xfrm>
            <a:off x="6948360" y="242100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 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6"/>
          <p:cNvSpPr/>
          <p:nvPr/>
        </p:nvSpPr>
        <p:spPr>
          <a:xfrm>
            <a:off x="6300720" y="3645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47"/>
          <p:cNvSpPr/>
          <p:nvPr/>
        </p:nvSpPr>
        <p:spPr>
          <a:xfrm>
            <a:off x="6084720" y="3357720"/>
            <a:ext cx="28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8"/>
          <p:cNvSpPr/>
          <p:nvPr/>
        </p:nvSpPr>
        <p:spPr>
          <a:xfrm>
            <a:off x="7596360" y="3068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Cel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9"/>
          <p:cNvSpPr/>
          <p:nvPr/>
        </p:nvSpPr>
        <p:spPr>
          <a:xfrm flipV="1">
            <a:off x="7164360" y="328464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0"/>
          <p:cNvSpPr/>
          <p:nvPr/>
        </p:nvSpPr>
        <p:spPr>
          <a:xfrm>
            <a:off x="7236000" y="414972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ige 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1"/>
          <p:cNvSpPr/>
          <p:nvPr/>
        </p:nvSpPr>
        <p:spPr>
          <a:xfrm>
            <a:off x="6948360" y="4005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2"/>
          <p:cNvSpPr/>
          <p:nvPr/>
        </p:nvSpPr>
        <p:spPr>
          <a:xfrm>
            <a:off x="5148360" y="450864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3"/>
          <p:cNvSpPr/>
          <p:nvPr/>
        </p:nvSpPr>
        <p:spPr>
          <a:xfrm>
            <a:off x="507672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e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5"/>
          <p:cNvSpPr/>
          <p:nvPr/>
        </p:nvSpPr>
        <p:spPr>
          <a:xfrm>
            <a:off x="4932360" y="47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56"/>
          <p:cNvSpPr/>
          <p:nvPr/>
        </p:nvSpPr>
        <p:spPr>
          <a:xfrm>
            <a:off x="4788000" y="479736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280" y="244440"/>
            <a:ext cx="830268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egevens van vo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mso2E856"/>
          <p:cNvPicPr/>
          <p:nvPr/>
        </p:nvPicPr>
        <p:blipFill>
          <a:blip r:embed="rId1"/>
          <a:stretch/>
        </p:blipFill>
        <p:spPr>
          <a:xfrm>
            <a:off x="1476360" y="1341360"/>
            <a:ext cx="6624720" cy="5226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2" name="arrow.wav"/>
      </p:stSnd>
    </p:sndAc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eem gegevens over in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ijk goed wat je kunt overnem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a er van uit dat droge voedermiddelen zoals krokante brok ongeveer 90 % Droge Stof hebb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 met kleuren. De gegevens zetten we bijvoorbeeld </a:t>
            </a:r>
            <a:r>
              <a:rPr b="0" lang="nl-NL" sz="3200" spc="-1" strike="noStrike">
                <a:solidFill>
                  <a:srgbClr val="ffff00"/>
                </a:solidFill>
                <a:latin typeface="Calibri"/>
              </a:rPr>
              <a:t>geel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in het sche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in bij het voedermiddel met 100 %. Dat is alles in het voedermidd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t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Organization Chart 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8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11280" y="357336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eder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 flipV="1">
            <a:off x="2124000" y="3141720"/>
            <a:ext cx="576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124000" y="371628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2610360" y="30160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rog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9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2700360" y="414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 flipV="1">
            <a:off x="3780000" y="263700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"/>
          <p:cNvSpPr/>
          <p:nvPr/>
        </p:nvSpPr>
        <p:spPr>
          <a:xfrm>
            <a:off x="3780000" y="3213000"/>
            <a:ext cx="360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4211640" y="2492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3419640" y="4508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organische 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7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4"/>
          <p:cNvSpPr/>
          <p:nvPr/>
        </p:nvSpPr>
        <p:spPr>
          <a:xfrm flipV="1">
            <a:off x="4932360" y="1989000"/>
            <a:ext cx="576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651640" y="1844640"/>
            <a:ext cx="24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houdende Stof = Ruw Eiwit  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2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6"/>
          <p:cNvSpPr/>
          <p:nvPr/>
        </p:nvSpPr>
        <p:spPr>
          <a:xfrm>
            <a:off x="5003640" y="285264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6064200" y="265572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5508720" y="2781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vrij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9"/>
          <p:cNvSpPr/>
          <p:nvPr/>
        </p:nvSpPr>
        <p:spPr>
          <a:xfrm flipV="1">
            <a:off x="6372360" y="263700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7359480" y="2297160"/>
            <a:ext cx="7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6948360" y="2421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 Vet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6300720" y="3645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3"/>
          <p:cNvSpPr/>
          <p:nvPr/>
        </p:nvSpPr>
        <p:spPr>
          <a:xfrm>
            <a:off x="6084720" y="3357720"/>
            <a:ext cx="28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4"/>
          <p:cNvSpPr/>
          <p:nvPr/>
        </p:nvSpPr>
        <p:spPr>
          <a:xfrm>
            <a:off x="7596360" y="3068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Cel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5"/>
          <p:cNvSpPr/>
          <p:nvPr/>
        </p:nvSpPr>
        <p:spPr>
          <a:xfrm flipV="1">
            <a:off x="7164360" y="328464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7236000" y="414972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ige 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7"/>
          <p:cNvSpPr/>
          <p:nvPr/>
        </p:nvSpPr>
        <p:spPr>
          <a:xfrm>
            <a:off x="6948360" y="4005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8"/>
          <p:cNvSpPr/>
          <p:nvPr/>
        </p:nvSpPr>
        <p:spPr>
          <a:xfrm>
            <a:off x="5292720" y="450864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507672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e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0"/>
          <p:cNvSpPr/>
          <p:nvPr/>
        </p:nvSpPr>
        <p:spPr>
          <a:xfrm>
            <a:off x="4932360" y="47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1"/>
          <p:cNvSpPr/>
          <p:nvPr/>
        </p:nvSpPr>
        <p:spPr>
          <a:xfrm>
            <a:off x="4788000" y="479736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eke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rek in elke volgende stap de getallen van elkaar af en kijk wat je kunt uitreken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 geven de berekende getallen hier in </a:t>
            </a:r>
            <a:r>
              <a:rPr b="0" lang="nl-NL" sz="3200" spc="-1" strike="noStrike">
                <a:solidFill>
                  <a:srgbClr val="00ffff"/>
                </a:solidFill>
                <a:latin typeface="Calibri"/>
              </a:rPr>
              <a:t>lichtblauw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t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Organization Chart 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22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11280" y="357336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eder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124000" y="3141720"/>
            <a:ext cx="576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124000" y="371628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610360" y="30160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rog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9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2700360" y="4076640"/>
            <a:ext cx="86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1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 flipV="1">
            <a:off x="3780000" y="263700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3780000" y="3213000"/>
            <a:ext cx="360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211640" y="2492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nische Stof </a:t>
            </a: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82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3419640" y="4508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organische 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7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4"/>
          <p:cNvSpPr/>
          <p:nvPr/>
        </p:nvSpPr>
        <p:spPr>
          <a:xfrm flipV="1">
            <a:off x="4932360" y="1989000"/>
            <a:ext cx="576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5651640" y="1844640"/>
            <a:ext cx="24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houdende Stof = Ruw Eiwit  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2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>
            <a:off x="5003640" y="285264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6064200" y="265572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5508720" y="2781360"/>
            <a:ext cx="934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vrij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59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9"/>
          <p:cNvSpPr/>
          <p:nvPr/>
        </p:nvSpPr>
        <p:spPr>
          <a:xfrm flipV="1">
            <a:off x="6372360" y="263700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7359480" y="2297160"/>
            <a:ext cx="7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1"/>
          <p:cNvSpPr/>
          <p:nvPr/>
        </p:nvSpPr>
        <p:spPr>
          <a:xfrm>
            <a:off x="6948360" y="2421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 Vet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2"/>
          <p:cNvSpPr/>
          <p:nvPr/>
        </p:nvSpPr>
        <p:spPr>
          <a:xfrm>
            <a:off x="6300720" y="3645000"/>
            <a:ext cx="165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51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6084720" y="3357720"/>
            <a:ext cx="28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7596360" y="3068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Cel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5"/>
          <p:cNvSpPr/>
          <p:nvPr/>
        </p:nvSpPr>
        <p:spPr>
          <a:xfrm flipV="1">
            <a:off x="7164360" y="328464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7236000" y="4149720"/>
            <a:ext cx="1657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ige 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ffff"/>
                </a:solidFill>
                <a:latin typeface="Arial"/>
              </a:rPr>
              <a:t>48,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7"/>
          <p:cNvSpPr/>
          <p:nvPr/>
        </p:nvSpPr>
        <p:spPr>
          <a:xfrm>
            <a:off x="6948360" y="4005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5219640" y="450864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507672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e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4932360" y="47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4788000" y="479736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verzic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Object 5"/>
          <p:cNvGraphicFramePr/>
          <p:nvPr/>
        </p:nvGraphicFramePr>
        <p:xfrm>
          <a:off x="566640" y="1766880"/>
          <a:ext cx="801072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1766880"/>
                    <a:ext cx="80107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3" name="arrow.wav"/>
      </p:stSnd>
    </p:sndAc>
  </p:transition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 presetClass="entr" presetID="0">
                                          <p:stCondLst>
                                            <p:cond evt="begin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cmd type="call" cmd="">
                                      <p:cBhvr>
                                        <p:cTn id="157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onclus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 ziet, dat je nu veel meer gehalten in het voer w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Overige Koolhydraten worden niet genoemd. Die bestaan uit vooral zetmeel en suikers. Dat zijn snel omzetbare energiebronnen. Bijna de helft van de gehal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22:09:37Z</dcterms:created>
  <dc:creator>N. Verburg</dc:creator>
  <dc:description/>
  <dc:language>en-US</dc:language>
  <cp:lastModifiedBy>Nikki Pots</cp:lastModifiedBy>
  <dcterms:modified xsi:type="dcterms:W3CDTF">2016-08-30T12:06:18Z</dcterms:modified>
  <cp:revision>12</cp:revision>
  <dc:subject/>
  <dc:title>Analyse van Weende</dc:title>
</cp:coreProperties>
</file>