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33.png" ContentType="image/png"/>
  <Override PartName="/ppt/media/image39.png" ContentType="image/png"/>
  <Override PartName="/ppt/media/image38.png" ContentType="image/png"/>
  <Override PartName="/ppt/media/image8.jpeg" ContentType="image/jpeg"/>
  <Override PartName="/ppt/media/image35.png" ContentType="image/png"/>
  <Override PartName="/ppt/media/image5.png" ContentType="image/png"/>
  <Override PartName="/ppt/media/image28.png" ContentType="image/png"/>
  <Override PartName="/ppt/media/image4.png" ContentType="image/png"/>
  <Override PartName="/ppt/media/image27.png" ContentType="image/pn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9D72-7EFB-408F-A576-7FA69A57DB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2581-2B96-4322-B1BD-25A922B3CD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B004-5955-44A8-BB5C-3E155C0D20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2D7A-E0A1-4BEF-90AD-19FD7D9F4D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oe hoger in de hiërarchie hoe beter het bewijs. Deze hierarchie wordt verklaard doordat de typen onderzoek die lager in de hierarchie staan gevoeliger zijn voor subjectiviteit of beïnvlo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 systematische review of meta-analyse van (kwalitatief goede) RCT’s. </a:t>
            </a:r>
            <a:r>
              <a:rPr b="0" i="1" lang="nl-NL" sz="1000" spc="-1" strike="noStrike">
                <a:solidFill>
                  <a:srgbClr val="000000"/>
                </a:solidFill>
                <a:latin typeface="Arial"/>
              </a:rPr>
              <a:t>Dit zijn overzichtsartikelen van gegevens uit verschillende onderzoeken. Een systematic review gaat uit van een explicite vraagstelling, een zorgvuldige zoekstrategie, een beoordeling van de kwaliteit van de geincludeerde onderzoeken en een transparante presentatie van de resultaten. Het proces van een review is </a:t>
            </a:r>
            <a:r>
              <a:rPr b="0" i="1" lang="nl-NL" sz="1000" spc="-1" strike="noStrike" u="sng">
                <a:solidFill>
                  <a:srgbClr val="000000"/>
                </a:solidFill>
                <a:uFillTx/>
                <a:latin typeface="Arial"/>
              </a:rPr>
              <a:t>transparant, valide en reproduceerbaar</a:t>
            </a:r>
            <a:r>
              <a:rPr b="0" i="1" lang="nl-NL" sz="1000" spc="-1" strike="noStrike">
                <a:solidFill>
                  <a:srgbClr val="000000"/>
                </a:solidFill>
                <a:latin typeface="Arial"/>
              </a:rPr>
              <a:t>. Conclusie is op basis van grote hoeveelheid gegevens en proefpers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2.gerandomiseerde gecontroleerde trials .(randomized controlled trials of RCT’s): </a:t>
            </a:r>
            <a:r>
              <a:rPr b="0" i="1" lang="nl-NL" sz="1000" spc="-1" strike="noStrike">
                <a:solidFill>
                  <a:srgbClr val="000000"/>
                </a:solidFill>
                <a:latin typeface="Arial"/>
              </a:rPr>
              <a:t>gouden standaard in termen van zorgvuldig onderzoek. De deelnemers aan het onderzoek worden willekeurig toegewezen aan onderzoeksgroep of controlegroep. Er wordt zorg voor gedragen dat je 2 vergelijkbare groepen krijgt. De beoordeling van de uitkomsten gebeurt ook zoveel mogelijk neutraal.</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hort studies: retrospectief en prospectief</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ase series/reports: Is een onderzoek dat gericht is op een enkel individu of groep. Vele kenmerken worden tegelijkertijd bestudeerd. Is een “zachtere” methode. Worden vaak gebruikt om tot een hypothese te k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5. Expert opinion: mening van deskundigen of  algemeen aanvaard  hande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E8D0-EC59-4052-B494-2EE4765F5A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7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7C79-DC1F-41F2-8444-58B1A4E463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elbl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a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artikel ingediend en wanneer gepubliceer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menvatting/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het relevant om verder te le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s de vraagstelling relevant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doelgroep voor jou? Verwacht je in het werk een patient </a:t>
            </a:r>
            <a:r>
              <a:rPr b="0" lang="nl-NL" sz="1200" spc="-1" strike="noStrike">
                <a:solidFill>
                  <a:srgbClr val="000000"/>
                </a:solidFill>
                <a:latin typeface="Arial"/>
              </a:rPr>
              <a:t>	</a:t>
            </a:r>
            <a:r>
              <a:rPr b="0" lang="nl-NL" sz="1200" spc="-1" strike="noStrike">
                <a:solidFill>
                  <a:srgbClr val="000000"/>
                </a:solidFill>
                <a:latin typeface="Arial"/>
              </a:rPr>
              <a:t>tegen te komen, die voldoet aan de relevante </a:t>
            </a:r>
            <a:r>
              <a:rPr b="0" lang="nl-NL" sz="1200" spc="-1" strike="noStrike">
                <a:solidFill>
                  <a:srgbClr val="000000"/>
                </a:solidFill>
                <a:latin typeface="Arial"/>
              </a:rPr>
              <a:t>	</a:t>
            </a:r>
            <a:r>
              <a:rPr b="0" lang="nl-NL" sz="1200" spc="-1" strike="noStrike">
                <a:solidFill>
                  <a:srgbClr val="000000"/>
                </a:solidFill>
                <a:latin typeface="Arial"/>
              </a:rPr>
              <a:t>persoonskarakteristi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resultaten en conclusie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Abstract is niet een soort ‘executive summary’, dus gebruik deze nooit als ‘wetenschappelijke basis’ voor argumenten, besluiten en meningen. De Abstract is enkel bedoeld voor de beslissing: </a:t>
            </a:r>
            <a:r>
              <a:rPr b="1" lang="en-US" sz="1200" spc="-1" strike="noStrike">
                <a:solidFill>
                  <a:srgbClr val="000000"/>
                </a:solidFill>
                <a:latin typeface="Arial"/>
              </a:rPr>
              <a:t>wel of niet verder lezen</a:t>
            </a:r>
            <a:r>
              <a:rPr b="0" lang="en-US" sz="1200" spc="-1" strike="noStrike">
                <a:solidFill>
                  <a:srgbClr val="000000"/>
                </a:solidFill>
                <a:latin typeface="Arial"/>
              </a:rPr>
              <a:t>. Gebruik het dus ook alleen met die insteek! Zonder de rest van het artikel is een Abstact wetenschappelijk niets waard!</a:t>
            </a:r>
            <a:br>
              <a:rPr sz="1200"/>
            </a:br>
            <a:br>
              <a:rPr sz="1200"/>
            </a:b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aar gaat het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 onderzoeksprobleem wordt behande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Op welke vraag moet het onderzoek antwoord gev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e winst levert het onderzoek aan kennis 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gemene achtergrond/ probleem- en doelstelling/waarom en wat wil je bewijzen? Hoe wordt dat in onderzoek termen vertaa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ruikbaarheid van het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Follow 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Zijn de onderzoeksgroepen lang genoeg gevolg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Relevante aanlei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Maatschappelijk of wetenschappelijk releva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weten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beschirjv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verklar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een theorie aan een kritische beschouwing onderwerp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Fundamenteel onderzo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maat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oplossingen aandraagt voor (groepen) mensen in de maatschappij</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Praktijkgericht onderzoek</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1" lang="nl-NL" sz="900" spc="-1" strike="noStrike">
                <a:solidFill>
                  <a:srgbClr val="000000"/>
                </a:solidFill>
                <a:latin typeface="Arial"/>
              </a:rPr>
              <a:t>Literatuurverwijzi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In de beschrijving van de relevantie/aanleiding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verwijzingen naar eerder wetenschappelijk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Probleem/vraagstelling te destill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Dit kan ook een hypothese zij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r zijn geen regels te geven voor welke items positief gescoord moeten worden of welk aantal items ten minste positief gescoord moeten worden. Dit is deels afhankelijk van de hoeveelheid beschikbaar onderzoek op dit gebied. Indien je op basis van bovenstaande vragen twijfelt aan de kwaliteit van het artikel betekent dit dat je extra kritisch moet zijn bij het beoordelen van de volgende onderdelen van het artik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thode hangt af van soort onderzoeksprobleem. Hoe wordt het onderzoeksprobleem onderzocht en bij wie of wa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derzoeksopzet en populatie (inclusie en exclus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etinstrumenten: dit kan ook gewoon het EPD zijn met labwaa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nalysemethoden: welke testen zijn gebruik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produceerbaarhe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de onderzoeksgroepen? (zou een andere </a:t>
            </a:r>
            <a:r>
              <a:rPr b="0" lang="nl-NL" sz="1000" spc="-1" strike="noStrike">
                <a:solidFill>
                  <a:srgbClr val="000000"/>
                </a:solidFill>
                <a:latin typeface="Arial"/>
              </a:rPr>
              <a:t>	</a:t>
            </a:r>
            <a:r>
              <a:rPr b="0" lang="nl-NL" sz="1000" spc="-1" strike="noStrike">
                <a:solidFill>
                  <a:srgbClr val="000000"/>
                </a:solidFill>
                <a:latin typeface="Arial"/>
              </a:rPr>
              <a:t>onderzoeker eenzelfde groep kunnen select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I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O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tijdsaspec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Looptijd, moment van meting, duur en frequenti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behandeling/t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Voldoende informatie over het instrument waarmee O is geme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Of verwijzing naar een artikel waarin dit is beschrev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Voldoende informatie over de gebruikte materia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Zodat een andere onderzoeker kan reproduc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Staat er een alpha waarde en/of betrouwbaarheidsinterval verm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eveel kans acht de onderzoeker dat het gevonden resultaat op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toeval berust? Er hoort iets te staan over een p-waarde. Dez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ort p,0.05 of liever nog lager (dan is de geschatte kans dat he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gevonden resultaat op toeval berust 5% of liever l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ngheid/juistheid van het resultaat voor de onderzochte perso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ellen. Grafieken/afbeelding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k tekst met uitleg en aanvullende info””droge resultate””  allerlei getall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gheid/juistheid van het resultaat voor </a:t>
            </a:r>
            <a:r>
              <a:rPr b="0" i="1" lang="en-US" sz="1000" spc="-1" strike="noStrike">
                <a:solidFill>
                  <a:srgbClr val="000000"/>
                </a:solidFill>
                <a:latin typeface="Arial"/>
              </a:rPr>
              <a:t>de onderzochte persone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sultaten een volledige weergave van de outcome? (O) Resultaten neutraal weergeg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 groepen aan het begin vergelijkba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r resultaten van de statische analyse opgeschreven (begrip significantie) en wordt hier iets over geschr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a tgv uitval uit te slui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scussie: kritische noot over eigen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ritische beschouwing van factoren van invloed op de betrouwbaarheid. Wat ging goed/niet goed? Vaak eerst iets moois/dan iets kritisch/dan weer iets moo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beveling is vaak dat er nog meer onderzoek gedaan moet worden naar of o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74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605C-76FF-49F3-8F5E-C039045458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woorden belangrijkste resultaten met een waardeoorde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vaker artikelen uit een bepaald wetenschappelijk tijdschrift in andere tijdschriften worden geciteerd, des te hoger de impactfactor. Voor wetenschappers is de impactfactor dus van groot belang. Naarmate hun publicaties in tijdschriften met een hogere impactfactor worden geciteerd, kunnen hun carrierekansen stij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el reviewtijdschriften hebben forse impactfactoren; vertekening van impactfactor. Ook is er een grote variatie tussen verschillende vakgebied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DA21-8406-4066-968A-6DB376E661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7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BDF5-1CF0-40E4-B367-1E20CEB7DD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BEEA-B0D8-499C-A8C9-522AFC6C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85B6-3F11-4F4B-B69E-3D370F47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6F2648-B15F-4EA9-B2F5-B234BECCE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E3B020-AC2C-409F-8A38-48A9550BC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DEBB6A-A7E3-42E7-ADF5-6EC973E37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F7FF9D-EC18-4645-A4D3-9C2C05B812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2A3B6-141E-436C-B4AC-6CFF5A0BDD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29158A-4BBF-41AE-BE70-C5E0596B8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4D095A-6595-484C-9C82-3DF80532D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551671-BD50-45B5-8FB1-D697C9AF05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D9A111-513F-47A2-A59A-1FAE5CEB21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70F106-A839-49E8-9EB7-ED120E724A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CC961-6D22-4A30-AE21-1ED4DAE8C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BE3240-D61B-4E42-BF9D-F73FCBA8A5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186983-A622-4B48-918D-E9757B82F7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02E9B7-94C6-4E89-A7DC-1208E4FADA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B10997-91C4-4F2E-8174-36D47BBDD6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A653D1-02D5-42B9-8B19-EC929208E1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D17885-C6D6-44A7-9AB8-8E35999E30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0EF85C-13CB-4071-B883-5E6AEEABFB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DA12B9-A3F7-43EE-B733-7EEA162147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963410-C06E-463D-BDC9-D9922EF036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FBAD65-F400-46A8-976F-1F4416F3D4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09771-AE2C-4CA5-BE8D-61AF6D11E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A14409-DDDC-40A6-ACCC-E7D97A07BC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539D5D-6B50-4B1D-93FD-9AA2E920F4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8DBF7B-DF2E-4940-8F53-ACE48E8AC0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DFA0E0-7A16-48E0-BDA1-53DA4DC5F7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E322A5-A146-4438-9135-668F04B21B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4E5182-4356-4122-89D1-243D9D39B1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6A2BE9-68D1-4614-98A5-E086398D71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EB7FE6-513D-4F8F-ABEC-2440E18D59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08B973-6784-40E0-984A-5BB97A657A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E05D2D-7987-4798-A8A4-3F76AB7435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C82B7-8796-4C22-B33E-880A14455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C85358-28C1-4F7D-99AC-881A89375E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7FDDDB-E6AD-434A-B02A-2A04A34892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301BA1-1CE7-4CD0-8CA4-66986BC59A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9D5E55-B0E8-4411-813A-FC8ED1661C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DFFB40-FD1B-4373-9ABD-5CC051927C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84DC89-B8CC-4EB8-ACB7-469C4ACB0D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04A285-A401-41B1-8E35-5613BA4C0D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359763-76E6-4048-B142-B72503A315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DAFB09-3351-4A14-A138-6254D0DB8C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2DBD32-F5F0-4247-9F00-C3EE1CEFE9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BB31B-5B24-4006-8AF4-CE50F088D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3BFAD4-0A20-42FB-AD1B-DABFF704A3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D518D4-8229-416F-8B75-FADA71423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7D23C7-9F16-4ABD-9EC5-07B4E35E47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772557-6614-4634-ACE8-EBE4A81F6E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971B99-6772-409A-B43D-BCE3FA8D74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96853-2C71-4AE0-A4E8-25C0DD43D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9F931-4D4B-4185-A2A1-404BD494F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A1F2E-DD9F-454B-B989-F4776F543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1DF4D-8B8D-49D9-BD6F-75C23026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AC6B4-1DC7-44C5-B595-01EA1E717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499E7-2C91-4B77-9BFC-DB2391241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AC8E0-2A28-49F0-9BDC-FDC371E55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9D9D0-A77E-4F60-9A07-0AF96A19B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529DD-9DF8-4B2B-8BB9-666B82D3A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D5C57-22D1-428A-99FC-5BBD3E2CA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A8FDD-6217-4043-8352-9F3130731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5FC84A-5D9D-409C-9688-C4CC8446B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C2C52-9B5D-4C2C-8CFA-BBCD4F8D7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7498D-09C7-487D-8B53-1AD94E031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C90FA-4F73-4B03-9F2B-9702831DD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761EA-A0D7-4CB7-B924-2601D5647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4846E-BA4E-4730-A8EF-EB74D61CE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FA05CC-24BE-45D7-A697-060358345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FDF20-D3EB-4908-B61C-264269C35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9E88E-B7A5-4E16-A422-89494FCEC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8539F-9341-4247-A4A4-29606C193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424C48-A239-4F57-B7D0-E9A9DDEED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9E5361-F5D6-4CAB-8EA4-DCF9B6C05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2FB634-3F90-4127-AED3-CBB96666D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A541AD-4028-4186-952F-1E409E187E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5039F-37B9-4FC7-832E-FAAE54911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80FD7-F037-465F-987B-5011E820E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490E8-C8F7-4926-A9AE-9B2717C15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1D20C-4A5A-4ACD-B71A-E26996F24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D07B5-5046-446F-BD87-095C19B53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3269E-C9E5-4256-8453-584AE1638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28529-B9AF-4A59-A8BE-4AE552F39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ADE96-E20F-4BC6-8B76-D2765A828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89514-8193-4027-B036-3282C94C9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A0F01-A663-4B27-B60B-949C23F106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81E685-A299-4BA0-91BF-BDFA9FB08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224B22-9F60-4D32-A544-AB974CBF0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5C8827-57A1-4209-B876-F5147F0E06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5D28D-A672-4A4F-8B72-EF089825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B84CAC-B315-4E40-A02F-CEB469BC4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AA5B6-FF95-4199-B281-D784B6C7AE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F10A97-E0B9-46BA-B8B8-C2E0D2946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D795A-F2CE-4A7C-BAD2-6C80BB04C8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8EEDB-DD9B-4D07-9AD0-23851B902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6751B-3443-4910-B4E5-135201001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A8940-E1E4-4A6D-963B-39D04A924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13581-7826-4C16-9A27-16397408B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834F9-BC12-4739-B41F-8DAC9FA4C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166646-8EE5-46E3-9933-50A9B691F2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BDC9D-97E1-4813-94C1-F96C5E8A5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C87FD7-5DFC-4E1E-9E2C-9761B508A9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848695-F01C-4B64-82AF-D24E21711C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E3E72E-3101-4C92-9FB3-3C5C1F7F4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40F96-8A3C-4A4E-8705-D47FF00974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EBA67-A0FA-49DE-9F34-E3EA1F6DF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3F9CBE-AC80-483D-8B40-A8AC2ED2F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90984-2B1E-4420-A40B-7BBB7F24EF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1BC1F-D8ED-42E0-9F71-4E85318CE6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461E4-3965-48E2-A7F0-49497464D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EF8F8-464E-4D8D-A253-1B1445C9C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E657-C38B-4A59-B876-70E4B9A03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59FC7-5FED-4B31-9C3F-FD094D7EEA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AFBD27-2847-4847-BCF7-A8D34C7C31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BD38E8-5115-4412-9284-22BBF8394A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C3C9C5-167B-443E-A845-BD61E4FA08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701D3-DB1E-4DCB-92CF-AC3F95672D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39841-EB8E-43EF-B12A-138900FA3A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ABF17-C5A2-4B23-BD25-C41FE5E653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27AEB6-D2F1-4021-BAFD-E711D89A3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F2D759-7B52-4F9B-AEDC-5AEF82A522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22A79-1F97-4859-81C1-2B6396D04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C1425-E8D5-4308-A53D-A8BCDEA7B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72C54-6713-4CF1-AE4B-7A958965C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42CF71-0368-4610-BA7E-5454FCF00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9BC7E4-6C95-4B0B-8B2D-4F91D04EF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7C6AFA-FECF-477D-93CD-9D002BECDB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37D274-D121-4FB2-B9E0-681D073C3C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7F207F-9BD5-4DDA-AF6D-D3991F1A1F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E71BD-F28A-4F57-86A3-8FDF29150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617721-7E00-4DB2-AC77-4F5693DB42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9F7B4C-DBC0-4557-8050-03565643BD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A314F-682B-456D-9FA8-D614E7A57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0094-25C8-438F-8EC0-471940C92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D348D-5303-4786-803E-078A00309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71F6A-101F-4229-B6F4-5CE2A30DDE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E4CE1-BD10-42AC-8C0E-82B6D36F93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F37FF-7C45-47EC-BC4C-F872BA861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3FBA8-AC53-4DE9-94EA-27A72212D7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5778A3-F3B8-4B1E-8A6C-2D735BD769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AFE5EB-4468-49B2-85D8-A6D9EE3BA1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C399A3-F5CE-4F3E-8398-AF3FD040A9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D92DF2-CC48-4CF3-8F48-69F2430106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607D73-B4A8-426B-BB5E-4B4EB1F08B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B4DA-0734-4791-8859-367329747684}" type="datetime">
              <a:rPr b="0" lang="nl-NL" sz="1200" spc="-1" strike="noStrike">
                <a:solidFill>
                  <a:srgbClr val="f77f00"/>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47F8-7E9D-4FBD-A99A-25B451A1D083}"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AD5D-110E-4AEF-AAB7-32C8D00B7870}"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A2F4-0C95-43C5-B513-1AD47CC5BB5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C771-7938-4F6F-9B23-5A73255327F8}"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80DC-86FF-4EE1-9503-6741C476792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CCD9-DE8D-435C-93EB-6F27EE2CA81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DD30-35B6-4C5C-A6D0-99512FC5DB8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ADCA-7DB2-4C80-B2D7-9F42A2408CDC}"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1537-D5C1-40E1-894E-FA6725DF54F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F7F4-12D1-46C5-8670-59DB7E61C2D3}"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31A5-1FB0-4549-90AC-DDE8CC58524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2C04-A97C-4DF5-B8E6-29DDFEA9E9AC}"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BBFA-C71C-4B55-8630-1042A62AB3D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4399-7F32-48A5-8B97-751C2B241291}"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510A-AEB2-4DC7-B4D9-E31FBEA0B78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A0E3-22BC-41D1-A86B-38DDA0D9E52E}"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B368-3271-4722-91C9-D0E457CD474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49CA-E064-4114-BCD1-07F6087F5730}"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77D8-BBAB-43F0-A9D3-DDE1309E78B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C5D3-7542-4B0C-90DC-80D4733892DF}"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8B3A-524F-4243-9DD9-A5243E4185D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6DEA-45D4-4563-9B85-7AC339D2FD1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0EA5-8AB1-4559-A75B-0320A34EE59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59"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6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B6BE-0FD9-4B26-B41B-CAD1B99EB05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1"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B20F253A-AD3F-482F-9D13-B3DB9010DDF3}"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64"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65" name="Tijdelijke aanduiding voor inhoud 15" descr=""/>
          <p:cNvPicPr/>
          <p:nvPr/>
        </p:nvPicPr>
        <p:blipFill>
          <a:blip r:embed="rId1"/>
          <a:stretch/>
        </p:blipFill>
        <p:spPr>
          <a:xfrm>
            <a:off x="6480" y="1590840"/>
            <a:ext cx="8229600" cy="4535280"/>
          </a:xfrm>
          <a:prstGeom prst="rect">
            <a:avLst/>
          </a:prstGeom>
          <a:ln w="0">
            <a:noFill/>
          </a:ln>
        </p:spPr>
      </p:pic>
      <p:sp>
        <p:nvSpPr>
          <p:cNvPr id="566"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67"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68"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56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a typeface="ＭＳ Ｐゴシック"/>
            </a:endParaRPr>
          </a:p>
        </p:txBody>
      </p:sp>
      <p:pic>
        <p:nvPicPr>
          <p:cNvPr id="571" name="Picture 7" descr="protocollen"/>
          <p:cNvPicPr/>
          <p:nvPr/>
        </p:nvPicPr>
        <p:blipFill>
          <a:blip r:embed="rId1"/>
          <a:stretch/>
        </p:blipFill>
        <p:spPr>
          <a:xfrm>
            <a:off x="5867280" y="2205000"/>
            <a:ext cx="2513160" cy="2581200"/>
          </a:xfrm>
          <a:prstGeom prst="rect">
            <a:avLst/>
          </a:prstGeom>
          <a:ln w="0">
            <a:noFill/>
          </a:ln>
        </p:spPr>
      </p:pic>
      <p:pic>
        <p:nvPicPr>
          <p:cNvPr id="572"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7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65A6-DC95-4D94-BD3C-6E220DEA51F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6064200" y="2421000"/>
            <a:ext cx="2595600" cy="1439640"/>
          </a:xfrm>
          <a:prstGeom prst="rect">
            <a:avLst/>
          </a:prstGeom>
          <a:ln w="0">
            <a:noFill/>
          </a:ln>
        </p:spPr>
      </p:pic>
      <p:sp>
        <p:nvSpPr>
          <p:cNvPr id="577"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6" descr=""/>
          <p:cNvPicPr/>
          <p:nvPr/>
        </p:nvPicPr>
        <p:blipFill>
          <a:blip r:embed="rId2"/>
          <a:stretch/>
        </p:blipFill>
        <p:spPr>
          <a:xfrm>
            <a:off x="3714840" y="3284640"/>
            <a:ext cx="1714320" cy="1714320"/>
          </a:xfrm>
          <a:prstGeom prst="rect">
            <a:avLst/>
          </a:prstGeom>
          <a:ln w="0">
            <a:noFill/>
          </a:ln>
        </p:spPr>
      </p:pic>
      <p:sp>
        <p:nvSpPr>
          <p:cNvPr id="579"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0" descr=""/>
          <p:cNvPicPr/>
          <p:nvPr/>
        </p:nvPicPr>
        <p:blipFill>
          <a:blip r:embed="rId3"/>
          <a:stretch/>
        </p:blipFill>
        <p:spPr>
          <a:xfrm>
            <a:off x="390600" y="4581360"/>
            <a:ext cx="2178000" cy="1274760"/>
          </a:xfrm>
          <a:prstGeom prst="rect">
            <a:avLst/>
          </a:prstGeom>
          <a:ln w="0">
            <a:noFill/>
          </a:ln>
        </p:spPr>
      </p:pic>
      <p:pic>
        <p:nvPicPr>
          <p:cNvPr id="581" name="Picture 11" descr=""/>
          <p:cNvPicPr/>
          <p:nvPr/>
        </p:nvPicPr>
        <p:blipFill>
          <a:blip r:embed="rId4"/>
          <a:stretch/>
        </p:blipFill>
        <p:spPr>
          <a:xfrm>
            <a:off x="6073920" y="4005360"/>
            <a:ext cx="2628720" cy="1334880"/>
          </a:xfrm>
          <a:prstGeom prst="rect">
            <a:avLst/>
          </a:prstGeom>
          <a:ln w="0">
            <a:noFill/>
          </a:ln>
        </p:spPr>
      </p:pic>
      <p:pic>
        <p:nvPicPr>
          <p:cNvPr id="582"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Werkgerelateerde informatie zoeken</a:t>
            </a:r>
            <a:endParaRPr b="1" lang="en-US" sz="3600" spc="-1" strike="noStrike">
              <a:solidFill>
                <a:srgbClr val="1a2b76"/>
              </a:solidFill>
              <a:latin typeface="Calibri"/>
            </a:endParaRPr>
          </a:p>
        </p:txBody>
      </p:sp>
      <p:sp>
        <p:nvSpPr>
          <p:cNvPr id="584" name=""/>
          <p:cNvSpPr txBox="1"/>
          <p:nvPr/>
        </p:nvSpPr>
        <p:spPr>
          <a:xfrm>
            <a:off x="628560" y="1825200"/>
            <a:ext cx="7886880" cy="43513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Groepjes van 4</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antwoord de volgende vragen:</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welke bronnen zoek je?</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il je deze bronnen in volgorde zetten van waarde (betrouwbaarheid)</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zijn je criteria?</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15min -&gt; terugkoppeling per groepje</a:t>
            </a:r>
            <a:endParaRPr b="0" lang="en-US" sz="2800" spc="-1" strike="noStrike">
              <a:solidFill>
                <a:srgbClr val="1a2b76"/>
              </a:solidFill>
              <a:latin typeface="Calibri"/>
            </a:endParaRPr>
          </a:p>
        </p:txBody>
      </p:sp>
      <p:sp>
        <p:nvSpPr>
          <p:cNvPr id="58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1816-CB68-4D51-90FC-008CF27F453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5867280" y="1616040"/>
            <a:ext cx="2827440" cy="15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FF2F-8890-4A03-833F-C7AE0514DDA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0"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92"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7266-9CC0-4CF7-9A99-0855C8E2578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94"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9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9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048E-4C52-451E-982B-4DA0308EEC7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8"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60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9600-C3B4-4047-96EC-F65D9941C0F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02" name="Picture 5" descr=""/>
          <p:cNvPicPr/>
          <p:nvPr/>
        </p:nvPicPr>
        <p:blipFill>
          <a:blip r:embed="rId1"/>
          <a:stretch/>
        </p:blipFill>
        <p:spPr>
          <a:xfrm>
            <a:off x="4427640" y="2133720"/>
            <a:ext cx="3543120" cy="1143000"/>
          </a:xfrm>
          <a:prstGeom prst="rect">
            <a:avLst/>
          </a:prstGeom>
          <a:ln w="0">
            <a:noFill/>
          </a:ln>
        </p:spPr>
      </p:pic>
      <p:pic>
        <p:nvPicPr>
          <p:cNvPr id="603"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ea typeface="ＭＳ Ｐゴシック"/>
              </a:rPr>
              <a:t>Opdracht</a:t>
            </a:r>
            <a:r>
              <a:rPr b="1" lang="nl-NL" sz="4400" spc="-1" strike="noStrike">
                <a:solidFill>
                  <a:srgbClr val="1a2b76"/>
                </a:solidFill>
                <a:latin typeface="Calibri"/>
                <a:ea typeface="ＭＳ Ｐゴシック"/>
              </a:rPr>
              <a:t> levels of evidence</a:t>
            </a:r>
            <a:endParaRPr b="1" lang="en-US" sz="4400" spc="-1" strike="noStrike">
              <a:solidFill>
                <a:srgbClr val="1a2b76"/>
              </a:solidFill>
              <a:latin typeface="Calibri"/>
            </a:endParaRPr>
          </a:p>
        </p:txBody>
      </p:sp>
      <p:sp>
        <p:nvSpPr>
          <p:cNvPr id="605" name=""/>
          <p:cNvSpPr txBox="1"/>
          <p:nvPr/>
        </p:nvSpPr>
        <p:spPr>
          <a:xfrm>
            <a:off x="468000" y="1690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6" name=""/>
          <p:cNvSpPr txBox="1"/>
          <p:nvPr/>
        </p:nvSpPr>
        <p:spPr>
          <a:xfrm>
            <a:off x="4628880" y="1825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mschrijvingen soorten wetenschappelijke studies doorlez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In 2 tallen juiste nummer bij omschrijving zet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nis opdoen over de soorten wetenschappelijk studies -&gt; wat zegt dat over de bewijskracht?</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Tijd: 20 minuten</a:t>
            </a:r>
            <a:endParaRPr b="0" lang="en-US" sz="2000" spc="-1" strike="noStrike">
              <a:solidFill>
                <a:srgbClr val="1a2b76"/>
              </a:solidFill>
              <a:latin typeface="Calibri"/>
            </a:endParaRPr>
          </a:p>
        </p:txBody>
      </p:sp>
      <p:sp>
        <p:nvSpPr>
          <p:cNvPr id="607" name="Rectangle 5"/>
          <p:cNvSpPr/>
          <p:nvPr/>
        </p:nvSpPr>
        <p:spPr>
          <a:xfrm>
            <a:off x="828720" y="602136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108000" y="1628640"/>
            <a:ext cx="4511520" cy="274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C9F1-BF5A-4497-AABF-9F7C9630B244}"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1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11"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612"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614"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615"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617"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618" name="Picture 5" descr="Schermafbeelding 2015-09-29 om 17"/>
          <p:cNvPicPr/>
          <p:nvPr/>
        </p:nvPicPr>
        <p:blipFill>
          <a:blip r:embed="rId1"/>
          <a:stretch/>
        </p:blipFill>
        <p:spPr>
          <a:xfrm>
            <a:off x="5398920" y="404640"/>
            <a:ext cx="3745080" cy="2183040"/>
          </a:xfrm>
          <a:prstGeom prst="rect">
            <a:avLst/>
          </a:prstGeom>
          <a:ln w="0">
            <a:noFill/>
          </a:ln>
        </p:spPr>
      </p:pic>
      <p:pic>
        <p:nvPicPr>
          <p:cNvPr id="619"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rige lesbijeenkomst</a:t>
            </a:r>
            <a:endParaRPr b="1" lang="en-US" sz="4400" spc="-1" strike="noStrike">
              <a:solidFill>
                <a:srgbClr val="1a2b76"/>
              </a:solidFill>
              <a:latin typeface="Calibri"/>
            </a:endParaRPr>
          </a:p>
        </p:txBody>
      </p:sp>
      <p:sp>
        <p:nvSpPr>
          <p:cNvPr id="62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is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arom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volger</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Richtlijnen en protoco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vels of Evidence</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9250-0596-4CE0-865C-82155411D24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5076720" y="2492280"/>
            <a:ext cx="2990880" cy="1819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62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B47A-1EFE-4457-8F21-8528A4DC136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7570800" y="1494000"/>
            <a:ext cx="1243080" cy="722160"/>
          </a:xfrm>
          <a:prstGeom prst="rect">
            <a:avLst/>
          </a:prstGeom>
          <a:ln w="0">
            <a:noFill/>
          </a:ln>
        </p:spPr>
      </p:pic>
      <p:sp>
        <p:nvSpPr>
          <p:cNvPr id="62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63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A0FB-A1A8-4AAF-B25A-D81E77B3E6C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6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6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68A3-207D-4380-B75A-6ABD1C7E725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3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4011-09A4-4184-BF9E-550BCB9F9F2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4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518"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19" name="Picture 5" descr="Schermafbeelding 2015-09-29 om 17"/>
          <p:cNvPicPr/>
          <p:nvPr/>
        </p:nvPicPr>
        <p:blipFill>
          <a:blip r:embed="rId1"/>
          <a:stretch/>
        </p:blipFill>
        <p:spPr>
          <a:xfrm>
            <a:off x="5398920" y="404640"/>
            <a:ext cx="3745080" cy="2183040"/>
          </a:xfrm>
          <a:prstGeom prst="rect">
            <a:avLst/>
          </a:prstGeom>
          <a:ln w="0">
            <a:noFill/>
          </a:ln>
        </p:spPr>
      </p:pic>
      <p:pic>
        <p:nvPicPr>
          <p:cNvPr id="520"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4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64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F30C-0111-4940-B9E3-92F12B46254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64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6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2518-36E2-48AF-8005-6EA9B70CB05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5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5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65B6-9416-4549-98B8-6D5C479AA18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5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B7D4-12A5-44A3-94D1-26743DBE971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6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66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30BB-BC65-493F-8D7A-40E35932604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6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6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7D9F-FE85-4E6D-AD21-E6F974925A0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2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D201-7128-45C4-B7BA-218BD090CD3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2" descr=""/>
          <p:cNvPicPr/>
          <p:nvPr/>
        </p:nvPicPr>
        <p:blipFill>
          <a:blip r:embed="rId1"/>
          <a:stretch/>
        </p:blipFill>
        <p:spPr>
          <a:xfrm>
            <a:off x="2556000" y="2637000"/>
            <a:ext cx="3456000" cy="3456000"/>
          </a:xfrm>
          <a:prstGeom prst="rect">
            <a:avLst/>
          </a:prstGeom>
          <a:ln w="0">
            <a:noFill/>
          </a:ln>
        </p:spPr>
      </p:pic>
      <p:sp>
        <p:nvSpPr>
          <p:cNvPr id="525"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xEl>
                                              <p:pRg st="0" end="0"/>
                                            </p:txEl>
                                          </p:spTgt>
                                        </p:tgtEl>
                                        <p:attrNameLst>
                                          <p:attrName>style.visibility</p:attrName>
                                        </p:attrNameLst>
                                      </p:cBhvr>
                                      <p:to>
                                        <p:strVal val="visible"/>
                                      </p:to>
                                    </p:set>
                                    <p:anim calcmode="lin" valueType="num">
                                      <p:cBhvr additive="base">
                                        <p:cTn id="7"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1" end="1"/>
                                            </p:txEl>
                                          </p:spTgt>
                                        </p:tgtEl>
                                        <p:attrNameLst>
                                          <p:attrName>style.visibility</p:attrName>
                                        </p:attrNameLst>
                                      </p:cBhvr>
                                      <p:to>
                                        <p:strVal val="visible"/>
                                      </p:to>
                                    </p:set>
                                    <p:anim calcmode="lin" valueType="num">
                                      <p:cBhvr additive="base">
                                        <p:cTn id="13"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5">
                                            <p:txEl>
                                              <p:pRg st="2" end="2"/>
                                            </p:txEl>
                                          </p:spTgt>
                                        </p:tgtEl>
                                        <p:attrNameLst>
                                          <p:attrName>style.visibility</p:attrName>
                                        </p:attrNameLst>
                                      </p:cBhvr>
                                      <p:to>
                                        <p:strVal val="visible"/>
                                      </p:to>
                                    </p:set>
                                    <p:anim calcmode="lin" valueType="num">
                                      <p:cBhvr additive="base">
                                        <p:cTn id="19"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7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67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989D-E28C-4689-81C5-660EBB01683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183"/>
                </a:solidFill>
                <a:latin typeface="Calibri"/>
              </a:rPr>
              <a:t>Inleiding opdracht standaard structuur wetenschappelijk artikel</a:t>
            </a:r>
            <a:endParaRPr b="1" lang="en-US" sz="3200" spc="-1" strike="noStrike">
              <a:solidFill>
                <a:srgbClr val="1a2b76"/>
              </a:solidFill>
              <a:latin typeface="Calibri"/>
            </a:endParaRPr>
          </a:p>
        </p:txBody>
      </p:sp>
      <p:sp>
        <p:nvSpPr>
          <p:cNvPr id="67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uit de het NtvG (Nederlands Tijdschrift voor Geneeskunde) 2009</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otulinetoxine werkzaam tegen schrijfkramp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Botulinetoxine = neurotoxisch gif door bacterien geproduceerd. Het eiwit (gif) werkt op zenuwcellen i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chrijfkramp = stoornis in spanning van de spier bij schrijven</a:t>
            </a:r>
            <a:endParaRPr b="0" lang="en-US" sz="2400" spc="-1" strike="noStrike">
              <a:solidFill>
                <a:srgbClr val="1a2b76"/>
              </a:solidFill>
              <a:latin typeface="Calibri"/>
            </a:endParaRPr>
          </a:p>
        </p:txBody>
      </p:sp>
      <p:sp>
        <p:nvSpPr>
          <p:cNvPr id="67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FCAD-63AD-4171-A706-57D017474CD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rPr>
              <a:t>Opdracht</a:t>
            </a:r>
            <a:r>
              <a:rPr b="1" lang="nl-NL" sz="4400" spc="-1" strike="noStrike">
                <a:solidFill>
                  <a:srgbClr val="003183"/>
                </a:solidFill>
                <a:latin typeface="Calibri"/>
              </a:rPr>
              <a:t> standaard structuur wetenschappelijk artikel</a:t>
            </a:r>
            <a:endParaRPr b="1" lang="en-US" sz="4400" spc="-1" strike="noStrike">
              <a:solidFill>
                <a:srgbClr val="1a2b76"/>
              </a:solidFill>
              <a:latin typeface="Calibri"/>
            </a:endParaRPr>
          </a:p>
        </p:txBody>
      </p:sp>
      <p:sp>
        <p:nvSpPr>
          <p:cNvPr id="67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globaal doorlez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document “standaardstructuur wetenschappelijk artikel en soort informatie per onderdeel” kort invu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standaardstructuur en soort informatie per onderdeel (her)kenn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BF50-8F47-429D-873D-2286D1A3D11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F975-9092-4A1D-9CB1-672847A9D520}"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7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Standaardstructuur artikel</a:t>
            </a:r>
            <a:endParaRPr b="1" lang="en-US" sz="4400" spc="-1" strike="noStrike">
              <a:solidFill>
                <a:srgbClr val="1a2b76"/>
              </a:solidFill>
              <a:latin typeface="Calibri"/>
            </a:endParaRPr>
          </a:p>
        </p:txBody>
      </p:sp>
      <p:sp>
        <p:nvSpPr>
          <p:cNvPr id="681" name=""/>
          <p:cNvSpPr txBox="1"/>
          <p:nvPr/>
        </p:nvSpPr>
        <p:spPr>
          <a:xfrm>
            <a:off x="228240" y="1143000"/>
            <a:ext cx="8736120" cy="5454720"/>
          </a:xfrm>
          <a:prstGeom prst="rect">
            <a:avLst/>
          </a:prstGeom>
          <a:noFill/>
          <a:ln w="0">
            <a:noFill/>
          </a:ln>
        </p:spPr>
        <p:txBody>
          <a:bodyPr anchor="t">
            <a:normAutofit/>
          </a:bodyPr>
          <a:p>
            <a:pPr marL="495360" indent="-49536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a:p>
            <a:pPr marL="495360" indent="-495360">
              <a:lnSpc>
                <a:spcPct val="90000"/>
              </a:lnSpc>
              <a:spcBef>
                <a:spcPts val="1001"/>
              </a:spcBef>
              <a:buClr>
                <a:srgbClr val="003b80"/>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p:txBody>
      </p:sp>
      <p:sp>
        <p:nvSpPr>
          <p:cNvPr id="682" name="TextBox 5"/>
          <p:cNvSpPr/>
          <p:nvPr/>
        </p:nvSpPr>
        <p:spPr>
          <a:xfrm>
            <a:off x="277920" y="2139840"/>
            <a:ext cx="403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Lucida Sans"/>
                <a:ea typeface="ＭＳ Ｐゴシック"/>
              </a:rPr>
              <a:t> </a:t>
            </a:r>
            <a:r>
              <a:rPr b="0" lang="nl-NL" sz="2400" spc="-1" strike="noStrike">
                <a:solidFill>
                  <a:srgbClr val="003b80"/>
                </a:solidFill>
                <a:latin typeface="Calibri"/>
                <a:ea typeface="ＭＳ Ｐゴシック"/>
              </a:rPr>
              <a:t>Titel, auteurs</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Samenvatt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Inleid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Method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Resultaten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Discus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Conclu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Literatuurlijst </a:t>
            </a:r>
            <a:endParaRPr b="0" lang="en-US" sz="2400" spc="-1" strike="noStrike">
              <a:solidFill>
                <a:srgbClr val="000000"/>
              </a:solidFill>
              <a:latin typeface="Arial"/>
            </a:endParaRPr>
          </a:p>
        </p:txBody>
      </p:sp>
      <p:sp>
        <p:nvSpPr>
          <p:cNvPr id="683" name="TextBox 7"/>
          <p:cNvSpPr/>
          <p:nvPr/>
        </p:nvSpPr>
        <p:spPr>
          <a:xfrm>
            <a:off x="2798640" y="218268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a8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4a800"/>
                </a:solidFill>
                <a:latin typeface="Lucida Sans"/>
                <a:ea typeface="ＭＳ Ｐゴシック"/>
              </a:rPr>
              <a:t> </a:t>
            </a:r>
            <a:r>
              <a:rPr b="0" lang="nl-NL" sz="2400" spc="-1" strike="noStrike">
                <a:solidFill>
                  <a:srgbClr val="ed7d31"/>
                </a:solidFill>
                <a:latin typeface="Calibri"/>
                <a:ea typeface="ＭＳ Ｐゴシック"/>
              </a:rPr>
              <a:t>Title, author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Abstract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Introduct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Methods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sult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Discus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Conclu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ferences </a:t>
            </a:r>
            <a:endParaRPr b="0" lang="en-US" sz="2400" spc="-1" strike="noStrike">
              <a:solidFill>
                <a:srgbClr val="000000"/>
              </a:solidFill>
              <a:latin typeface="Arial"/>
            </a:endParaRPr>
          </a:p>
        </p:txBody>
      </p:sp>
      <p:sp>
        <p:nvSpPr>
          <p:cNvPr id="684" name="Slide Number Placeholder 6"/>
          <p:cNvSpPr/>
          <p:nvPr/>
        </p:nvSpPr>
        <p:spPr>
          <a:xfrm>
            <a:off x="8381880" y="6248520"/>
            <a:ext cx="609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51A3-8B6D-4A1A-B5BA-55E27618A721}" type="slidenum">
              <a:rPr b="0" lang="nl-NL" sz="1200" spc="-1" strike="noStrike">
                <a:solidFill>
                  <a:srgbClr val="898989"/>
                </a:solidFill>
                <a:latin typeface="Lucida Sans"/>
                <a:ea typeface="ＭＳ Ｐゴシック"/>
              </a:rPr>
              <a:t>&lt;number&gt;</a:t>
            </a:fld>
            <a:endParaRPr b="0" lang="en-US" sz="1200" spc="-1" strike="noStrike">
              <a:solidFill>
                <a:srgbClr val="000000"/>
              </a:solidFill>
              <a:latin typeface="Arial"/>
            </a:endParaRPr>
          </a:p>
        </p:txBody>
      </p:sp>
      <p:pic>
        <p:nvPicPr>
          <p:cNvPr id="685" name="Picture 4" descr="Schermafbeelding 2015-09-29 om 17"/>
          <p:cNvPicPr/>
          <p:nvPr/>
        </p:nvPicPr>
        <p:blipFill>
          <a:blip r:embed="rId1"/>
          <a:stretch/>
        </p:blipFill>
        <p:spPr>
          <a:xfrm>
            <a:off x="6837480" y="576360"/>
            <a:ext cx="2154240" cy="1255680"/>
          </a:xfrm>
          <a:prstGeom prst="rect">
            <a:avLst/>
          </a:prstGeom>
          <a:ln w="0">
            <a:noFill/>
          </a:ln>
        </p:spPr>
      </p:pic>
      <p:pic>
        <p:nvPicPr>
          <p:cNvPr id="686" name="Picture 7" descr="Wetenschappelijk artikel lezen 1"/>
          <p:cNvPicPr/>
          <p:nvPr/>
        </p:nvPicPr>
        <p:blipFill>
          <a:blip r:embed="rId2"/>
          <a:stretch/>
        </p:blipFill>
        <p:spPr>
          <a:xfrm>
            <a:off x="5114880" y="3213000"/>
            <a:ext cx="3753000" cy="318636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8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8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8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8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82">
                                            <p:txEl>
                                              <p:pRg st="7" end="7"/>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83">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3">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83">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8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3">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83">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1)</a:t>
            </a:r>
            <a:endParaRPr b="1" lang="en-US" sz="4400" spc="-1" strike="noStrike">
              <a:solidFill>
                <a:srgbClr val="1a2b76"/>
              </a:solidFill>
              <a:latin typeface="Calibri"/>
            </a:endParaRPr>
          </a:p>
        </p:txBody>
      </p:sp>
      <p:sp>
        <p:nvSpPr>
          <p:cNvPr id="6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Titel en auteur(s) (Title en author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1</a:t>
            </a:r>
            <a:r>
              <a:rPr b="0" lang="nl-NL" sz="2400" spc="-1" strike="noStrike" baseline="30000">
                <a:solidFill>
                  <a:srgbClr val="3f3a86"/>
                </a:solidFill>
                <a:latin typeface="Calibri"/>
              </a:rPr>
              <a:t>e</a:t>
            </a:r>
            <a:r>
              <a:rPr b="0" lang="nl-NL" sz="2400" spc="-1" strike="noStrike">
                <a:solidFill>
                  <a:srgbClr val="3f3a86"/>
                </a:solidFill>
                <a:latin typeface="Calibri"/>
              </a:rPr>
              <a:t> auteur</a:t>
            </a: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Publicatiejaartal</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Soort studie</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Tijdschrift</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Contactgegevens</a:t>
            </a:r>
            <a:endParaRPr b="0" lang="en-US" sz="24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1027-9B04-48A9-BE2F-AF7FEBDA9F7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6443640" y="1341360"/>
            <a:ext cx="2152800" cy="1255680"/>
          </a:xfrm>
          <a:prstGeom prst="rect">
            <a:avLst/>
          </a:prstGeom>
          <a:ln w="0">
            <a:noFill/>
          </a:ln>
        </p:spPr>
      </p:pic>
      <p:pic>
        <p:nvPicPr>
          <p:cNvPr id="691" name="Picture 3" descr=""/>
          <p:cNvPicPr/>
          <p:nvPr/>
        </p:nvPicPr>
        <p:blipFill>
          <a:blip r:embed="rId2"/>
          <a:stretch/>
        </p:blipFill>
        <p:spPr>
          <a:xfrm>
            <a:off x="6014880" y="3573360"/>
            <a:ext cx="1878120" cy="159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7EB4-E39A-42DC-9817-E94F38B6BD41}"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3"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2)</a:t>
            </a:r>
            <a:endParaRPr b="1" lang="en-US" sz="4400" spc="-1" strike="noStrike">
              <a:solidFill>
                <a:srgbClr val="1a2b76"/>
              </a:solidFill>
              <a:latin typeface="Calibri"/>
            </a:endParaRPr>
          </a:p>
        </p:txBody>
      </p:sp>
      <p:sp>
        <p:nvSpPr>
          <p:cNvPr id="695" name="PlaceHolder 2"/>
          <p:cNvSpPr>
            <a:spLocks noGrp="1"/>
          </p:cNvSpPr>
          <p:nvPr>
            <p:ph/>
          </p:nvPr>
        </p:nvSpPr>
        <p:spPr>
          <a:xfrm>
            <a:off x="531720" y="2080800"/>
            <a:ext cx="7886880" cy="47768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Samenvatting (abstract)</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erkorte weergave van de inhoud van het onderzoeksverslag </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s het relevant om verder te lezen?</a:t>
            </a:r>
            <a:endParaRPr b="0" lang="en-US" sz="2400" spc="-1" strike="noStrike">
              <a:solidFill>
                <a:srgbClr val="1a2b76"/>
              </a:solidFill>
              <a:latin typeface="Calibri"/>
            </a:endParaRPr>
          </a:p>
          <a:p>
            <a:pPr lvl="1" marL="71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696" name="Picture 4" descr="Schermafbeelding 2015-09-29 om 17"/>
          <p:cNvPicPr/>
          <p:nvPr/>
        </p:nvPicPr>
        <p:blipFill>
          <a:blip r:embed="rId1"/>
          <a:stretch/>
        </p:blipFill>
        <p:spPr>
          <a:xfrm>
            <a:off x="6669000" y="1327320"/>
            <a:ext cx="2154240" cy="1255680"/>
          </a:xfrm>
          <a:prstGeom prst="rect">
            <a:avLst/>
          </a:prstGeom>
          <a:ln w="0">
            <a:noFill/>
          </a:ln>
        </p:spPr>
      </p:pic>
      <p:pic>
        <p:nvPicPr>
          <p:cNvPr id="697" name="Picture 8" descr=""/>
          <p:cNvPicPr/>
          <p:nvPr/>
        </p:nvPicPr>
        <p:blipFill>
          <a:blip r:embed="rId2"/>
          <a:stretch/>
        </p:blipFill>
        <p:spPr>
          <a:xfrm>
            <a:off x="6807240" y="4365720"/>
            <a:ext cx="1878120" cy="159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580A-3511-497B-A284-782DD6FDC3E0}"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3)</a:t>
            </a:r>
            <a:endParaRPr b="1" lang="en-US" sz="4400" spc="-1" strike="noStrike">
              <a:solidFill>
                <a:srgbClr val="1a2b76"/>
              </a:solidFill>
              <a:latin typeface="Calibri"/>
            </a:endParaRPr>
          </a:p>
        </p:txBody>
      </p:sp>
      <p:sp>
        <p:nvSpPr>
          <p:cNvPr id="701" name="PlaceHolder 2"/>
          <p:cNvSpPr>
            <a:spLocks noGrp="1"/>
          </p:cNvSpPr>
          <p:nvPr>
            <p:ph/>
          </p:nvPr>
        </p:nvSpPr>
        <p:spPr>
          <a:xfrm>
            <a:off x="628560" y="1628640"/>
            <a:ext cx="7886880" cy="45482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Inleiding (introduct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nleiding in onderwerp</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geeft achtergrondinformatie over het onderwerp om te begrijpen waarom de onderzochte problematiek relevant is, waar het probleem uit voortkomt en hoe daaruit de vraagstelling is ontst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702" name="Picture 4" descr="Schermafbeelding 2015-09-29 om 17"/>
          <p:cNvPicPr/>
          <p:nvPr/>
        </p:nvPicPr>
        <p:blipFill>
          <a:blip r:embed="rId1"/>
          <a:stretch/>
        </p:blipFill>
        <p:spPr>
          <a:xfrm>
            <a:off x="6588000" y="1125360"/>
            <a:ext cx="2154240" cy="1256040"/>
          </a:xfrm>
          <a:prstGeom prst="rect">
            <a:avLst/>
          </a:prstGeom>
          <a:ln w="0">
            <a:noFill/>
          </a:ln>
        </p:spPr>
      </p:pic>
      <p:pic>
        <p:nvPicPr>
          <p:cNvPr id="703" name="Picture 7" descr=""/>
          <p:cNvPicPr/>
          <p:nvPr/>
        </p:nvPicPr>
        <p:blipFill>
          <a:blip r:embed="rId2"/>
          <a:stretch/>
        </p:blipFill>
        <p:spPr>
          <a:xfrm>
            <a:off x="6864480" y="4229280"/>
            <a:ext cx="1877760" cy="159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419E-24A3-47FE-A5E5-02EB4184D6E8}"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05"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07"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d7d31"/>
                </a:solidFill>
                <a:latin typeface="Calibri"/>
              </a:rPr>
              <a:t>Methode (methods)</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at</a:t>
            </a:r>
            <a:r>
              <a:rPr b="0" lang="nl-NL" sz="2400" spc="-1" strike="noStrike">
                <a:solidFill>
                  <a:srgbClr val="1a2b76"/>
                </a:solidFill>
                <a:latin typeface="Calibri"/>
              </a:rPr>
              <a:t> is er onderzocht is</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ie</a:t>
            </a:r>
            <a:r>
              <a:rPr b="0" lang="nl-NL" sz="2400" spc="-1" strike="noStrike">
                <a:solidFill>
                  <a:srgbClr val="1a2b76"/>
                </a:solidFill>
                <a:latin typeface="Calibri"/>
              </a:rPr>
              <a:t> is/zijn er onderzocht is/zij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op welke wijze</a:t>
            </a:r>
            <a:r>
              <a:rPr b="0" lang="nl-NL" sz="2400" spc="-1" strike="noStrike">
                <a:solidFill>
                  <a:srgbClr val="1a2b76"/>
                </a:solidFill>
                <a:latin typeface="Calibri"/>
              </a:rPr>
              <a:t> is dit is ged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08" name="Picture 4" descr="Schermafbeelding 2015-09-29 om 17"/>
          <p:cNvPicPr/>
          <p:nvPr/>
        </p:nvPicPr>
        <p:blipFill>
          <a:blip r:embed="rId1"/>
          <a:stretch/>
        </p:blipFill>
        <p:spPr>
          <a:xfrm>
            <a:off x="6875640" y="1268280"/>
            <a:ext cx="2155680" cy="1255680"/>
          </a:xfrm>
          <a:prstGeom prst="rect">
            <a:avLst/>
          </a:prstGeom>
          <a:ln w="0">
            <a:noFill/>
          </a:ln>
        </p:spPr>
      </p:pic>
      <p:pic>
        <p:nvPicPr>
          <p:cNvPr id="709" name="Picture 7" descr=""/>
          <p:cNvPicPr/>
          <p:nvPr/>
        </p:nvPicPr>
        <p:blipFill>
          <a:blip r:embed="rId2"/>
          <a:stretch/>
        </p:blipFill>
        <p:spPr>
          <a:xfrm>
            <a:off x="7201080" y="4941720"/>
            <a:ext cx="1609560" cy="13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6E57-DE27-4822-971C-03FDCF915E2E}"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1"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13"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Resultaten (Results)</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an data-analyse</a:t>
            </a:r>
            <a:endParaRPr b="0" lang="en-US" sz="2400" spc="-1" strike="noStrike">
              <a:solidFill>
                <a:srgbClr val="1a2b76"/>
              </a:solidFill>
              <a:latin typeface="Calibri"/>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a:p>
            <a:pPr lvl="2"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14" name="Picture 4" descr="Schermafbeelding 2015-09-29 om 17"/>
          <p:cNvPicPr/>
          <p:nvPr/>
        </p:nvPicPr>
        <p:blipFill>
          <a:blip r:embed="rId1"/>
          <a:stretch/>
        </p:blipFill>
        <p:spPr>
          <a:xfrm>
            <a:off x="6680160" y="2619360"/>
            <a:ext cx="2154240" cy="1255680"/>
          </a:xfrm>
          <a:prstGeom prst="rect">
            <a:avLst/>
          </a:prstGeom>
          <a:ln w="0">
            <a:noFill/>
          </a:ln>
        </p:spPr>
      </p:pic>
      <p:pic>
        <p:nvPicPr>
          <p:cNvPr id="715" name="Picture 7" descr=""/>
          <p:cNvPicPr/>
          <p:nvPr/>
        </p:nvPicPr>
        <p:blipFill>
          <a:blip r:embed="rId2"/>
          <a:stretch/>
        </p:blipFill>
        <p:spPr>
          <a:xfrm>
            <a:off x="7524720" y="5373720"/>
            <a:ext cx="1270080" cy="10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8429-A753-447C-8523-C84BD62C3902}"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60"/>
                </a:solidFill>
                <a:latin typeface="Calibri"/>
              </a:rPr>
              <a:t>Onderdelen</a:t>
            </a:r>
            <a:r>
              <a:rPr b="1" lang="nl-NL" sz="4400" spc="-1" strike="noStrike">
                <a:solidFill>
                  <a:srgbClr val="1a2b76"/>
                </a:solidFill>
                <a:latin typeface="Calibri"/>
              </a:rPr>
              <a:t> wetenschappelijk artikel (6)</a:t>
            </a:r>
            <a:endParaRPr b="1" lang="en-US" sz="4400" spc="-1" strike="noStrike">
              <a:solidFill>
                <a:srgbClr val="1a2b76"/>
              </a:solidFill>
              <a:latin typeface="Calibri"/>
            </a:endParaRPr>
          </a:p>
        </p:txBody>
      </p:sp>
      <p:sp>
        <p:nvSpPr>
          <p:cNvPr id="719"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Discussie (Discussion)*</a:t>
            </a:r>
            <a:endParaRPr b="0" lang="en-US" sz="32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Interpretatie van de gegevens</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onderzoeksmethode (grootte en representativiteit steekproef, validiteit en betrouwbaarheid meetinstrumenten)</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uitvoering van het onderzoek</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Per gevonden resultaat wordt een vergelijking met de literatuur gedaan: past het gevonden resultaat bij de verwachtingen vooraf en/of bij andere onderzoeken naar hetzelfde onderwerp?</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Bevestigen de resultaten de hypothesen of moeten deze verworpen worden?</a:t>
            </a:r>
            <a:endParaRPr b="0" lang="en-US" sz="20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Aanbevelingen</a:t>
            </a:r>
            <a:endParaRPr b="0" lang="en-US" sz="2400" spc="-1" strike="noStrike">
              <a:solidFill>
                <a:srgbClr val="1a2b76"/>
              </a:solidFill>
              <a:latin typeface="Calibri"/>
            </a:endParaRPr>
          </a:p>
          <a:p>
            <a:pPr marL="35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0" name="Picture 4" descr="Schermafbeelding 2015-09-29 om 17"/>
          <p:cNvPicPr/>
          <p:nvPr/>
        </p:nvPicPr>
        <p:blipFill>
          <a:blip r:embed="rId1"/>
          <a:stretch/>
        </p:blipFill>
        <p:spPr>
          <a:xfrm>
            <a:off x="6875640" y="1125360"/>
            <a:ext cx="2155680" cy="125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7"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CE90-2925-4DE7-AB70-B03D860E6B55}"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28"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9"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30"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31"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2"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33"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3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8"/>
                                        </p:tgtEl>
                                        <p:attrNameLst>
                                          <p:attrName>style.visibility</p:attrName>
                                        </p:attrNameLst>
                                      </p:cBhvr>
                                      <p:to>
                                        <p:strVal val="visible"/>
                                      </p:to>
                                    </p:set>
                                    <p:animEffect filter="blinds(horizontal)" transition="in">
                                      <p:cBhvr additive="repl">
                                        <p:cTn id="35" dur="500"/>
                                        <p:tgtEl>
                                          <p:spTgt spid="52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0"/>
                                        </p:tgtEl>
                                        <p:attrNameLst>
                                          <p:attrName>style.visibility</p:attrName>
                                        </p:attrNameLst>
                                      </p:cBhvr>
                                      <p:to>
                                        <p:strVal val="visible"/>
                                      </p:to>
                                    </p:set>
                                    <p:animEffect filter="blinds(horizontal)" transition="in">
                                      <p:cBhvr additive="repl">
                                        <p:cTn id="40" dur="500"/>
                                        <p:tgtEl>
                                          <p:spTgt spid="53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9"/>
                                        </p:tgtEl>
                                        <p:attrNameLst>
                                          <p:attrName>style.visibility</p:attrName>
                                        </p:attrNameLst>
                                      </p:cBhvr>
                                      <p:to>
                                        <p:strVal val="visible"/>
                                      </p:to>
                                    </p:set>
                                    <p:animEffect filter="blinds(horizontal)" transition="in">
                                      <p:cBhvr additive="repl">
                                        <p:cTn id="45" dur="500"/>
                                        <p:tgtEl>
                                          <p:spTgt spid="52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1"/>
                                        </p:tgtEl>
                                        <p:attrNameLst>
                                          <p:attrName>style.visibility</p:attrName>
                                        </p:attrNameLst>
                                      </p:cBhvr>
                                      <p:to>
                                        <p:strVal val="visible"/>
                                      </p:to>
                                    </p:set>
                                    <p:animEffect filter="blinds(horizontal)" transition="in">
                                      <p:cBhvr additive="repl">
                                        <p:cTn id="5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3609-8A87-4E18-8655-5F784EB8B472}"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22"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7)</a:t>
            </a:r>
            <a:endParaRPr b="1" lang="en-US" sz="4400" spc="-1" strike="noStrike">
              <a:solidFill>
                <a:srgbClr val="1a2b76"/>
              </a:solidFill>
              <a:latin typeface="Calibri"/>
            </a:endParaRPr>
          </a:p>
        </p:txBody>
      </p:sp>
      <p:sp>
        <p:nvSpPr>
          <p:cNvPr id="724"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Conclusie (Conclus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kort en krachtig antwoord op de onderzoeksvraag en evt. deelvrage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5" name="Picture 4" descr="Schermafbeelding 2015-09-29 om 17"/>
          <p:cNvPicPr/>
          <p:nvPr/>
        </p:nvPicPr>
        <p:blipFill>
          <a:blip r:embed="rId1"/>
          <a:stretch/>
        </p:blipFill>
        <p:spPr>
          <a:xfrm>
            <a:off x="6875640" y="5157720"/>
            <a:ext cx="2155680" cy="125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8)</a:t>
            </a:r>
            <a:endParaRPr b="1" lang="en-US" sz="4400" spc="-1" strike="noStrike">
              <a:solidFill>
                <a:srgbClr val="1a2b76"/>
              </a:solidFill>
              <a:latin typeface="Calibri"/>
            </a:endParaRPr>
          </a:p>
        </p:txBody>
      </p:sp>
      <p:sp>
        <p:nvSpPr>
          <p:cNvPr id="72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Literatuurlijst (reference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Bijv. volgens APA richtlijnen</a:t>
            </a: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Belangenverstrengeling</a:t>
            </a:r>
            <a:endParaRPr b="0" lang="en-US" sz="2800" spc="-1" strike="noStrike">
              <a:solidFill>
                <a:srgbClr val="1a2b76"/>
              </a:solidFill>
              <a:latin typeface="Calibri"/>
            </a:endParaRPr>
          </a:p>
        </p:txBody>
      </p:sp>
      <p:sp>
        <p:nvSpPr>
          <p:cNvPr id="7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8DD4-D5FE-4F2E-937D-63DF3CD0A46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3971-D7DF-4CD0-9540-578DB98A39BE}"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eel gehoorde termen wetenschappelijke literatuur</a:t>
            </a:r>
            <a:endParaRPr b="1" lang="en-US" sz="4400" spc="-1" strike="noStrike">
              <a:solidFill>
                <a:srgbClr val="1a2b76"/>
              </a:solidFill>
              <a:latin typeface="Calibri"/>
            </a:endParaRPr>
          </a:p>
        </p:txBody>
      </p:sp>
      <p:sp>
        <p:nvSpPr>
          <p:cNvPr id="73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Impactfactor</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maat om relatieve aanzien (het belang) van het wetenschappelijke tijdschrift aan te geven</a:t>
            </a:r>
            <a:endParaRPr b="0" lang="en-US" sz="20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Significantie (p-waarde/betrouwbaarheidsinterval)</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Een waargenomen effect of correlatie wordt significan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genoemd als het onaannemelijk lijkt dat het effec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of de correlatie op toeval berus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P&lt; 0.05 meest gebruikte significantieniveau</a:t>
            </a:r>
            <a:endParaRPr b="0" lang="en-US" sz="20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734"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35"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09D0-C011-4CB7-8A90-3681EAF9B44C}"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8"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739"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937C-06D2-4C19-862B-0DBA47F4FD64}"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35"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DF4C7D62-C9C0-4BB2-B6FA-E372C6931FD1}"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6"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7"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8"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9"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40"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41"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42"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43"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9E05-0B7C-4C82-BD34-F04E29F9981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7"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igen ervaringen met EBP</a:t>
            </a:r>
            <a:endParaRPr b="1" lang="en-US" sz="4400" spc="-1" strike="noStrike">
              <a:solidFill>
                <a:srgbClr val="1a2b76"/>
              </a:solidFill>
              <a:latin typeface="Calibri"/>
            </a:endParaRPr>
          </a:p>
        </p:txBody>
      </p:sp>
      <p:sp>
        <p:nvSpPr>
          <p:cNvPr id="5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uzzen in 2 ta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el: inventariseren praktijkervaringen met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5 mi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lenaire terugkoppeling</a:t>
            </a:r>
            <a:endParaRPr b="0" lang="en-US" sz="2800" spc="-1" strike="noStrike">
              <a:solidFill>
                <a:srgbClr val="1a2b76"/>
              </a:solidFill>
              <a:latin typeface="Calibri"/>
            </a:endParaRPr>
          </a:p>
        </p:txBody>
      </p:sp>
      <p:sp>
        <p:nvSpPr>
          <p:cNvPr id="550"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BB48-2DCF-4EBE-A95A-8A1E4DB9D20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1" name="Picture 2" descr=""/>
          <p:cNvPicPr/>
          <p:nvPr/>
        </p:nvPicPr>
        <p:blipFill>
          <a:blip r:embed="rId1"/>
          <a:stretch/>
        </p:blipFill>
        <p:spPr>
          <a:xfrm>
            <a:off x="5651640" y="2997360"/>
            <a:ext cx="2609640" cy="1752480"/>
          </a:xfrm>
          <a:prstGeom prst="rect">
            <a:avLst/>
          </a:prstGeom>
          <a:ln w="0">
            <a:noFill/>
          </a:ln>
        </p:spPr>
      </p:pic>
      <p:pic>
        <p:nvPicPr>
          <p:cNvPr id="552" name="Picture 3" descr=""/>
          <p:cNvPicPr/>
          <p:nvPr/>
        </p:nvPicPr>
        <p:blipFill>
          <a:blip r:embed="rId2"/>
          <a:stretch/>
        </p:blipFill>
        <p:spPr>
          <a:xfrm>
            <a:off x="1476360" y="4005360"/>
            <a:ext cx="2405160" cy="169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54" name="" descr=""/>
          <p:cNvPicPr/>
          <p:nvPr/>
        </p:nvPicPr>
        <p:blipFill>
          <a:blip r:embed="rId1"/>
          <a:stretch/>
        </p:blipFill>
        <p:spPr>
          <a:xfrm>
            <a:off x="628560" y="1825200"/>
            <a:ext cx="7886880" cy="4351320"/>
          </a:xfrm>
          <a:prstGeom prst="rect">
            <a:avLst/>
          </a:prstGeom>
          <a:ln w="0">
            <a:noFill/>
          </a:ln>
        </p:spPr>
      </p:pic>
      <p:sp>
        <p:nvSpPr>
          <p:cNvPr id="5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DBAA-713B-4A26-B0B1-2BDA42581A0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6" name="Picture 3" descr=""/>
          <p:cNvPicPr/>
          <p:nvPr/>
        </p:nvPicPr>
        <p:blipFill>
          <a:blip r:embed="rId2"/>
          <a:srcRect l="0" t="25495" r="0" b="0"/>
          <a:stretch/>
        </p:blipFill>
        <p:spPr>
          <a:xfrm>
            <a:off x="-7920" y="1773360"/>
            <a:ext cx="8978760" cy="4246560"/>
          </a:xfrm>
          <a:prstGeom prst="rect">
            <a:avLst/>
          </a:prstGeom>
          <a:ln w="0">
            <a:noFill/>
          </a:ln>
        </p:spPr>
      </p:pic>
      <p:sp>
        <p:nvSpPr>
          <p:cNvPr id="557"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4.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Weissenbruch, C van</cp:lastModifiedBy>
  <dcterms:modified xsi:type="dcterms:W3CDTF">2020-03-03T13:25:39Z</dcterms:modified>
  <cp:revision>182</cp:revision>
  <dc:subject/>
  <dc:title>Dia 1</dc:title>
</cp:coreProperties>
</file>