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10.png" ContentType="image/png"/>
  <Override PartName="/ppt/media/image11.png" ContentType="image/png"/>
  <Override PartName="/ppt/media/image19.jpeg" ContentType="image/jpeg"/>
  <Override PartName="/ppt/media/image20.jpeg" ContentType="image/jpeg"/>
  <Override PartName="/ppt/media/image3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21.jpeg" ContentType="image/jpeg"/>
  <Override PartName="/ppt/media/image9.png" ContentType="image/png"/>
  <Override PartName="/ppt/media/image22.jpeg" ContentType="image/jpeg"/>
  <Override PartName="/ppt/media/image12.png" ContentType="image/png"/>
  <Override PartName="/ppt/media/image23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C528-3D74-45E5-A769-4F4A893B3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EC89-CA89-4C44-8702-2ADD1B190E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nk ontwikkelcentrum bij dit thema: (Voeding basis varke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s://contentplatform.ontwikkelcentrum.nl/CMS/CDS/Ontwikkelcentrum/Published%20content/Kenniskiem/98507%20Voeding%20basis%20varkens/98507/98507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ijdelijke aanduiding voor koptekst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 / section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ijdelijke aanduiding voor datum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2F86-A30E-43D8-8BA1-EA63C0521093}" type="datetime">
              <a:rPr b="0" lang="nl-BE" sz="1200" spc="-1" strike="noStrike">
                <a:solidFill>
                  <a:srgbClr val="000000"/>
                </a:solidFill>
                <a:latin typeface="Arial"/>
                <a:ea typeface="Arial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ijdelijke aanduiding voor voettekst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Author Name Surname /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ijdelijke aanduiding voor dianumm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5B23-BB71-4F35-A69B-5FD5A921E223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erdere enzymen zijn: trypsine, chymotrypsine, amylase, lip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F987-85B0-4708-8FE9-D04FE524A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087F-C1D4-4021-A8F7-06055B305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D9539-A59E-4B6F-91F9-5C189C44A8F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0CFFC-6C0D-40DD-88A5-04241D1C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64585-3D4B-4F63-8FC4-7182A314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D206E-3D16-4919-BC20-38501CA9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C6CEA-4FC8-4FA7-B274-0CB1506F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FFE46-0AB5-4056-8DD2-80AE283F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8E2AB-40EF-4D00-A532-22D093DE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0A412-6A5B-415A-ABA3-47911365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6842A-05C8-48B8-94AC-57FA58FD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AD2EC-4268-49EC-96EA-A0B902B8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AC43C-1070-4542-ADBE-1A2F845B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94BE1-1CDB-4311-BAF8-760A4532C1E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CD383-D535-4E53-84E0-E21AD99C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EBB3D-160D-49A5-AFE4-37926B32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66549-B117-4F7C-9E3C-DE28279E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07604-3989-4580-B967-0E277F79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CCA7E-CD8E-453E-B3BD-4CD707E8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B59D8-6061-448D-A3AA-0EC6FC32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38253-C172-48EF-A4BE-8236C2F7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94DDB-3D86-4BE9-9E15-67A5C42F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DE4CF-A92A-4343-B7B6-D52FC0AC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BCA83-3CEE-4BA2-97E0-6E4BD16A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7E265-3843-47A4-9091-E1EE6E9107A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6E1C8-BAEE-4DC6-BEFD-66E74571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D40AD-227B-4548-BF81-0393E3C7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F2D96-38F2-40F7-B341-533BCBDE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42DB1-5D6A-41EE-A806-1AB56DEB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A524C-7CBC-4D5A-90AD-DB1ACEC9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6B460-458C-4EF4-B3BD-DD970D69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9507D-8C53-4704-BD16-EDCFE900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8DDC2-9899-41A7-9E66-7478231C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E42EF-9707-414B-97D9-90326908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3B492-22D4-4E65-B92F-916525CF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FF6F1-874E-40C8-864A-66992355B2A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E9891-CB9A-4EB1-8E49-F538D36B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91012-06B2-4916-998B-4548067B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B43DE-6574-4264-99F9-C74792E0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35C6D-EF8B-4F55-971E-610E59EA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8971A-A24C-4E10-AE58-3AF5F8A7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E9D32-E232-456F-A425-C482368E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A61CE-A160-459E-9D1C-C4B7E0C6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04A0F-95A4-488F-85CC-54DD7655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F173A-D954-433A-B380-20617C2E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FCB62-A13D-42D9-828E-61B70412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D964D-C213-49DC-800A-0F991EA0284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DF19F-5949-4320-8E0D-33935E60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A6CF4-9822-4A2E-B012-29BAD48A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4B41E-C0B0-4C02-9968-AF009660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A40DA-B02B-4967-B64E-7906B933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F1987-3A24-4315-AF0B-C071323D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95AEA-6AC8-4108-8A13-5A14B1323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57D7F-0ABB-4582-AF15-8759018A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A6F79-04C6-4990-B8F7-7AE3BEA8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B77BE-3B75-4250-AEB4-C4EDE68E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26969-4E7C-461E-A5FC-B94D9607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E3DB9-59AB-4EE5-9569-BE4A872F893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B0585-86A7-4572-B9C4-0C9CE27A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882B0-32AA-4A68-A5D1-5AF58099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4AAEC-C410-4EA0-AAB4-E4DC75F3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98BAC-62AD-4527-BACD-EBD42FD1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99609-7D21-4828-88B3-2BBA6E23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AEFDA-6ED9-418A-8310-2F9F1817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8081E-2C67-467F-B3D3-9822C8E3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7904A-927E-4173-92FB-8B678654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26B59-37AB-47E9-AD0D-3B8BD414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DFC73-C7A1-4341-A805-E061F412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876F5-D451-4453-B825-CD0BAC25ACA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A4562-3DC6-4BC9-BB1E-2AE92077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1050F-3636-4AE8-B5E4-9B2A498C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0EBD9-3A41-4ED5-99B5-37836690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08541-F8D9-46B7-B9C6-38C15171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DF563-566F-4F20-A03D-DAB5B4D2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409D3-D895-42C7-BEA6-5BBADBE9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D7D63-B7E8-483E-88D7-2266ACB9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523A9-7DDD-421E-BCFA-FA20E904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51E78-4691-49F9-9B3F-37722BF1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1FF3A-F685-49DD-90AC-22A9A03C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4EDEA-D817-4F9F-96DF-3B3C0B00E80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A67CB-8C6A-47F8-BA7E-7B0F5A89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D5EB3-6F52-4CA2-BE7F-C457EDE5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A7EBD-DBDB-4AFC-9E43-CB561097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BE982-8C3B-4208-8F08-8C482FE7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61269-067D-466F-A187-5FF3B35A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6EBA9-3B96-47BE-B6D8-2F08DAB8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24DAD-83DD-4109-A308-7F597B46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ADCC0-167F-4B22-8619-B73307EC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6D029-C596-43E4-A8B5-457244CB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EA421-9B8F-4F9D-A046-AE662A68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23342-9A85-437E-9370-217637DFCCA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FA3E1-20B8-4DD7-8D54-4A23E711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13C40-6E8A-4FD2-A6AF-748FE7FE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A50B2-115B-4844-9418-698769BE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EAE17-EF04-4D40-8916-3F73E8C2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460D9-481D-4D82-AB46-3FAA94D1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3A877-C5FC-419D-AFC4-2B52824D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7526D-4908-4A48-A873-B5057EE2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1E01D-00A7-4455-ABDB-00EEBE04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20ACA-EFEB-4ACC-9F73-1091963F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14EBC-2D58-423B-802C-FA62D4CE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15617-54B6-42DC-8F61-A0BBCE92F68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33CC1-D72C-48A6-BB99-EFC41C74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08AD7-4AAB-4669-9B76-BC365D012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7BC2A-C3FA-4406-9EC0-1EC1F001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2B57A9-F583-48F3-9EAB-D3B14856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C8A003-12C0-421B-B569-0D96BE4A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9712AF-90CC-4A17-BB60-B8181F31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5E3F49-3EB5-4C4D-B70B-923964E8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33D795-C416-4B4D-85CB-5DA3D3E6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DA24A4-DE14-4CCC-AFBE-23B856FE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749B19-5E92-4FD3-BFEE-B07C2AE3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49A1C-4135-4395-8FD6-C72F3572A2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0D6E8-3E75-41EC-817F-08AE7513949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1259E2-A23A-4191-A134-5B16E184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FC1570-8846-483A-B2BB-15C073B3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698E0B-2C0B-4B67-B810-7C1B017B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1F0DBF-FE74-4267-96EC-200C7F7B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7E5B7C-C5F5-4E3D-80DD-6288ED32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14E89-4315-466F-A85F-56152E3CAE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91346-5FA4-4FE8-A05A-BE6DE44283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60E28-B7FE-4764-BFA3-0573E2A717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F6B1B-11E5-41E1-A0E1-AAD75A70036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0BBB-4425-4F2E-A7CD-981562525A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F9C0-318F-43E1-8249-C7A7E24763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7888-F93A-4516-85D1-1FA0D1385A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5C2A-9DB4-45F8-BAFB-FC86CFDE9F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2840-F946-48A7-945A-4EF8B376E7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9E7C0-DFE9-4ED1-8C8E-4CA62971662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5462-D4AD-414D-9A37-F359A05CE7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699B-2199-4E7D-B243-0DD92A8FB8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6BBD-6C40-41DC-B6D1-CF62240CB8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396-99A5-4EB6-B4DD-4E0EEB3A94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FC38-5D12-4209-A5E5-B0634B7FF3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A616-6EA2-47CA-A0D5-54D6BD5101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3F94-D71C-42A1-B8D2-E93665A2176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0C65-9349-482A-BEF4-A3126FB7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23E6-599C-45A9-BE30-AB5A502D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958A-2C9C-49CB-9B6F-54BDE36D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47DF8-989B-426D-AA70-D08C182A3C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2577-05FD-499E-B969-77CF6379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8E3A-7879-4A68-87ED-92B7E594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9173-F074-40CE-916A-0C96E550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623E-D721-4018-9FF9-C3F7980A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8A05-D85B-4596-B6C1-731A8D26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FFF2-CF80-444C-9C02-36257CD2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D095-081B-4E5E-B39B-96AE1D7D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2722-B19C-4F2E-957E-83F8F766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4CA5-89D2-445D-A186-6A6D2E46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760D3-0E3C-455D-A449-5110FBF11BC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41C8-A848-4EE0-B4B2-FBBC696F418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9414-B567-40A4-806F-389ACA1C69A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2EC41-9970-440E-B0BC-79EB4521B6F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C4EB0-050C-4B8F-A4EF-752113A3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AC1F4-7865-4175-BFB6-8B482752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4F8B7-63A7-42AC-B9FE-B7DAA3BE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B175A-E0B2-4E18-9D88-A92234D8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8752A-C2A1-412E-920A-9E115241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34BD0-EE64-4506-9DB7-306DB68BA7C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A0625-263A-4899-B259-5B6C764D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2E155-2092-47B6-A2AE-F7316E97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BF26B-4A89-4334-8BDC-2A7F621E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69433-2CFD-4D02-8157-A26AAAB1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D22B4-ECCA-42EE-842B-0F85E216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1A2C8-82DC-42EB-AADC-B625A9B1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7C11F-A195-4CC9-BDC7-09BF31A7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419B5-7E56-4737-BF27-087ACCAD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B338E-6F3D-4B7F-9720-4301E15E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C9445-405D-436F-A660-BF9C3163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2388-D9FE-41F2-BDB1-1B1F194EAB6F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173E-26AA-49B3-AFA2-9639E686255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FF75-5277-4009-9FF7-DBC61A85C76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6294-485E-4A12-8E30-60D9819A4D0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2208-5DA6-44E5-B4C6-097C4DB4EEF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4019-8FCE-4323-8E8C-7F92A376F29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0D20-2288-4D52-8042-BDA5AF42E7F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6801-9766-43A7-9BE4-0A9A0A883C6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7EB2-3FDD-4954-95CA-FBAC7AD7F98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B395-0A6D-4EE2-9820-625256C4CEC8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48C2-E5E4-46F0-99F2-ADE6F8F0B1C5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AAA8-CCB0-455F-946A-9409D602B3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89E6-51C4-4517-8707-954701C79B31}" type="datetime2">
              <a:rPr b="1" lang="nl-NL" sz="1200" spc="-1" strike="noStrike">
                <a:solidFill>
                  <a:srgbClr val="ffffff"/>
                </a:solidFill>
                <a:latin typeface="Verdana"/>
              </a:rPr>
              <a:t>woensdag 29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8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8C8D-D60A-49FE-9244-259FA6ECE5AB}" type="datetime2">
              <a:rPr b="1" lang="nl-NL" sz="1200" spc="-1" strike="noStrike">
                <a:solidFill>
                  <a:srgbClr val="ffffff"/>
                </a:solidFill>
                <a:latin typeface="Verdana"/>
              </a:rPr>
              <a:t>woensdag 29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BBC8-75BC-47C6-83B6-2AF8E0D43D0F}" type="datetime2">
              <a:rPr b="1" lang="nl-NL" sz="1200" spc="-1" strike="noStrike">
                <a:solidFill>
                  <a:srgbClr val="ffffff"/>
                </a:solidFill>
                <a:latin typeface="Verdana"/>
              </a:rPr>
              <a:t>woensdag 29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11C7-DB1B-4B93-8B97-C3FB3C6254DE}" type="datetime2">
              <a:rPr b="0" lang="nl-N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woensdag 29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43F6-37FD-4516-92A8-B54C47A497E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5219-9AD3-4BFC-A847-20E1D26CD17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835280" y="1125000"/>
            <a:ext cx="57276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nl-NL" sz="6000" spc="-1" strike="noStrike">
                <a:solidFill>
                  <a:srgbClr val="000000"/>
                </a:solidFill>
                <a:latin typeface="Arial"/>
                <a:ea typeface="Arial"/>
              </a:rPr>
              <a:t>Thema 3</a:t>
            </a:r>
            <a:br>
              <a:rPr sz="5900"/>
            </a:br>
            <a:r>
              <a:rPr b="0" lang="nl-NL" sz="5900" spc="-1" strike="noStrike">
                <a:solidFill>
                  <a:srgbClr val="000000"/>
                </a:solidFill>
                <a:latin typeface="Arial"/>
                <a:ea typeface="Arial"/>
              </a:rPr>
              <a:t>Voeding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V21-31-4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N. Wolfs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NW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K. Van Gorp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898989"/>
                </a:solidFill>
                <a:latin typeface="Arial"/>
                <a:ea typeface="Arial"/>
              </a:rPr>
              <a:t>K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aterbehoef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rken drinkt +/- 10% van het lichaamsgewicht op een da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rken drinkt 2,5x zoveel als het e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88A4-CB69-45CB-BBA0-2216B84E979A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Afbeelding 4" descr=""/>
          <p:cNvPicPr/>
          <p:nvPr/>
        </p:nvPicPr>
        <p:blipFill>
          <a:blip r:embed="rId1"/>
          <a:stretch/>
        </p:blipFill>
        <p:spPr>
          <a:xfrm>
            <a:off x="1116000" y="3068640"/>
            <a:ext cx="730584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aterbehoef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934560" y="981000"/>
            <a:ext cx="6634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inkbak vs. Drinknipp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ordelen?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adele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1F7D-CCDF-45E1-A9EE-D05B6F82D1F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Afbeelding 4" descr=""/>
          <p:cNvPicPr/>
          <p:nvPr/>
        </p:nvPicPr>
        <p:blipFill>
          <a:blip r:embed="rId1"/>
          <a:stretch/>
        </p:blipFill>
        <p:spPr>
          <a:xfrm>
            <a:off x="2832120" y="1454040"/>
            <a:ext cx="6324480" cy="2853000"/>
          </a:xfrm>
          <a:prstGeom prst="rect">
            <a:avLst/>
          </a:prstGeom>
          <a:ln w="0">
            <a:noFill/>
          </a:ln>
        </p:spPr>
      </p:pic>
      <p:pic>
        <p:nvPicPr>
          <p:cNvPr id="764" name="Afbeelding 5" descr=""/>
          <p:cNvPicPr/>
          <p:nvPr/>
        </p:nvPicPr>
        <p:blipFill>
          <a:blip r:embed="rId2"/>
          <a:stretch/>
        </p:blipFill>
        <p:spPr>
          <a:xfrm>
            <a:off x="565200" y="4398840"/>
            <a:ext cx="2133720" cy="2184480"/>
          </a:xfrm>
          <a:prstGeom prst="rect">
            <a:avLst/>
          </a:prstGeom>
          <a:ln w="0">
            <a:noFill/>
          </a:ln>
        </p:spPr>
      </p:pic>
      <p:pic>
        <p:nvPicPr>
          <p:cNvPr id="765" name="Afbeelding 6" descr=""/>
          <p:cNvPicPr/>
          <p:nvPr/>
        </p:nvPicPr>
        <p:blipFill>
          <a:blip r:embed="rId3"/>
          <a:stretch/>
        </p:blipFill>
        <p:spPr>
          <a:xfrm>
            <a:off x="3030480" y="4400640"/>
            <a:ext cx="230832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amenstelling vo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123560" y="907560"/>
            <a:ext cx="66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orbeeld:</a:t>
            </a:r>
            <a:br>
              <a:rPr sz="2800"/>
            </a:br>
            <a:br>
              <a:rPr sz="2800"/>
            </a:br>
            <a:r>
              <a:rPr b="0" i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 brijvoer zit veel water en weinig droge stof. (In verhouding 23% droge stof)</a:t>
            </a:r>
            <a:br>
              <a:rPr sz="2800"/>
            </a:br>
            <a:r>
              <a:rPr b="0" i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r… varken drinkt 2,5x zoveel als eten.. Du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AB44-9CC0-4E15-A52F-971B2BB44E0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Afbeelding 4" descr=""/>
          <p:cNvPicPr/>
          <p:nvPr/>
        </p:nvPicPr>
        <p:blipFill>
          <a:blip r:embed="rId1"/>
          <a:stretch/>
        </p:blipFill>
        <p:spPr>
          <a:xfrm>
            <a:off x="3708360" y="3206880"/>
            <a:ext cx="43830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dermidd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468000" y="119700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Kracht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uikers, eiwitten, zetmeel, mineral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chtrijke voeders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&lt;85% DS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enkelvoudig voer = 1 produc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mengvoer = samengesteld in fabriek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remix + melasse + grondstoff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brok/voe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rij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ater + voedermiddel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‘voedermiddelen’ zoal; mengvoer, maar ook humane consumptie resten;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kaaswei, bierborstel, aardappelstoomschille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4F1F-5C0C-4ACD-95CD-ABF38ACE4DA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ligbox met uit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tation met individuele dierherke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oogvoerbak met onbeperkte voed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Lange troggen voor droogvoer of brijvo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E784-C5AD-4952-90A1-CFB5A1B7F5B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714240" y="836640"/>
            <a:ext cx="7715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erligbox met uitloop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eugen worden opgesloten tijdens et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De gehele groep krijgt dezelfde voergi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eugen met aantal worpen, drachtigheidsstadium en conditie bij elkaar zetten. 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ordeel: Individueel controle en voeren mogelijk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deel: weinig gelegenheid tot vertonen van natuurlijk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654B-8B6F-43AA-967A-11FC1FA68B8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Afbeelding 5" descr="Afbeelding met binnen, metaal, staand, gebouw&#10;&#10;Automatisch gegenereerde beschrijving"/>
          <p:cNvPicPr/>
          <p:nvPr/>
        </p:nvPicPr>
        <p:blipFill>
          <a:blip r:embed="rId1"/>
          <a:stretch/>
        </p:blipFill>
        <p:spPr>
          <a:xfrm>
            <a:off x="4140360" y="4043520"/>
            <a:ext cx="396864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1187280" y="1197000"/>
            <a:ext cx="7499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tation met individuele dierherke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Transponder om dier te identificer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Systeem herkent transponder en geeft de juiste hoeveelheid voeding per zeug.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Zeugen eten na elkaar, niet tegelij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96EE-F1CE-4585-A703-F5AE2D64B34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Afbeelding 5" descr="Afbeelding met binnen, hond, dier, zoogdier&#10;&#10;Automatisch gegenereerde beschrijving"/>
          <p:cNvPicPr/>
          <p:nvPr/>
        </p:nvPicPr>
        <p:blipFill>
          <a:blip r:embed="rId1"/>
          <a:srcRect l="8262" t="12191" r="21653" b="0"/>
          <a:stretch/>
        </p:blipFill>
        <p:spPr>
          <a:xfrm>
            <a:off x="3924360" y="3648240"/>
            <a:ext cx="4257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1116000" y="120348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oogvoerbak met onbeperkte voedering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onbeperkt voeren (ad-libitum)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onbeperkt gepalleteerd vo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2963-8C67-4C57-851C-92177355B22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Afbeelding 5" descr="Afbeelding met dier, binnen, zwijn, schapen&#10;&#10;Automatisch gegenereerde beschrijving"/>
          <p:cNvPicPr/>
          <p:nvPr/>
        </p:nvPicPr>
        <p:blipFill>
          <a:blip r:embed="rId1"/>
          <a:stretch/>
        </p:blipFill>
        <p:spPr>
          <a:xfrm>
            <a:off x="2692440" y="2997360"/>
            <a:ext cx="521964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Lange troggen voor droogvoer of brij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Zeugen/varkens eten tegelijkertijd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Beperkt 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Stabiele productiegroepen noodzakelij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462A-A705-41F8-90CF-4C4820993E0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Afbeelding 5" descr="Afbeelding met binnen, bed, zitten, gebouw&#10;&#10;Automatisch gegenereerde beschrijving"/>
          <p:cNvPicPr/>
          <p:nvPr/>
        </p:nvPicPr>
        <p:blipFill>
          <a:blip r:embed="rId1"/>
          <a:stretch/>
        </p:blipFill>
        <p:spPr>
          <a:xfrm>
            <a:off x="79200" y="3502080"/>
            <a:ext cx="3780000" cy="2620800"/>
          </a:xfrm>
          <a:prstGeom prst="rect">
            <a:avLst/>
          </a:prstGeom>
          <a:ln w="0">
            <a:noFill/>
          </a:ln>
        </p:spPr>
      </p:pic>
      <p:pic>
        <p:nvPicPr>
          <p:cNvPr id="792" name="Afbeelding 7" descr="Afbeelding met binnen, gebouw, bruin, klein&#10;&#10;Automatisch gegenereerde beschrijving"/>
          <p:cNvPicPr/>
          <p:nvPr/>
        </p:nvPicPr>
        <p:blipFill>
          <a:blip r:embed="rId2"/>
          <a:stretch/>
        </p:blipFill>
        <p:spPr>
          <a:xfrm>
            <a:off x="4140360" y="3495600"/>
            <a:ext cx="475596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en per dier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Opfokzeugen en be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u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ig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eesvark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19E4-C490-4D94-B77D-968B1BF07BE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053800" y="369720"/>
            <a:ext cx="66452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ho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619280" y="1420920"/>
            <a:ext cx="6634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Spijsverteringsstel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Vert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M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Samenstelling vo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Waterbehoef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Voedermidde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Voersyste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62626"/>
                </a:solidFill>
                <a:latin typeface="Arial"/>
                <a:ea typeface="Arial"/>
              </a:rPr>
              <a:t>Voeren per diergro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1240" indent="-341280">
              <a:lnSpc>
                <a:spcPct val="9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3AD2-A45B-47FC-A18D-D7401AC65603}" type="slidenum">
              <a:rPr b="0" lang="nl-NL" sz="1100" spc="-1" strike="noStrike">
                <a:solidFill>
                  <a:srgbClr val="57585a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4"/>
          <p:cNvSpPr/>
          <p:nvPr/>
        </p:nvSpPr>
        <p:spPr>
          <a:xfrm>
            <a:off x="-368280" y="6546960"/>
            <a:ext cx="8748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AE7F-C6C0-4DFE-BDB5-9AA5D71634A1}" type="slidenum">
              <a:rPr b="0" lang="nl-NL" sz="1100" spc="-1" strike="noStrike">
                <a:solidFill>
                  <a:srgbClr val="57585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3"/>
          <p:cNvSpPr/>
          <p:nvPr/>
        </p:nvSpPr>
        <p:spPr>
          <a:xfrm>
            <a:off x="642960" y="214200"/>
            <a:ext cx="6400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979280" y="231480"/>
            <a:ext cx="66452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en per dier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611280" y="843120"/>
            <a:ext cx="7354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fokzeugen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oel: sterk dier neerzetten d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timale voortplantingsresultat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haald.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240/260 dagen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dekrijp &amp; 120 kg.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Letten op vervetting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Opfokzeugenvoer (vanaf 20 kg)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Specifiek gelten opfokvoer (vanaf 40 kg)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(eiwitbehoefte gelt &lt; vleesvarken)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70 – 110 kg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opfokvoer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&gt;110 kg drachtvoer</a:t>
            </a:r>
            <a:br>
              <a:rPr sz="2200"/>
            </a:br>
            <a:br>
              <a:rPr sz="2200"/>
            </a:b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ren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Opfokvoer, of combi van dracht&amp;lacto voer.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Extra zink: i.v.m. uitscheiden sperma. </a:t>
            </a:r>
            <a:br>
              <a:rPr sz="2200"/>
            </a:b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as drachtvoer als beer volledig volgroeid is!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CB38-2168-4A6B-ABB7-64545E3FC85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Afbeelding 5" descr="Afbeelding met dier, binnen, zoogdier, bruin&#10;&#10;Automatisch gegenereerde beschrijving"/>
          <p:cNvPicPr/>
          <p:nvPr/>
        </p:nvPicPr>
        <p:blipFill>
          <a:blip r:embed="rId1"/>
          <a:stretch/>
        </p:blipFill>
        <p:spPr>
          <a:xfrm>
            <a:off x="6302520" y="3789360"/>
            <a:ext cx="2806560" cy="1663560"/>
          </a:xfrm>
          <a:prstGeom prst="rect">
            <a:avLst/>
          </a:prstGeom>
          <a:ln w="0">
            <a:noFill/>
          </a:ln>
        </p:spPr>
      </p:pic>
      <p:pic>
        <p:nvPicPr>
          <p:cNvPr id="800" name="Afbeelding 7" descr="Afbeelding met zwijn, dier, gras, zoogdier&#10;&#10;Automatisch gegenereerde beschrijving"/>
          <p:cNvPicPr/>
          <p:nvPr/>
        </p:nvPicPr>
        <p:blipFill>
          <a:blip r:embed="rId2"/>
          <a:stretch/>
        </p:blipFill>
        <p:spPr>
          <a:xfrm>
            <a:off x="5302080" y="878040"/>
            <a:ext cx="349272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en per dier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826560" y="1197000"/>
            <a:ext cx="7859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ug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oel: gezonde, sterke, goed producerende zeugen.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Onderhoudsbehoefte afhankelijk van gewicht.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Extra voedingsstoffen en eiwitten bij dracht en lactatie.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Insemineren tot werp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dracht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Tijdens het zog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lacto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Guste zeug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bronstvoer, lacto, biggen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(koolhydraten), dextros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eicellen + aantal cellen stijgt. (flush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5458-316F-4847-AD24-D33327DC47A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Afbeelding 4" descr=""/>
          <p:cNvPicPr/>
          <p:nvPr/>
        </p:nvPicPr>
        <p:blipFill>
          <a:blip r:embed="rId1"/>
          <a:stretch/>
        </p:blipFill>
        <p:spPr>
          <a:xfrm>
            <a:off x="2771640" y="2382840"/>
            <a:ext cx="56880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en per dier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636120" y="974880"/>
            <a:ext cx="5040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gg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Biest (36 uur) en melk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Overgang vezels en vast voer (maag-darmstelsel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bij +/- 2 weken leeftijd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melkkorrel / kruimel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enkele dagen voor spen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biggenkorrel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na spenen (28 dagen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biggenvoer (droog of brijvo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BC1C-F335-42B0-91C4-0F27505DC24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Afbeelding 6" descr="Afbeelding met binnen, bed, neerleggen, hond&#10;&#10;Automatisch gegenereerde beschrijving"/>
          <p:cNvPicPr/>
          <p:nvPr/>
        </p:nvPicPr>
        <p:blipFill>
          <a:blip r:embed="rId1"/>
          <a:stretch/>
        </p:blipFill>
        <p:spPr>
          <a:xfrm>
            <a:off x="5219640" y="1052640"/>
            <a:ext cx="3741840" cy="2446200"/>
          </a:xfrm>
          <a:prstGeom prst="rect">
            <a:avLst/>
          </a:prstGeom>
          <a:ln w="0">
            <a:noFill/>
          </a:ln>
        </p:spPr>
      </p:pic>
      <p:pic>
        <p:nvPicPr>
          <p:cNvPr id="809" name="Afbeelding 8" descr="Afbeelding met frietjes, fruit, noot, zitten&#10;&#10;Automatisch gegenereerde beschrijving"/>
          <p:cNvPicPr/>
          <p:nvPr/>
        </p:nvPicPr>
        <p:blipFill>
          <a:blip r:embed="rId2"/>
          <a:stretch/>
        </p:blipFill>
        <p:spPr>
          <a:xfrm>
            <a:off x="4475160" y="4792680"/>
            <a:ext cx="2736720" cy="1817640"/>
          </a:xfrm>
          <a:prstGeom prst="rect">
            <a:avLst/>
          </a:prstGeom>
          <a:ln w="0">
            <a:noFill/>
          </a:ln>
        </p:spPr>
      </p:pic>
      <p:pic>
        <p:nvPicPr>
          <p:cNvPr id="810" name="Afbeelding 10" descr="Afbeelding met hond, binnen, tafel, gebouw&#10;&#10;Automatisch gegenereerde beschrijving"/>
          <p:cNvPicPr/>
          <p:nvPr/>
        </p:nvPicPr>
        <p:blipFill>
          <a:blip r:embed="rId3"/>
          <a:srcRect l="19762" t="17497" r="19762" b="11235"/>
          <a:stretch/>
        </p:blipFill>
        <p:spPr>
          <a:xfrm>
            <a:off x="1187280" y="4792680"/>
            <a:ext cx="27370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en per dier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324000" y="1052640"/>
            <a:ext cx="6634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eesvark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Spieren en vleesaanzet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eiwitt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Snelle groei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Voederconversie belangrijk! (VC)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Let op vervetten!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Kleur: biggen eten eerder uit een opvallende bak!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Troglengte van 35 cm per varken.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Meerfasenvo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Borg zit sneller aan VC dan ge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19F6-E6AB-4433-B93B-6D1253C42A9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Afbeelding 4" descr=""/>
          <p:cNvPicPr/>
          <p:nvPr/>
        </p:nvPicPr>
        <p:blipFill>
          <a:blip r:embed="rId1"/>
          <a:stretch/>
        </p:blipFill>
        <p:spPr>
          <a:xfrm>
            <a:off x="2705040" y="981000"/>
            <a:ext cx="61149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sstel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826560" y="213372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g-darm stel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6692-AF9D-4339-9BB3-0037444F0B2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Afbeelding 4" descr=""/>
          <p:cNvPicPr/>
          <p:nvPr/>
        </p:nvPicPr>
        <p:blipFill>
          <a:blip r:embed="rId1"/>
          <a:stretch/>
        </p:blipFill>
        <p:spPr>
          <a:xfrm>
            <a:off x="4622760" y="1111320"/>
            <a:ext cx="41720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skan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983880" y="1426680"/>
            <a:ext cx="66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ond en wroetschijf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roetschijf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kraakbe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aarnaast een goed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reukorgaa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ondholte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eeksel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enzym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mylase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lwassen gebit: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44 tanden en kiezen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3980-910E-44DB-82E1-16A25EF5E19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Afbeelding 4" descr=""/>
          <p:cNvPicPr/>
          <p:nvPr/>
        </p:nvPicPr>
        <p:blipFill>
          <a:blip r:embed="rId1"/>
          <a:stretch/>
        </p:blipFill>
        <p:spPr>
          <a:xfrm>
            <a:off x="5580000" y="1281240"/>
            <a:ext cx="2884680" cy="2147760"/>
          </a:xfrm>
          <a:prstGeom prst="rect">
            <a:avLst/>
          </a:prstGeom>
          <a:ln w="0">
            <a:noFill/>
          </a:ln>
        </p:spPr>
      </p:pic>
      <p:pic>
        <p:nvPicPr>
          <p:cNvPr id="733" name="Afbeelding 5" descr=""/>
          <p:cNvPicPr/>
          <p:nvPr/>
        </p:nvPicPr>
        <p:blipFill>
          <a:blip r:embed="rId2"/>
          <a:stretch/>
        </p:blipFill>
        <p:spPr>
          <a:xfrm>
            <a:off x="5729400" y="4049640"/>
            <a:ext cx="29574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skan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1116000" y="1197000"/>
            <a:ext cx="7570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lokdarm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70 cm lang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ristaltische bewegingen en slijmprodu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g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5 à 8 liter inhoud,   maagsapklieren,  zoutzuur (HCL)  pH = 2 à 3</a:t>
            </a:r>
            <a:br>
              <a:rPr sz="2800"/>
            </a:br>
            <a:r>
              <a:rPr b="0" i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psin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splitsing eiwi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uur doodt bacterië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tress verstoort slijmproducti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maagzwer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ruwvoer geve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E6C5-4949-42B8-8267-58BAFA847C9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pijsverteringskan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1098720" y="992160"/>
            <a:ext cx="75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unne darm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rokken voedsel afgebroken tot voedingsstoffen. Darmwand laat voedingsstoffen door naar het lichaam.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12 vingerige darm (60 cm)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erdere enzymen en galsappen komen samen.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dunne darm (18 me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kke darm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blinde darm (4 meter)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absorptie wat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werking darmbacterië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fermentati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zels erg belangrijk!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- endeldarm, laatste stuk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vorming mest.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9121-2E24-445A-96B3-9A2BF97F386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er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250560" y="1203480"/>
            <a:ext cx="5329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rken = geen herkauwer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us… moeite met ruwe celstof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oer wordt bewerkt (ontsluiten)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r…. bij veel vezels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fermentatie in de dikke dar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Ruwvoer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gaat langzaam door darm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verzadigd gevoel + verhoogt weerstan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524B-68F1-4D09-8B6F-0B5741A8735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Afbeelding 4" descr=""/>
          <p:cNvPicPr/>
          <p:nvPr/>
        </p:nvPicPr>
        <p:blipFill>
          <a:blip r:embed="rId1"/>
          <a:stretch/>
        </p:blipFill>
        <p:spPr>
          <a:xfrm>
            <a:off x="5614920" y="3462480"/>
            <a:ext cx="315612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at zie je aan de mest?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- rantsoen goed afgestemd, ja of ne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3F57-F1B0-40F1-8A4E-BFE7D321C26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Afbeelding 4" descr=""/>
          <p:cNvPicPr/>
          <p:nvPr/>
        </p:nvPicPr>
        <p:blipFill>
          <a:blip r:embed="rId1"/>
          <a:stretch/>
        </p:blipFill>
        <p:spPr>
          <a:xfrm>
            <a:off x="3995640" y="2346480"/>
            <a:ext cx="4349880" cy="3314520"/>
          </a:xfrm>
          <a:prstGeom prst="rect">
            <a:avLst/>
          </a:prstGeom>
          <a:ln w="0">
            <a:noFill/>
          </a:ln>
        </p:spPr>
      </p:pic>
      <p:cxnSp>
        <p:nvCxnSpPr>
          <p:cNvPr id="748" name="Rechte verbindingslijn met pijl 6"/>
          <p:cNvCxnSpPr/>
          <p:nvPr/>
        </p:nvCxnSpPr>
        <p:spPr>
          <a:xfrm>
            <a:off x="2484000" y="2707920"/>
            <a:ext cx="2375280" cy="289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749" name="Rechte verbindingslijn met pijl 7"/>
          <p:cNvCxnSpPr/>
          <p:nvPr/>
        </p:nvCxnSpPr>
        <p:spPr>
          <a:xfrm flipV="1">
            <a:off x="2626920" y="4841280"/>
            <a:ext cx="2313720" cy="1035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750" name="Tekstvak 9"/>
          <p:cNvSpPr/>
          <p:nvPr/>
        </p:nvSpPr>
        <p:spPr>
          <a:xfrm>
            <a:off x="539640" y="24210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meüig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kelijk in te drukk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limm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kstvak 10"/>
          <p:cNvSpPr/>
          <p:nvPr/>
        </p:nvSpPr>
        <p:spPr>
          <a:xfrm>
            <a:off x="792000" y="5319720"/>
            <a:ext cx="19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eft langer in de darm gez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amenstelling vo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468000" y="119700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Weende-analys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fracties diervoeder analyse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3588-85F5-4D75-8014-6896E453785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Afbeelding 5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679896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09:58:02Z</dcterms:created>
  <dc:creator>Martin Drenth</dc:creator>
  <dc:description/>
  <dc:language>en-US</dc:language>
  <cp:lastModifiedBy>Kelly van Gorp</cp:lastModifiedBy>
  <dcterms:modified xsi:type="dcterms:W3CDTF">2019-11-07T19:16:51Z</dcterms:modified>
  <cp:revision>137</cp:revision>
  <dc:subject/>
  <dc:title>Gebruik van Powerpoint sjablonen</dc:title>
</cp:coreProperties>
</file>