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3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21.jpeg" ContentType="image/jpeg"/>
  <Override PartName="/ppt/media/image9.png" ContentType="image/png"/>
  <Override PartName="/ppt/media/image22.jpeg" ContentType="image/jpeg"/>
  <Override PartName="/ppt/media/image12.png" ContentType="image/png"/>
  <Override PartName="/ppt/media/image2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7BDF-E31D-4D96-AD3F-0EB38F4C3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429A-9C61-4D26-A941-CCF2575E39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nk ontwikkelcentrum bij dit thema: (Voeding basis vark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s://contentplatform.ontwikkelcentrum.nl/CMS/CDS/Ontwikkelcentrum/Published%20content/Kenniskiem/98507%20Voeding%20basis%20varkens/98507/98507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ijdelijke aanduiding voor koptekst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/ sec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ijdelijke aanduiding voor datum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DC7C-0AAD-4BCB-BF94-26742CA13F9A}" type="datetime">
              <a:rPr b="0" lang="nl-BE" sz="1200" spc="-1" strike="noStrike">
                <a:solidFill>
                  <a:srgbClr val="000000"/>
                </a:solidFill>
                <a:latin typeface="Arial"/>
                <a:ea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ijdelijke aanduiding voor voettekst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Author Name Surname /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ijdelijke aanduiding voor dianumm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771F-4F50-42C8-8CEB-B1AC5749664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erdere enzymen zijn: trypsine, chymotrypsine, amylase, lip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D512-CD98-41E2-BC36-867C1E5C1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5E65-9D96-4518-81A7-C3E0C44F9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F0FC0-25A2-4D8F-AAA4-CDDED393BAF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5F0C2-5286-46E5-9C9A-435F1146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44A21-81A9-45C8-9D7C-453996B6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DCD32-7CED-4B10-8347-F098340B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2DEEF-FF5F-4D3A-80B8-54894461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30702-44F3-42D7-9372-8D7C270E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1F808-8F39-40FB-A1E1-02CCD8F3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2EB1D-C9AE-4A57-A791-C9CA7D55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39C92-F229-419B-B7E5-2D58450B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0C100-B658-4BBC-8DCF-E29E0C1E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52A40-7B36-48B5-8120-0B5A300D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3B49-C1EF-4A85-AB6C-DEC4E8208F9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375E7-2F31-457C-B210-A6708E46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25B75-469C-46B6-9FF6-619C5FDC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4E9F8-1CC5-45C2-9F95-E1A22DEA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B0A63-F0AD-439F-9871-62E6438C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3133D-8E5E-412A-9C77-A52FE639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1CB97-2A92-48A4-BC9F-283E9008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61D43-B361-47EE-B73C-9D6F50BF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39C5E-31E2-43CB-A2B9-48FE443E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371F1-57C8-4144-B913-A69548EF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A5172-9D00-495C-A5B0-884F0CF9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CB635-B39A-4E9A-98AE-682AE864FDC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066F4-701C-4456-98AF-198B1B27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D564C-587E-4D85-9E65-F5393758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ECA0E-34CE-4ABB-B993-FA0B64A9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F8480-4C72-4EBD-B814-AFF3D952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C09E4-A81B-4F75-B315-46936830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06033-C971-447F-AEDD-19EA3474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E0EB3-A8FE-4402-9380-CDD14607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FFF81-DE01-4674-98DF-73601248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A74BA-8B5F-4C80-8EDA-FBAEC794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0CDFB-3321-4C76-B543-95A8E77A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68C28-0693-4ADD-9B00-35FD845356A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92EED-9304-4B58-89E1-436B3442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F53F6-2FFE-4885-87F4-7D5DA644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BB3EB-FE94-4C51-80A9-3436F314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EA64C-B2C3-456B-BDED-96836DEB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F97C5-7142-44FD-84E3-AE85F538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02B15-538F-452C-B7A9-B687753E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436CF-3CE8-41F0-96FB-C31475EF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C8818-A6B2-43D9-8E23-12EA79ED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8A0F0-C7BA-428C-9514-723BA23D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67B0D-1740-47F1-8689-D396A211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6974C-E162-4E96-B639-30B798EA1C0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A6FB5-16FA-4890-B03A-DB67C7F5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32D28-6535-410C-B22B-FC5B1504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2D70C-A4F8-4AEA-A71F-D73F3FF1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BB584-19E9-45D0-BB83-6B2D5B3B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A03F5-7BFC-40A0-A44E-83E7CF89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62676-5DB6-425D-8480-A2E3C6A8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71AAE-1930-4506-A85E-9A08C839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663B9-E655-4523-9D89-705BDE81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3B47C-E38D-4C03-9AA4-3C819D71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28BE2-130B-44A7-8794-6493C1D3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98897-F7BE-450D-85BE-08F727918FA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E5C4A-1BCB-4E66-A58D-99808B85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D106F-FB88-4B3C-87F0-4D29987E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21BF4-10B0-4BB6-97EF-6D0F2AF6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C9889-76B5-418C-8E1E-2C1ED59B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BE516-54E6-4953-9A32-A8E40A51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6B9DC-C1F4-4939-ACCE-539C7CC4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B936B-B47A-4D8B-B654-94BF9187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68C52-8A91-46F7-8F68-9B747838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121FC-67C0-4EB1-B792-36C3D224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EC37E-DA94-44F1-937E-ED6BA201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0C8EA-8A4B-40AC-82C2-3F149973ACA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5E8C7-779D-4EEC-8884-2F1D2E57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E23B5-D490-4C32-8834-E3587A54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0527D-0D84-4470-8A2F-62407414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D2494-CDB0-4EB3-BE37-270FCE29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DD056-C889-4F64-B567-AB44A40A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6FED3-63C9-49E4-95EE-51A27FD8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6C681-64B6-498F-A012-622E6B32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08E41-6437-4289-B0B8-BA51B228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C72F6-CF1A-4697-BE89-1D01ABFB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37C2E-D086-47E2-8557-ABD87106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9E5EE-C1C7-4EC0-A70F-C975E9AB576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7A270-BE0A-4077-9763-E403D8BD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53BDD-C6A9-4731-8F0E-BCE09AE8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6110A-DD53-42AC-A39A-2D75644F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EA2A3-8870-4765-A996-A0B26090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50BB1-1772-4B00-9C96-3ADC20E2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7BC4D-DA1E-4791-A372-9F909E4C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8BD93-E9B3-48C4-ADB7-EF860F75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E76B4-9E7C-4768-9B7A-EF8DADE5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CD070-8A91-4914-B9FF-48706394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3501F-BC7B-48D0-8794-F9F2D057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9DF4-6B3F-416D-8622-884A0920972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7EDEA-52F0-401B-A184-83D74167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29851-F5E3-4F2A-8418-D2111B71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09E28-83C8-458A-949F-9FDFE96D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9B820-8282-40B0-89E4-92E8B1C8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9F634-EFDB-49B4-8A7A-EC808F12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BB123-CECB-429C-BD51-16B5AA27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C7FA0-B3E9-4E59-BEE9-E5D49EB3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DA9BC-5B74-4470-A342-3DDFE092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F5DAE-4CD6-4E16-9518-16B51383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9B15F-CEA6-4DB8-9247-649D7085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4F996-D76E-4AF0-AA4B-5CF93C51384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2DFE5-F83C-4939-84C2-5FA6D0CD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E0620-6D84-439B-AD10-F62FDF2D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9233B-A9A9-4DA4-B308-61838C15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C10DE6-E5FB-40F7-A04D-E30BED78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75112-DB9A-4F63-93C1-8FEC7ACE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46EB4-3623-4060-A54D-D2FF0893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C1025-2AED-40E7-9EFB-D3A7ADCE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D6DE5-A231-4511-B282-ED9D22C4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69717-D4D1-4203-B09F-E616853F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34C5A8-D636-400E-854A-F68DB896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246A-2616-4860-97ED-A7B45BFC0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9E132-F771-40AE-92C4-21240097EAE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8F17A2-37C2-4EEE-B566-F7E1A81E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FB34F-FCA8-413D-BFF8-DF4913DD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2DB80-36A2-4D3F-A4FF-5970BB0A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198FA-3CB2-4BF9-B7CE-3E19E0EE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A794C-FAD7-49D8-8821-6F50C033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92664-3E7A-4149-A20A-F2F40E893F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64A9D-EB49-4A89-835E-60E1752D73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7EEEE-C6A9-48EC-B26A-54A8F9C21F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75FD5-EDEF-40E2-AA5A-CD3CE1B0EC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AE4-5F73-47D4-8607-E633A3AC62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74B-1F77-4A44-A0EF-D14FAD0A27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5ACB-37B0-4CE8-9D9D-3F068B39EF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B53-464F-47E0-B52A-4458B4A463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2B92-5733-4AAA-ACF1-80274F81BD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A14A-4AFB-4FFE-BFF5-BAF4364D37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971-8788-4C78-B94E-14D0FDF50D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0353-E154-4807-BC6C-6154EE95F3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3D8-8268-4FFD-84B2-38DE0BA944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2E40-0338-41EC-AB56-E534965701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9647-9DA5-47AD-92DD-B11E37218C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ED22-3138-41BE-94FE-EF8F4EF22F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D41-FC41-46DD-B57D-A0BA5A11998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5753-F741-471D-9FAC-AC10DEE8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9188-B2A8-432E-BC27-050E4708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4C7A-5F45-4A14-B7A5-30DC60AE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18188-D7D7-413A-841D-33BBF82807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AA6D-8169-4CF7-9934-B263546B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6663-5979-4F3F-A3D4-A4F498B3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68DB-8B9D-447A-9240-ED7EA5D7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8917-D291-42DB-8905-3A596D37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E344-81EF-4C59-B089-F9D4DE03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DD09-7F02-420C-923A-00B53A92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27C2-C175-4597-97C5-4E0228F2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C67E-7CB9-4CD2-BAD4-42D572A9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81E9-674E-4357-BDA7-0FA7BE40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D01D-C88D-4972-929C-CE3860152DF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4E82-6AA1-47F6-BD5B-C7959CE3BA1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F6B5-A94A-44AA-8929-1E00142D5EC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5F59-BB81-476C-9B1A-53ACC25EE87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3E314-732B-4092-9F9E-BDE74CE5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9C145-1846-4ACC-A91A-D787DF86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5F9D6-49CD-4F27-BEDF-F76DAC26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2CA8F-BCA7-457E-8537-28A2AEBA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A5D8A-08FB-40F2-A305-37934C51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8874-FF0D-4469-A88A-C4BC9951B71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1FD13-5608-4172-BA7E-53C8AD4B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AD157-5DC4-41B8-8D17-5B3448C5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5E7C4-968D-40FB-AFBB-FF50CBC3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E311D-25D6-417E-8440-35739F68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BE555-835F-4C82-81CB-79C4F9A1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5EFE7-9D35-489F-A10B-0F08ED3E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A81CD-2529-4D95-9BC0-82A1E61B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A65A9-644E-4C67-8134-D2A0039E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E9764-2BF4-462A-A234-48513545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0325D-02FC-42BA-BE6E-59B17B2E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B921-8E5A-4129-A249-B7E9EDC1D25A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64D5-0147-4B4C-8CE5-E4EBE68E8B6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D2D7-3043-4920-9627-9B62E425E63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0D90-3B61-4562-9F32-FCD6DF5CC46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EACD-0F28-4651-A2D3-85CB5A9494E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A9AE-3C54-497D-9C12-BE07265AF20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A652-7331-4286-A123-3EFEB54A2A6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C93E-E046-4E58-9388-486D76DBCA2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2497-8DAD-4650-93C9-8B9286317C9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0BA9-422A-4BBC-AEFE-43536A81869B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4A1E-DF47-4DD4-8016-6097818557FF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E7F2-AFE0-45F5-81F3-D4F460D270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EB4A-5C41-437D-9623-1D4F556A520D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donderdag 30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8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66D6-1FEA-4D20-A7E9-1EBEF01F7CB3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donderdag 30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B877-5382-486A-B052-05949927F24E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donderdag 30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4774-9C32-4A67-B71C-01CA026384DB}" type="datetime2">
              <a:rPr b="0" lang="nl-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onderdag 30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DF71-3C75-4EFE-988F-F46D1832EDB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55BF-3BC0-477D-AC00-9CB4ECC58C1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835280" y="1125000"/>
            <a:ext cx="57276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nl-NL" sz="6000" spc="-1" strike="noStrike">
                <a:solidFill>
                  <a:srgbClr val="000000"/>
                </a:solidFill>
                <a:latin typeface="Arial"/>
                <a:ea typeface="Arial"/>
              </a:rPr>
              <a:t>Thema 3</a:t>
            </a:r>
            <a:br>
              <a:rPr sz="5900"/>
            </a:br>
            <a:r>
              <a:rPr b="0" lang="nl-NL" sz="5900" spc="-1" strike="noStrike">
                <a:solidFill>
                  <a:srgbClr val="000000"/>
                </a:solidFill>
                <a:latin typeface="Arial"/>
                <a:ea typeface="Arial"/>
              </a:rPr>
              <a:t>Voeding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V21-31-4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N. Wolfs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N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K. Van Gorp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K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erbehoef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rken drinkt +/- 10% van het lichaamsgewicht op een d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rken drinkt 2,5x zoveel als het e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3225-CC9D-4293-869E-1105332F132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Afbeelding 4" descr=""/>
          <p:cNvPicPr/>
          <p:nvPr/>
        </p:nvPicPr>
        <p:blipFill>
          <a:blip r:embed="rId1"/>
          <a:stretch/>
        </p:blipFill>
        <p:spPr>
          <a:xfrm>
            <a:off x="1116000" y="3068640"/>
            <a:ext cx="73058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erbehoef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934560" y="981000"/>
            <a:ext cx="6634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inkbak vs. Drinknipp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ordelen?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adele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514C-51EB-4DDF-93CD-30093854146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Afbeelding 4" descr=""/>
          <p:cNvPicPr/>
          <p:nvPr/>
        </p:nvPicPr>
        <p:blipFill>
          <a:blip r:embed="rId1"/>
          <a:stretch/>
        </p:blipFill>
        <p:spPr>
          <a:xfrm>
            <a:off x="2832120" y="1454040"/>
            <a:ext cx="6324480" cy="2853000"/>
          </a:xfrm>
          <a:prstGeom prst="rect">
            <a:avLst/>
          </a:prstGeom>
          <a:ln w="0">
            <a:noFill/>
          </a:ln>
        </p:spPr>
      </p:pic>
      <p:pic>
        <p:nvPicPr>
          <p:cNvPr id="764" name="Afbeelding 5" descr=""/>
          <p:cNvPicPr/>
          <p:nvPr/>
        </p:nvPicPr>
        <p:blipFill>
          <a:blip r:embed="rId2"/>
          <a:stretch/>
        </p:blipFill>
        <p:spPr>
          <a:xfrm>
            <a:off x="565200" y="4398840"/>
            <a:ext cx="2133720" cy="2184480"/>
          </a:xfrm>
          <a:prstGeom prst="rect">
            <a:avLst/>
          </a:prstGeom>
          <a:ln w="0">
            <a:noFill/>
          </a:ln>
        </p:spPr>
      </p:pic>
      <p:pic>
        <p:nvPicPr>
          <p:cNvPr id="765" name="Afbeelding 6" descr=""/>
          <p:cNvPicPr/>
          <p:nvPr/>
        </p:nvPicPr>
        <p:blipFill>
          <a:blip r:embed="rId3"/>
          <a:stretch/>
        </p:blipFill>
        <p:spPr>
          <a:xfrm>
            <a:off x="3030480" y="4400640"/>
            <a:ext cx="23083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amenstelling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23560" y="90756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orbeeld:</a:t>
            </a:r>
            <a:br>
              <a:rPr sz="2800"/>
            </a:br>
            <a:br>
              <a:rPr sz="2800"/>
            </a:b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brijvoer zit veel water en weinig droge stof. (In verhouding 23% droge stof)</a:t>
            </a:r>
            <a:br>
              <a:rPr sz="2800"/>
            </a:b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… varken drinkt 2,5x zoveel als eten.. Du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665A-6101-4A78-A070-0FC64E3F205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Afbeelding 4" descr=""/>
          <p:cNvPicPr/>
          <p:nvPr/>
        </p:nvPicPr>
        <p:blipFill>
          <a:blip r:embed="rId1"/>
          <a:stretch/>
        </p:blipFill>
        <p:spPr>
          <a:xfrm>
            <a:off x="3708360" y="3206880"/>
            <a:ext cx="43830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dermid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46800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racht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uikers, eiwitten, zetmeel, mineral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chtrijke voeders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&lt;85% DS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enkelvoudig voer = 1 produc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mengvoer = samengesteld in fabriek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remix + melasse + grondstoff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brok/voe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rij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er + voedermiddel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‘voedermiddelen’ zoal; mengvoer, maar ook humane consumptie resten;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aaswei, bierborstel, aardappelstoomschill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7C0C-6472-4468-B730-A11FBE65ADD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ligbox met uit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tation met individuele dierherke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oogvoerbak met onbeperkte voed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ange troggen voor droogvoer of brijvo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DB95-4AA0-4325-88AE-640A7197DF8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714240" y="836640"/>
            <a:ext cx="771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erligbox met uitloop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eugen worden opgesloten tijdens et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De gehele groep krijgt dezelfde voergi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eugen met aantal worpen, drachtigheidsstadium en conditie bij elkaar zetten. 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deel: Individueel controle en voeren mogelij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deel: weinig gelegenheid tot vertonen van natuurlijk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E700-05F3-4E84-AE79-C3C68FD3627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Afbeelding 5" descr="Afbeelding met binnen, metaal, staand, gebouw&#10;&#10;Automatisch gegenereerde beschrijving"/>
          <p:cNvPicPr/>
          <p:nvPr/>
        </p:nvPicPr>
        <p:blipFill>
          <a:blip r:embed="rId1"/>
          <a:stretch/>
        </p:blipFill>
        <p:spPr>
          <a:xfrm>
            <a:off x="4140360" y="4043520"/>
            <a:ext cx="396864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187280" y="1197000"/>
            <a:ext cx="7499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tation met individuele dierherke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Transponder om dier te identificer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ysteem herkent transponder en geeft de juiste hoeveelheid voeding per zeug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Zeugen eten na elkaar, niet tegelij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D74E-7A1C-4FA7-A0B4-3C27B6882E5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Afbeelding 5" descr="Afbeelding met binnen, hond, dier, zoogdier&#10;&#10;Automatisch gegenereerde beschrijving"/>
          <p:cNvPicPr/>
          <p:nvPr/>
        </p:nvPicPr>
        <p:blipFill>
          <a:blip r:embed="rId1"/>
          <a:srcRect l="8262" t="12191" r="21653" b="0"/>
          <a:stretch/>
        </p:blipFill>
        <p:spPr>
          <a:xfrm>
            <a:off x="3924360" y="3648240"/>
            <a:ext cx="4257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116000" y="120348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oogvoerbak met onbeperkte voedering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onbeperkt voeren (ad-libitum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onbeperkt gepalleteerd vo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6B86-322D-4406-B7FE-4B1C11770EC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Afbeelding 5" descr="Afbeelding met dier, binnen, zwijn, schapen&#10;&#10;Automatisch gegenereerde beschrijving"/>
          <p:cNvPicPr/>
          <p:nvPr/>
        </p:nvPicPr>
        <p:blipFill>
          <a:blip r:embed="rId1"/>
          <a:stretch/>
        </p:blipFill>
        <p:spPr>
          <a:xfrm>
            <a:off x="2692440" y="2997360"/>
            <a:ext cx="521964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ange troggen voor droogvoer of brij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Zeugen/varkens eten tegelijkertijd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Beperkt 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tabiele productiegroepen noodzakelij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B518-6FF7-454B-9958-DCB8C06108B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Afbeelding 5" descr="Afbeelding met binnen, bed, zitten, gebouw&#10;&#10;Automatisch gegenereerde beschrijving"/>
          <p:cNvPicPr/>
          <p:nvPr/>
        </p:nvPicPr>
        <p:blipFill>
          <a:blip r:embed="rId1"/>
          <a:stretch/>
        </p:blipFill>
        <p:spPr>
          <a:xfrm>
            <a:off x="79200" y="3502080"/>
            <a:ext cx="3780000" cy="2620800"/>
          </a:xfrm>
          <a:prstGeom prst="rect">
            <a:avLst/>
          </a:prstGeom>
          <a:ln w="0">
            <a:noFill/>
          </a:ln>
        </p:spPr>
      </p:pic>
      <p:pic>
        <p:nvPicPr>
          <p:cNvPr id="792" name="Afbeelding 7" descr="Afbeelding met binnen, gebouw, bruin, klein&#10;&#10;Automatisch gegenereerde beschrijving"/>
          <p:cNvPicPr/>
          <p:nvPr/>
        </p:nvPicPr>
        <p:blipFill>
          <a:blip r:embed="rId2"/>
          <a:stretch/>
        </p:blipFill>
        <p:spPr>
          <a:xfrm>
            <a:off x="4140360" y="3495600"/>
            <a:ext cx="475596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pfokzeugen en be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u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ig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eesvark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E80D-F68A-4575-AA14-713ABA5B1EB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053800" y="369720"/>
            <a:ext cx="66452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ho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619280" y="1420920"/>
            <a:ext cx="6634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Spijsverteringsstel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Vert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M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Samenstelling vo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Waterbehoef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Voedermidde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Voersyste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Voeren per diergro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1240" indent="-341280">
              <a:lnSpc>
                <a:spcPct val="9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DBB6-4507-4924-81B0-804D9C559A0C}" type="slidenum">
              <a:rPr b="0" lang="nl-NL" sz="1100" spc="-1" strike="noStrike">
                <a:solidFill>
                  <a:srgbClr val="57585a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4"/>
          <p:cNvSpPr/>
          <p:nvPr/>
        </p:nvSpPr>
        <p:spPr>
          <a:xfrm>
            <a:off x="-368280" y="6546960"/>
            <a:ext cx="8748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7CF3-70D6-49C4-B6EA-FF7E0F8D041C}" type="slidenum">
              <a:rPr b="0" lang="nl-NL" sz="1100" spc="-1" strike="noStrike">
                <a:solidFill>
                  <a:srgbClr val="57585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642960" y="214200"/>
            <a:ext cx="6400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979280" y="231480"/>
            <a:ext cx="6645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611280" y="843120"/>
            <a:ext cx="7354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fokzeug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oel: sterk dier neerzetten d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timale voortplantingsresultat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haald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240/260 dagen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dekrijp &amp; 120 kg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Letten op vervetting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Opfokzeugenvoer (vanaf 20 kg)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Specifiek gelten opfokvoer (vanaf 40 kg)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(eiwitbehoefte gelt &lt; vleesvarken)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70 – 110 kg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opfokvoe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&gt;110 kg drachtvoer</a:t>
            </a:r>
            <a:br>
              <a:rPr sz="2200"/>
            </a:b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r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Opfokvoer, of combi van dracht&amp;lacto voer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Extra zink: i.v.m. uitscheiden sperma. </a:t>
            </a: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as drachtvoer als beer volledig volgroeid is!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1B74-3770-478D-97AF-EB8F75797C1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Afbeelding 5" descr="Afbeelding met dier, binnen, zoogdier, bruin&#10;&#10;Automatisch gegenereerde beschrijving"/>
          <p:cNvPicPr/>
          <p:nvPr/>
        </p:nvPicPr>
        <p:blipFill>
          <a:blip r:embed="rId1"/>
          <a:stretch/>
        </p:blipFill>
        <p:spPr>
          <a:xfrm>
            <a:off x="6302520" y="3789360"/>
            <a:ext cx="2806560" cy="1663560"/>
          </a:xfrm>
          <a:prstGeom prst="rect">
            <a:avLst/>
          </a:prstGeom>
          <a:ln w="0">
            <a:noFill/>
          </a:ln>
        </p:spPr>
      </p:pic>
      <p:pic>
        <p:nvPicPr>
          <p:cNvPr id="800" name="Afbeelding 7" descr="Afbeelding met zwijn, dier, gras, zoogdier&#10;&#10;Automatisch gegenereerde beschrijving"/>
          <p:cNvPicPr/>
          <p:nvPr/>
        </p:nvPicPr>
        <p:blipFill>
          <a:blip r:embed="rId2"/>
          <a:stretch/>
        </p:blipFill>
        <p:spPr>
          <a:xfrm>
            <a:off x="5302080" y="878040"/>
            <a:ext cx="349272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826560" y="1197000"/>
            <a:ext cx="7859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ug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oel: gezonde, sterke, goed producerende zeugen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Onderhoudsbehoefte afhankelijk van gewicht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Extra voedingsstoffen en eiwitten bij dracht en lactatie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Insemineren tot werp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dracht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Tijdens het zog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lacto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Guste zeug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bronstvoer, lacto, biggen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(koolhydraten), dextros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eicellen + aantal cellen stijgt. (flush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2D5E-1263-490B-95DB-A5CCDE70FA6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Afbeelding 4" descr=""/>
          <p:cNvPicPr/>
          <p:nvPr/>
        </p:nvPicPr>
        <p:blipFill>
          <a:blip r:embed="rId1"/>
          <a:stretch/>
        </p:blipFill>
        <p:spPr>
          <a:xfrm>
            <a:off x="2771640" y="2382840"/>
            <a:ext cx="56880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636120" y="974880"/>
            <a:ext cx="5040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gg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Biest (36 uur) en mel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Overgang vezels en vast voer (maag-darmstelsel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bij +/- 2 weken leeftij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melkkorrel / kruimel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enkele dagen voor spen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biggenkorrel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na spenen (28 dagen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biggenvoer (droog of brijvo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E08D-9235-41AF-AC7B-C6D3EE45838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Afbeelding 6" descr="Afbeelding met binnen, bed, neerleggen, hond&#10;&#10;Automatisch gegenereerde beschrijving"/>
          <p:cNvPicPr/>
          <p:nvPr/>
        </p:nvPicPr>
        <p:blipFill>
          <a:blip r:embed="rId1"/>
          <a:stretch/>
        </p:blipFill>
        <p:spPr>
          <a:xfrm>
            <a:off x="5219640" y="1052640"/>
            <a:ext cx="3741840" cy="2446200"/>
          </a:xfrm>
          <a:prstGeom prst="rect">
            <a:avLst/>
          </a:prstGeom>
          <a:ln w="0">
            <a:noFill/>
          </a:ln>
        </p:spPr>
      </p:pic>
      <p:pic>
        <p:nvPicPr>
          <p:cNvPr id="809" name="Afbeelding 8" descr="Afbeelding met frietjes, fruit, noot, zitten&#10;&#10;Automatisch gegenereerde beschrijving"/>
          <p:cNvPicPr/>
          <p:nvPr/>
        </p:nvPicPr>
        <p:blipFill>
          <a:blip r:embed="rId2"/>
          <a:stretch/>
        </p:blipFill>
        <p:spPr>
          <a:xfrm>
            <a:off x="4475160" y="4792680"/>
            <a:ext cx="2736720" cy="1817640"/>
          </a:xfrm>
          <a:prstGeom prst="rect">
            <a:avLst/>
          </a:prstGeom>
          <a:ln w="0">
            <a:noFill/>
          </a:ln>
        </p:spPr>
      </p:pic>
      <p:pic>
        <p:nvPicPr>
          <p:cNvPr id="810" name="Afbeelding 10" descr="Afbeelding met hond, binnen, tafel, gebouw&#10;&#10;Automatisch gegenereerde beschrijving"/>
          <p:cNvPicPr/>
          <p:nvPr/>
        </p:nvPicPr>
        <p:blipFill>
          <a:blip r:embed="rId3"/>
          <a:srcRect l="19762" t="17497" r="19762" b="11235"/>
          <a:stretch/>
        </p:blipFill>
        <p:spPr>
          <a:xfrm>
            <a:off x="1187280" y="4792680"/>
            <a:ext cx="27370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324000" y="1052640"/>
            <a:ext cx="6634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eesvark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pieren en vleesaanzet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eiwitt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nelle groei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Voederconversie belangrijk! (VC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Let op vervetten!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Kleur: biggen eten eerder uit een opvallende bak!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Troglengte van 35 cm per varken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Meerfasen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Borg zit sneller aan VC dan g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F0B3-4E44-4D12-AD45-065B3F42559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Afbeelding 4" descr=""/>
          <p:cNvPicPr/>
          <p:nvPr/>
        </p:nvPicPr>
        <p:blipFill>
          <a:blip r:embed="rId1"/>
          <a:stretch/>
        </p:blipFill>
        <p:spPr>
          <a:xfrm>
            <a:off x="2705040" y="981000"/>
            <a:ext cx="61149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stel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826560" y="213372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g-darm stel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CB64-D449-4615-BC28-BC07CB2663C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Afbeelding 4" descr=""/>
          <p:cNvPicPr/>
          <p:nvPr/>
        </p:nvPicPr>
        <p:blipFill>
          <a:blip r:embed="rId1"/>
          <a:stretch/>
        </p:blipFill>
        <p:spPr>
          <a:xfrm>
            <a:off x="4622760" y="1111320"/>
            <a:ext cx="41720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kan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983880" y="142668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ond en wroetschijf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roetschijf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kraakbe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aarnaast een goed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reukorgaa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ondholte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eeksel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enzym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mylase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lwassen gebit: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44 tanden en kiezen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F2B9-11BF-4E79-8DF3-253F607BC16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Afbeelding 4" descr=""/>
          <p:cNvPicPr/>
          <p:nvPr/>
        </p:nvPicPr>
        <p:blipFill>
          <a:blip r:embed="rId1"/>
          <a:stretch/>
        </p:blipFill>
        <p:spPr>
          <a:xfrm>
            <a:off x="5580000" y="1281240"/>
            <a:ext cx="2884680" cy="2147760"/>
          </a:xfrm>
          <a:prstGeom prst="rect">
            <a:avLst/>
          </a:prstGeom>
          <a:ln w="0">
            <a:noFill/>
          </a:ln>
        </p:spPr>
      </p:pic>
      <p:pic>
        <p:nvPicPr>
          <p:cNvPr id="733" name="Afbeelding 5" descr=""/>
          <p:cNvPicPr/>
          <p:nvPr/>
        </p:nvPicPr>
        <p:blipFill>
          <a:blip r:embed="rId2"/>
          <a:stretch/>
        </p:blipFill>
        <p:spPr>
          <a:xfrm>
            <a:off x="5729400" y="4049640"/>
            <a:ext cx="29574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kan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lokdarm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70 cm lang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staltische bewegingen en slijmprodu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g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5 à 8 liter inhoud,   maagsapklieren,  zoutzuur (HCL)  pH = 2 à 3</a:t>
            </a:r>
            <a:br>
              <a:rPr sz="2800"/>
            </a:b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psin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splitsing eiwi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uur doodt bacterië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tress verstoort slijmproducti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maagzwer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ruwvoer gev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82A5-AD75-4EEA-BE5E-69112A48C24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kan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098720" y="992160"/>
            <a:ext cx="75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nne darm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rokken voedsel afgebroken tot voedingsstoffen. Darmwand laat voedingsstoffen door naar het lichaam.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12 vingerige darm (60 cm)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erdere enzymen en galsappen komen samen.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dunne darm (18 me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kke darm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blinde darm (4 meter)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absorptie wat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werking darmbacterië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fermenta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zels erg belangrijk!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endeldarm, laatste stuk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vorming mest.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0962-EE60-4468-BD21-D0DDDD4FCA4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er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250560" y="1203480"/>
            <a:ext cx="5329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rken = geen herkauw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us… moeite met ruwe celstof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 wordt bewerkt (ontsluiten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…. bij veel vezels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fermentatie in de dikke dar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Ruwvoer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gaat langzaam door darm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verzadigd gevoel + verhoogt weerstan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ABE4-B7DF-41D3-8019-B6F8580F422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Afbeelding 4" descr=""/>
          <p:cNvPicPr/>
          <p:nvPr/>
        </p:nvPicPr>
        <p:blipFill>
          <a:blip r:embed="rId1"/>
          <a:stretch/>
        </p:blipFill>
        <p:spPr>
          <a:xfrm>
            <a:off x="5614920" y="3462480"/>
            <a:ext cx="315612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 zie je aan de mest?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rantsoen goed afgestemd, ja of ne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9610-1B63-4B90-9798-3A64787C834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Afbeelding 4" descr=""/>
          <p:cNvPicPr/>
          <p:nvPr/>
        </p:nvPicPr>
        <p:blipFill>
          <a:blip r:embed="rId1"/>
          <a:stretch/>
        </p:blipFill>
        <p:spPr>
          <a:xfrm>
            <a:off x="3995640" y="2346480"/>
            <a:ext cx="4349880" cy="3314520"/>
          </a:xfrm>
          <a:prstGeom prst="rect">
            <a:avLst/>
          </a:prstGeom>
          <a:ln w="0">
            <a:noFill/>
          </a:ln>
        </p:spPr>
      </p:pic>
      <p:cxnSp>
        <p:nvCxnSpPr>
          <p:cNvPr id="748" name="Rechte verbindingslijn met pijl 6"/>
          <p:cNvCxnSpPr/>
          <p:nvPr/>
        </p:nvCxnSpPr>
        <p:spPr>
          <a:xfrm>
            <a:off x="2484000" y="2707920"/>
            <a:ext cx="2375280" cy="289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49" name="Rechte verbindingslijn met pijl 7"/>
          <p:cNvCxnSpPr/>
          <p:nvPr/>
        </p:nvCxnSpPr>
        <p:spPr>
          <a:xfrm flipV="1">
            <a:off x="2626920" y="4841280"/>
            <a:ext cx="2313720" cy="1035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750" name="Tekstvak 9"/>
          <p:cNvSpPr/>
          <p:nvPr/>
        </p:nvSpPr>
        <p:spPr>
          <a:xfrm>
            <a:off x="539640" y="2421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meüi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kelijk in te drukk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limm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kstvak 10"/>
          <p:cNvSpPr/>
          <p:nvPr/>
        </p:nvSpPr>
        <p:spPr>
          <a:xfrm>
            <a:off x="792000" y="5319720"/>
            <a:ext cx="19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eft langer in de darm gez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amenstelling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6800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eende-analys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fracties diervoeder analyse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1499-4A56-4516-8BC8-86A4200EE9C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Afbeelding 5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679896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09:58:02Z</dcterms:created>
  <dc:creator>Martin Drenth</dc:creator>
  <dc:description/>
  <dc:language>en-US</dc:language>
  <cp:lastModifiedBy>Kelly van Gorp</cp:lastModifiedBy>
  <dcterms:modified xsi:type="dcterms:W3CDTF">2019-11-07T19:16:51Z</dcterms:modified>
  <cp:revision>137</cp:revision>
  <dc:subject/>
  <dc:title>Gebruik van Powerpoint sjablonen</dc:title>
</cp:coreProperties>
</file>